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2A5B-4ACA-4206-A04A-56C4B6564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0497-1BAB-4FB4-89A4-88F47902D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7C90-5ACB-44C1-82E4-B1EE1191F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003F-5C19-43B7-AA33-90AC2043A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74E0-6200-4791-B184-E97A33B0B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2204-0FAF-447E-823E-2C600A43D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C15B-B0BD-4691-BAC4-0E345F5C1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BE58-5270-41BC-B4B9-30F75E6EC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A3C4-14F4-4D65-9022-0C5EC2985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97DC-682E-4C05-B6CD-08322CD7A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850E-1A09-415D-B4CB-E09D78EA1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6F77-854D-42AE-B6BC-0A0704927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-</a:t>
            </a:r>
            <a:fld id="{04AF08DF-ADF7-4ABC-8470-533739069838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United States in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general overview of the growth of globalization since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major issues facing the international economy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4108-D269-4380-ACF9-959F74B863E7}" type="slidenum">
              <a:t>2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owth of Glob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end of WWII, world trade has grown much faster than world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98440" y="3502080"/>
          <a:ext cx="764064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3502080"/>
                    <a:ext cx="7640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04F9-8000-4D8B-86B1-C7FE45000D48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penness Index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Nations (1913–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6320" y="2057400"/>
            <a:ext cx="6635880" cy="38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DEC5-E640-4689-A6AB-6AF42D32F82C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lve Issues in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ins from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s, Jobs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Defi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Trade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olution of Trade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Internation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782F-230D-4C12-A221-B1745CCF37DD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lve Issues in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Economy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Rates and the Macro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risis and Global Conta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sis and Reform in Lat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lows and the Debt of Developing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-Lead Growth in East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gration of India and China into the Worl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3706-6DA8-452A-9280-365342D774F0}" type="slidenum">
              <a:t>6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09T17:15:07Z</dcterms:modified>
  <cp:revision>153</cp:revision>
  <dc:subject>The United States in a  Global Economy </dc:subject>
  <dc:title>Chapter 1</dc:title>
</cp:coreProperties>
</file>