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4FD9-5B49-44BB-9297-DFFC004B3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68AF-6D9C-4A85-9B0B-B53FCDD52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85CA-7E14-4BDF-BA8E-5AAC90198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23C7-3CCD-4AEA-94B8-E2498E43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C539-4502-4A3E-B168-6A923ED65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94C6-3053-4A34-9D69-775F08EEC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1755-BD1A-4309-8380-8F39F22CF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53D2-43CF-4AD6-89EE-A158B315D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4B07-3365-48AA-A3AE-282FBF5A7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69D5-7AB2-4287-BD77-565C2572F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5DC2-073B-401C-BC64-1E558A2F1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EAC9-51D0-4F94-BE28-1F277BD3F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</a:t>
            </a:r>
            <a:fld id="{5A4AC7A6-C346-4A75-A919-A86C2CFBCE3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ited States in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general overview of the growth of globalization sinc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major issues facing the international econom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6939-83B0-4A97-B52F-85BB1DE99021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of Glob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end of WWII, world trade has grown much faster than world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98440" y="3502080"/>
          <a:ext cx="764064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3502080"/>
                    <a:ext cx="7640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B24D-2718-4C3D-A429-F810222A7586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enness Index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Nations (1913–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6320" y="2057400"/>
            <a:ext cx="6635880" cy="38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9C4E-0F2F-45A8-A079-8C45F0972B02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ins from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, Jobs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rade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olution of Trade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Internation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6132-44EE-4C8C-B93C-5E4212F5F4CF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Rates and the Macro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risis and Global Conta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sis and Reform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lows and the Debt of Developin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-Lead Growth in 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gration of India and China into the Worl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A988-78D2-41C6-A696-CAF6E467FE1E}" type="slidenum">
              <a:t>6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09T17:15:07Z</dcterms:modified>
  <cp:revision>153</cp:revision>
  <dc:subject>The United States in a  Global Economy </dc:subject>
  <dc:title>Chapter 1</dc:title>
</cp:coreProperties>
</file>