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06EB-93A3-4CFA-904A-E6932BBC42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0C7F8-03B7-493B-97E3-6DCF4922C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9276F-656C-4B92-B5D6-B9767D338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7E624-6D68-49D7-AFA3-40626B691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902E3-BDF4-4BBE-B256-A96029483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AE6A-1417-49B1-B3A5-E7A9B494ED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6B0CF-CDAC-4789-8728-9D27E3CBB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BC863-A8A3-454B-88CC-80EA3B9FA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863DD-3369-4148-B816-414CBCBB34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913DF-69F9-48B4-8C3C-58E3712BB9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E3C08-340A-47C7-A04E-F9FA692D8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88DF-F27E-4A73-8C38-84B1ADE37B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-</a:t>
            </a:r>
            <a:fld id="{E6CD30CD-0CC6-4D77-A16E-7F5EB35ECA82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United States in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Econom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general overview of the growth of globalization since WW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major issues facing the international economy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34F3-DD35-423A-8DB2-A59E4F7045E7}" type="slidenum">
              <a:t>2</a:t>
            </a:fld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rowth of Glob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end of WWII, world trade has grown much faster than world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198440" y="3502080"/>
          <a:ext cx="764064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8440" y="3502080"/>
                    <a:ext cx="764064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F2E0-A074-45B2-892A-21665E193F6B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penness Index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lected Nations (1913–20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76320" y="2057400"/>
            <a:ext cx="6635880" cy="384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10AF6-01F1-4D04-B965-D306401E0AB9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lve Issues in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tional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ins from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ges, Jobs and Prot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de Defic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onal Trade Agre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solution of Trade Confl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ole of Internation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FCA64-8991-4852-A963-F3B9D360EA8F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elve Issues in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ational Economy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change Rates and the Macro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Crisis and Global Contag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sis and Reform in Latin Ame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Flows and the Debt of Developing N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-Lead Growth in East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400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gration of India and China into the World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83AC7-4BD2-4A51-84DE-F6231662B11F}" type="slidenum">
              <a:t>6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09T17:15:07Z</dcterms:modified>
  <cp:revision>153</cp:revision>
  <dc:subject>The United States in a  Global Economy </dc:subject>
  <dc:title>Chapter 1</dc:title>
</cp:coreProperties>
</file>