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ct" ContentType="image/x-pict"/>
  <Override PartName="/ppt/media/image2.png" ContentType="image/png"/>
  <Override PartName="/ppt/media/image11.png" ContentType="image/png"/>
  <Override PartName="/ppt/media/image9.pct" ContentType="image/x-pict"/>
  <Override PartName="/ppt/media/image17.png" ContentType="image/png"/>
  <Override PartName="/ppt/media/image16.png" ContentType="image/png"/>
  <Override PartName="/ppt/media/image14.png" ContentType="image/png"/>
  <Override PartName="/ppt/media/image6.pct" ContentType="image/x-pict"/>
  <Override PartName="/ppt/media/image10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5.pct" ContentType="image/x-pict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2453D-0378-4F1B-9C24-48052ADFA1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E191-EB53-476C-9F6B-CADC99B60D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F7213-2DE4-402F-BCC8-39B245F63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25F2D-748B-445F-B4A9-E856D9840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8D672-BBBF-4761-BA70-29C97CEBEE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F95C6-E227-4CAA-A1CF-D2444E785F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B8EF3-B52E-4F90-9F8E-4D21CE2FE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D135-F5AA-4767-BFF9-8E5606973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CC8F1-291B-4CD2-9970-DD071B6D8C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16715-F55F-4591-86D3-9B202AD39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C37B-64EB-4056-A43F-DE99C06A3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A934-8C59-449C-BB7C-9338177BB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-</a:t>
            </a:r>
            <a:fld id="{F8685F51-79CD-42E2-AE23-95E10189CC6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arative Advantag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the Gains from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ion Possibilities Curve (PPC)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on the PPC is an efficient point of production: resources are utilized to obtain the maximum possible level of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8B8F6-BD1B-4109-AE5A-2EC94117EFAE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pportunity Cost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he Slope of the PP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opportunity cost of steel is the tradeoff between bread and ste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2898720"/>
            <a:ext cx="7391520" cy="299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F6F6-4B71-4145-8AF3-90D57A70CCEB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etermines the Slop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the PPC?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lope of the PPC is -0.67: the number of loaves of bread forgone divided by the quantity of steel ob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F47E-C2DD-4E92-B566-73D6C646C716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tive P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rade, the U.S. would forgo 0.67 loaves of bread for an additional ton of steel. This is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, or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 pr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st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ice? Because the price is not in monetary units but in units of the other g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price of steel is the inverse of the price of bread: if 0.67 loaves of bread is the price of a ton of steel in the U.S., then 1.5 tons of steel is the price of one loaf of b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9D743-9A94-44ED-ACC5-3562B7C6DD42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arky versus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ark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mplete absence of trade; all nations can only consume the goods they produce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de allows countries to raise their consump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opportunity cost of steel in Canada is 3 loaves of bread per ton, and in the U.S. 0.67 loaves per ton, both countries can consume more by tr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 of steel would have to settle somewhere between the opportunity costs in Canada and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709640" y="5456160"/>
          <a:ext cx="590256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9640" y="5456160"/>
                    <a:ext cx="59025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002DF-036E-4C35-8D26-5D9D8558614F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17160" y="1802880"/>
            <a:ext cx="85057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the price of bread settle at 2 loaves per 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trading possibilities are illustrated by the price line or the trade line (TT) with a slope of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= the combination of steel and bread available for tr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duction and Trade Before Speci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365800" cy="23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CE283-5546-4A5E-AE2F-ACE93BB3B5F7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specializing in the production of steel and trading steel for bread, the U.S. receives gains from trade and can increase its consumpt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0">
              <a:lnSpc>
                <a:spcPct val="90000"/>
              </a:lnSpc>
              <a:spcBef>
                <a:spcPts val="22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 = the consumption bundle the U.S. obtains by producing at B, or by specializing in steel and trading for b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82600" y="567684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24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4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oduction to Maximize In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4594320" cy="257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ECCD2-A18C-406F-95F3-ED804B3C197D}" type="slidenum">
              <a:t>16</a:t>
            </a:fld>
          </a:p>
        </p:txBody>
      </p:sp>
    </p:spTree>
  </p:cSld>
  <p:transition spd="med"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3.5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ada’s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ely, Canada, by specializing in the production of bread and trading for steel, can also increase its consum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33720" y="3174840"/>
            <a:ext cx="5478480" cy="323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A1DD6-2043-4AF2-A9A4-8F73173B4E15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Gains from Trade U.S. and 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um, suppose the relative price of steel is 2 loaves of b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U.S. increases steel output by 1 ton, it gives up 0.67 loaves of bread output; however, it can now trade the steel for 2 loaves, leaving a net gain of 1.33 loaves (2 - 0.67 = 1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eet U.S. demand for 2 more loaves of bread, Canada gives up 0.67 tons of steel output; however, it can now trade 2 loaves for 1 ton of steel, leaving a net gain of 0.33 t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 - 0.67 = 0.3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3077-BB64-4CBB-AC1A-BB550DEA636F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511280" y="2457360"/>
          <a:ext cx="557532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1280" y="2457360"/>
                    <a:ext cx="55753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estic Prices and the Trade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955520"/>
            <a:ext cx="85057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ke sure that the trade price settles withi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he trade price was 4 loaves of bread, both countries would specialize in steel. However, the consequent bread shortage and steel glut would increase the price of bread and decrease the price of steel; once the price of bread fell to less than 3.0, Canadian producers would switch back to b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rade price is closer to 0.67, gains are larger for Canada; if it is closer to 3.0, gains are larger for the U.S.; however, both would gain from trade when the price falls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7E45-31F3-4160-81BC-F873619A968E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m Smith and the Attack on Economic Nation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1776, Adam Smith published the first modern statement of economic theory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 Inquiry into the Nature and Causes of the Wealth of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Wealth of N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tack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rcantilis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e system of nationalistic economics that dominated economic thought in the 170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ith proved wrong the belief that trade wa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ero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that the gain of one nation from trade was the loss of anoth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de is 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itive sum g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both nations 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7E4C9-7F50-4636-B0A0-21F1D539C635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versus Comparativ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productivity advantag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o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arative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: held by a country that has lower opportunity costs of producing a good than its trading partners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a country that lacks absolute advantage to sell its produc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2A94A-1925-48AF-B425-057B4A800E64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Output per Hour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06640" y="2819520"/>
            <a:ext cx="6930720" cy="117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1917D-4DDE-4FFA-AB19-9E2489258B0D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pan has an absolute advantage in both cars (2&gt;0.5) and steel (3&gt;1), yet it can still gain from trade, as can Malay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trade opens, the world price of cars will be between one and two tons of steel per 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743200" y="4586400"/>
            <a:ext cx="3048120" cy="80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690D2-A092-4C5C-8DEE-F8BF6F8EC34C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versus Competitive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= competitive (commercial) advantage when the prices of both inputs and outputs are an accurate indication of their relative scar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petitive advantage when the markets fail to correctly value the price of inputs and out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alances result from government policies, such as subsidies or prot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CB18C-8E63-4CED-BC64-A9B8F1FB9CFC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Restructur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 restructur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hanges in the economy that may require some industries to grow and others to shrink or disapp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Ricardian model, trade opening moved labor from bread to steel production: restructuring improved U.S. overall economic welfare but made its bread industry disappe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rade results in net gain (in an increase of the consumption bundle), a country will be better off by trading; however, some sectors may still 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D1BF6-B076-4C9C-90DE-02E2E81974EE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Be Done to Economic Restructur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that some lose due to economic restructuring, the government can seek to get winners from trade and restructuring to compensate the loser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de adjustment as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AA) helps losers by providing extended unemployment benefits, worker retraining, and temporary tax on 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the U.S. government created a special program for workers laid off because of NAFTA; in 1994, 17,000 workers qualified for th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03D91-C86C-49BA-8642-F861892438DF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arative Advantage in S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ative advantage allows gains from trade to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when a nation moves along its PPC toward a new mix of industries to exploit its comparative advantage, the transition period may hurt 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conomic restructuring caused by trade opening produces higher living standards; however, in the short-term, restructuring is often cos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97A5-ABB2-4E12-A6B9-789040176F37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ture of the Ten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views about the tension between, on the one hand, civic and social groups, and on the other, governments in internation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ssimistic: the tension will roll back the international integration achieved over the past several dec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stic: the tension will lead to increasing participation by civic and social groups in decision-making in international institutions, which will produce better policies and allow more people enjoy the benefits of glob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B42C-0150-4838-8141-A4EC521621CC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Proven Oil Reserves,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95440" y="2209680"/>
            <a:ext cx="7953120" cy="3065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0E0E9-C476-4B6D-B1AE-BFB1DEA0FF6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ications of Smith’s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ss to foreign markets helps create weal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nation imports, every company will be limited by the size of its home count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s enable a country to obtain goods that it cannot make itself or can make only at very high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barriers decrease the size of the potential market, hampering the prospects of specialization, technological progress, mutually beneficial exchange, and, ultimately, wealth 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D8759-E069-4FE0-A61D-D3E8EC9AEC29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Indicators of the Korean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76360" y="2500200"/>
            <a:ext cx="7989840" cy="185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E9103-E153-4BFF-AFC1-4FB34942FC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 of Prod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d after economist David Rica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ountries producing two goods and using one input (lab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s are competitive: firms are price t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world: technology is constant and there are no learning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 is perfectly mobile: it can easily move back and forth between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482D-80F9-436E-8925-EFBB667B11B9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cardian Model: Absolute Productivity Advan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amount of output obtained from a unit of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bor productiv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units of output) / (hours work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wo loaves of bread can be produced in 1 hour, productivity = (2 loaves) / (1 ho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solute productivity advant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eld by a country that produces more of a certain good per hour worked tha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3785-F766-457C-BDCB-9741A98C0EE7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3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put per Hour  Wor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23920" y="2895480"/>
            <a:ext cx="6894720" cy="11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EF408-3F2A-42D3-ACB1-F0265DC63E45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solute Productivity Advantag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portunity co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read is 1.5 tons of steel: each unit of bread produced requires the U.S. economy to forfeit the production of 1.5 tons of st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, trade between U.S. and Canada will occur at a price between these two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14600" y="3255840"/>
          <a:ext cx="44197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55840"/>
                    <a:ext cx="44197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2482920" y="5253120"/>
          <a:ext cx="429876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2920" y="5253120"/>
                    <a:ext cx="42987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19E90-CFDF-4430-A30A-6ACF4FEAED31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rative Productivity Advantage and Gains from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: what happens to a country that does not have absolute productivity advantage in anything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swer: even if a country does not have any goods with an absolute productivity advantage, it can benefit from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dea that nations benefit from trade has nothing to do with whether a country has an absolute advantage in producing a particular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86990-06B8-43C5-908F-410D8F76E6FD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roduction Possibilities Curve for the United S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2880"/>
            <a:ext cx="8505720" cy="15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ws the tradeoffs a country faces when choosing its combination of bread and steel 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4303800"/>
            <a:ext cx="4079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284800" cy="32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37653-CB3E-4066-A761-BF9EB58BC26B}" type="slidenum">
              <a:t>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7:56:13Z</dcterms:modified>
  <cp:revision>210</cp:revision>
  <dc:subject>Comparative Advantage  and the Gains from Trade </dc:subject>
  <dc:title>Chapter 3</dc:title>
</cp:coreProperties>
</file>