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1.png" ContentType="image/png"/>
  <Override PartName="/ppt/media/image9.pct" ContentType="image/x-pict"/>
  <Override PartName="/ppt/media/image17.png" ContentType="image/png"/>
  <Override PartName="/ppt/media/image16.png" ContentType="image/png"/>
  <Override PartName="/ppt/media/image14.png" ContentType="image/png"/>
  <Override PartName="/ppt/media/image6.pct" ContentType="image/x-pict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ct" ContentType="image/x-pict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01CA-EDE0-4DE3-9182-51E02C09B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E37F-91B3-460A-AA66-83437B90B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9A44-D5D6-4746-8B52-3A7F66812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37E1-BBD7-4861-BE59-0961E9A22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5C94-7424-4B63-A45D-C5D58A2EB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C7E1-49E7-4461-8B7E-3FE5D28D2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F044-A0B2-481C-81D8-FA4D487C0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C8E0-D467-437F-BAF3-5674B1BED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CB96-199E-4BC3-93B0-FFE803F5D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D171-17FE-40F2-BED1-26A8F2794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7EC3-68E4-4A4F-8419-4E65B2E40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A865-A65B-4FEC-A653-3381063F4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-</a:t>
            </a:r>
            <a:fld id="{C66970E8-0797-41E3-BF16-13DEFA333C8F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ative Advantag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the Gains from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on Possibilities Curve (PPC)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on the PPC is an efficient point of production: resources are utilized to obtain the maximum possible level of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FEEB-8702-4A96-BC25-B32F9A88BB73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pportunity Cost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he Slope of the P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pportunity cost of steel is the tradeoff between bread and ste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2898720"/>
            <a:ext cx="739152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C811-6D40-497E-B9A8-5DDBD724C06D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etermines the Slop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the PPC?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lope of the PPC is -0.67: the number of loaves of bread forgone divided by the quantity of steel ob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4D82-424E-4221-AB53-B68A1D7BBD0D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rade, the U.S. would forgo 0.67 loaves of bread for an additional ton of steel. This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teel, or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ve 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? Because the price is not in monetary units but in units of the other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price of steel is the inverse of the price of bread: if 0.67 loaves of bread is the price of a ton of steel in the U.S., then 1.5 tons of steel is the price of one loaf of 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5576-32D3-4CF6-B023-E96FA15C3FA7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arky versus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ar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mplete absence of trade; all nations can only consume the goods they produce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allows countries to raise their consum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opportunity cost of steel in Canada is 3 loaves of bread per ton, and in the U.S. 0.67 loaves per ton, both countries can consume more by tr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of steel would have to settle somewhere between the opportunity costs in Canada and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09640" y="5456160"/>
          <a:ext cx="590256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9640" y="5456160"/>
                    <a:ext cx="59025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A6AE-DF4A-4EF6-ABC4-7D1DABE6D13D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17160" y="1802880"/>
            <a:ext cx="8505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price of bread settle at 2 loaves per 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trading possibilities are illustrated by the price line or the trade line (TT) with a slope of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the combination of steel and bread available fo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Production and Trade Before Spe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36580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0F03-C849-4646-B0F5-DD749D216192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17160" y="1803240"/>
            <a:ext cx="850572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specializing in the production of steel and trading steel for bread, the U.S. receives gains from trade and can increase its consump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lnSpc>
                <a:spcPct val="90000"/>
              </a:lnSpc>
              <a:spcBef>
                <a:spcPts val="22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 the consumption bundle the U.S. obtains by producing at B, or by specializing in steel and trading for b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2600" y="56768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duction to Maximize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594320" cy="257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4CA6-3CA5-4EAF-A43F-8F3C810CFAE1}" type="slidenum">
              <a:t>16</a:t>
            </a:fld>
          </a:p>
        </p:txBody>
      </p:sp>
    </p:spTree>
  </p:cSld>
  <p:transition spd="med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5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ada’s Gains from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ely, Canada, by specializing in the production of bread and trading for steel, can also increase its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3174840"/>
            <a:ext cx="5478480" cy="323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541C-2F43-455F-A331-836115DEAA7E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ains from Trade U.S. and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um, suppose the relative price of steel is 2 loaves of 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U.S. increases steel output by 1 ton, it gives up 0.67 loaves of bread output; however, it can now trade the steel for 2 loaves, leaving a net gain of 1.33 loaves (2 - 0.67 = 1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eet U.S. demand for 2 more loaves of bread, Canada gives up 0.67 tons of steel output; however, it can now trade 2 loaves for 1 ton of steel, leaving a net gain of 0.33 t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- 0.67 = 0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04B4-6A2E-4CC9-B69A-05BB1AE890B1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511280" y="2457360"/>
          <a:ext cx="557532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457360"/>
                    <a:ext cx="55753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estic Prices and the Trade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7160" y="1955520"/>
            <a:ext cx="850572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ke sure that the trade price settles withi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trade price was 4 loaves of bread, both countries would specialize in steel. However, the consequent bread shortage and steel glut would increase the price of bread and decrease the price of steel; once the price of bread fell to less than 3.0, Canadian producers would switch back to b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rade price is closer to 0.67, gains are larger for Canada; if it is closer to 3.0, gains are larger for the U.S.; however, both would gain from trade when the price falls in thi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CBED-58CD-471C-A0C1-D7A1C78F3D6A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m Smith and the Attack on Economic N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776, Adam Smith published the first modern statement of economic theor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Inquiry into the Nature and Causes of the Wealth of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Wealth of N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ack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cantil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the system of nationalistic economics that dominated economic thought in the 170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th proved wrong the belief that trade w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ero sum g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that the gain of one nation from trade was the loss of ano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ve sum g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both nations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1E90-BB43-4214-97CA-3A8611DC4A3C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olute versus Comparative Productivity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productivity 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eld by a country that produces more of a certain good per hour worked than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productivity advant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held by a country that has lower opportunity costs of producing a good than its trading partners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allows a country that lacks absolute advantage to sell its products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1497-A4ED-485A-A8E8-AA45AE3A8A2A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utput per Hour Wo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06640" y="2819520"/>
            <a:ext cx="6930720" cy="117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5682-19A1-4653-A72A-2FF721617DD7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ative Productivity Advantage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 has an absolute advantage in both cars (2&gt;0.5) and steel (3&gt;1), yet it can still gain from trade, as can Malay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rade opens, the world price of cars will be between one and two tons of steel per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3200" y="4586400"/>
            <a:ext cx="3048120" cy="80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BE8E-6444-435A-85C5-0293EC01E38A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ative versus Competitive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= competitive (commercial) advantage when the prices of both inputs and outputs are an accurate indication of their relative scar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etitive advantage when the markets fail to correctly value the price of inputs and outpu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balances result from government policies, such as subsidies or prot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182D-786A-4066-8D76-39B92FD3D672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Restructu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 restructu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hanges in the economy that may require some industries to grow and others to shrink or dis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icardian model, trade opening moved labor from bread to steel production: restructuring improved U.S. overall economic welfare but made its bread industry disapp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de results in net gain (in an increase of the consumption bundle), a country will be better off by trading; however, some sectors may still 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9838-DADC-4B22-BC74-38AB3715D0B6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Be Done to Economic Restructur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some lose due to economic restructuring, the government can seek to get winners from trade and restructuring to compensate the los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 adjustment ass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AA) helps losers by providing extended unemployment benefits, worker retraining, and temporary tax on 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U.S. government created a special program for workers laid off because of NAFTA; in 1994, 17,000 workers qualified for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810A-281C-45AB-BA1A-D50DBFF142B7}" type="slidenum">
              <a:t>25</a:t>
            </a:fld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tive Advantage in 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allows gains from trade to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when a nation moves along its PPC toward a new mix of industries to exploit its comparative advantage, the transition period may hurt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restructuring caused by trade opening produces higher living standards; however, in the short-term, restructuring is often cos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5923-3F09-480F-AEF1-6522167FDE8B}" type="slidenum">
              <a:t>26</a:t>
            </a:fld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ture of the 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views about the tension between, on the one hand, civic and social groups, and on the other, governments in internation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simistic: the tension will roll back the international integration achieved over the past several dec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stic: the tension will lead to increasing participation by civic and social groups in decision-making in international institutions, which will produce better policies and allow more people enjoy the benefits of glob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24B9-4D63-4470-A7AC-237B68BA5C37}" type="slidenum">
              <a:t>27</a:t>
            </a:fld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Proven Oil Reserves,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5440" y="2209680"/>
            <a:ext cx="7953120" cy="306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292C-A86E-4026-9597-36A1E6835E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ations of Smith’s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foreign markets helps create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nation imports, every company will be limited by the size of its home countr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s enable a country to obtain goods that it cannot make itself or can make only at very hig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barriers decrease the size of the potential market, hampering the prospects of specialization, technological progress, mutually beneficial exchange, and, ultimately, wealth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6D7F-6767-448D-ABF1-FD2D6F8F7678}" type="slidenum">
              <a:t>3</a:t>
            </a:fld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Indicators of the Korean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6360" y="2500200"/>
            <a:ext cx="798984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A9F8-8528-4F20-842D-046E445A4B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cardian Model of Produ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after economist David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countries producing two goods and using one input (lab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s are competitive: firms are price t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world: technology is constant and there are no learning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 is perfectly mobile: it can easily move back and forth between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CEE1-17B7-4E31-8696-BC4C84FF8B9D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cardian Model: Absolute Productivity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mount of output obtained from a unit of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or produ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its of output) / (hours work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loaves of bread can be produced in 1 hour, productivity = (2 loaves) / (1 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productivity 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eld by a country that produces more of a certain good per hour worked than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9DF1-DCBD-4654-8A80-A1ACD4A58236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1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ut per Hour  Wo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23920" y="2895480"/>
            <a:ext cx="6894720" cy="11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1695-C0E9-40D8-B727-BDA5522F9E04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olute Productivity Advantage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read is 1.5 tons of steel: each unit of bread produced requires the U.S. economy to forfeit the production of 1.5 tons of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, trade between U.S. and Canada will occur at a price between these two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14600" y="3255840"/>
          <a:ext cx="441972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55840"/>
                    <a:ext cx="44197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482920" y="5253120"/>
          <a:ext cx="429876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2920" y="5253120"/>
                    <a:ext cx="4298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A2B6-4DEC-4ED9-9241-13D55E25D12C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ative Productivity Advantage and Gains from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what happens to a country that does not have absolute productivity advantage in anyth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even if a country does not have any goods with an absolute productivity advantage, it can benefit from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that nations benefit from trade has nothing to do with whether a country has an absolute advantage in producing a particular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90B0-43A0-4335-AEFF-9AC1A9E13D48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oduction Possibilities Curve for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2880"/>
            <a:ext cx="850572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the tradeoffs a country faces when choosing its combination of bread and steel 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303800"/>
            <a:ext cx="407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284800" cy="32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F1A5-6336-4BCB-9CD6-21C42D03DE1D}" type="slidenum">
              <a:t>9</a:t>
            </a:fld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7:56:13Z</dcterms:modified>
  <cp:revision>210</cp:revision>
  <dc:subject>Comparative Advantage  and the Gains from Trade </dc:subject>
  <dc:title>Chapter 3</dc:title>
</cp:coreProperties>
</file>