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1.png" ContentType="image/png"/>
  <Override PartName="/ppt/media/image9.pct" ContentType="image/x-pict"/>
  <Override PartName="/ppt/media/image17.png" ContentType="image/png"/>
  <Override PartName="/ppt/media/image16.png" ContentType="image/png"/>
  <Override PartName="/ppt/media/image14.png" ContentType="image/png"/>
  <Override PartName="/ppt/media/image6.pct" ContentType="image/x-pict"/>
  <Override PartName="/ppt/media/image10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ct" ContentType="image/x-pict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92313-36B4-4E90-AFC2-6FFDED463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97B25-1681-4545-9232-8F5366B2A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5EA7-3EDB-47D9-8DCC-DEE12586F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F68F3-6830-4C9E-9011-A70FFC8F1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4C15B-4A25-4A5B-A0F7-0C5AD88AB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86650-B17C-4514-8C16-4783D5CDF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C30DD-953A-4357-8E22-8360A2747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1B832-A991-4D9A-B1C5-D21A09225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116EF-E484-4411-B4EA-D855E2229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1240-6098-42BA-8040-270E449FF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A7728-9CD2-41B1-BA5E-F19AC9650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C1D7D-104D-4AA1-8E2D-CBFF960B1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-</a:t>
            </a:r>
            <a:fld id="{F755EC68-21A5-4284-A60A-CC67C908BC93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arative Advantag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the Gains from Tr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on Possibilities Curve (PPC)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on the PPC is an efficient point of production: resources are utilized to obtain the maximum possible level of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8A617-511A-435E-BE38-3DBF8C77560E}" type="slidenum">
              <a:t>10</a:t>
            </a:fld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3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Opportunity Cost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the Slope of the PP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opportunity cost of steel is the tradeoff between bread and ste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2898720"/>
            <a:ext cx="7391520" cy="299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B1F9C-9749-4779-BAD7-B8E5EA3BD731}" type="slidenum">
              <a:t>11</a:t>
            </a:fld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etermines the Slop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the PPC?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lope of the PPC is -0.67: the number of loaves of bread forgone divided by the quantity of steel ob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7F1D0-BC0D-494D-BF1E-BE9079913EB4}" type="slidenum">
              <a:t>12</a:t>
            </a:fld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ve P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rade, the U.S. would forgo 0.67 loaves of bread for an additional ton of steel. This i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portunity 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teel, or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ve 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t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ce? Because the price is not in monetary units but in units of the other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price of steel is the inverse of the price of bread: if 0.67 loaves of bread is the price of a ton of steel in the U.S., then 1.5 tons of steel is the price of one loaf of b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2C4D-B8BC-455D-8F87-9034EBB29340}" type="slidenum">
              <a:t>13</a:t>
            </a:fld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arky versus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ark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mplete absence of trade; all nations can only consume the goods they produce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allows countries to raise their consump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opportunity cost of steel in Canada is 3 loaves of bread per ton, and in the U.S. 0.67 loaves per ton, both countries can consume more by tr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of steel would have to settle somewhere between the opportunity costs in Canada and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09640" y="5456160"/>
          <a:ext cx="590256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9640" y="5456160"/>
                    <a:ext cx="59025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9A3C4-9D80-4DA9-A807-8ECEBEBF0020}" type="slidenum">
              <a:t>14</a:t>
            </a:fld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17160" y="1802880"/>
            <a:ext cx="8505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he price of bread settle at 2 loaves per 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trading possibilities are illustrated by the price line or the trade line (TT) with a slope of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the combination of steel and bread available for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3.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Production and Trade Before Spe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365800" cy="23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40BB-7399-408E-A8FD-0F3D9D4614E6}" type="slidenum">
              <a:t>15</a:t>
            </a:fld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17160" y="1803240"/>
            <a:ext cx="850572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specializing in the production of steel and trading steel for bread, the U.S. receives gains from trade and can increase its consump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0">
              <a:lnSpc>
                <a:spcPct val="90000"/>
              </a:lnSpc>
              <a:spcBef>
                <a:spcPts val="22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 the consumption bundle the U.S. obtains by producing at B, or by specializing in steel and trading for b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82600" y="56768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3.4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duction to Maximize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4594320" cy="257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9736-9B97-4C6A-8FC7-9917C846F5E6}" type="slidenum">
              <a:t>16</a:t>
            </a:fld>
          </a:p>
        </p:txBody>
      </p:sp>
    </p:spTree>
  </p:cSld>
  <p:transition spd="med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3.5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ada’s Gains from T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ely, Canada, by specializing in the production of bread and trading for steel, can also increase its con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33720" y="3174840"/>
            <a:ext cx="5478480" cy="323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1DEDD-2E0C-4CE1-B138-8F6F9D72D26E}" type="slidenum">
              <a:t>17</a:t>
            </a:fld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Gains from Trade U.S. and 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um, suppose the relative price of steel is 2 loaves of b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U.S. increases steel output by 1 ton, it gives up 0.67 loaves of bread output; however, it can now trade the steel for 2 loaves, leaving a net gain of 1.33 loaves (2 - 0.67 = 1.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eet U.S. demand for 2 more loaves of bread, Canada gives up 0.67 tons of steel output; however, it can now trade 2 loaves for 1 ton of steel, leaving a net gain of 0.33 t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- 0.67 = 0.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8BFD6-2F63-4590-A498-9544DF6B5D54}" type="slidenum">
              <a:t>18</a:t>
            </a:fld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511280" y="2457360"/>
          <a:ext cx="557532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2457360"/>
                    <a:ext cx="55753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mestic Prices and the Trade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17160" y="1955520"/>
            <a:ext cx="850572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make sure that the trade price settles withi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trade price was 4 loaves of bread, both countries would specialize in steel. However, the consequent bread shortage and steel glut would increase the price of bread and decrease the price of steel; once the price of bread fell to less than 3.0, Canadian producers would switch back to b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rade price is closer to 0.67, gains are larger for Canada; if it is closer to 3.0, gains are larger for the U.S.; however, both would gain from trade when the price falls in this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462C8-88D0-428B-99B9-8E628D3389B3}" type="slidenum">
              <a:t>19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m Smith and the Attack on Economic N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776, Adam Smith published the first modern statement of economic theor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 Inquiry into the Nature and Causes of the Wealth of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Wealth of N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ack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rcantilis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the system of nationalistic economics that dominated economic thought in the 170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ith proved wrong the belief that trade wa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ero sum g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that the gain of one nation from trade was the loss of anot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 i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ve sum g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both nations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0CD0-348D-4485-90C9-C0573A67BD0E}" type="slidenum">
              <a:t>2</a:t>
            </a:fld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olute versus Comparative Productivity Advan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solute productivity advant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eld by a country that produces more of a certain good per hour worked than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rative productivity advanta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rative advant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 held by a country that has lower opportunity costs of producing a good than its trading partners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ative advantage allows a country that lacks absolute advantage to sell its products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2AB71-275C-4344-8F75-BBA874C883BC}" type="slidenum">
              <a:t>20</a:t>
            </a:fld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3.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Output per Hour Wor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06640" y="2819520"/>
            <a:ext cx="6930720" cy="117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54674-F284-427C-BD33-CEF467CC39F7}" type="slidenum">
              <a:t>21</a:t>
            </a:fld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ative Productivity Advantage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pan has an absolute advantage in both cars (2&gt;0.5) and steel (3&gt;1), yet it can still gain from trade, as can Malay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rade opens, the world price of cars will be between one and two tons of steel per 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43200" y="4586400"/>
            <a:ext cx="3048120" cy="80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85527-B501-4380-A130-A12D9DED0F07}" type="slidenum">
              <a:t>22</a:t>
            </a:fld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ative versus Competitive Advan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ative advantage = competitive (commercial) advantage when the prices of both inputs and outputs are an accurate indication of their relative scar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ative advantag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etitive advantage when the markets fail to correctly value the price of inputs and outpu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balances result from government policies, such as subsidies or prot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BF547-BBB3-4F32-9F7D-F9A41E0C6BF3}" type="slidenum">
              <a:t>23</a:t>
            </a:fld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Restructu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nomic restructu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hanges in the economy that may require some industries to grow and others to shrink or disap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Ricardian model, trade opening moved labor from bread to steel production: restructuring improved U.S. overall economic welfare but made its bread industry disapp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ade results in net gain (in an increase of the consumption bundle), a country will be better off by trading; however, some sectors may still 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3CE7-EECB-4023-915A-27B4A863BC4C}" type="slidenum">
              <a:t>24</a:t>
            </a:fld>
          </a:p>
        </p:txBody>
      </p:sp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Be Done to Economic Restructuring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 some lose due to economic restructuring, the government can seek to get winners from trade and restructuring to compensate the los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e adjustment ass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AA) helps losers by providing extended unemployment benefits, worker retraining, and temporary tax on im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the U.S. government created a special program for workers laid off because of NAFTA; in 1994, 17,000 workers qualified for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2BBEC-6176-47A6-AD64-54513221782B}" type="slidenum">
              <a:t>25</a:t>
            </a:fld>
          </a:p>
        </p:txBody>
      </p:sp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ative Advantage in S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ative advantage allows gains from trade to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when a nation moves along its PPC toward a new mix of industries to exploit its comparative advantage, the transition period may hurt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restructuring caused by trade opening produces higher living standards; however, in the short-term, restructuring is often cost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45B11-264D-4100-B3A5-D50DF392FBA7}" type="slidenum">
              <a:t>26</a:t>
            </a:fld>
          </a:p>
        </p:txBody>
      </p:sp>
    </p:spTree>
  </p:cSld>
  <p:transition spd="med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uture of the T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views about the tension between, on the one hand, civic and social groups, and on the other, governments in international 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simistic: the tension will roll back the international integration achieved over the past several dec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stic: the tension will lead to increasing participation by civic and social groups in decision-making in international institutions, which will produce better policies and allow more people enjoy the benefits of glob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5D735-7577-4A10-9C4C-F890614AEC8F}" type="slidenum">
              <a:t>27</a:t>
            </a:fld>
          </a:p>
        </p:txBody>
      </p:sp>
    </p:spTree>
  </p:cSld>
  <p:transition spd="med"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itional Chapter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3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Proven Oil Reserves, 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95440" y="2209680"/>
            <a:ext cx="7953120" cy="306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313E8-4E7B-4967-B32F-BD3DFD1AAE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ications of Smith’s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foreign markets helps create 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nation imports, every company will be limited by the size of its home countr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s enable a country to obtain goods that it cannot make itself or can make only at very high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 barriers decrease the size of the potential market, hampering the prospects of specialization, technological progress, mutually beneficial exchange, and, ultimately, wealth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965E-71FB-491B-8BAC-B253100AC6F4}" type="slidenum">
              <a:t>3</a:t>
            </a:fld>
          </a:p>
        </p:txBody>
      </p:sp>
    </p:spTree>
  </p:cSld>
  <p:transition spd="med"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3.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Indicators of the Korean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76360" y="2500200"/>
            <a:ext cx="7989840" cy="185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E154-9A24-4F0D-8C76-9D326A9CCA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cardian Model of Produ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T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d after economist David Ric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countries producing two goods and using one input (lab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s are competitive: firms are price t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world: technology is constant and there are no learning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or is perfectly mobile: it can easily move back and forth between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D533B-34FD-4FF9-9F2E-90E6E9DA942B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cardian Model: Absolute Productivity Advan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amount of output obtained from a unit of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or produ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nits of output) / (hours work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loaves of bread can be produced in 1 hour, productivity = (2 loaves) / (1 h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solute productivity advant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eld by a country that produces more of a certain good per hour worked than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58BB0-CB46-4C00-9710-4EA6350E6F84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3.1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put per Hour  Wor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23920" y="2895480"/>
            <a:ext cx="6894720" cy="119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F51E8-89BB-43BC-B112-1642514E9F06}" type="slidenum">
              <a:t>6</a:t>
            </a:fld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olute Productivity Advantage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.S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portunity c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bread is 1.5 tons of steel: each unit of bread produced requires the U.S. economy to forfeit the production of 1.5 tons of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um, trade between U.S. and Canada will occur at a price between these two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14600" y="3255840"/>
          <a:ext cx="441972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55840"/>
                    <a:ext cx="441972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482920" y="5253120"/>
          <a:ext cx="429876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2920" y="5253120"/>
                    <a:ext cx="42987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483F-CEC3-44DC-896A-5529DCE0571F}" type="slidenum">
              <a:t>7</a:t>
            </a:fld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ative Productivity Advantage and Gains from T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what happens to a country that does not have absolute productivity advantage in anyth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even if a country does not have any goods with an absolute productivity advantage, it can benefit from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dea that nations benefit from trade has nothing to do with whether a country has an absolute advantage in producing a particular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7F09-9DBB-4F94-B76A-6917BF668D3B}" type="slidenum">
              <a:t>8</a:t>
            </a:fld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3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roduction Possibilities Curve for 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7160" y="1802880"/>
            <a:ext cx="850572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s the tradeoffs a country faces when choosing its combination of bread and steel 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4303800"/>
            <a:ext cx="407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284800" cy="32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FEB6-66E7-4D77-B6BB-DA567DBF0A07}" type="slidenum">
              <a:t>9</a:t>
            </a:fld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10T17:56:13Z</dcterms:modified>
  <cp:revision>210</cp:revision>
  <dc:subject>Comparative Advantage  and the Gains from Trade </dc:subject>
  <dc:title>Chapter 3</dc:title>
</cp:coreProperties>
</file>