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ct" ContentType="image/x-pict"/>
  <Override PartName="/ppt/media/image7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D3BC8-F1AA-4BB8-90FF-98432CB3BB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06BD0-0CF5-4B8D-B015-99A5E963B0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A908A-1051-42D1-A3F3-576F074D2F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284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888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1716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284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888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C3914-C815-48C8-9404-B652A79031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9240" y="142560"/>
            <a:ext cx="7302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47D90-4F7D-4F00-AD78-1260F89969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284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6888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1716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284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6888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2BE79-54FE-40A8-BBF9-E32D282C22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F55B9-60EA-4C73-8419-B1DBDDCFDD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E9440-B20A-400C-8FAD-C6A3B5F99E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9240" y="142560"/>
            <a:ext cx="7302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26154-B369-4310-A71E-9B0777BD4F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C0757-80CF-476E-A6AB-E0B4AEBF7F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86A5B-E55B-4ECF-90FB-4EB7C21F3B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26FC4-F904-4A67-B617-10AC479F6E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4920" y="624852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Copyright © 2008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53280" y="6095880"/>
            <a:ext cx="990720" cy="76212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07732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-</a:t>
            </a:r>
            <a:fld id="{D5B5F2C8-12CB-44C4-8807-BC6244F57E1A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447920"/>
            <a:ext cx="8991720" cy="15228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88480" y="1447920"/>
            <a:ext cx="155520" cy="464796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666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8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6095880"/>
            <a:ext cx="752400" cy="573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240080" y="609480"/>
            <a:ext cx="4351320" cy="5257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388800"/>
            <a:ext cx="373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905120"/>
            <a:ext cx="37335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eyond Comparative Advant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rade and Geograp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connections between trade and ge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406440">
              <a:spcBef>
                <a:spcPts val="2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ariffs fall, certain industries may relocate production to take advantage of lowered trade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406440">
              <a:spcBef>
                <a:spcPts val="2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graphical concentration may give an industry competitive advantage: it will join a regional industrial cluster (agglomeration) to strengthen its export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5E505-E9D5-4EA5-AEEC-350C26FE2CD9}" type="slidenum">
              <a:t>10</a:t>
            </a:fld>
          </a:p>
        </p:txBody>
      </p:sp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ternal Economies of Sc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ternal economies of sca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dvantage of larger size applies to the industry as a whole, not to individual fi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firm in a region produce similar products, they will benefit from knowledge spillo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presence of a large number of producers in one area creates a deep labor market for specialized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n area holds a dense network of input suppliers, manufacturers locate near the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2F466-A635-4683-9CD9-70BDEB6D4595}" type="slidenum">
              <a:t>11</a:t>
            </a:fld>
          </a:p>
        </p:txBody>
      </p:sp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de and External Economies of Sc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8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ographical concentration may be self-reinforcing: an initial small move toward clustering may cause a chain reaction, resulting in a massive industrial agglomer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24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 Aerospace manufacturing firms in Seattle and Southern California reg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7A4CE-C3D8-4F4E-96D1-937725BDC945}" type="slidenum">
              <a:t>12</a:t>
            </a:fld>
          </a:p>
        </p:txBody>
      </p:sp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ustrial Poli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ustrial poli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 government’s policy designed to create new industries or support existing indus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ial policies seek to alter the country´s comparative advantage by picking winners and lo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they can have a profound impact on trade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9F2F1-6D99-4E31-8F87-E6FA3BE9509A}" type="slidenum">
              <a:t>13</a:t>
            </a:fld>
          </a:p>
        </p:txBody>
      </p:sp>
    </p:spTree>
  </p:cSld>
  <p:transition spd="med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 Failure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44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ket fail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ailure by the market economy to deliver an optimal quantity of goods and services (the value of a good to private consumers and the society fails to equal to its cost of produ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divergence between private returns and social retu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 market failure, some costs or benefits of an activity ar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ternaliz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outside the area of concern of the economic agents engaged in the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576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ternal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market failure that results from the extern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ADA1D-8915-4019-A659-1FB4CBA9FC6C}" type="slidenum">
              <a:t>14</a:t>
            </a:fld>
          </a:p>
        </p:txBody>
      </p:sp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URE 5.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Market Failure: Externa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47920" y="1906560"/>
            <a:ext cx="6164280" cy="439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B89F0-00C9-4BCF-96D2-82209847447B}" type="slidenum">
              <a:t>15</a:t>
            </a:fld>
          </a:p>
        </p:txBody>
      </p:sp>
    </p:spTree>
  </p:cSld>
  <p:transition spd="med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ket Failure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failure is a major justification for industrial 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ledge spillover, for example, is cited as a reason for industrial policies: a certain industry can spread knowledge about new products and processes, making social returns greater than private retu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spillovers occur in research and development (R&amp;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11360-8E83-4A63-90B6-700832043587}" type="slidenum">
              <a:t>16</a:t>
            </a:fld>
          </a:p>
        </p:txBody>
      </p:sp>
    </p:spTree>
  </p:cSld>
  <p:transition spd="med"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rategi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rade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ategic trade polic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selective use of trade barriers and industry subsidies in order to capture some of the profits of foreign fi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ic trade policy requires that (1) industry has economies of scale and (2) firms in the industry have market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ic trade policy is, like market failure, a justification for industrial 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D6726-D21C-418D-9643-0F80F47CE91F}" type="slidenum">
              <a:t>17</a:t>
            </a:fld>
          </a:p>
        </p:txBody>
      </p:sp>
    </p:spTree>
  </p:cSld>
  <p:transition spd="med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BLE 5.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Hypothetical Payoff Matr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7680" y="2746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14560" y="2746440"/>
            <a:ext cx="6913440" cy="2295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735D0-CE68-477B-A729-569E1B40B2FE}" type="slidenum">
              <a:t>18</a:t>
            </a:fld>
          </a:p>
        </p:txBody>
      </p:sp>
    </p:spTree>
  </p:cSld>
  <p:transition spd="med"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BLE 5.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The Payoff Matrix after a Subsidy of 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119240" y="2276640"/>
            <a:ext cx="6904080" cy="230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1726F-5F0B-4AE5-9526-7EB81B493F82}" type="slidenum">
              <a:t>19</a:t>
            </a:fld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why many countries import the same goods they expor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alyze the development of regional clusters of production of many exported goods and servic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amine how and why many countries select and plan the development of their export indus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3FC5E-6097-41D5-819C-4BF58EB197EC}" type="slidenum">
              <a:t>2</a:t>
            </a:fld>
          </a:p>
        </p:txBody>
      </p:sp>
    </p:spTree>
  </p:cSld>
  <p:transition spd="med"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ustrial Policy To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ruguay Round and WTO prohibit subsidies for competitive poli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governments can use other policies: providing information about foreign markets to domestic firms, helping negotiate contracts, lobbying foreign governments to adopt home country standards, or tying foreign aid to purchases from domestic fi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B2448-959F-46BB-BA16-CB37967C5EA0}" type="slidenum">
              <a:t>20</a:t>
            </a:fld>
          </a:p>
        </p:txBody>
      </p:sp>
    </p:spTree>
  </p:cSld>
  <p:transition spd="med"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s with Industrial Poli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icult to obtain information for measuring market fail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icult to determine which industry to support: positive externalities may not be readily visib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nt seek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activity, such as lobbying, by individuals, firms, or special interests to alter the distribution of income in their fav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88CDD-51AF-44CA-AE43-8AD728E555A3}" type="slidenum">
              <a:t>21</a:t>
            </a:fld>
          </a:p>
        </p:txBody>
      </p:sp>
    </p:spTree>
  </p:cSld>
  <p:transition spd="med"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.S. Industrial Poli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til World War II, the U.S. used high tariffs to support specific indus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use of direct subsidies, however, was used only in agriculture and defense indus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common form of U.S. government support for certain industries has been through new research and dissemination of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E8429-AFEE-408F-883B-3FD5F37C6A5C}" type="slidenum">
              <a:t>22</a:t>
            </a:fld>
          </a:p>
        </p:txBody>
      </p:sp>
    </p:spTree>
  </p:cSld>
  <p:transition spd="med"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388800"/>
            <a:ext cx="373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1905120"/>
            <a:ext cx="37335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dditional Chapter 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ABLE 5.2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.S.-Canadian Merchandise Trade, 2004 (Billions of US$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19320" y="2133720"/>
            <a:ext cx="6921360" cy="311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C630E-B03F-4F01-B245-EF11DCBDBE2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04920" y="388800"/>
            <a:ext cx="373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ppendi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4920" y="1905120"/>
            <a:ext cx="37335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Graphical Illustration of Prices and Costs with Monopolistic Compet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GURE 5.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7843680" cy="391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71836-448B-478B-B6A2-3C06C001A4D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GURE 5.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1880" y="1905120"/>
            <a:ext cx="7996320" cy="398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AFDAF-FF51-4C9E-BC51-EC91FBFCEE1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de models built exclusively on comparative advantage do not always serve to predict a country´s trade patt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arative advantage is very difficult to mea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rge share of international trade is not, in fact, based on comparative adva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sides, countries often seek to alter their comparative advantages through industrial 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46CF6-0748-48F5-A5B3-93309394341D}" type="slidenum">
              <a:t>3</a:t>
            </a:fld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traindustry Tr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raindustry trad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international trade of products made within the same industry (steel-for-steel, bread-for-bre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erindustry trad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international trade of products between two different industries (steel-for-bre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raindustry trade is growing increasingly important in international trade especially between industrial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66E83-2900-4B2E-97E6-A96C160E7C88}" type="slidenum">
              <a:t>4</a:t>
            </a:fld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5715000" y="1765440"/>
          <a:ext cx="297180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1765440"/>
                    <a:ext cx="29718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asures of Intraindustry Tr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Grubel Lloyd (GL) index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GL = 1; all trade is intraindus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blem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oduct categories are difficult to define (are computers “office supplies” like pencils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pending on the definition, intraindustry trade is 1/3 or 2/3 of U.S. merchandise t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FDC4B-3ABC-475F-9E38-FF3E403D1568}" type="slidenum">
              <a:t>5</a:t>
            </a:fld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haracteristics of Intraindustry Tr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conomies of scal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decreasing average costs over a relatively large range of output (as opposed to constant or increasing cos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ernal economies of scal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lead to larger firms because size confers a competitive advant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xternal economies of scal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lead to larger industries (however, larger firms have no inherent advantage over smaller 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E7481-8B22-40C5-B57A-30097F56BF22}" type="slidenum">
              <a:t>6</a:t>
            </a:fld>
          </a:p>
        </p:txBody>
      </p:sp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ABLE 5.1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creasing Returns to Scale for a Single Fi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28600" y="2514600"/>
            <a:ext cx="6886800" cy="231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F7099-BD23-416A-93EB-E15A6ADB7D02}" type="slidenum">
              <a:t>7</a:t>
            </a:fld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ternal Economies of Scale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n larger firms are more competitive, market structure chan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Oligopol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handful of firms produce the entire market output, with each firm formulating its strategies in response to those of its competi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nopolistic competi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unlike under pure monopoly, competition among many firms ex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owever, competition is attenuated by the practice of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roduct differentia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—each firm produces a slightly different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1FB68-F4B6-40AF-B98D-7C8BC5A8AB00}" type="slidenum">
              <a:t>8</a:t>
            </a:fld>
          </a:p>
        </p:txBody>
      </p:sp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ains from Intraindustry Tr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wer costs: increase in the size of the market allows for scale economies, which lowers production costs and eventually costs to consu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tential expansion of production: there is a high likelihood that intraindustry trade expands the number of domestic firms and the quantity of domestic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crease in consumer choices: intraindustry trade tends to give access to a much greater variety of goods than produced domest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3F339-A8CB-4F28-8CD6-9A26C23229E0}" type="slidenum">
              <a:t>9</a:t>
            </a:fld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5T14:57:27Z</dcterms:created>
  <dc:creator>James Gerber</dc:creator>
  <dc:description/>
  <dc:language>en-US</dc:language>
  <cp:lastModifiedBy>test</cp:lastModifiedBy>
  <dcterms:modified xsi:type="dcterms:W3CDTF">2007-04-10T18:04:03Z</dcterms:modified>
  <cp:revision>257</cp:revision>
  <dc:subject>Beyond Comparative Advantage </dc:subject>
  <dc:title>Chapter 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38218154</vt:r8>
  </property>
  <property fmtid="{D5CDD505-2E9C-101B-9397-08002B2CF9AE}" pid="3" name="_AuthorEmail">
    <vt:lpwstr>jksarbau@uncg.edu</vt:lpwstr>
  </property>
  <property fmtid="{D5CDD505-2E9C-101B-9397-08002B2CF9AE}" pid="4" name="_AuthorEmailDisplayName">
    <vt:lpwstr>Jeff Sarbaum</vt:lpwstr>
  </property>
  <property fmtid="{D5CDD505-2E9C-101B-9397-08002B2CF9AE}" pid="5" name="_EmailSubject">
    <vt:lpwstr>Gerber online content</vt:lpwstr>
  </property>
  <property fmtid="{D5CDD505-2E9C-101B-9397-08002B2CF9AE}" pid="6" name="_ReviewingToolsShownOnce">
    <vt:lpwstr/>
  </property>
</Properties>
</file>