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57A1-E074-4D23-A774-E0FE9479F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B494-2A7A-416C-93B1-75CC75B13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26ED-CAD6-4940-AA6E-C9A7372FD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6FE5-BDF5-464C-8FE9-FD8BBCCC1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2A01-857C-4FB8-8E60-CE8EA9ABC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95B6-E902-4399-AB1F-6F3D1124E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317B-6F2D-4F31-BA4E-14E1E5574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4EC9-2334-4188-87FA-83CEF5FD1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798C-409C-4DDD-BA89-3201A3F83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7FDD-B441-4D8A-9DD1-5038D165C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498A-4292-4E45-9063-931C52831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FE75-6627-45E3-8C3E-00B1EE882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-</a:t>
            </a:r>
            <a:fld id="{905FD08B-1BAD-4FBA-A956-94DD3158894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eyond Comparative Adva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de and Ge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nnections between trade and ge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ariffs fall, certain industries may relocate production to take advantage of lowered trad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ical concentration may give an industry competitive advantage: it will join a regional industrial cluster (agglomeration) to strengthen its expor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9AE6-880F-4D93-971C-F0A645E42F64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Economies of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ernal economies of sc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dvantage of larger size applies to the industry as a whole, not to individua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firm in a region produce similar products, they will benefit from knowledge spillo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presence of a large number of producers in one area creates a deep labor market for specialize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area holds a dense network of input suppliers, manufacturers locate near the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B482B-DB35-4601-8172-DD4219DC5236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e and External Economies of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ical concentration may be self-reinforcing: an initial small move toward clustering may cause a chain reaction, resulting in a massive industrial agglom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Aerospace manufacturing firms in Seattle and Southern California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D0CD-7A0E-4788-B3C3-37AD20B329CF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ustrial poli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government’s policy designed to create new industries or support existing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policies seek to alter the country´s comparative advantage by picking winners and l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y can have a profound impact on trad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44BF-2A5C-4E5F-A3DA-A71DF882B10E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Failur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ailure by the market economy to deliver an optimal quantity of goods and services (the value of a good to private consumers and the society fails to equal to its cost of prod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vergence between private returns and social ret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market failure, some costs or benefits of an activity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outside the area of concern of the economic agents engaged in th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rna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arket failure that results from the extern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7960-B4E9-4F6D-8804-72C5B170C99D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5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rket Failure: Exter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906560"/>
            <a:ext cx="6164280" cy="43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38DE-CBD6-45D6-B045-0F6079667943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Failure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failure is a major justification for industri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spillover, for example, is cited as a reason for industrial policies: a certain industry can spread knowledge about new products and processes, making social returns greater than private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spillovers occur in research and development (R&amp;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A2C3-624D-44DE-B7C2-6A96C8BCC044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ateg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ad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ic trade poli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lective use of trade barriers and industry subsidies in order to capture some of the profits of foreign fi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 trade policy requires that (1) industry has economies of scale and (2) firms in the industry have marke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 trade policy is, like market failure, a justification for industri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327B-A76F-4422-9D63-78C0E8F8C0AB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5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ypothetical Payoff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274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4560" y="2746440"/>
            <a:ext cx="6913440" cy="229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ABDE-AB7B-44BF-9D01-B327487E81C2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5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Payoff Matrix after a Subsidy of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9240" y="2276640"/>
            <a:ext cx="6904080" cy="23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BF53-2222-430A-9276-3FB23CE831F3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y many countries import the same goods they ex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alyze the development of regional clusters of production of many exported goods and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ine how and why many countries select and plan the development of their export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8C81E-8EBD-49B6-953C-FFC597B0B8EB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Policy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uguay Round and WTO prohibit subsidies for competitive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governments can use other policies: providing information about foreign markets to domestic firms, helping negotiate contracts, lobbying foreign governments to adopt home country standards, or tying foreign aid to purchases from domestic fi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F224-7624-42A6-8E80-A6EF3AFCA032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with Industrial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obtain information for measuring market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determine which industry to support: positive externalities may not be readily vi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t see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ctivity, such as lobbying, by individuals, firms, or special interests to alter the distribution of income in their f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87FE-CCF3-466E-B85C-728DC69F30CD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.S. Industrial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World War II, the U.S. used high tariffs to support specific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 of direct subsidies, however, was used only in agriculture and defense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form of U.S. government support for certain industries has been through new research and dissemination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E68D-C610-44B9-8F2E-1E41645BCCD9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 5.2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-Canadian Merchandise Trade, 2004 (Billions of US$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921360" cy="31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F33D-71A9-4132-BDC3-15812624E3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aphical Illustration of Prices and Costs with Monopolistic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5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84368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7B10-EA55-482F-8F85-45F4A88206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5.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1880" y="1905120"/>
            <a:ext cx="7996320" cy="39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19CE-9558-4CD8-B481-6120FB74C0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de models built exclusively on comparative advantage do not always serve to predict a country´s trad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ative advantage is very difficult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 share of international trade is not, in fact, based on compara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sides, countries often seek to alter their comparative advantages through industri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41EB-1B15-4951-A42E-2C547743DE98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aindustry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raindustry tr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ternational trade of products made within the same industry (steel-for-steel, bread-for-b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industry tr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ternational trade of products between two different industries (steel-for-b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aindustry trade is growing increasingly important in international trade especially between industrial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1B93-DA2A-4786-A79D-88BCF94DEBB4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715000" y="1765440"/>
          <a:ext cx="29718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765440"/>
                    <a:ext cx="2971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asures of Intraindustry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rubel Lloyd (GL) inde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GL = 1; all trade is intraindus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duct categories are difficult to define (are computers “office supplies” like pencil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ing on the definition, intraindustry trade is 1/3 or 2/3 of U.S. merchandis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892A-B917-443A-9321-764BBF021D3A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haracteristics of Intraindustry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decreasing average costs over a relatively large range of output (as opposed to constant or increasing 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nal economies of sca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lead to larger firms because size confers a competi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ternal economies of sca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lead to larger industries (however, larger firms have no inherent advantage over smaller 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8A767-AFB0-4259-9C19-1E1D8E94D6AE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5.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ing Returns to Scale for a Single Fi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28600" y="2514600"/>
            <a:ext cx="6886800" cy="23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9D42-29EA-483E-8B5B-C0E9E360CBD3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rnal Economies of Scale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larger firms are more competitive, market structur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ligopo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handful of firms produce the entire market output, with each firm formulating its strategies in response to those of its competi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opolistic competi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unlike under pure monopoly, competition among many firms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ever, competition is attenuated by the practi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 differenti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—each firm produces a slightly different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398B-AB89-482E-88E0-81F11CC21C04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ains from Intraindustry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er costs: increase in the size of the market allows for scale economies, which lowers production costs and eventually costs to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tential expansion of production: there is a high likelihood that intraindustry trade expands the number of domestic firms and the quantity of domestic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e in consumer choices: intraindustry trade tends to give access to a much greater variety of goods than produced domes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15F4-57D3-4FE3-9CD3-3DBD3D4C335C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04:03Z</dcterms:modified>
  <cp:revision>257</cp:revision>
  <dc:subject>Beyond Comparative Advantage </dc:subject>
  <dc:title>Chapter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38218154</vt:r8>
  </property>
  <property fmtid="{D5CDD505-2E9C-101B-9397-08002B2CF9AE}" pid="3" name="_AuthorEmail">
    <vt:lpwstr>jksarbau@uncg.edu</vt:lpwstr>
  </property>
  <property fmtid="{D5CDD505-2E9C-101B-9397-08002B2CF9AE}" pid="4" name="_AuthorEmailDisplayName">
    <vt:lpwstr>Jeff Sarbaum</vt:lpwstr>
  </property>
  <property fmtid="{D5CDD505-2E9C-101B-9397-08002B2CF9AE}" pid="5" name="_EmailSubject">
    <vt:lpwstr>Gerber online content</vt:lpwstr>
  </property>
  <property fmtid="{D5CDD505-2E9C-101B-9397-08002B2CF9AE}" pid="6" name="_ReviewingToolsShownOnce">
    <vt:lpwstr/>
  </property>
</Properties>
</file>