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D9E9-2D21-4347-915D-EF442611F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92CF-F3B8-418B-8539-95B4D10A9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7C90-8682-4ADF-A5DD-B0D0E5CEC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2661-8C1B-4DE3-B4B9-2070584E5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FA3E-1B8D-41CC-AC56-300FD0B6C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FFFA-5581-4C0D-AD50-C83FDBF79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B114-8D83-456B-B042-0C0C24A8C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2920-ED3D-4E65-BBD8-F04635C17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C6C8-A36C-4755-9505-0C06FFCD6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1306-4730-420F-983A-288C25FA4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0017-E74D-4322-9047-7C074176A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025B-291A-4023-8718-9631A646B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-</a:t>
            </a:r>
            <a:fld id="{17E267AE-1A5B-4BC9-AF17-08CCF8374F3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eyond Comparative Adva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de and 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nnections between trade and ge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riffs fall, certain industries may relocate production to take advantage of lowered trad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ical concentration may give an industry competitive advantage: it will join a regional industrial cluster (agglomeration) to strengthen its expor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D48A-A05D-4148-9301-93F649597F72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Economies of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ernal economies of 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dvantage of larger size applies to the industry as a whole, not to individua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firm in a region produce similar products, they will benefit from knowledge spill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presence of a large number of producers in one area creates a deep labor market for specialize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area holds a dense network of input suppliers, manufacturers locate near the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0C48-D5D4-441C-930B-56AE424FDD38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e and External Economies of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ical concentration may be self-reinforcing: an initial small move toward clustering may cause a chain reaction, resulting in a massive industrial agglom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Aerospace manufacturing firms in Seattle and Southern California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2DBC-4CB2-4344-A88A-7866BE332321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strial poli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government’s policy designed to create new industries or support existing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policies seek to alter the country´s comparative advantage by picking winners and l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y can have a profound impact on tra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95C0-EB0E-4735-BB0C-E4A0CCD99CE0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Failur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ailure by the market economy to deliver an optimal quantity of goods and services (the value of a good to private consumers and the society fails to equal to its cost of pro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vergence between private returns and social 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market failure, some costs or benefits of an activity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outside the area of concern of the economic agents engaged in th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rna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rket failure that results from the exter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E0EE-E214-4AF0-B72D-D2F0C1BEFEED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5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rket Failure: Exter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906560"/>
            <a:ext cx="6164280" cy="43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0C9F-2AAD-49DF-9B33-947547B9F1EC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Failure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failure is a major justification for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pillover, for example, is cited as a reason for industrial policies: a certain industry can spread knowledge about new products and processes, making social returns greater than private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spillovers occur in research and development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6DEB-AC80-4C49-90C5-469C643705CC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ateg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ad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ic trade poli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lective use of trade barriers and industry subsidies in order to capture some of the profits of foreign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trade policy requires that (1) industry has economies of scale and (2) firms in the industry have marke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trade policy is, like market failure, a justification for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933B-05D5-4630-BDAD-F76808D5FC63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5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ypothetical Payoff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74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4560" y="2746440"/>
            <a:ext cx="6913440" cy="22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9A8B-950B-4B9E-8A32-E027C1A37411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5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Payoff Matrix after a Subsidy of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9240" y="2276640"/>
            <a:ext cx="6904080" cy="23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F268-8816-496A-BD14-EE27F06800E6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many countries import the same goods they ex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ze the development of regional clusters of production of many exported goods and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ine how and why many countries select and plan the development of their export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FDB8-CAB9-48B6-ABEA-98860A136489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Policy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uguay Round and WTO prohibit subsidies for competitive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governments can use other policies: providing information about foreign markets to domestic firms, helping negotiate contracts, lobbying foreign governments to adopt home country standards, or tying foreign aid to purchases from domestic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ABCC-D8A8-4CA5-8496-464802AAC9B9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with Industri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obtain information for measuring market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determine which industry to support: positive externalities may not be readily vi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 see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ctivity, such as lobbying, by individuals, firms, or special interests to alter the distribution of income in their f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444A-E646-4516-AEC6-FD8EFCC2E35A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 Industri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World War II, the U.S. used high tariffs to support specific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 of direct subsidies, however, was used only in agriculture and defense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form of U.S. government support for certain industries has been through new research and dissemina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6549-53FB-4368-A42C-66B7C510760F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5.2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-Canadian Merchandise Trade, 2004 (Billions of US$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21360" cy="31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6B30-8FC3-40F6-AFCA-9F9B4444A2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aphical Illustration of Prices and Costs with Monopolistic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5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84368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BA4D-4A95-4B6B-84DB-C90DCA92AD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5.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1880" y="1905120"/>
            <a:ext cx="7996320" cy="39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1205-4A21-4476-ABE2-672E2D3054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e models built exclusively on comparative advantage do not always serve to predict a country´s tra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ative advantage is very difficult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 share of international trade is not, in fact, based on 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sides, countries often seek to alter their comparative advantages through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52BC-BB0D-4F0F-8254-B1879B0E37D2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raindustry tr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ternational trade of products made within the same industry (steel-for-steel, bread-for-b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industry tr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ternational trade of products between two different industries (steel-for-b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aindustry trade is growing increasingly important in international trade especially between industrial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3018-2B60-4C55-BEBA-007C25EDB05A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715000" y="1765440"/>
          <a:ext cx="29718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765440"/>
                    <a:ext cx="2971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asures of 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rubel Lloyd (GL) inde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GL = 1; all trade is intraindus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duct categories are difficult to define (are computers “office supplies” like pencil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ing on the definition, intraindustry trade is 1/3 or 2/3 of U.S. merchandis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B826-D8D9-4A56-9856-8CD88C833C0E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haracteristics of Intraindustry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ecreasing average costs over a relatively large range of output (as opposed to constant or increasing 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nal economies of sc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lead to larger firms because size confers a 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ternal economies of sc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lead to larger industries (however, larger firms have no inherent advantage over smaller 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414E-4DB0-455C-B82D-6F7F4E7F23FF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5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ing Returns to Scale for a Single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28600" y="2514600"/>
            <a:ext cx="6886800" cy="23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8715-E97E-4F89-A52A-7567621646D9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nal Economies of Scal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larger firms are more competitive, market structur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ligopo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andful of firms produce the entire market output, with each firm formulating its strategies in response to those of its competi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opolistic competi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unlike under pure monopoly, competition among many firm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ever, competition is attenuated by the practi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 differenti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—each firm produces a slightly different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895D-ED4F-4FDD-8219-1AF181570C47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ains from 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er costs: increase in the size of the market allows for scale economies, which lowers production costs and eventually costs to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tential expansion of production: there is a high likelihood that intraindustry trade expands the number of domestic firms and the quantity of domestic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 in consumer choices: intraindustry trade tends to give access to a much greater variety of goods than produced domes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89C9-D440-49F7-A527-B86CDA086648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04:03Z</dcterms:modified>
  <cp:revision>257</cp:revision>
  <dc:subject>Beyond Comparative Advantage </dc:subject>
  <dc:title>Chapter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8218154</vt:r8>
  </property>
  <property fmtid="{D5CDD505-2E9C-101B-9397-08002B2CF9AE}" pid="3" name="_AuthorEmail">
    <vt:lpwstr>jksarbau@uncg.edu</vt:lpwstr>
  </property>
  <property fmtid="{D5CDD505-2E9C-101B-9397-08002B2CF9AE}" pid="4" name="_AuthorEmailDisplayName">
    <vt:lpwstr>Jeff Sarbaum</vt:lpwstr>
  </property>
  <property fmtid="{D5CDD505-2E9C-101B-9397-08002B2CF9AE}" pid="5" name="_EmailSubject">
    <vt:lpwstr>Gerber online content</vt:lpwstr>
  </property>
  <property fmtid="{D5CDD505-2E9C-101B-9397-08002B2CF9AE}" pid="6" name="_ReviewingToolsShownOnce">
    <vt:lpwstr/>
  </property>
</Properties>
</file>