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E006-0280-4AC9-94BD-17C1F1C55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9D2F-D5E8-42D4-B394-076D6B81B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2A67-DF57-4A0A-86F1-032A282A3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1B20-E8FA-4CCD-AA25-D8E4096AA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B861-8A7E-4B5A-9F64-191D04208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C093-D6D2-40E9-B836-CA01348FD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E6516-EAB5-40C4-A4D0-14A8AAE4B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E009-1869-41B4-8370-9F526D1BA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4E28B-0977-4B2E-8C2B-961D36A86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D0390-54A3-4F59-B7AE-7FAF87FB8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6F6CE-E66C-431E-9A0C-A773AF554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DDA8-AB3E-40C7-9994-6C9C9F77F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-</a:t>
            </a:r>
            <a:fld id="{0FBD68BA-256B-43A9-B317-D5F87A5A87BB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Theory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 Tariff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d Quo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ffect of a Tariff on Price,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utput, and Consumption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Now assume: Government imposes a tariff of amount “t.” Importers will still be able to buy the good from foreign producers for P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but they will have to pay the import tax of “t.”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19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tax is subsequently tacked onto the price to domestic consumers: price to them is P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+ t=P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19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consumption of the imported good subsequently decrea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587AA-5102-488B-A4C2-B2EDBC64BD6A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ffect of a Tariff on Price,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utput, and Consumption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rtherm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omestic production of the good increases as domestic firms are able to charge a higher price while remaining competitive vis-à-vis foreign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ally, imports of the good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CCA5F-FDEB-464B-ACDB-1C0896B516CF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riff’s Effect on Resource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come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sides the rise in prices and fall in imports, tariffs infl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puts in domestic production: the increase in domestic production requires additional resources of land, labor, and capital to be reallocated from their prior 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umer sur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ducer sur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71DCD-DE66-42F4-A276-FC54BD80609E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3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ffects of a Tari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4520" y="1990800"/>
            <a:ext cx="8265960" cy="38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8A186-9B19-4F98-8C76-4C08435201E5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BLE 6.1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nomic Effects of the Tariff in Figure 6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600" y="1904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t effect of the tariff on national welfare = gains to producers + gains to government - losses to consumers = (a + b + c + d - a - c) = b +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367080"/>
            <a:ext cx="6346800" cy="29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C9A9-C369-40AA-AEF0-722300AB5520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Potential Costs of a Tar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tariff may have effects that are less predictable and harder to quant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taliation by other countries: adds to the net loss of a tariff by hurting export markets of other industries; can escalate rapi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novation: tariffs reduce competitive pressures on domestic firms and thus their incentives to innovate and improve the quality of existing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34413-7CB4-418F-8D49-1AB47F8D254E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ther Potential Costs of a Tariff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nt seek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ny activity that uses resources in order to capture more income without actually producing a good or survive (e.g., firms hire lobbyists to maintain tariff prot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itical systems that do not easily provide tariffs are more likely to avoid rent see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4FD8-6E76-466B-BDCE-0EED9F123D91}" type="slidenum">
              <a:t>16</a:t>
            </a:fld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arge Country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conomists distinguish between small and large countries in analyzing tari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rge country: one that imports enough of a particular product so that if it imposes a tariff, the exporting country will reduce its price of the good in order to keep its share of the large country´s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ory, large countries can improve their national welfare by imposing a tariff as long as their trading partners do not retal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4A79-70BD-40FE-A73C-01E77C98E444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ariffs in the Large Country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7120" y="1785960"/>
            <a:ext cx="7602480" cy="41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92CBE-8C85-41C1-990D-35C83BD562BE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mparison of Tariff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mid-90s tariff rates in most countries have f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, tariff rates in developing nations are higher than developed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developed nations often have highest tariffs in agriculture, textiles, and other labor-intensive products – the very products developing nations would like to ex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49D4-D51D-4EFE-B6B7-312ED5183301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roduce the theory of tari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cuss the welfare and efficiency effects of tari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alyze the distinction between tariffs and qu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D7967-CD41-4A78-9762-49F313F3B857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6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verage Tariff Rates, 1986-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1880" y="1803240"/>
            <a:ext cx="7920000" cy="406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A0D1-160A-4699-B81C-93C052A38947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ffective 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su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Nominal Rates of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mount of protection given to any one product depends not only on the tariff rate but also on tariffs on the inputs used to produce the goo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ominal rate of protec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tariff rate levied on a given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ffective rate of protec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nominal rate + tariffs on intermediate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price of a good minus the costs of intermediate goods used to produce it (the contributions of labor and capital at a given stage of produ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0FBF-0407-46BA-8CCC-5A09928EE09C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ffective versus Nominal Rates of Protection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sum, effective rate  of protection =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VA* - VA) / 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 = amount of domestic value added under free trade; VA* = domestic value added after taking into account all tariffs (on both final goods and intermediate inpu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8B6C-84FC-4279-BFBA-1FE1DE09252B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6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Nominal and Effective Rates of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5720" y="2259000"/>
            <a:ext cx="7970760" cy="23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AFB7-406B-41FC-9CF1-8A2ED56A67EA}" type="slidenum">
              <a:t>23</a:t>
            </a:fld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of a Quo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Quo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quantitative restriction that specifies a limit on the quantity of imp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fferences between quotas and tari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riff limits imports by imposing a tax on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like tariffs, quotas do not generate tariff revenue for the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ities between quotas and tari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lead to a reduction in imports, a fall in total domestic consumption, and an increase in domestic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EDAE-4FD6-4E75-95CF-B9BEA30651F3}" type="slidenum">
              <a:t>24</a:t>
            </a:fld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of a Quota (cont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h quotas and tariffs limit im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ever, the net loss from quotas can exceed that from tariff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occurs when the lost tariff revenue resulting from quotas ends up in the hands of foreign producers as they raise their prices to match supply to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0A4B-EF39-43BF-BE4E-848DCECEA2FD}" type="slidenum">
              <a:t>25</a:t>
            </a:fld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Quo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ation on the quantity of imports: e.g., a limit on the quantity of imports from country x, or a limit on the quantity of imports from the rest of the world as a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rt licensing requirement: forcing importers to obtain government licences for their imports; government regulates the number of licence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luntary export restraint (VER) (or voluntary restraint agreement, VRA): the exporting country “voluntarily” agrees to limit its exports for a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8842-1220-4528-9D72-E098ED2A6813}" type="slidenum">
              <a:t>26</a:t>
            </a:fld>
          </a:p>
        </p:txBody>
      </p:sp>
    </p:spTree>
  </p:cSld>
  <p:transition spd="med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Quotas: 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 have similar effects as q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VERs are more popular, as they (1) do not require domestic legislative action; and (2) allow politicians to provide protection for domestic industry and to appear as proponents of free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se of VERs increased with the decline in tariffs that results from the global trade rounds; however, recent international negotiations have restricted the use of 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F9A5-F88D-4E8B-A750-BEA178A14D2B}" type="slidenum">
              <a:t>27</a:t>
            </a:fld>
          </a:p>
        </p:txBody>
      </p:sp>
    </p:spTree>
  </p:cSld>
  <p:transition spd="med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alysis of 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ota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Quota rent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: increased profits accruing to foreign producers from the use of quotas; take the place of tariff revenu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52520" y="3073320"/>
            <a:ext cx="6114960" cy="317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9BEC-78C8-486A-882D-1D7737F9FEB3}" type="slidenum">
              <a:t>28</a:t>
            </a:fld>
          </a:p>
        </p:txBody>
      </p:sp>
    </p:spTree>
  </p:cSld>
  <p:transition spd="med"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alysis of 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ota: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17160" y="5216400"/>
            <a:ext cx="8505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of a tariff, the government earned revenue from imports; in the case of a quota, foreign producers receive extra profits 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74920" y="1749600"/>
            <a:ext cx="6137280" cy="32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4511-3093-442D-B70E-B0800A1C8052}" type="slidenum">
              <a:t>29</a:t>
            </a:fld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pters 6 and 7 provide an introduction to the theory and policy of tariffs and qu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general, tariffs have been negotiated down to very low levels by the GATT/WTO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tariffs on agriculture, textiles, and apparel continue to have relatively high barri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y developing countries have a comparative advantage in these areas and would benefit from tariff red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DC60-053D-463D-9737-69886EAE649A}" type="slidenum">
              <a:t>3</a:t>
            </a:fld>
          </a:p>
        </p:txBody>
      </p:sp>
    </p:spTree>
  </p:cSld>
  <p:transition spd="med"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ffect on the Profits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f Foreign Producer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mestic firms prefer quotas over tariffs: post-quota increase in consumer demand increases the price paid by consumers and thus the quantity of producer sur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contrast, increase in demand for a good with an import tariff increase the quantity of imports and leaves the price of the good i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CAC5-B800-4586-B563-959185CFD536}" type="slidenum">
              <a:t>30</a:t>
            </a:fld>
          </a:p>
        </p:txBody>
      </p:sp>
    </p:spTree>
  </p:cSld>
  <p:transition spd="med"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ffect on the Profits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f Foreign Producer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circumstances that can limit quota 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re is a large number of foreign producers, competition may limit their ability to increase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government can extract the extra profits from foreign producers through an auction for import lic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E13CC-F3F3-41BA-93F4-F746A3840929}" type="slidenum">
              <a:t>31</a:t>
            </a:fld>
          </a:p>
        </p:txBody>
      </p:sp>
    </p:spTree>
  </p:cSld>
  <p:transition spd="med"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dden Forms of Prot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y trade barrier that reduces imports without imposing a tax has effects similar to those of a qu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riffs: impose a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n-tariff barriers: quotas and non-tariff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n-tariff measures: hidden, non-transparent forms of protection (e.g., discriminatory government procurement; unclear safety standards; excessive bureaucratic regulations; local content require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82BF-12E0-4524-81C9-43041208C534}" type="slidenum">
              <a:t>32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alysis of a Tar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 are numerous barriers to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parent barriers and non-transparent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Quot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direct limit on imports: regulate the quantity of im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ariff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indirect limit on imports: impose a tax on im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4B4D0-48B6-4AC9-9FDA-7BB4EBE5B604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of a Tariff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riffs and quotas encou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o switch to relatively cheaper domestic goods or to drop out of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o increase their output as demand switches from foreign to domestic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pter 6 is a partial equilibrium analysis of the effects of tariffs and quotas: considers only their impact on the industry on which they are imposed, rather than their economy-w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65C1-33FF-4917-BEEB-F030F3E804A5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of a Tariff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key concepts in the analysis of the impact of tari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sumer surpl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value received by consumers in excess of the price they pay (can be measured only if the demand curve is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ducer surpl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value received by producers in excess of the minimum price at which they are willing to produce (can be measured only if the supply curve is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97E8-25EB-4462-8CA1-01CA054CA0A7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1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umer and Producer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84200" y="1982880"/>
            <a:ext cx="623592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CDD1-B4C4-4189-92BD-9BF17E5CDEC6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ffect of a Tariff on Price, Output, and Consu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533160">
              <a:spcBef>
                <a:spcPts val="2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is only one price for a good (world price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533160">
              <a:spcBef>
                <a:spcPts val="2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eign producers are willing to supply us with all of the units of the good we want at that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85BC1-AE8A-4249-95B8-63CB1339EF53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omestic Suppl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Demand for an Imported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898640"/>
            <a:ext cx="7113600" cy="427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4FB0-B1AC-45D1-9935-975B69B8FC7A}" type="slidenum">
              <a:t>9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20:14:27Z</dcterms:modified>
  <cp:revision>235</cp:revision>
  <dc:subject>The Theory  of Tariffs  and Quotas </dc:subject>
  <dc:title>Chapter 6</dc:title>
</cp:coreProperties>
</file>