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895B-D12E-4A9F-A36C-9308775F2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F3C1-029B-42FA-ABC7-CF57C6CD4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8E2B-4D95-4393-A817-B86F29925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95B5-772D-4547-9A9D-A31D21DF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45ED-AA2A-4F60-9AA1-321141ADF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2FD4-0D92-480E-BA84-0E56E978C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4F4B-9C2F-4D67-9D79-0C4968161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8225-EE75-4793-9A75-E508E0AC5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A274-6A32-4B23-A13C-BBFC43574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C13C-093D-4551-A878-D94BB156D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99DF-9D44-4165-89B5-A02697716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3C6F-B9E6-4F02-9F65-D6A093BC3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-</a:t>
            </a:r>
            <a:fld id="{06E82A70-CD6E-4ED2-8882-E88170D22E2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Theory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Tariff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d Quo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w assume: Government imposes a tariff of amount “t.” Importers will still be able to buy the good from foreign producers for P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but they will have to pay the import tax of “t.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tax is subsequently tacked onto the price to domestic consumers: price to them is 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+ t=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consumption of the imported good subsequently decre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FBF8-C538-4542-BC6D-FA3AA21754AE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omestic production of the good increases as domestic firms are able to charge a higher price while remaining competitive vis-à-vis foreign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lly, imports of the good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D0EC-F4DD-41B2-A07B-BE9FB0326C25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riff’s Effect on Resourc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come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ides the rise in prices and fall in imports, tariffs i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 in domestic production: the increase in domestic production requires additional resources of land, labor, and capital to be reallocated from their prior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959F-9A9D-476A-BB0D-51D144F28248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3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a Ta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4520" y="1990800"/>
            <a:ext cx="8265960" cy="38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CE8E-CC94-4D69-A71F-6428FC337854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6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c Effects of the Tariff in Figure 6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6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t effect of the tariff on national welfare = gains to producers + gains to government - losses to consumers = (a + b + c + d - a - c) = b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367080"/>
            <a:ext cx="634680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F5F1-D52F-45F2-B635-1A0CCDCCAA50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Potential Cost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ariff may have effects that are less predictable and harder to qua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aliation by other countries: adds to the net loss of a tariff by hurting export markets of other industries; can escalate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: tariffs reduce competitive pressures on domestic firms and thus their incentives to innovate and improve the quality of exis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F09A-1A51-43B9-B8BF-D524C099E663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ther Potential Costs of a Tarif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ny activity that uses resources in order to capture more income without actually producing a good or survive (e.g., firms hire lobbyists to maintain tariff prot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tical systems that do not easily provide tariffs are more likely to avoid rent see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9A69-B75E-42FD-8201-2C5F66318724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rge Country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sts distinguish between small and large countries in analyzing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country: one that imports enough of a particular product so that if it imposes a tariff, the exporting country will reduce its price of the good in order to keep its share of the large country´s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ory, large countries can improve their national welfare by imposing a tariff as long as their trading partners do not retal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7A7C-C118-4799-B248-4BB93D6DEDC6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ariffs in the Large Country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7120" y="1785960"/>
            <a:ext cx="760248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2A41-CEE0-4A66-836B-4A717A596DCA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arison of Tariff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mid-90s tariff rates in most countri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tariff rates in developing nations are higher than developed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eveloped nations often have highest tariffs in agriculture, textiles, and other labor-intensive products – the very products developing nations would like to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C53E-75EB-4A94-AB26-E9C6B14DD2D5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e the theory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cuss the welfare and efficiency effects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istinction between tariffs and qu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C141-9C1E-41DE-B761-A9AF2CDDDDFA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6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 Tariff Rates, 1986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1880" y="1803240"/>
            <a:ext cx="792000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7234-F8D9-4A27-8852-A22DEF797412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s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Nominal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of protection given to any one product depends not only on the tariff rate but also on tariffs on the inputs used to produce the go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minal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ariff rate levied on a given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fective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nominal rate + tariffs on intermediate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price of a good minus the costs of intermediate goods used to produce it (the contributions of labor and capital at a given stage of prod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32E1-5DF2-4D45-8B94-6DFDBE13660C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ersus Nominal Rates of Protec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sum, effective rate  of protection =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VA* - VA) / 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 = amount of domestic value added under free trade; VA* = domestic value added after taking into account all tariffs (on both final goods and intermediate inpu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7F56-8A53-44B3-AB0E-7BDAC6901554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Nominal and Effective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5720" y="2259000"/>
            <a:ext cx="797076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DFF4-C007-4366-8485-F14239F70E0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quantitative restriction that specifies a limit on the quantity of im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erenc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 limits imports by imposing a tax o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like tariffs, quotas do not generate tariff revenue for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iti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lead to a reduction in imports, a fall in total domestic consumption, and an increase in domest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6D75-6E7E-4D60-9352-40B4A2FF7AA4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quotas and tariffs limit 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net loss from quotas can exceed that from tariff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occurs when the lost tariff revenue resulting from quotas ends up in the hands of foreign producers as they raise their prices to match supply to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A75B-8774-498D-9F65-05A636299102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ation on the quantity of imports: e.g., a limit on the quantity of imports from country x, or a limit on the quantity of imports from the rest of the world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 licensing requirement: forcing importers to obtain government licences for their imports; government regulates the number of licenc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ntary export restraint (VER) (or voluntary restraint agreement, VRA): the exporting country “voluntarily” agrees to limit its exports for a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AA5C-5657-4944-9EF2-849479F1E333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: 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 have similar effects as q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VERs are more popular, as they (1) do not require domestic legislative action; and (2) allow politicians to provide protection for domestic industry and to appear as proponents of fre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e of VERs increased with the decline in tariffs that results from the global trade rounds; however, recent international negotiations have restricted the use of 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FAF2-37AA-4136-AD32-A76E9C2FAA0F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ota rent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increased profits accruing to foreign producers from the use of quotas; take the place of tariff re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2520" y="3073320"/>
            <a:ext cx="6114960" cy="31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E7E5-BC3F-4B18-9EED-C37500F00DAD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7160" y="5216400"/>
            <a:ext cx="8505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of a tariff, the government earned revenue from imports; in the case of a quota, foreign producers receive extra profits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4920" y="1749600"/>
            <a:ext cx="6137280" cy="32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F069-67D5-4E07-8889-5DBF2524AEF2}" type="slidenum">
              <a:t>2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s 6 and 7 provide an introduction to the theory and policy of tariffs and q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tariffs have been negotiated down to very low levels by the GATT/WTO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ariffs on agriculture, textiles, and apparel continue to have relatively high barr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y developing countries have a comparative advantage in these areas and would benefit from tariff re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9EA8-3E74-4762-AE5D-3BCA16A350D5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mestic firms prefer quotas over tariffs: post-quota increase in consumer demand increases the price paid by consumers and thus the quantity of producer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contrast, increase in demand for a good with an import tariff increase the quantity of imports and leaves the price of the good i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E1B4-4305-4656-A24F-EF5173D234AF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circumstances that can limit quota 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re is a large number of foreign producers, competition may limit their ability to increase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overnment can extract the extra profits from foreign producers through an auction for import lic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FAEC-D2B6-4C57-BCB4-50FDA2CFB4B2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dden Forms of 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trade barrier that reduces imports without imposing a tax has effects similar to those of a qu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s: impose a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tariff barriers: quotas and non-tariff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-tariff measures: hidden, non-transparent forms of protection (e.g., discriminatory government procurement; unclear safety standards; excessive bureaucratic regulations; local content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E7D9-CC67-495F-97D9-894199BEC5DC}" type="slidenum">
              <a:t>32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alysi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are numerous barriers to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parent barriers and non-transparent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direct limit on imports: regulate the quantity of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rif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direct limit on imports: impose a tax on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5FFC-9579-4C71-81A7-29DF9CCCC15F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iffs and quotas enco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o switch to relatively cheaper domestic goods or to drop out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o increase their output as demand switches from foreign to domestic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pter 6 is a partial equilibrium analysis of the effects of tariffs and quotas: considers only their impact on the industry on which they are imposed, rather than their economy-w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4427-A716-4150-B396-F389D7851C3D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key concepts in the analysis of the impact of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consumers in excess of the price they pay (can be measured only if the demand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producers in excess of the minimum price at which they are willing to produce (can be measured only if the supply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DF4A-31D2-4C51-9530-5D88240633D2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and Produce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84200" y="1982880"/>
            <a:ext cx="623592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B637-7C41-4A27-A5EA-7EB753364607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Output, and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price for a good (world price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producers are willing to supply us with all of the units of the good we want at that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5334-3859-4F87-9478-B9B2158579C4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omestic Supp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emand for an Imported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898640"/>
            <a:ext cx="7113600" cy="42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579B-53B5-4E8B-A45D-432BBE1B121D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20:14:27Z</dcterms:modified>
  <cp:revision>235</cp:revision>
  <dc:subject>The Theory  of Tariffs  and Quotas </dc:subject>
  <dc:title>Chapter 6</dc:title>
</cp:coreProperties>
</file>