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25F1E1-B542-4FF2-A2BB-6FF53B3859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17160" y="3886560"/>
            <a:ext cx="85057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FB68CF-99DD-4A89-93B8-9CFC04556C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5680" y="180324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17160" y="388656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5680" y="388656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8E9602-D996-490C-A918-D82044F83C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27385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92840" y="1803240"/>
            <a:ext cx="27385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68880" y="1803240"/>
            <a:ext cx="27385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17160" y="3886560"/>
            <a:ext cx="27385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92840" y="3886560"/>
            <a:ext cx="27385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68880" y="3886560"/>
            <a:ext cx="27385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80051B-D171-4EB8-8321-2696CD9998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415044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5680" y="1803240"/>
            <a:ext cx="415044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9240" y="142560"/>
            <a:ext cx="7302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5680" y="1803240"/>
            <a:ext cx="415044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17160" y="388656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13C5E-A308-4CF9-8562-D518E5857C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415044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5680" y="180324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5680" y="388656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5680" y="180324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17160" y="3886560"/>
            <a:ext cx="85057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17160" y="3886560"/>
            <a:ext cx="85057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5680" y="180324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17160" y="388656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5680" y="388656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27385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92840" y="1803240"/>
            <a:ext cx="27385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68880" y="1803240"/>
            <a:ext cx="27385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17160" y="3886560"/>
            <a:ext cx="27385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92840" y="3886560"/>
            <a:ext cx="27385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68880" y="3886560"/>
            <a:ext cx="27385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3F01A0-3A6D-4B17-82B1-D8A428A24E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415044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5680" y="1803240"/>
            <a:ext cx="415044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19FC66-860B-45C2-A372-546F793880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616BA-E3A5-4D9A-953E-5E40AED111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9240" y="142560"/>
            <a:ext cx="7302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860425-D76C-4974-880F-29CF0D4888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5680" y="1803240"/>
            <a:ext cx="415044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17160" y="388656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542E0F-0763-440C-A974-06AD43579F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415044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5680" y="180324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5680" y="388656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252343-C904-4D38-ABB4-261DE75F02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5680" y="1803240"/>
            <a:ext cx="415044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17160" y="3886560"/>
            <a:ext cx="8505720" cy="19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86EDA7-B779-4294-AF3B-50C2582457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04920" y="6248520"/>
            <a:ext cx="541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Arial"/>
              </a:rPr>
              <a:t>Copyright © 2008 Pearson Addison-Wesle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153280" y="6095880"/>
            <a:ext cx="990720" cy="762120"/>
          </a:xfrm>
          <a:prstGeom prst="rect">
            <a:avLst/>
          </a:prstGeom>
          <a:solidFill>
            <a:srgbClr val="8fa5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077320" y="632448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6-</a:t>
            </a:r>
            <a:fld id="{C33110B8-16CC-4F56-B774-C7AC485A9034}" type="slidenum">
              <a:rPr b="1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447920"/>
            <a:ext cx="8991720" cy="152280"/>
          </a:xfrm>
          <a:prstGeom prst="rect">
            <a:avLst/>
          </a:prstGeom>
          <a:solidFill>
            <a:srgbClr val="8fa5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88480" y="1447920"/>
            <a:ext cx="155520" cy="4647960"/>
          </a:xfrm>
          <a:prstGeom prst="rect">
            <a:avLst/>
          </a:prstGeom>
          <a:solidFill>
            <a:srgbClr val="8fa5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7696080" y="0"/>
            <a:ext cx="1447920" cy="1447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fa5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0666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8 Pearson Addison-Wesley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28600" y="6095880"/>
            <a:ext cx="752400" cy="5731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4240080" y="609480"/>
            <a:ext cx="4351320" cy="52578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fa5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04920" y="388800"/>
            <a:ext cx="3733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hapter 6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4920" y="1905120"/>
            <a:ext cx="373356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The Theory </a:t>
            </a: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of Tariffs </a:t>
            </a: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and Quot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he Effect of a Tariff on Price, 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Output, and Consumption (cont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24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Now assume: Government imposes a tariff of amount “t.” Importers will still be able to buy the good from foreign producers for P</a:t>
            </a:r>
            <a:r>
              <a:rPr b="0" lang="en-GB" sz="30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, but they will have to pay the import tax of “t.”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19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The tax is subsequently tacked onto the price to domestic consumers: price to them is P</a:t>
            </a:r>
            <a:r>
              <a:rPr b="0" lang="en-GB" sz="26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 + t=P</a:t>
            </a:r>
            <a:r>
              <a:rPr b="0" lang="en-GB" sz="2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19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The consumption of the imported good subsequently decreas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CBCD82-4865-4463-B5CC-6BCD550207D6}" type="slidenum">
              <a:t>10</a:t>
            </a:fld>
          </a:p>
        </p:txBody>
      </p:sp>
    </p:spTree>
  </p:cSld>
  <p:transition spd="med">
    <p:pull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he Effect of a Tariff on Price, 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Output, and Consumption (cont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urthermo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7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domestic production of the good increases as domestic firms are able to charge a higher price while remaining competitive vis-à-vis foreign fi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7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inally, imports of the good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350917-C3E4-45E4-9629-E8859803485E}" type="slidenum">
              <a:t>11</a:t>
            </a:fld>
          </a:p>
        </p:txBody>
      </p:sp>
    </p:spTree>
  </p:cSld>
  <p:transition spd="med">
    <p:pull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ariff’s Effect on Resource 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Allocatio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Income Distrib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esides the rise in prices and fall in imports, tariffs influ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puts in domestic production: the increase in domestic production requires additional resources of land, labor, and capital to be reallocated from their prior u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nsumer surpl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roducer surpl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7A0321-0868-4171-82FE-1C8B3EED1D5E}" type="slidenum">
              <a:t>12</a:t>
            </a:fld>
          </a:p>
        </p:txBody>
      </p:sp>
    </p:spTree>
  </p:cSld>
  <p:transition spd="med">
    <p:pull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GURE 6.3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Effects of a Tarif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44520" y="1990800"/>
            <a:ext cx="8265960" cy="3800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9B5365-72D3-41F3-9C9B-94214E197A16}" type="slidenum">
              <a:t>13</a:t>
            </a:fld>
          </a:p>
        </p:txBody>
      </p:sp>
    </p:spTree>
  </p:cSld>
  <p:transition spd="med">
    <p:pull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TABLE 6.1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conomic Effects of the Tariff in Figure 6.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9600" y="19047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net effect of the tariff on national welfare = gains to producers + gains to government - losses to consumers = (a + b + c + d - a - c) = b +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219320" y="3367080"/>
            <a:ext cx="6346800" cy="295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3C0913-E184-4CF8-8560-3CC137AB70AD}" type="slidenum">
              <a:t>14</a:t>
            </a:fld>
          </a:p>
        </p:txBody>
      </p:sp>
    </p:spTree>
  </p:cSld>
  <p:transition spd="med">
    <p:pull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Other Potential Costs of a Tarif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 tariff may have effects that are less predictable and harder to quantif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taliation by other countries: adds to the net loss of a tariff by hurting export markets of other industries; can escalate rapid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novation: tariffs reduce competitive pressures on domestic firms and thus their incentives to innovate and improve the quality of existing produ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33B6BB-CAB1-4D1F-9868-6B71CD00C7B5}" type="slidenum">
              <a:t>15</a:t>
            </a:fld>
          </a:p>
        </p:txBody>
      </p:sp>
    </p:spTree>
  </p:cSld>
  <p:transition spd="med">
    <p:pull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Other Potential Costs of a Tariff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cont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17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Rent seeking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: any activity that uses resources in order to capture more income without actually producing a good or survive (e.g., firms hire lobbyists to maintain tariff protec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olitical systems that do not easily provide tariffs are more likely to avoid rent seek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C4DDC7-0814-41BC-B439-1898F62F4623}" type="slidenum">
              <a:t>16</a:t>
            </a:fld>
          </a:p>
        </p:txBody>
      </p:sp>
    </p:spTree>
  </p:cSld>
  <p:transition spd="med">
    <p:pull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Large Country Ca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conomists distinguish between small and large countries in analyzing tariff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arge country: one that imports enough of a particular product so that if it imposes a tariff, the exporting country will reduce its price of the good in order to keep its share of the large country´s marke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 theory, large countries can improve their national welfare by imposing a tariff as long as their trading partners do not retali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0DB902-070B-4104-9465-615074D192C8}" type="slidenum">
              <a:t>17</a:t>
            </a:fld>
          </a:p>
        </p:txBody>
      </p:sp>
    </p:spTree>
  </p:cSld>
  <p:transition spd="med">
    <p:pull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GURE 6.4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Tariffs in the Large Country C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27120" y="1785960"/>
            <a:ext cx="7602480" cy="4157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019540-4829-43C9-B670-BCFEC21224DA}" type="slidenum">
              <a:t>18</a:t>
            </a:fld>
          </a:p>
        </p:txBody>
      </p:sp>
    </p:spTree>
  </p:cSld>
  <p:transition spd="med">
    <p:pull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Comparison of Tariff Ra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nce the mid-90s tariff rates in most countries have fall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lly, tariff rates in developing nations are higher than developed n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ever, developed nations often have highest tariffs in agriculture, textiles, and other labor-intensive products – the very products developing nations would like to ex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41E729-2B27-4D9C-853A-3804C671A99E}" type="slidenum">
              <a:t>19</a:t>
            </a:fld>
          </a:p>
        </p:txBody>
      </p:sp>
    </p:spTree>
  </p:cSld>
  <p:transition spd="med"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pter Objecti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troduce the theory of tariff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iscuss the welfare and efficiency effects of tariff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nalyze the distinction between tariffs and quo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60C823-CABC-4BAD-BED4-CEA702EF576D}" type="slidenum">
              <a:t>2</a:t>
            </a:fld>
          </a:p>
        </p:txBody>
      </p:sp>
    </p:spTree>
  </p:cSld>
  <p:transition spd="med">
    <p:pull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GURE 6.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Average Tariff Rates, 1986-20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61880" y="1803240"/>
            <a:ext cx="7920000" cy="4064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91C1B0-013F-4ECC-B8E3-4565ED903E7F}" type="slidenum">
              <a:t>20</a:t>
            </a:fld>
          </a:p>
        </p:txBody>
      </p:sp>
    </p:spTree>
  </p:cSld>
  <p:transition spd="med">
    <p:pull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Effective v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rsus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Nominal Rates of Prot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amount of protection given to any one product depends not only on the tariff rate but also on tariffs on the inputs used to produce the goo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2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Nominal rate of protection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: tariff rate levied on a given prod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2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Effective rate of protection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: nominal rate + tariffs on intermediate inpu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2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Value added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: price of a good minus the costs of intermediate goods used to produce it (the contributions of labor and capital at a given stage of produc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381E3F-315F-482F-9E28-D8425E0594BC}" type="slidenum">
              <a:t>21</a:t>
            </a:fld>
          </a:p>
        </p:txBody>
      </p:sp>
    </p:spTree>
  </p:cSld>
  <p:transition spd="med">
    <p:pull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Effective versus Nominal Rates of Protection (cont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 sum, effective rate  of protection =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VA* - VA) / 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21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VA = amount of domestic value added under free trade; VA* = domestic value added after taking into account all tariffs (on both final goods and intermediate inpu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B79E0E-988B-4FD7-9F44-C9AEF56D5024}" type="slidenum">
              <a:t>22</a:t>
            </a:fld>
          </a:p>
        </p:txBody>
      </p:sp>
    </p:spTree>
  </p:cSld>
  <p:transition spd="med">
    <p:pull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ABLE 6.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Nominal and Effective Rates of Prot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585720" y="2259000"/>
            <a:ext cx="7970760" cy="2340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BC0F30-EA49-4C86-91D7-AAEF067B8E75}" type="slidenum">
              <a:t>23</a:t>
            </a:fld>
          </a:p>
        </p:txBody>
      </p:sp>
    </p:spTree>
  </p:cSld>
  <p:transition spd="med">
    <p:pull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alysis of a Quot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Quota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: a quantitative restriction that specifies a limit on the quantity of impor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ifferences between quotas and tariff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ariff limits imports by imposing a tax on th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nlike tariffs, quotas do not generate tariff revenue for the gover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imilarities between quotas and tariff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oth lead to a reduction in imports, a fall in total domestic consumption, and an increase in domestic 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B519A4-221C-4C3D-9B6C-6FC38C837180}" type="slidenum">
              <a:t>24</a:t>
            </a:fld>
          </a:p>
        </p:txBody>
      </p:sp>
    </p:spTree>
  </p:cSld>
  <p:transition spd="med">
    <p:pull dir="r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alysis of a Quota (cont.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oth quotas and tariffs limit im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However, the net loss from quotas can exceed that from tariff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is occurs when the lost tariff revenue resulting from quotas ends up in the hands of foreign producers as they raise their prices to match supply to dem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FC7EB6-7D64-454A-BD8B-387CC7D84C2A}" type="slidenum">
              <a:t>25</a:t>
            </a:fld>
          </a:p>
        </p:txBody>
      </p:sp>
    </p:spTree>
  </p:cSld>
  <p:transition spd="med">
    <p:pull dir="r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ypes of Quot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imitation on the quantity of imports: e.g., a limit on the quantity of imports from country x, or a limit on the quantity of imports from the rest of the world as a who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mport licensing requirement: forcing importers to obtain government licences for their imports; government regulates the number of licences avai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Voluntary export restraint (VER) (or voluntary restraint agreement, VRA): the exporting country “voluntarily” agrees to limit its exports for a peri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C0476C-2DE2-499C-99E4-CD621EEB358C}" type="slidenum">
              <a:t>26</a:t>
            </a:fld>
          </a:p>
        </p:txBody>
      </p:sp>
    </p:spTree>
  </p:cSld>
  <p:transition spd="med">
    <p:pull dir="r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ypes of Quotas: V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VERs have similar effects as quo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owever, VERs are more popular, as they (1) do not require domestic legislative action; and (2) allow politicians to provide protection for domestic industry and to appear as proponents of free tr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use of VERs increased with the decline in tariffs that results from the global trade rounds; however, recent international negotiations have restricted the use of V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B934EF-454E-4DFF-97A3-799BD4E379E4}" type="slidenum">
              <a:t>27</a:t>
            </a:fld>
          </a:p>
        </p:txBody>
      </p:sp>
    </p:spTree>
  </p:cSld>
  <p:transition spd="med">
    <p:pull dir="r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GURE 6.6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Analysis of 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Quota: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19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Times New Roman"/>
              </a:rPr>
              <a:t>Quota rents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</a:rPr>
              <a:t>: increased profits accruing to foreign producers from the use of quotas; take the place of tariff revenu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352520" y="3073320"/>
            <a:ext cx="6114960" cy="3175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9B449-2FDD-4B32-A982-3A911D9B7B9A}" type="slidenum">
              <a:t>28</a:t>
            </a:fld>
          </a:p>
        </p:txBody>
      </p:sp>
    </p:spTree>
  </p:cSld>
  <p:transition spd="med">
    <p:pull dir="r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GURE 6.7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Analysis of 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Quota: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17160" y="5216400"/>
            <a:ext cx="850572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 the case of a tariff, the government earned revenue from imports; in the case of a quota, foreign producers receive extra profits (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474920" y="1749600"/>
            <a:ext cx="6137280" cy="3203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9C2708-F57A-4776-804F-4C12D345D388}" type="slidenum">
              <a:t>29</a:t>
            </a:fld>
          </a:p>
        </p:txBody>
      </p:sp>
    </p:spTree>
  </p:cSld>
  <p:transition spd="med">
    <p:pull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hapters 6 and 7 provide an introduction to the theory and policy of tariffs and quo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 general, tariffs have been negotiated down to very low levels by the GATT/WTO me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owever, tariffs on agriculture, textiles, and apparel continue to have relatively high barri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any developing countries have a comparative advantage in these areas and would benefit from tariff redu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4F3F32-5607-45AC-A3A4-340E4BEB2312}" type="slidenum">
              <a:t>3</a:t>
            </a:fld>
          </a:p>
        </p:txBody>
      </p:sp>
    </p:spTree>
  </p:cSld>
  <p:transition spd="med">
    <p:pull dir="r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he Effect on the Profits 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of Foreign Producers (cont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mestic firms prefer quotas over tariffs: post-quota increase in consumer demand increases the price paid by consumers and thus the quantity of producer surpl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7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 contrast, increase in demand for a good with an import tariff increase the quantity of imports and leaves the price of the good int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E95DBA-9880-4A13-ACC0-57AD6CCB4F0C}" type="slidenum">
              <a:t>30</a:t>
            </a:fld>
          </a:p>
        </p:txBody>
      </p:sp>
    </p:spTree>
  </p:cSld>
  <p:transition spd="med">
    <p:pull dir="r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he Effect on the Profits 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of Foreign Producers (cont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wo circumstances that can limit quota r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21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f there is a large number of foreign producers, competition may limit their ability to increase pr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21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government can extract the extra profits from foreign producers through an auction for import lic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6D0869-53B6-4489-85FB-F28B955ABC45}" type="slidenum">
              <a:t>31</a:t>
            </a:fld>
          </a:p>
        </p:txBody>
      </p:sp>
    </p:spTree>
  </p:cSld>
  <p:transition spd="med">
    <p:pull dir="r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idden Forms of Prote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ny trade barrier that reduces imports without imposing a tax has effects similar to those of a quo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ariffs: impose a t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on-tariff barriers: quotas and non-tariff meas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Non-tariff measures: hidden, non-transparent forms of protection (e.g., discriminatory government procurement; unclear safety standards; excessive bureaucratic regulations; local content requirement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A164DA-3902-4284-AEE2-2889AA2CCCEA}" type="slidenum">
              <a:t>32</a:t>
            </a:fld>
          </a:p>
        </p:txBody>
      </p:sp>
    </p:spTree>
  </p:cSld>
  <p:transition spd="med"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nalysis of a Tarif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re are numerous barriers to tra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ransparent barriers and non-transparent 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Quota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: direct limit on imports: regulate the quantity of impo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ariff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: indirect limit on imports: impose a tax on impo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851BF0-967F-4AB1-9AB9-3B5D7D9DFEF3}" type="slidenum">
              <a:t>4</a:t>
            </a:fld>
          </a:p>
        </p:txBody>
      </p:sp>
    </p:spTree>
  </p:cSld>
  <p:transition spd="med"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alysis of a Tariff (cont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ariffs and quotas encou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sumers to switch to relatively cheaper domestic goods or to drop out of the mar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ducers to increase their output as demand switches from foreign to domestic go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hapter 6 is a partial equilibrium analysis of the effects of tariffs and quotas: considers only their impact on the industry on which they are imposed, rather than their economy-wide eff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152C79-E64D-46D6-A709-2617214D0A39}" type="slidenum">
              <a:t>5</a:t>
            </a:fld>
          </a:p>
        </p:txBody>
      </p:sp>
    </p:spTree>
  </p:cSld>
  <p:transition spd="med">
    <p:pull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alysis of a Tariff (cont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wo key concepts in the analysis of the impact of tariff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Consumer surplu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 value received by consumers in excess of the price they pay (can be measured only if the demand curve is know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Producer surplu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 value received by producers in excess of the minimum price at which they are willing to produce (can be measured only if the supply curve is know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58948E-862F-418B-9421-49DFD4A7CBBB}" type="slidenum">
              <a:t>6</a:t>
            </a:fld>
          </a:p>
        </p:txBody>
      </p:sp>
    </p:spTree>
  </p:cSld>
  <p:transition spd="med">
    <p:pull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GURE 6.1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sumer and Producer Surpl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384200" y="1982880"/>
            <a:ext cx="6235920" cy="4113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8F710D-78C5-4D66-9C9B-B86383E61FBE}" type="slidenum">
              <a:t>7</a:t>
            </a:fld>
          </a:p>
        </p:txBody>
      </p:sp>
    </p:spTree>
  </p:cSld>
  <p:transition spd="med">
    <p:pull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he Effect of a Tariff on Price, Output, and Consump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17160" y="1803240"/>
            <a:ext cx="850572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24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ssu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85680" indent="-533160">
              <a:spcBef>
                <a:spcPts val="21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re is only one price for a good (world price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85680" indent="-533160">
              <a:spcBef>
                <a:spcPts val="21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oreign producers are willing to supply us with all of the units of the good we want at that pr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7CFD5-1AE5-41CD-8415-D30FE8E7917D}" type="slidenum">
              <a:t>8</a:t>
            </a:fld>
          </a:p>
        </p:txBody>
      </p:sp>
    </p:spTree>
  </p:cSld>
  <p:transition spd="med">
    <p:pull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9240" y="142560"/>
            <a:ext cx="730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GURE 6.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Domestic Suppl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d Demand for an Imported Go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14400" y="1898640"/>
            <a:ext cx="7113600" cy="4273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B1FC21-A43E-4CAD-BA32-ACE94F0B0BB3}" type="slidenum">
              <a:t>9</a:t>
            </a:fld>
          </a:p>
        </p:txBody>
      </p:sp>
    </p:spTree>
  </p:cSld>
  <p:transition spd="med"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05T14:57:27Z</dcterms:created>
  <dc:creator>James Gerber</dc:creator>
  <dc:description/>
  <dc:language>en-US</dc:language>
  <cp:lastModifiedBy>test</cp:lastModifiedBy>
  <dcterms:modified xsi:type="dcterms:W3CDTF">2007-04-10T20:14:27Z</dcterms:modified>
  <cp:revision>235</cp:revision>
  <dc:subject>The Theory  of Tariffs  and Quotas </dc:subject>
  <dc:title>Chapter 6</dc:title>
</cp:coreProperties>
</file>