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7D10-9B26-476C-847B-5AFE3C50A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833C-4012-49C9-8B1C-87803EA56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64A9-73F5-4F5A-A01A-955ADBFEE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8722-A0A5-477C-9195-58D2E2DA3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F720-B280-4FB5-92E6-69FAF9AE0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2251-16AD-4A32-BBE1-C868BFB85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F548-C1E9-4755-8309-6E23D53B2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22A0-A422-4319-9886-FA1331358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A981-3638-4B65-B4AD-E94BD0E13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63AF-28F5-491A-858D-D338F91B9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8F7F-35A2-43C3-85CF-38C904863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FDCC-64E2-4909-BC55-C42B019C4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-</a:t>
            </a:r>
            <a:fld id="{C737C1F9-A606-4E0C-956C-10081AB7C347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de and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Balance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ancial accou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record of the flow of financial capital to and from a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mai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 changes in the country’s assets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 changes in the foreign-based assets in th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ED43-E19E-41A4-80AE-3182C4FB6DF8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pital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pital accou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record of the transfers of specific types of capital,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bt forg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sonal assets that migrants take with them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ransfer of real estate and other fixed assets, such as a military base or an embass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C9CE-80E9-40BD-B2E6-1991608C11EC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9.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 Balance of Payments, 2005 (Millions of Doll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828440"/>
            <a:ext cx="2281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lance of payments =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rrent account + capital account + financial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41008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CC31-9443-4679-9709-A4796524EEE2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accounting cav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the capital account and the financial account present the flow of assets during the year in question and not the stock of assets that have accumulated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flows are net changes (differences between assets sold and bought, for example) rather than gros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long as the capital account balance is zero, financial account balance = current account balance, but with the opposite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9D2E-0269-488D-ACAA-3F549690A263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tistical Discrepancy in Balance of Pa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atistical discrepan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amount by which the sum of the current, capital, and financial accounts is off the total of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stical discrepancy is calculated as the sum of the current, capital, and financial accounts, with the sign rever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2005, U.S. statistical discrepancy wa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(–1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–791,508 – 4,351 + 785,499)] = 10,4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5B38-7134-4638-9E5A-F2D256D87CB7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tistical Discrepanc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 discrepancy exists because the record of all the transactions in the balance of payments is incomple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s tend to lie in the financial account calculation, as it is the hardest to measure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4802-C758-4F50-A68B-F345E75B71E9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ncial flows originate in the public and private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financial flows are very mobile: move quickly in response to investo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bility of financial flows brings economic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on sudden financial outflows, a country can sink into a financial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volatility of financial flows has increased concern about the various types of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883A-08AD-4542-B07A-F65A5F4ECCDB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ve Types of U.S. Financi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ows (A–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.S. assets abroad (outfl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icial reserve assets: gold bullion, IMF’s special drawing rights (SDRs), major curr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ernment assets: loans to foreign governments, rescheduled loans to foreign governments, payments received on outstanding loans, changes in non-reserve currency holdings (e.g., Mexican pe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vate assets: direct investment, foreign securities, loans to foreign firms and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F164-591A-4D5F-9BFB-D3E661FE5A0E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ve Types of U.S. Financi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ows (D–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eign assets in the U.S. (inflo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eign official assets: gold bullion, IMF´s special drawing rights (SDRs), major curr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 foreign assets: direct investment, U.S. securities and currency, loans to U.S. firms and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9505-A1F7-4A8E-B292-E9EE9E63BB59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ABLE 9.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Components of the  U.S. Financial Account,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  (Millions of Dolla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5720" y="2209680"/>
            <a:ext cx="7970760" cy="32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952D-F9AE-458D-AA21-CC3DE98C9FE2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nt the accounting system of a nation´s international transactions: current, capital, and financial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 the relationship among domestic investment, domestic savings, and international flows of goods, services, and financi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ine the meaning of international indebtedness and discuss its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FF38-184E-4285-8202-69C1318F7C3E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argest Share of Financial Flows: Private As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vate assets: foreign direct investment (FDI), foreign securities, loans to foreign firms and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D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angible items: real estate, factories, warehouses, transportation facilities, and other physical (real)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ies and loans can be considered foreign portfolio investment—paper assets such as stocks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FDI and foreign portfolio investment give their holders a claim in a foreign economy’s futur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holders of FDI have longer time horiz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CC96-E09E-4999-90AE-2C97F7A21F77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 9.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rivate Flows in the U.S. Financial Account, 2005 (Millions of Dolla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2040" y="1828800"/>
            <a:ext cx="7719840" cy="40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5FA6-2CA2-4E09-8875-AE4914E522B7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mits on Financial 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til recently, most nations limited the movement of financial flows related financial account transactions across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uropean Union liberalized financial flows between member countries only in 199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current account transactions were less heavily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B31B-9BB2-4656-85D7-B742A02CFF26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Account Liber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ovement toward open markets over the 1980s and 1990s has resulted in the lifting of controls on financial fl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ing countries, in particular, have liberalized financial account transactions in order to get access to financial capital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hough financial flows can be volatile, economists agree that free flows are best for economic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6A8C-CA7B-4AB3-9C1F-6FA4EFB6D7F8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urrent Account and the Macro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study the balance of pay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nce of payments help understand the broader implications of current account imbalances and how to tame current account defic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nce of payments give cues how nations can avoid crises brought by volatile financial flows and how they can minimize the damage of financial crises if such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352A-68B2-4F1D-ADAF-EC013EAB53FD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ional Income and Product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 income and product accou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ccounting system for a country’s total production and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fundamental concepts of the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oss domestic product (GDP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value of all final goods and services produced within a country´s borders during a period of time (usually a ye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oss national product (GNP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value of all final goods and services produced by the labor, capital, and other resources of a country within the country as well a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8777-6147-4899-A0B7-5B0221CFD52A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ional Income and Product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NP = GDP + foreign investment income received – investment income paid to foreigner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+ net unilateral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B2AD-8C28-4E5A-8B02-42D912531890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9.6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Variable 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1320" y="1981080"/>
            <a:ext cx="692136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1EAC-A684-461E-9E8D-F6C75A5C85AB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derstanding National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play of the variables of the national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DP = C + I + G + X –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GDP + (net foreign investment income + net transf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(C + I + G) + (X – M + net foreign investment income + net transf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in terms of current account balance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C + I + G +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is also the value of income received: GNP = C + 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ce 4 and 5 are equivalent definitions of GNP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 + I + G + CA = C +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 + G + CA = 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+ (T – G) = I +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DC0F-BDC9-4D4E-B288-191633FD8334}" type="slidenum">
              <a:t>28</a:t>
            </a:fld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nderstanding National Account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+ (T – G) = I + CA summarizes the current account balance, investment, and public and private savings in the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figure illustrates the equation in the U.S. in 1991–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6D66-E008-4ED4-A2E3-22BE40FB48B4}" type="slidenum">
              <a:t>29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transactions of a nation are divided into three separate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rent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the goods and services into and out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ncial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the flow of financial capital to and from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pital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some specialized types of relatively small capital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’s examine each of these in greater detai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3347-7F1B-4B20-8BE5-7FF1886522F3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9.2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.S. Sav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nvestment, 1991–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58648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3700-E1F5-4108-A40A-2BC4C66FB0BC}" type="slidenum">
              <a:t>30</a:t>
            </a:fld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9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Key Macroeconomic Indicators, Percent of GNP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04080" cy="39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27C0-5BFA-42CC-8779-8BBE6F5F8081}" type="slidenum">
              <a:t>31</a:t>
            </a:fld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De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ccount deficits must be financed through inflows of financial capital (lo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s from abroad add to a country’s stock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de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genera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untries, rich and poor, have external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A127-7269-4F94-B958-12694AE52E38}" type="slidenum">
              <a:t>32</a:t>
            </a:fld>
          </a:p>
        </p:txBody>
      </p:sp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Deb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low and middle income countries, external debt leads to financ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stainable debt occurs for numerous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ing commodity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lending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28C4-F242-449A-9F6A-DFD618287C65}" type="slidenum">
              <a:t>33</a:t>
            </a:fld>
          </a:p>
        </p:txBody>
      </p:sp>
    </p:spTree>
  </p:cSld>
  <p:transition spd="med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9.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Five Largest Developing Country Debtors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6360" y="2209680"/>
            <a:ext cx="7989840" cy="29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27FC-A2CA-468C-8EFF-BC18085693FD}" type="slidenum">
              <a:t>34</a:t>
            </a:fld>
          </a:p>
        </p:txBody>
      </p:sp>
    </p:spTree>
  </p:cSld>
  <p:transition spd="med"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International Investment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a country runs a current account deficit, it borrows from abroad and increases its indeb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a country runs a current account surplus, it lends to foreigners and reduces its overall indeb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ational investment position = domestically owned foreign assets –foreign owned domestic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76F8-3AA4-4B23-B164-A62BCB9D1476}" type="slidenum">
              <a:t>35</a:t>
            </a:fld>
          </a:p>
        </p:txBody>
      </p:sp>
    </p:spTree>
  </p:cSld>
  <p:transition spd="med"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International Investment Posi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ositive international investment position = the home country could sell all its foreign assets and have  more than enough revenue to  purchase all the domestic assets owned by foreig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he U.S. international investment position = $11,079 billion – $13,625 billion = –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546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179B-8EEA-4C72-BE45-19840FCD3CBD}" type="slidenum">
              <a:t>36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rchandise Trade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’s first defin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rchandise trade bal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—part of the current account; measures the difference between exports and imports of goods, but no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rade defic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gative merchandise trad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rade surpl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positive merchandise trad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 U.S. had a trade deficit of $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he U.S. had a large trade surplus in services (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.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ll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3FA6-2C96-40A0-9060-3B88ED3A535E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urrent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rent account bala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measures all current, non-capital transactions between a nation and the rest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account has three main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s and services = the value of goods and services exported – the value of im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vestment income = income from investments abroad – income paid to foreigners on their U.S.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ateral transfers = any foreign aid or other transfers received by foreigners – that given to fore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E341-DAB1-499A-A388-271D488BB896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9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Components of the Curren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11320" y="2743200"/>
            <a:ext cx="6921360" cy="19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08CB-3BB0-4DB4-9EE6-B8397F8F0801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9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U.S. Current Account Balance, 2005 (Millions of Doll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4560" y="1828800"/>
            <a:ext cx="691344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CB13-ADBE-4F91-9429-FF25ACEA5215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9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.S. Current Account Balance, 1950–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8200" y="2168640"/>
            <a:ext cx="8072280" cy="31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E01C-FF83-405D-AEAF-E2FCE441367C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.S. Current Account Defic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.S. current account deficit looks om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the deficit is not a sign of weakness: U.S. economic boom of the 1990s increased the demand for imports, while sluggish growth abroad limited the expansion if U.S. 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the U.S. deficit is not sustainable in the long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8CFB-878F-41A2-8DC2-E73ECF19D370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12:17Z</dcterms:modified>
  <cp:revision>282</cp:revision>
  <dc:subject>Trade and  the Balance  of Payments </dc:subject>
  <dc:title>Chapter 9</dc:title>
</cp:coreProperties>
</file>