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F663-99F8-42A9-BF46-21E03F36D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E0DB-5EA1-4508-A0F1-BDF3B31ED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2D59-0F89-459A-9AE9-A4FE387C1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C3C4-7503-4E61-8282-2A6E42F1C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9264-6151-46F4-ADE8-FC9A9B243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BA91-04C5-42A1-BD03-1705DE7AC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3E5F-DC51-4A4B-B6B0-257E22801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BB99-5051-4C40-8FC4-9B61DC5DA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A514-5F8E-4DBC-8035-2864D1568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DC6A-2FB7-47D6-AC43-E7D395996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7677-6CDA-4A60-8428-C246EB79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FC54-417C-472F-80CF-5B4AFE758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</a:t>
            </a:r>
            <a:fld id="{3293D0C3-06FD-487C-8368-6D1B94635B24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de and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Balance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ncial accou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ecord of the flow of financial capital to and from a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 changes in the country’s assets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 changes in the foreign-based assets in th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EF80-323A-4172-8E24-BAA0EC925304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pital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pital accou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ecord of the transfers of specific types of capital,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t forg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al assets that migrants take with them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ransfer of real estate and other fixed assets, such as a military base or an embass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B91D-224C-47F2-AEDD-EA72AB3495F0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9.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Balance of Payments, 2005 (Millions of Do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828440"/>
            <a:ext cx="2281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lance of payments =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rrent account + capital account + financial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41008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0D91-698E-4AEE-9D36-18B361254BAA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accounting cav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the capital account and the financial account present the flow of assets during the year in question and not the stock of assets that have accumulated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flows are net changes (differences between assets sold and bought, for example) rather than gros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long as the capital account balance is zero, financial account balance = current account balance, but with the opposite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AF9C-7829-4800-9553-65CD6D2FB4E3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stical Discrepancy in Balance of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tistical discrepan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amount by which the sum of the current, capital, and financial accounts is off the total of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stical discrepancy is calculated as the sum of the current, capital, and financial accounts, with the sign reve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5, U.S. statistical discrepancy wa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(–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–791,508 – 4,351 + 785,499)] = 10,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1FBC-A841-4813-98B9-C44404ED3DB5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tistical Discrepanc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 discrepancy exists because the record of all the transactions in the balance of payments is incompl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s tend to lie in the financial account calculation, as it is the hardest to measure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001C-BADC-4F8F-B2B6-8A3221CDFC85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flows originate in the public and private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financial flows are very mobile: move quickly in response to investo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bility of financial flows brings economic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on sudden financial outflows, a country can sink into a financial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volatility of financial flows has increased concern about the various types of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514A-535E-434E-BF23-BE1B7D52B2AF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ve Types of U.S. Financi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ows (A–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.S. assets abroad (outfl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icial reserve assets: gold bullion, IMF’s special drawing rights (SDRs), major 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assets: loans to foreign governments, rescheduled loans to foreign governments, payments received on outstanding loans, changes in non-reserve currency holdings (e.g., Mexican pe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vate assets: direct investment, foreign securities, loans to foreign firms an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1626-04F2-4905-B0F3-FFBE472ADFB9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ve Types of U.S. Financi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ows (D–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eign assets in the U.S. (inflo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ign official assets: gold bullion, IMF´s special drawing rights (SDRs), major curr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foreign assets: direct investment, U.S. securities and currency, loans to U.S. firms and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2BF2-D638-4483-BC71-6053F7450CFC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ABLE 9.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Components of the  U.S. Financial Account,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 (Millions of Doll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5720" y="2209680"/>
            <a:ext cx="7970760" cy="32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9761-A747-49FC-B3B2-188FDA0D95AB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 the accounting system of a nation´s international transactions: current, capital, and financial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 the relationship among domestic investment, domestic savings, and international flows of goods, services, and financi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ine the meaning of international indebtedness and discuss its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5E17-0C3E-4519-9C5E-CEF3D5055DF7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rgest Share of Financial Flows: Private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vate assets: foreign direct investment (FDI), foreign securities, loans to foreign firms and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D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angible items: real estate, factories, warehouses, transportation facilities, and other physical (real)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ies and loans can be considered foreign portfolio investment—paper assets such as stock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FDI and foreign portfolio investment give their holders a claim in a foreign economy’s futur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holders of FDI have longer time horiz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C269-3D37-44F2-8D29-1C5CDE7C053E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9.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rivate Flows in the U.S. Financial Account, 2005 (Millions of Doll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040" y="1828800"/>
            <a:ext cx="7719840" cy="40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8BF0-380F-4C34-A5E8-F8A56AA5B954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mits on Financial 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til recently, most nations limited the movement of financial flows related financial account transactions across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uropean Union liberalized financial flows between member countries only in 199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current account transactions were less heavi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3CA6-FB68-4DC5-B4C8-D976CF90D200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Account Lib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ovement toward open markets over the 1980s and 1990s has resulted in the lifting of controls on financial f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ing countries, in particular, have liberalized financial account transactions in order to get access to financial capital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hough financial flows can be volatile, economists agree that free flows are best for economic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3A57-85B6-40CA-8F07-1E20A93FC328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urrent Account and the Macro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study the balance of pay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 of payments help understand the broader implications of current account imbalances and how to tame current account defic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 of payments give cues how nations can avoid crises brought by volatile financial flows and how they can minimize the damage of financial crises if such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38E5-B6AD-4CD5-B9D3-5B1FCF5EA4E5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 income and product accou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ccounting system for a country’s total production and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fundamental concepts of th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oss domestic product (GDP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value of all final goods and services produced within a country´s borders during a period of time (usually a ye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oss national product (GNP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value of all final goods and services produced by the labor, capital, and other resources of a country within the country as well a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7291-41B9-4A3B-A9D7-F8932F11FF53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NP = GDP + foreign investment income received – investment income paid to foreigner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 net unilateral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38C4-18E4-4170-A220-AD19D8AD1407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9.6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Variable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1320" y="1981080"/>
            <a:ext cx="692136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CA4C-15CF-4577-BDD3-7BEF0AEA866F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derstanding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play of the variables of the nationa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DP = C + I + G + X –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GDP + (net foreign investment income + net trans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(C + I + G) + (X – M + net foreign investment income + net trans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in terms of current account balance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C + I + G +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is also the value of income received: GNP = C + 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ce 4 and 5 are equivalent definitions of GNP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 + I + G + CA = C +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+ G + CA = 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+ (T – G) = I +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9D78-B0A7-4339-BE6E-9579E013417E}" type="slidenum">
              <a:t>28</a:t>
            </a:fld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nderstanding National Account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+ (T – G) = I + CA summarizes the current account balance, investment, and public and private savings in the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figure illustrates the equation in the U.S. in 1991–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C7A1-E811-45E2-A878-5FCFCB3D24E0}" type="slidenum">
              <a:t>29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transactions of a nation are divided into three separate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the goods and services into and out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the flow of financial capital to and from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pital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some specialized types of relatively small capital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examine each of these in greater deta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0329-A0CE-4C9F-B38A-3126FC812B6B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9.2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.S. Sav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nvestment, 1991–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58648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6285-6A5F-4E6D-8893-447EA8D46607}" type="slidenum">
              <a:t>30</a:t>
            </a:fld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9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Key Macroeconomic Indicators, Percent of GNP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04080" cy="39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4227-3721-4FD7-8D82-E4C8C5A8AA05}" type="slidenum">
              <a:t>31</a:t>
            </a:fld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De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ccount deficits must be financed through inflows of financial capital (lo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from abroad add to a country’s stock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de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gener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untries, rich and poor, have external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2F4A-27E7-432F-9CE8-E394A7A6AC3F}" type="slidenum">
              <a:t>32</a:t>
            </a:fld>
          </a:p>
        </p:txBody>
      </p: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Deb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low and middle income countries, external debt leads to finan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stainable debt occurs for numerous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ing commodity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lending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A3AF-DD13-47EC-839F-FDE61CA4C470}" type="slidenum">
              <a:t>33</a:t>
            </a:fld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9.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Five Largest Developing Country Debtors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6360" y="2209680"/>
            <a:ext cx="7989840" cy="29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3220-0BC9-4013-9C26-40B4DAE73362}" type="slidenum">
              <a:t>34</a:t>
            </a:fld>
          </a:p>
        </p:txBody>
      </p:sp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nternational Investment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 country runs a current account deficit, it borrows from abroad and increases its indeb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 country runs a current account surplus, it lends to foreigners and reduces its overall indeb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 investment position = domestically owned foreign assets –foreign owned domestic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E762-733C-4D55-8338-D3841D99AA35}" type="slidenum">
              <a:t>35</a:t>
            </a:fld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nternational Investment Posi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ositive international investment position = the home country could sell all its foreign assets and have  more than enough revenue to  purchase all the domestic assets owned by foreig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he U.S. international investment position = $11,079 billion – $13,625 billion = –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546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0B5F-32B1-4402-BA3B-C8F7270FE843}" type="slidenum">
              <a:t>36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rchandise Trade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’s first defin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rchandise trade bal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—part of the current account; measures the difference between exports and imports of goods, but no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de defic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gative merchandis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de surpl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positive merchandis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 U.S. had a trade deficit of $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he U.S. had a large trade surplus in services (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.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ll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608B-9280-4849-BD5C-42D355CED04B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account bal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measures all current, non-capital transactions between a nation and the rest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account has three main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s and services = the value of goods and services exported – the value of im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vestment income = income from investments abroad – income paid to foreigners on their U.S.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ateral transfers = any foreign aid or other transfers received by foreigners – that given to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12B5-7B03-45AD-BE1A-FCC4CE551ED6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9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Components of the Curren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11320" y="2743200"/>
            <a:ext cx="6921360" cy="19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8F8F-5244-427B-80F8-B8D4E0F2882A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9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U.S. Current Account Balance, 2005 (Millions of Do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4560" y="1828800"/>
            <a:ext cx="691344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BB9B-39D8-47FE-8A5F-D40D21D51FE6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.S. Current Account Balance, 1950–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8200" y="2168640"/>
            <a:ext cx="807228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B347-7AA5-4C9E-BF63-28FB5AD828F0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.S. Current Account Defic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.S. current account deficit looks om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the deficit is not a sign of weakness: U.S. economic boom of the 1990s increased the demand for imports, while sluggish growth abroad limited the expansion if U.S. 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the U.S. deficit is not sustainable in the lo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5E7B-9821-4D76-A726-358C8BCD0AB9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12:17Z</dcterms:modified>
  <cp:revision>282</cp:revision>
  <dc:subject>Trade and  the Balance  of Payments </dc:subject>
  <dc:title>Chapter 9</dc:title>
</cp:coreProperties>
</file>