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5A97F-9ACA-4B67-979C-CB347DF72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10CCB-0017-4F50-9C33-3FD81490A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9B469-223B-4E3D-BFF7-94E940840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FDDD-0250-46DA-AE86-BD5B60365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156FF-909A-4B89-B7FE-C47C7F9AF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AD8A-F356-4827-9072-10B4D7958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1B05-D40D-46F2-BAB9-8766251A28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A124D-22FD-4E3A-9012-BBCE095D0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1E41D-09C3-4155-AF82-83DD3F651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B52DC-DA02-464C-925D-FF471B103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6AD2F-46E1-43D1-BB4D-6FD510024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02141-5C07-4C6E-8B5C-CC324974D0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-</a:t>
            </a:r>
            <a:fld id="{1CC1E811-6FCC-495C-B635-8133434E7E0C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rade and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Balance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 Pay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ncial Ac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inancial accou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record of the flow of financial capital to and from a cou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mai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t changes in the country’s assets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t changes in the foreign-based assets in the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D292E-952A-4CCF-A847-08D4079158CB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pital Ac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apital accou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record of the transfers of specific types of capital, such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bt forgive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ersonal assets that migrants take with them a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transfer of real estate and other fixed assets, such as a military base or an embassy bui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5B4EA-A578-47FC-922A-5DD313858FE8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BLE 9.3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.S. Balance of Payments, 2005 (Millions of Doll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9240" y="1828440"/>
            <a:ext cx="2281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lance of payments =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urrent account + capital account + financial ac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541008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CC7EA-4BAB-47F3-9D15-750E173BB0C5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alance of Pay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ree accounting cav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the capital account and the financial account present the flow of assets during the year in question and not the stock of assets that have accumulated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flows are net changes (differences between assets sold and bought, for example) rather than gross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 long as the capital account balance is zero, financial account balance = current account balance, but with the opposite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7C822-43D8-4827-BF54-2733B0731467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tatistical Discrepancy in Balance of Pay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tatistical discrepanc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the amount by which the sum of the current, capital, and financial accounts is off the total of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istical discrepancy is calculated as the sum of the current, capital, and financial accounts, with the sign rever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2005, U.S. statistical discrepancy wa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[(–1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–791,508 – 4,351 + 785,499)] = 10,4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79810-B3E3-4124-9220-A2D33CA8FFD6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tatistical Discrepancy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 discrepancy exists because the record of all the transactions in the balance of payments is incomple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rrors tend to lie in the financial account calculation, as it is the hardest to measure cor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41A5-C8C7-41A1-B7F4-C23EF3D0A39C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ncial Fl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ancial flows originate in the public and private s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 financial flows are very mobile: move quickly in response to investor expec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bility of financial flows brings economic vola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pon sudden financial outflows, a country can sink into a financial cri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volatility of financial flows has increased concern about the various types of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9D602-A29A-4C1C-817E-A5E3764159C3}" type="slidenum">
              <a:t>16</a:t>
            </a:fld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ve Types of U.S. Financial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lows (A–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.S. assets abroad (outflow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ficial reserve assets: gold bullion, IMF’s special drawing rights (SDRs), major curr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overnment assets: loans to foreign governments, rescheduled loans to foreign governments, payments received on outstanding loans, changes in non-reserve currency holdings (e.g., Mexican pes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5040" indent="-452520">
              <a:spcBef>
                <a:spcPts val="1500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ivate assets: direct investment, foreign securities, loans to foreign firms and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C37D2-DC1B-4E76-9B16-A506AB8CCDFB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ive Types of U.S. Financial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Flows (D–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eign assets in the U.S. (inflow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749"/>
              </a:spcBef>
              <a:buClr>
                <a:srgbClr val="000000"/>
              </a:buClr>
              <a:buFont typeface="Times New Roman"/>
              <a:buAutoNum type="alpha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eign official assets: gold bullion, IMF´s special drawing rights (SDRs), major curr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1749"/>
              </a:spcBef>
              <a:buClr>
                <a:srgbClr val="000000"/>
              </a:buClr>
              <a:buFont typeface="Times New Roman"/>
              <a:buAutoNum type="alphaU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ther foreign assets: direct investment, U.S. securities and currency, loans to U.S. firms and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CEBD2-C6AD-4B89-93D0-B57F37A97B79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TABLE 9.4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Components of the  U.S. Financial Account, 2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  (Millions of Dolla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85720" y="2209680"/>
            <a:ext cx="7970760" cy="32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FE3A0-3E84-49D8-9537-5F6EDECB8A56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esent the accounting system of a nation´s international transactions: current, capital, and financial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plain the relationship among domestic investment, domestic savings, and international flows of goods, services, and financial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xamine the meaning of international indebtedness and discuss its con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4B0E-AD37-4979-9F13-1D41845B4665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argest Share of Financial Flows: Private As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ivate assets: foreign direct investment (FDI), foreign securities, loans to foreign firms and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D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angible items: real estate, factories, warehouses, transportation facilities, and other physical (real)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curities and loans can be considered foreign portfolio investment—paper assets such as stocks and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FDI and foreign portfolio investment give their holders a claim in a foreign economy’s futur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holders of FDI have longer time horiz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E6F5F-EE43-4CEB-9777-5B676FFB1020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BLE 9.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Private Flows in the U.S. Financial Account, 2005 (Millions of Dolla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62040" y="1828800"/>
            <a:ext cx="7719840" cy="402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4E6FD-85D2-4D85-9859-6CA444AF9FB7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mits on Financial Fl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til recently, most nations limited the movement of financial flows related financial account transactions across their b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uropean Union liberalized financial flows between member countries only in 1993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, current account transactions were less heavily reg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23B9F-C060-4C35-BA69-0967BB136D6C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Financial Account Liber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movement toward open markets over the 1980s and 1990s has resulted in the lifting of controls on financial flow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veloping countries, in particular, have liberalized financial account transactions in order to get access to financial capital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though financial flows can be volatile, economists agree that free flows are best for economic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4ABA6-E5C4-4C7A-8E31-3E1962DB6D6D}" type="slidenum">
              <a:t>23</a:t>
            </a:fld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urrent Account and the Macro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y study the balance of pay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lance of payments help understand the broader implications of current account imbalances and how to tame current account defic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lance of payments give cues how nations can avoid crises brought by volatile financial flows and how they can minimize the damage of financial crises if such occ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71F7D-2177-4658-AE5E-70AB2B35C366}" type="slidenum">
              <a:t>24</a:t>
            </a:fld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ional Income and Product Acco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ational income and product account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ccounting system for a country’s total production and in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fundamental concepts of the syst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oss domestic product (GDP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he value of all final goods and services produced within a country´s borders during a period of time (usually a yea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oss national product (GNP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the value of all final goods and services produced by the labor, capital, and other resources of a country within the country as well as abr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2F041-4338-4BA6-A219-EAD171D66788}" type="slidenum">
              <a:t>25</a:t>
            </a:fld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ational Income and Product Acco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NP = GDP + foreign investment income received – investment income paid to foreigner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+ net unilateral trans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DBAD4-0044-45EA-8FAE-BA69EFA04B76}" type="slidenum">
              <a:t>26</a:t>
            </a:fld>
          </a:p>
        </p:txBody>
      </p:sp>
    </p:spTree>
  </p:cSld>
  <p:transition spd="med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BLE 9.6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Variable Defin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111320" y="1981080"/>
            <a:ext cx="6921360" cy="371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6087-B256-4BCB-B236-B1876CC7F8B6}" type="slidenum">
              <a:t>27</a:t>
            </a:fld>
          </a:p>
        </p:txBody>
      </p:sp>
    </p:spTree>
  </p:cSld>
  <p:transition spd="med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nderstanding National Accou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305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play of the variables of the national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DP = C + I + G + X –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NP = GDP + (net foreign investment income + net transf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NP = (C + I + G) + (X – M + net foreign investment income + net transf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NP in terms of current account balance: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NP = C + I + G + 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NP is also the value of income received: GNP = C + S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ince 4 and 5 are equivalent definitions of GNP,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 + I + G + CA = C +S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 + G + CA = S +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 + (T – G) = I + 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747BB-8572-4D57-8D8C-6AE8A4077890}" type="slidenum">
              <a:t>28</a:t>
            </a:fld>
          </a:p>
        </p:txBody>
      </p:sp>
    </p:spTree>
  </p:cSld>
  <p:transition spd="med"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Understanding National Account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 + (T – G) = I + CA summarizes the current account balance, investment, and public and private savings in the ec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ollowing figure illustrates the equation in the U.S. in 1991–2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937E-D632-4D18-9A0D-0A02FC99A199}" type="slidenum">
              <a:t>29</a:t>
            </a:fld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international transactions of a nation are divided into three separate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rrent accou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record of the goods and services into and out of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Financial accou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record of the flow of financial capital to and from the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apital accou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record of some specialized types of relatively small capital fl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et’s examine each of these in greater detail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9038F-C29F-448A-8119-5A9CDA30D6C6}" type="slidenum">
              <a:t>3</a:t>
            </a:fld>
          </a:p>
        </p:txBody>
      </p:sp>
    </p:spTree>
  </p:cSld>
  <p:transition spd="med"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9.2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.S. Sav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Investment, 1991–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586480" cy="453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FC301-6724-4103-8AB5-4240119C7B59}" type="slidenum">
              <a:t>30</a:t>
            </a:fld>
          </a:p>
        </p:txBody>
      </p:sp>
    </p:spTree>
  </p:cSld>
  <p:transition spd="med"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9.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Key Macroeconomic Indicators, Percent of GNP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904080" cy="395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1D59-C356-46EB-BF29-221BC8CCFA73}" type="slidenum">
              <a:t>31</a:t>
            </a:fld>
          </a:p>
        </p:txBody>
      </p:sp>
    </p:spTree>
  </p:cSld>
  <p:transition spd="med"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tional Deb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account deficits must be financed through inflows of financial capital (loa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ns from abroad add to a country’s stock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deb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genera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bl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countries, rich and poor, have external d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D5DD-AB77-423E-9EF5-D310CD355A86}" type="slidenum">
              <a:t>32</a:t>
            </a:fld>
          </a:p>
        </p:txBody>
      </p:sp>
    </p:spTree>
  </p:cSld>
  <p:transition spd="med"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national Debt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low and middle income countries, external debt leads to financi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ustainable debt occurs for numerous reas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ling commodity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disa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u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lending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F6256-723C-4E2D-A7AF-63DE32D6E8FA}" type="slidenum">
              <a:t>33</a:t>
            </a:fld>
          </a:p>
        </p:txBody>
      </p:sp>
    </p:spTree>
  </p:cSld>
  <p:transition spd="med">
    <p:pull dir="r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9.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he Five Largest Developing Country Debtors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76360" y="2209680"/>
            <a:ext cx="7989840" cy="296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A189D-A347-4F8A-9B87-A9629CFA1D90}" type="slidenum">
              <a:t>34</a:t>
            </a:fld>
          </a:p>
        </p:txBody>
      </p:sp>
    </p:spTree>
  </p:cSld>
  <p:transition spd="med">
    <p:pull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International Investment 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a country runs a current account deficit, it borrows from abroad and increases its indebt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a country runs a current account surplus, it lends to foreigners and reduces its overall indebte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national investment position = domestically owned foreign assets –foreign owned domestic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1A23C-61C8-4387-B043-A340745F3D33}" type="slidenum">
              <a:t>35</a:t>
            </a:fld>
          </a:p>
        </p:txBody>
      </p:sp>
    </p:spTree>
  </p:cSld>
  <p:transition spd="med">
    <p:pull dir="r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International Investment Position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positive international investment position = the home country could sell all its foreign assets and have  more than enough revenue to  purchase all the domestic assets owned by foreig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5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 the U.S. international investment position = $11,079 billion – $13,625 billion = –$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,546 b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3FD2B-45FF-46F5-A8AC-FB506AF7FC52}" type="slidenum">
              <a:t>36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rchandise Trade Bal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t’s first defin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erchandise trade balan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—part of the current account; measures the difference between exports and imports of goods, but no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rade deficit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negative merchandise trad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rade surplu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positive merchandise trad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2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the U.S. had a trade deficit of $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.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the U.S. had a large trade surplus in services ($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.8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billi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ED4A-A060-4511-9DE4-4DB801951075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urrent Ac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urrent account balan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measures all current, non-capital transactions between a nation and the rest of the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account has three main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s and services = the value of goods and services exported – the value of im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vestment income = income from investments abroad – income paid to foreigners on their U.S. invest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lateral transfers = any foreign aid or other transfers received by foreigners – that given to foreig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34C3-C80B-4C63-BE07-1425FE746591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BLE 9.1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Components of the Current Ac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11320" y="2743200"/>
            <a:ext cx="6921360" cy="190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61326-91A6-4FA3-A8C8-19B8F8E43A08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BLE 9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The U.S. Current Account Balance, 2005 (Millions of Doll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14560" y="1828800"/>
            <a:ext cx="6913440" cy="43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0DF0-2C50-44FF-98BF-56D67054D4FF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9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U.S. Current Account Balance, 1950–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8200" y="2168640"/>
            <a:ext cx="8072280" cy="3165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C0DF8-B09E-4258-B0B8-3C3C9DAE318D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U.S. Current Account Defic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.S. current account deficit looks omin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ever, the deficit is not a sign of weakness: U.S. economic boom of the 1990s increased the demand for imports, while sluggish growth abroad limited the expansion if U.S. expo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the U.S. deficit is not sustainable in the long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A356-DB1E-4564-A3AD-EC783E85F5AD}" type="slidenum">
              <a:t>9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18:12:17Z</dcterms:modified>
  <cp:revision>282</cp:revision>
  <dc:subject>Trade and  the Balance  of Payments </dc:subject>
  <dc:title>Chapter 9</dc:title>
</cp:coreProperties>
</file>