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EFFCB-567A-491B-A04F-61BA7DE31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7921E-5E2F-428E-800F-27E5CA563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FD03-B82A-4E66-97FB-C986810AF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36A10-3B79-40F6-B752-C83CB27CB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06D5-0B53-4162-B2F2-743BEA255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697D-2A00-4469-B483-3E0B0F7D6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70C61-6243-4366-B4CB-FD84C65E29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B4781-5AFB-4372-BEE5-66E882071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D942-E83D-42EA-A980-FB8274310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F9BD3-A999-4A6A-B4D4-EA98429726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3DB9-3A26-46FE-86EC-2C2E84737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46E5-2B36-4ACB-A092-A3CFE62BC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-</a:t>
            </a:r>
            <a:fld id="{80273F80-708E-4A56-8610-F07A9E9B6B9B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An Introductio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to Open </a:t>
            </a:r>
            <a:br>
              <a:rPr sz="3400"/>
            </a:br>
            <a:r>
              <a:rPr b="1" lang="en-GB" sz="3400" spc="-1" strike="noStrike">
                <a:solidFill>
                  <a:srgbClr val="000000"/>
                </a:solidFill>
                <a:latin typeface="Arial"/>
              </a:rPr>
              <a:t>Economy Macroeconomic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scal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pans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rease in government spending and/or cuts in taxes; result in an increase in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ultiplier effec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increase in demand ultimately results  in an even larger  increase in production and income as effects of the demand hike run through th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tractionary fiscal polic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cuts in government spending and/or increases in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ave a negative multiplier eff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70296-B68B-4E55-928B-1E19DECAA782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ks through a combination of change to the supply of money and change to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pen market operat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central bank´s buying and selling  of bonds in the open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lling bonds leads the nation’s financial institutions to give up some of their cash, with cash reserves shrinking throughout the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9D314-649B-43C0-AAF7-86C0300CBF01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etary Poli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entral bank’s increasing the supply of money in he economy reduces the 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ansionary monetary policy: an increase in the money supply and decrea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tractionary monetary policy: a decrease in the money supply and a ris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6D8FE-C2AC-47EC-AFEC-6F88B76E6634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Money Supply and De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803240"/>
            <a:ext cx="7535880" cy="414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9793F-80C9-4765-98AD-77E14E533A66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scal and Monetary Policies in S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fiscal and monetary policy influence exchange rates and the current account bal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both cases, the effect is through a change in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ither policy is likely to have long-run effects on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3C5B5-2EFE-4390-8B98-C8E0936F8174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mplementation of Fiscal and Monetary Polices Comp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monetary policy is relatively simple: conducted by the U.S. central bank, the Federal Res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lementation of fiscal policy is more difficult: requires Congress to pass legislation that must be signed by th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01777-008A-4845-AEAC-ED44811727CC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urrent Account Balances Revisi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call: S + (T – G) = I +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8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 does a change in income caused by a change in monetary or fiscal policy affect the current accoun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59BD4-AC26-4B01-B9DC-991C7AB2A482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ffects of Fiscal and Monetary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5800" y="2419200"/>
            <a:ext cx="7989840" cy="247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9BE7C-8E08-4964-975D-0220D655DBF4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switching polic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expenditure reducing poli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combination of fiscal, monetary, and exchange rate policies for addressing current account imbal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switching policies inclu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change rate depreciation and trade barr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nditure reducing policies are contractionary monetary or fiscal pol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E321-4A2B-4BEF-B0CA-2C92152B17F2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rco Policies for Current Account Imbalanc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two policies must be applied simultaneously: expenditure shifts without expenditure reductions are inflationary, while expenditure reductions without shifts toward domestic producers is recessio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02EA7-1609-470F-9A27-E5CECCA4D4F5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alyze the relationship of balance of payments and the exchange rate to each other and to the national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cus particularly on the interactions of the current account, exchange rates, consumption, investment, and government s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ore the role of national governments in the economy: especially the impact of macroeconomic policies on the exchange rate and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190E-33B3-4B3F-8AE7-63C0CA70F5F9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Adjustment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djustment proces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describes changes in the trade deficit that are caused by a change in the exchange r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example, depreciation raises the real price of foreign goods, making domestic substitutes more attra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preciation has, however, a time l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over, the first impact of depreciation may be a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J-curve: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 deterioration of the current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A74F-9986-45F4-8708-B347639541CB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1.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Trade Balance and the Exchange Rate, 1980–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408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6B44-2413-4518-99F6-552BADC1EC1A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ading industrial economies discuss macroeconomic issues, international relations, and relations with developing countries at the G-8 sum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global imbalances arise they discuss the potential for policy coordina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DA750-1C3D-44FC-9D84-128B7826D933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croeconomic Policy Coordina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policy coordination among all countries of the world is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want to guard sovereig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ations are reluctant to pursue same policies as trading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F4D3-165C-4217-A5C0-B84779D4AF6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itional 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,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8020080" cy="3322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B55E6-C459-43AF-AC30-B6B832242B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An Increase in the Demand for Mone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3520" y="1814400"/>
            <a:ext cx="78483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C7514-6ED1-43D8-B96B-EC1334239C3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 11.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The J-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019920" cy="438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6974-C24E-4EBF-A6BA-490A70A1CC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nce the Great depression of the 1930s, national governments have held a central role in guaranteeing economic growth, employment, and price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besides policies, the day-to-day operations of governments, consumers, and businesses alike have a major impact on the current account and exchange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888E0-0C8D-4894-B873-28899470DCE4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Main Economic Agents in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1320" y="2057400"/>
            <a:ext cx="692136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C614D-2B5D-46BA-AEE4-3426B755918A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ggregate supply and demand shows the relationship between economic output (GDP) and price levels in the macroeconomy at a given poin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supply curve calls attention to three regions of GDP: under, nearing, and at or beyond full employment  equilib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ggregate demand curve shows expenditure by consumers (C), business (I), the government (G), and foreign purchases of exports – domestic purchases of imports (X–M) at various pric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A91A-2120-4267-8CB1-F1C649E453A5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ggregate Demand (AD) and Aggregate Supply (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6029280" cy="439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3632-4F3C-48D4-BD28-5902343F18DA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e Supply and Demand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aggregate supply or demand, which can occur for numerous reasons, lead to new levels of GDP and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consumption expenditure (C), business investment (I), or government spending (G), for example, would increase aggregate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GDP or price levels are not at their desired levels, macroeconomic monetary or fiscal policy may be prescribe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A6874-3463-47A6-AB83-9091162A80B2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11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 Shift in the AD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82680" y="1839960"/>
            <a:ext cx="6329520" cy="455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33936-4169-441D-85F8-5C7714958579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wo Categories of Macroeconom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iscal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government taxation and expenditures; usually formulated by the legislative and executive bran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onetary poli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oney supply and interest rates; usually formulated by the central bank and the finance min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analyze fiscal and monetary policies in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6C77-63B4-4E13-98F6-FBA239DF9255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29:39Z</dcterms:modified>
  <cp:revision>244</cp:revision>
  <dc:subject>An Introduction to Open Economy Macroeconomics  </dc:subject>
  <dc:title>Chapter 11</dc:title>
</cp:coreProperties>
</file>