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BA440-9821-4F35-A12D-25AF23D89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1B4C-734C-41A4-9BF6-87E82B2DB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D52ED-EB2C-46D9-83B3-4DB3295E8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5823-F14F-4420-A52F-515554216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58983-0F65-48B8-B154-4D4E2DAF5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D901-B299-45C0-A9AD-DB1ADD285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1A19D-B356-4494-97E6-4B90C6265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AC6D7-F7E4-4CC8-9EE4-AE24DEC96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C3894-F096-441D-95C6-4412B23C3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08277-E91F-4873-AEFC-75F93B06B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6894D-4FBA-4C13-AA24-2C9C6DEE8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99C13-43F8-45B7-B91E-C6FC7A62F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Copyright © 2008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095880"/>
            <a:ext cx="990720" cy="76212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732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-</a:t>
            </a:r>
            <a:fld id="{FF19225F-658F-4780-B395-63646DFA2D03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88480" y="1447920"/>
            <a:ext cx="155520" cy="464796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8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40080" y="609480"/>
            <a:ext cx="435132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An Introduction </a:t>
            </a:r>
            <a:br>
              <a:rPr sz="3400"/>
            </a:b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to Open </a:t>
            </a:r>
            <a:br>
              <a:rPr sz="3400"/>
            </a:b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Economy Macroeconomic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scal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pansionary fiscal polic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increase in government spending and/or cuts in taxes; result in an increase in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ultiplier effec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increase in demand ultimately results  in an even larger  increase in production and income as effects of the demand hike run through the ec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tractionary fiscal polic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cuts in government spending and/or increases in 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ve a negative multiplier eff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2A3C5-D348-4062-AB52-C1F73A7B188A}" type="slidenum">
              <a:t>10</a:t>
            </a:fld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netary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ks through a combination of change to the supply of money and change to interest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pen market operat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central bank´s buying and selling  of bonds in the open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lling bonds leads the nation’s financial institutions to give up some of their cash, with cash reserves shrinking throughout the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3E51D-3A65-468B-90C1-0F17E85EFFC7}" type="slidenum">
              <a:t>11</a:t>
            </a:fld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netary Policy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entral bank’s increasing the supply of money in he economy reduces the interes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ansionary monetary policy: an increase in the money supply and decrease in interes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actionary monetary policy: a decrease in the money supply and a rise in interes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0B790-2894-46FF-A03F-058E2A9AED20}" type="slidenum">
              <a:t>12</a:t>
            </a:fld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11.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Money Supply and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1803240"/>
            <a:ext cx="7535880" cy="41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B057D-BDF0-4F9F-8D3D-1627F37E18DF}" type="slidenum">
              <a:t>13</a:t>
            </a:fld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scal and Monetary Policies in 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th fiscal and monetary policy influence exchange rates and the current account ba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both cases, the effect is through a change in interes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ither policy is likely to have long-run effects on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9EED9-BBC6-4126-A92C-F6A17342EFE0}" type="slidenum">
              <a:t>14</a:t>
            </a:fld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mplementation of Fiscal and Monetary Polices Compa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lementation of monetary policy is relatively simple: conducted by the U.S. central bank, the Federal 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lementation of fiscal policy is more difficult: requires Congress to pass legislation that must be signed by th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72313-10A6-42C7-AC21-2ACB3C867BF3}" type="slidenum">
              <a:t>15</a:t>
            </a:fld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urrent Account Balances Revisi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all: S + (T – G) = I +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does a change in income caused by a change in monetary or fiscal policy affect the current accoun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9911D-F731-4BD3-8B2E-52FEADDCE980}" type="slidenum">
              <a:t>16</a:t>
            </a:fld>
          </a:p>
        </p:txBody>
      </p:sp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11.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The Main Effects of Fiscal and Monetary Poli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2419200"/>
            <a:ext cx="7989840" cy="247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904F5-893A-4826-84B0-FBC0C9CB5828}" type="slidenum">
              <a:t>17</a:t>
            </a:fld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rco Policies for Current Account Imbalanc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xpenditure switching polic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xpenditure reducing polici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 combination of fiscal, monetary, and exchange rate policies for addressing current account imbal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enditure switching policies inclu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change rate depreciation and trade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enditure reducing policies are contractionary monetary or fiscal pol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CE7CC-8728-484C-B141-F3B1C5330FF2}" type="slidenum">
              <a:t>18</a:t>
            </a:fld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rco Policies for Current Account Imbalance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two policies must be applied simultaneously: expenditure shifts without expenditure reductions are inflationary, while expenditure reductions without shifts toward domestic producers is recessio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8A676-6C47-48A2-8476-334FB723E295}" type="slidenum">
              <a:t>19</a:t>
            </a:fld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alyze the relationship of balance of payments and the exchange rate to each other and to the national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cus particularly on the interactions of the current account, exchange rates, consumption, investment, and government s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lore the role of national governments in the economy: especially the impact of macroeconomic policies on the exchange rate and the current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26505-6475-4AE3-B5ED-38CBC79742C5}" type="slidenum">
              <a:t>2</a:t>
            </a:fld>
          </a:p>
        </p:txBody>
      </p:sp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Adjustment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djustment proces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describes changes in the trade deficit that are caused by a change in the exchange r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example, depreciation raises the real price of foreign goods, making domestic substitutes more attr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preciation has, however, a time l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eover, the first impact of depreciation may be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J-curve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 deterioration of the current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1C8F-B399-4973-BDF8-6AC7B1FE09F7}" type="slidenum">
              <a:t>20</a:t>
            </a:fld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GURE 11.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 U.S. Trade Balance and the Exchange Rate, 1980–19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391520" cy="408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6D7FF-562B-46DB-9FA5-3C750CC59876}" type="slidenum">
              <a:t>21</a:t>
            </a:fld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croeconomic Policy Coordin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ading industrial economies discuss macroeconomic issues, international relations, and relations with developing countries at the G-8 sum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global imbalances arise they discuss the potential for policy coordin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7F187-8C22-4173-BF7A-158398B1B467}" type="slidenum">
              <a:t>22</a:t>
            </a:fld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croeconomic Policy Coordination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ever, policy coordination among all countries of the world is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tions want to guard sovereig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tions are reluctant to pursue same policies as trading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29E2-AC86-4762-BBD7-675CC2325468}" type="slidenum">
              <a:t>23</a:t>
            </a:fld>
          </a:p>
        </p:txBody>
      </p:sp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itional Chapter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11.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Real GDP Growth, United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020080" cy="33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3EEAD-7635-4105-A524-4176F5F2E4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GURE 11.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An Increase in the Demand for M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520" y="1814400"/>
            <a:ext cx="7848360" cy="41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5385B-60DC-474A-BBDA-B77B2713C8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GURE 11.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The J-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019920" cy="438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34115-C351-4BA3-B340-7DBC6613B8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nce the Great depression of the 1930s, national governments have held a central role in guaranteeing economic growth, employment, and price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ever, besides policies, the day-to-day operations of governments, consumers, and businesses alike have a major impact on the current account and exchange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FF12-9D31-4C14-AB4B-13DF66503424}" type="slidenum">
              <a:t>3</a:t>
            </a:fld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11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The Main Economic Agents in the Macro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1320" y="2057400"/>
            <a:ext cx="6921360" cy="36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B6463-3B71-471E-AFB0-297027509077}" type="slidenum">
              <a:t>4</a:t>
            </a:fld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gregate Supply and Demand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gregate supply and demand shows the relationship between economic output (GDP) and price levels in the macroeconomy at a given point i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ggregate supply curve calls attention to three regions of GDP: under, nearing, and at or beyond full employment 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ggregate demand curve shows expenditure by consumers (C), business (I), the government (G), and foreign purchases of exports – domestic purchases of imports (X–M) at various price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A9186-1F6D-4010-98DC-809C25FBF931}" type="slidenum">
              <a:t>5</a:t>
            </a:fld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11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ggregate Demand (AD) and Aggregate Supply (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029280" cy="43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E7A7A-AFA3-42F1-8158-E323D80358AF}" type="slidenum">
              <a:t>6</a:t>
            </a:fld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gregate Supply and Demand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aggregate supply or demand, which can occur for numerous reasons, lead to new levels of GDP and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rease in consumption expenditure (C), business investment (I), or government spending (G), for example, would increase aggregate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GDP or price levels are not at their desired levels, macroeconomic monetary or fiscal policy may be prescrib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910E7-FB01-40C0-82A8-66DDF5C17704}" type="slidenum">
              <a:t>7</a:t>
            </a:fld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11.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 Shift in the AD Cu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82680" y="1839960"/>
            <a:ext cx="6329520" cy="455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C3397-9022-4C00-86F9-597DEDBD14E1}" type="slidenum">
              <a:t>8</a:t>
            </a:fld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wo Categories of Macroeconomic Poli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iscal polic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government taxation and expenditures; usually formulated by the legislative and executive bran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netary polic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money supply and interest rates; usually formulated by the central bank and the finance min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’s analyze fiscal and monetary policies in detail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E2B4A-3D32-4181-B2D4-D6191D102734}" type="slidenum">
              <a:t>9</a:t>
            </a:fld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>James Gerber</dc:creator>
  <dc:description/>
  <dc:language>en-US</dc:language>
  <cp:lastModifiedBy>test</cp:lastModifiedBy>
  <dcterms:modified xsi:type="dcterms:W3CDTF">2007-04-10T18:29:39Z</dcterms:modified>
  <cp:revision>244</cp:revision>
  <dc:subject>An Introduction to Open Economy Macroeconomics  </dc:subject>
  <dc:title>Chapter 11</dc:title>
</cp:coreProperties>
</file>