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8257-4FEF-4415-A6B5-3F32977F8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2A21-A333-4850-AB87-415C4775A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F1F2-E142-49B3-892E-D9119B979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CDD2-E0C7-471E-9091-DDDB60451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9697-F31F-4BF5-8EE1-082D8572C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DDFD-2119-4BAC-90CB-FCFF89CE9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B5CA-AF24-486B-9FE7-0BDEAEEED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833C-4594-48D2-BC59-98111042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AA73-C8A5-49C8-8284-2AA4B560A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BE49-5658-4505-8E84-487FE565E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4AE7-3E1D-4723-B5F8-D484B4FDD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B938-2C59-4AD7-871F-751657607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-</a:t>
            </a:r>
            <a:fld id="{F22008D2-3320-4575-9812-3F415B7BCA5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 Introductio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Ope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conomy Macroeconom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ans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rease in government spending and/or cuts in taxes; result in an increase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ier effe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rease in demand ultimately results  in an even larger  increase in production and income as effects of the demand hike run through th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ract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cuts in government spending and/or increases in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e a negative multiplier eff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BCDE-6A0C-4429-9A31-7C942193B320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through a combination of change to the supply of money and change to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en market opera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central bank´s buying and selling  of bonds in the open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lling bonds leads the nation’s financial institutions to give up some of their cash, with cash reserves shrinking throughout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8B6E-DBF7-4DCB-AC01-609F67F2BF41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ntral bank’s increasing the supply of money in he economy reduces the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ansionary monetary policy: an increase in the money supply and decrea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actionary monetary policy: a decrease in the money supply and a ri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66AC-A179-4B42-93AA-F2B71F1D8C46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ney Supply and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803240"/>
            <a:ext cx="7535880" cy="41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122F-75E6-40DF-AB2E-6257AFECC43E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scal and Monetary Policies i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fiscal and monetary policy influence exchange rates and the current account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both cases, the effect is through a chang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ither policy is likely to have long-run effects on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670F-5322-4679-9A20-9C4FC79E859C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lementation of Fiscal and Monetary Polices Comp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monetary policy is relatively simple: conducted by the U.S. central bank, the Federal 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fiscal policy is more difficult: requires Congress to pass legislation that must be signed by th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603D-2E46-4C0A-82EF-3898D312F379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Account Balances Revisi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all: S + (T – G) = I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es a change in income caused by a change in monetary or fiscal policy affect the current accoun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FF2B-9A41-428B-9615-F580D69B0F2B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ffects of Fiscal and Monetary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419200"/>
            <a:ext cx="7989840" cy="24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469B-DA0B-46E7-9D6E-B92AB3307CAB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switching pol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reducing poli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ombination of fiscal, monetary, and exchange rate policies for addressing current account im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switching policies 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change rate depreciation an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reducing policies are contractionary monetary or fiscal pol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257D-9DCB-4AB1-9A12-6710AD07C3A6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wo policies must be applied simultaneously: expenditure shifts without expenditure reductions are inflationary, while expenditure reductions without shifts toward domestic producers is recessio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3860-827A-4592-8FA2-F1071F41E199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ze the relationship of balance of payments and the exchange rate to each other and to the national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particularly on the interactions of the current account, exchange rates, consumption, investment, and government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ore the role of national governments in the economy: especially the impact of macroeconomic policies on the exchange rate and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38AF-B060-4576-8157-A2C4BAA40891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djust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justment proce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scribes changes in the trade deficit that are caused by a change in the exchange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depreciation raises the real price of foreign goods, making domestic substitutes mor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reciation has, however, a time 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over, the first impact of depreciation may be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-curv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deterioration of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012A-2464-4D32-9B2A-92357CDEDE28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1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Trade Balance and the Exchange Rate, 1980–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40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D478-8432-44AF-B7FC-7B829E571474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ing industrial economies discuss macroeconomic issues, international relations, and relations with developing countries at the G-8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global imbalances arise they discuss the potential for policy coordi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E017-CCBC-4840-9C91-6F724C629D87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policy coordination among all countries of the world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want to guard sovereig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are reluctant to pursue same policies as tr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470F-FB45-4FDC-9A65-FD866989A022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,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20080" cy="33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61E3-2952-4971-B28B-9E7C3B6962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n Increase in the Demand for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814400"/>
            <a:ext cx="78483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96DA-56AE-423C-B1A8-A33B3D7000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The J-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19920" cy="43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FAC2-2FB1-4A64-840A-F7719E0B9A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ce the Great depression of the 1930s, national governments have held a central role in guaranteeing economic growth, employment, and price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besides policies, the day-to-day operations of governments, consumers, and businesses alike have a major impact on the current account and exchange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52FB-56D5-4BC8-ABF7-C404173A155C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conomic Agents in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1320" y="2057400"/>
            <a:ext cx="692136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8323-0264-4DBB-AC6D-C0B2F0260DAC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regate supply and demand shows the relationship between economic output (GDP) and price levels in the macroeconomy at a given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supply curve calls attention to three regions of GDP: under, nearing, and at or beyond full employment 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demand curve shows expenditure by consumers (C), business (I), the government (G), and foreign purchases of exports – domestic purchases of imports (X–M) at various pr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33FF-3693-48EE-9FD2-C8CFC186C6B2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ggregate Demand (AD) and Aggregate Supply (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292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CAB5-4D99-4A1D-B0E5-0FBB1DABD829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aggregate supply or demand, which can occur for numerous reasons, lead to new levels of GDP and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consumption expenditure (C), business investment (I), or government spending (G), for example, would increase 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GDP or price levels are not at their desired levels, macroeconomic monetary or fiscal policy may be prescrib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33C8-7039-42AB-85FE-57F83D896406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 Shift in the AD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82680" y="1839960"/>
            <a:ext cx="6329520" cy="45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2E02-0020-44D1-BACC-8E8ACAA2E124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wo Categories of Macroeconom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government taxation and expenditures; usually formulated by the legislative and executive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oney supply and interest rates; usually formulated by the central bank and the finance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analyze fiscal and monetary policies in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69E7-E4BD-4EBB-953F-A8F619452D57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29:39Z</dcterms:modified>
  <cp:revision>244</cp:revision>
  <dc:subject>An Introduction to Open Economy Macroeconomics  </dc:subject>
  <dc:title>Chapter 11</dc:title>
</cp:coreProperties>
</file>