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D65A-270A-41B1-8704-DF8C27996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1D2F-CC79-4E22-8D66-2B32333F05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05197-319F-4E72-A4BD-24A53B90F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F02D2-ABC4-43D0-AB64-754C244C80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9C64-5805-4AFE-B127-60D6E3500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0CB27-033B-4D61-A2B5-AE46C6865F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EB710-6AA9-4630-9BD3-C1BD9BBFE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41A39-5A24-461F-8B5F-69520E645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CD94-D01A-439F-9676-B840195C52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AA7DA-DB91-49EE-AEE0-190DFAB9A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8A4B-64ED-4FAF-9F7E-8844534D4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8AAC9-E44D-4119-A09A-9A5EBD0AF3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-</a:t>
            </a:r>
            <a:fld id="{3758D0DC-2CCE-406A-B526-1A1E66C1BECE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ernational Financial Cri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voiding Crisis: Exchange Rate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awling peg increases vulnerability to financial crises in two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quires monetary authorities to exercise discipline in the issuance of new money; anti-inflationary tendencies are exacerbated by intentional slow devaluation, and a severe overvaluation of the real exchange rate may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iting crawling peg is difficult: government leaving it may lose the confidence of inves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rrent consensus: hard peg or floating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9E65-ED46-4FA6-A126-A8A2F7A41461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pital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pital controls may be imposed to prevent capital movements in the financial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low restrictions tend to work better than outflow ones: reduce the inflow of short-run capital, which would add to the  stock of liquid, possibly volatile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utflow restrictions may help reduce the impact of a crisis, when it occ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laysia weathered the Asian Crisis through outflow restri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48CAA-7AE5-451A-86F2-BBAE2376AB63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Crises: Domestic Poli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macroeconomic policies can be cured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tting the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ising the interest 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ting the currency flo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hese are politically diffic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414B6-9F4C-4C89-BD01-D9FA892B24B3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Crises: Domestic Policie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sudden capital flight are harder to c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lapsing currency can be defended through interest rate hikes, but these may cause bankruptcies and oth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4DFB7-146E-4673-BE62-B518B8463832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naging Crises in Su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is management is politically difficult: creates losers in the domestic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scal and monetary policies are limited if the crisis has an international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ending currency with high interest rates: spreads the recessionary effects of the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ending the economy against recessionary effects: intensifies the problems of a collapsing curr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2D736-24C3-4BC6-B676-42B2A50F313B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Reform of the Internation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ancial Archite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form of the international financial architectur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w international policies for avoiding and managing financial cr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reat variety of reform proposals focus on two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ole of an international lender of last r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ditionality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changes in economic policy that borrowing nations are required to make in order to receive loans from the lender of last re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C3633-F20B-4DA5-9499-3D5C339525D8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ender of last resor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source of loanable funds after all commercial sources of lending become un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entral bank in the nation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F, with the support of high-income countries, in the international ec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country unable to make a payment on its international loans or lacking international reserves asks the IMF to interv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D69F-9398-4278-8A95-475532B57F80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(cont.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ponents of international lender of last resort cite moral hazard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rusting in a bailout, failing firms have an incentive to gamble on high-stakes, high-risk ven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onents: moral hazard can be decreased by financial sector regulations, such as the Basel Capital Ac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owners of financial firms risk losses in the event of a meltdown, they will not engage in excessiv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7BAF-2069-425E-99CA-34216DCB5BB7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nder of Last Resor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bate on the IMF’s role as a lender of last resort and moral hazard center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vel of IMF interest rates: should the rates be hig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ngth of the payback period: should the period be shor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ze of  loans: countries often exceed the borrowing limitation of 300% above their quota; should the borrowing limits be curb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E1CF-E045-47C8-81FD-79C7AEE79FD0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nditionalit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changes in economic policy that borrowing nations are required to make in order to receive loans from the lender of last re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ypically covers monetary and fiscal policies, exchange rate policies, and structural policies affecting the financial sector, international trade, and public enterpr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MF makes loans i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tranch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—installments of the total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ach tranche hinges on the completion of reform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F4085-1089-4281-B22D-0E046662B25B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ore the ways in which financial crises develop and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plain why financial crises may occur in countries with sound macroeconomic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ntify mechanisms to prevent and remedy financial cr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AFCB1-8173-4C12-AF5A-6706E907A85C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tics of conditionality ar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eed to comply with conditionalities may intensify the recessionary effects of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itionality may entail high social costs on the poorest members of the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6582F-03A5-4919-8DD4-77FB67E503D4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ditionality (cont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ponents argue that crises could be avoided by a pre-qualific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receive assistance, countries must meet requirements of sound financial sector 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critics claim tha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requalification will not deter speculative attacks on the country´s curr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IMF could not ignore crises cases that failed to prequal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7BAE3-586D-4CA0-82C1-100D6AA24160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merging Issues in International Financial Architectur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eed for greater transparency to make a country’s financial standing clearer to potential len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l Capital Accord includes issues of transparency and data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ata dissemination standard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IMF´s standards for data reporting; currently und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39797-3C05-4FBA-BB5E-7CAAB4534564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merging Issues in International Financial Architecture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ed to coordinate private sector involvement: private sector creditors’ insistence they be paid first make it more difficult to resolve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to resolve the conflict between lend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ndstill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MF’s recognition that a crisis country temporarily stop making repayments on its de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llective action claus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lenders would have to agree on collective mediation among themselves and the debtor in the event of a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45B3-F3E8-4E29-837A-3A4C4296B988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orm Urgenc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mediately following the Asian Crisis financial reform was at the top of everyone’s agen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cade later, not much reform has occurred and it is no longer at the top of the agend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has been diverted to other are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, terrorism, energy, climate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001C-2375-4C4B-B20C-3989750EBCAE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12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Pesos Per Dollar: December 12, 1994 to March 22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09480" y="2303640"/>
            <a:ext cx="8024760" cy="303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4855-75B1-4833-B4A3-9E1997170E6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12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urrent Account Balances and Currency Depre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803160" y="1822320"/>
            <a:ext cx="7274160" cy="41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4599-E7D8-41D1-B6AD-920B1FEE46F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12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Real GDP Grow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789200"/>
            <a:ext cx="6804000" cy="45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8E7D3-8F9E-4B99-94D0-D12E74AB6B4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conomic integration has enhanced growth and development, but also made it easier for crises to spread across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agion effects of crises do not conform to a single patterns, and are thus difficult to pred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nancial crises could be prevented through a reform of the international financial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4527-9D38-4A9C-A12C-90CDCA92179E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banking crisis, exchange rate crisis, or a combination of the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anking crisi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banking system’s becoming unable to perform its normal lendin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sintermedi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banks becoming unable to serve as intermediaries between savers and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xchange rate crisi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sudden and unexpected collapse in the value of a nation’s curr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46E48-5E59-4E0B-9B92-70DE6538BCB1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nancial Crisis and Exchange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 a fixed exchange rate system, crisis entails the loss of international reserves and deval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der a flexible exchange rate system, crisis means an uncontrolled, rapid depreciation of the cur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untries with a pegged exchange rate may be more vulnerable to a cr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C36AF-D984-4AFD-91B3-503211A037B0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wo Causes of Financial Cri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macroeconomic imbalances, such as large budget deficits caused by overly expansionary fiscal poli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 Third World debt crisis of the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rises caused by volatile capital fl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ple: the East Asian financial crisis of 1997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F4B13-4746-4BAA-9CCE-B3FEBF878ECF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Domestic Issues in Crisis Avoid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blem in financial sector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oral haza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incentive to act in a manner that creates personal benefits at the expense of the common good: e.g., banks have an incentive to make riskier investments when they know they will be bail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al hazard problems are exacerbated by governments’ providing incentives or threatening banks to make bad loans for political 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East Asian crisis, such loans gave rise to the term crony capitali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15C0-C246-45BE-B9A7-A996894C0F1A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aping Moral Haz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problem of moral hazard is inescapable if policies to protect the financial sector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ay to decrease the problem: establish supervision and regulation standards for internationally active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el Capital Accor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formulated in 1989 by bank regulators from industrialized countries; adopted by more than 100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w Basel Capital Accord of 2001 updated the previou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96714-D7F5-4315-ACFC-D8A706DFF9C9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w Basel Capital Acco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ommends three best practices to reduce the problem of moral haz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pital requiremen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quire the owners of banks to invest a certain percentage of their own capital in the 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upervisory revie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oversight mechanism to assist with risk management and to provide standards for daily business prac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formation disclosur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quires banks to disclose operational information to lenders, investors, depos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A8D93-FF98-4FCD-9ACF-82A3DAB3E0BE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30:26Z</dcterms:modified>
  <cp:revision>247</cp:revision>
  <dc:subject>International Financial Crises </dc:subject>
  <dc:title>Chapter 12</dc:title>
</cp:coreProperties>
</file>