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C539B-0872-45E6-ABDA-EA9C18842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6CBBB-4677-4AED-B03D-389B672F6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6A47E-C673-4A48-8BFA-CB20F0C0E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8A253-D54B-4E45-966E-33AC03F12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3EEBC-0BAE-4CC5-9EF0-9758A5297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1D32C-7BB4-4C1B-8435-973D0BFA6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80C9D-831F-4A7D-9370-653EB57C3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3945A-DBF0-4CA1-88C6-860D21EC3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15B2-2892-434F-A4CE-33DF998A2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4E510-DF2C-4EA4-B719-632B46F07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27A9D-4F2A-4205-9661-926A062B0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9A4A5-A4A4-4457-B35B-F0B4CDC60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pyright © 2008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095880"/>
            <a:ext cx="990720" cy="76212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732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-</a:t>
            </a:r>
            <a:fld id="{BE866463-2361-42B4-9752-C5410C541E01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88480" y="1447920"/>
            <a:ext cx="155520" cy="464796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8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40080" y="609480"/>
            <a:ext cx="435132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ternational Financial Cri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voiding Crisis: Exchange Rate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awling peg increases vulnerability to financial crises in two 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quires monetary authorities to exercise discipline in the issuance of new money; anti-inflationary tendencies are exacerbated by intentional slow devaluation, and a severe overvaluation of the real exchange rate may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iting crawling peg is difficult: government leaving it may lose the confidence of inves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rrent consensus: hard peg or floating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53DD-119B-4CA8-BF01-E5F49A653DA0}" type="slidenum">
              <a:t>10</a:t>
            </a:fld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pital Contr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pital controls may be imposed to prevent capital movements in the financial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low restrictions tend to work better than outflow ones: reduce the inflow of short-run capital, which would add to the  stock of liquid, possibly volatile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tflow restrictions may help reduce the impact of a crisis, when it occ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laysia weathered the Asian Crisis through outflow restr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1075D-49EA-4CCC-86CE-C0D0BB795E42}" type="slidenum">
              <a:t>11</a:t>
            </a:fld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Crises: Domestic Poli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ses caused by macroeconomic policies can be cur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tting the def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ising the interes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ting the currency fl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, these are politically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3BBE2-54EF-4A9F-96E5-C2A0EB808B0A}" type="slidenum">
              <a:t>12</a:t>
            </a:fld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Crises: Domestic Policie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ses caused by sudden capital flight are harder to 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lapsing currency can be defended through interest rate hikes, but these may cause bankruptcies and oth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1541D-9687-47D0-9F18-3B3091435016}" type="slidenum">
              <a:t>13</a:t>
            </a:fld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naging Crises in Su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sis management is politically difficult: creates losers in the domestic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scal and monetary policies are limited if the crisis has an international 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ending currency with high interest rates: spreads the recessionary effects of the cr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ending the economy against recessionary effects: intensifies the problems of a collapsing cur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89655-797F-4738-A843-1491E5325758}" type="slidenum">
              <a:t>14</a:t>
            </a:fld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form of the International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ancial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form of the international financial architectur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new international policies for avoiding and managing financial cr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great variety of reform proposals focus on two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le of an international lender of last re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ditiona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he changes in economic policy that borrowing nations are required to make in order to receive loans from the lender of last re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376D5-EE58-40EA-9F68-28B8E18F3797}" type="slidenum">
              <a:t>15</a:t>
            </a:fld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nder of Last Res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nder of last resor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source of loanable funds after all commercial sources of lending become un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entral bank in the nationa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MF, with the support of high-income countries, in the international econo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ountry unable to make a payment on its international loans or lacking international reserves asks the IMF to interv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3127D-9246-460A-B739-04F514D669C9}" type="slidenum">
              <a:t>16</a:t>
            </a:fld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nder of Last Resort (cont.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ponents of international lender of last resort cite moral haza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usting in a bailout, failing firms have an incentive to gamble on high-stakes, high-risk ven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ponents: moral hazard can be decreased by financial sector regulations, such as the Basel Capital Ac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owners of financial firms risk losses in the event of a meltdown, they will not engage in excessiv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066DE-F9DA-4044-9849-D349C2591D5B}" type="slidenum">
              <a:t>17</a:t>
            </a:fld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nder of Last Resort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bate on the IMF’s role as a lender of last resort and moral hazard center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vel of IMF interest rates: should the rates be hig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ngth of the payback period: should the period be shor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ze of  loans: countries often exceed the borrowing limitation of 300% above their quota; should the borrowing limits be curb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D361A-2E5A-4718-88D8-151E02D9127E}" type="slidenum">
              <a:t>18</a:t>
            </a:fld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diti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ditiona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he changes in economic policy that borrowing nations are required to make in order to receive loans from the lender of last re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ypically covers monetary and fiscal policies, exchange rate policies, and structural policies affecting the financial sector, international trade, and public enter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MF makes loans i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nch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—installments of the total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ch tranche hinges on the completion of reform tar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B310A-D2C2-4164-BB7C-C458C7F0E351}" type="slidenum">
              <a:t>19</a:t>
            </a:fld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ore the ways in which financial crises develop and sp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y financial crises may occur in countries with sound macroeconomic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mechanisms to prevent and remedy financial cr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E349D-C95E-4EE9-8B55-CFD0C54FA22B}" type="slidenum">
              <a:t>2</a:t>
            </a:fld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ditionality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tics of conditionality ar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eed to comply with conditionalities may intensify the recessionary effects of a cr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ditionality may entail high social costs on the poorest members of the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72E60-B11E-4458-85A7-CA86EEA0E4A2}" type="slidenum">
              <a:t>20</a:t>
            </a:fld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ditionality (cont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onents argue that crises could be avoided by a pre-qualificat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receive assistance, countries must meet requirements of sound financial sector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ever, critics claim th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requalification will not deter speculative attacks on the country´s curr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MF could not ignore crises cases that failed to prequal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24F7-77E1-4F2C-BA0F-DAD9F9B4D1B9}" type="slidenum">
              <a:t>21</a:t>
            </a:fld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merging Issues in International Financial Architectur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ed for greater transparency to make a country’s financial standing clearer to potential le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el Capital Accord includes issues of transparency and data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ata dissemination standard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he IMF´s standards for data reporting; currently unde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C2AFB-57A3-4AB6-AF18-E3DC948653BE}" type="slidenum">
              <a:t>22</a:t>
            </a:fld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merging Issues in International Financial Architectur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ed to coordinate private sector involvement: private sector creditors’ insistence they be paid first make it more difficult to resolve a cr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to resolve the conflict between lend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ndstill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IMF’s recognition that a crisis country temporarily stop making repayments on its d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llective action claus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lenders would have to agree on collective mediation among themselves and the debtor in the event of a 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874A7-F170-448E-81B6-676534A79EEA}" type="slidenum">
              <a:t>23</a:t>
            </a:fld>
          </a:p>
        </p:txBody>
      </p:sp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orm Urg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ediately following the Asian Crisis financial reform was at the top of everyone’s agen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cade later, not much reform has occurred and it is no longer at the top of the agend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ntion has been diverted to other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, terrorism, energy, climat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78FF1-99BE-46AF-A7EA-C326BCC273C2}" type="slidenum">
              <a:t>24</a:t>
            </a:fld>
          </a:p>
        </p:txBody>
      </p:sp>
    </p:spTree>
  </p:cSld>
  <p:transition spd="med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12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esos Per Dollar: December 12, 1994 to March 22,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480" y="2303640"/>
            <a:ext cx="8024760" cy="303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3D19F-ED82-43F4-B6E9-ABCB25B245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 12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urrent Account Balances and Currency Depre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03160" y="1822320"/>
            <a:ext cx="7274160" cy="41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7CDFD-945A-467B-B68E-40B84F3AFF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12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Real GDP Grow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1789200"/>
            <a:ext cx="6804000" cy="45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4039-0BE5-469C-A529-5730AF260A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conomic integration has enhanced growth and development, but also made it easier for crises to spread across b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agion effects of crises do not conform to a single patterns, and are thus difficult to pred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nancial crises could be prevented through a reform of the international financial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2E144-D0FE-4B6D-BDDA-713F807AA42A}" type="slidenum">
              <a:t>3</a:t>
            </a:fld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ncial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banking crisis, exchange rate crisis, or a combination of the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anking cris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banking system’s becoming unable to perform its normal lend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sintermedi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banks becoming unable to serve as intermediaries between savers and inv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change rate cris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sudden and unexpected collapse in the value of a nation’s cur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7858-4CF3-49CD-AC91-5FC75A522F16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ancial Crisis and Exchange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der a fixed exchange rate system, crisis entails the loss of international reserves and d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der a flexible exchange rate system, crisis means an uncontrolled, rapid depreciation of the cur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untries with a pegged exchange rate may be more vulnerable to a cr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579E7-A65E-4D78-90B5-D32080CB5E75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wo Causes of Financial Cr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ses caused by macroeconomic imbalances, such as large budget deficits caused by overly expansionary fiscal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: Third World debt crisis of the 198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ses caused by volatile capital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: the East Asian financial crisis of 1997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2F94-F236-4A25-B96E-E589C4991C06}" type="slidenum">
              <a:t>6</a:t>
            </a:fld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mestic Issues in Crisis Avoi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blem in financial sector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ral hazar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incentive to act in a manner that creates personal benefits at the expense of the common good: e.g., banks have an incentive to make riskier investments when they know they will be bail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al hazard problems are exacerbated by governments’ providing incentives or threatening banks to make bad loans for political 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East Asian crisis, such loans gave rise to the term crony capit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89548-7D3B-434F-A52B-A8B5B4E8C438}" type="slidenum">
              <a:t>7</a:t>
            </a:fld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aping Moral Haz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roblem of moral hazard is inescapable if policies to protect the financial sector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ay to decrease the problem: establish supervision and regulation standards for internationally active b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el Capital Accor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formulated in 1989 by bank regulators from industrialized countries; adopted by more than 100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w Basel Capital Accord of 2001 updated the previous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E8A35-9807-41FD-BE24-BCB2775C1901}" type="slidenum">
              <a:t>8</a:t>
            </a:fld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w Basel Capital Acc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ommends three best practices to reduce the problem of moral haz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pital requireme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require the owners of banks to invest a certain percentage of their own capital in the 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upervisory revie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oversight mechanism to assist with risk management and to provide standards for daily business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formation disclosu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requires banks to disclose operational information to lenders, investors, depos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FD136-A1F0-46BD-87F4-39AEE9685FB2}" type="slidenum">
              <a:t>9</a:t>
            </a:fld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James Gerber</dc:creator>
  <dc:description/>
  <dc:language>en-US</dc:language>
  <cp:lastModifiedBy>test</cp:lastModifiedBy>
  <dcterms:modified xsi:type="dcterms:W3CDTF">2007-04-10T18:30:26Z</dcterms:modified>
  <cp:revision>247</cp:revision>
  <dc:subject>International Financial Crises </dc:subject>
  <dc:title>Chapter 12</dc:title>
</cp:coreProperties>
</file>