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6BEA-25BF-4B4C-AC6C-9146D28DB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1663-1B71-4262-9A94-DCCCE2A15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5222-F716-4CC9-9B7D-9E1223CB7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1FDE-E838-4C72-BD64-60F18CF82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F34C-3F57-4D4E-80A3-008E20FDA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A928-944E-4148-9C3F-94F88A642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05ED4-6CFF-47AF-B2C5-121D996A2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5AE5-8401-41DB-9F02-BF7298636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ADB1-64BE-40C3-AF7C-9BE990EE9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F23C-80A5-4095-8CFF-073C31266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6579-57F0-48F3-B50A-A85DA98BB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DCDDC-5CA2-46F1-8DD6-F9985737C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</a:t>
            </a:r>
            <a:fld id="{0CEE19E5-3079-4FBD-BED4-200FC18232A0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ernational Financial Cr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voiding Crisis: Exchange Rate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awling peg increases vulnerability to financial crises in two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quires monetary authorities to exercise discipline in the issuance of new money; anti-inflationary tendencies are exacerbated by intentional slow devaluation, and a severe overvaluation of the real exchange rate may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iting crawling peg is difficult: government leaving it may lose the confidence of inves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consensus: hard peg or float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1B66-3E97-4109-A0B9-FDF8C71C6B67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pital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ital controls may be imposed to prevent capital movements in the financial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low restrictions tend to work better than outflow ones: reduce the inflow of short-run capital, which would add to the  stock of liquid, possibly volatil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flow restrictions may help reduce the impact of a crisis, when it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laysia weathered the Asian Crisis through outflow restr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93B9-FBC9-477B-888D-544AC7BDD430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Crises: Domestic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macroeconomic policies can be cur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tting the def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ising the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ting the currency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these are politically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9D19-80AD-4421-9F3A-60EE7F799E5F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Crises: Domestic Policie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sudden capital flight are harder to 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lapsing currency can be defended through interest rate hikes, but these may cause bankruptcies and oth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5BC9-58FB-45A7-A495-83E582738634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naging Crises in S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is management is politically difficult: creates losers in the domestic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cal and monetary policies are limited if the crisis has an international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ending currency with high interest rates: spreads the recessionary effects of the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ending the economy against recessionary effects: intensifies the problems of a collapsing 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2B31-1C46-4C9F-B022-4DDA2639E25C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form of the Internationa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ancial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form of the international financial architectu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w international policies for avoiding and managing financial c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reat variety of reform proposals focus on two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of an international lender of last re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dition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changes in economic policy that borrowing nations are required to make in order to receive loans from the lender of last re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9003-6779-42C7-AC7C-DD7F3B22F828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der of Last Res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nder of last reso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source of loanable funds after all commercial sources of lending become un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entral bank in the nation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MF, with the support of high-income countries, in the international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untry unable to make a payment on its international loans or lacking international reserves asks the IMF to interv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E26A-E1A7-42C5-99AE-373E1339493E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der of Last Resort (cont.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ponents of international lender of last resort cite moral haza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usting in a bailout, failing firms have an incentive to gamble on high-stakes, high-risk ven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onents: moral hazard can be decreased by financial sector regulations, such as the Basel Capital Ac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owners of financial firms risk losses in the event of a meltdown, they will not engage in excessiv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A9D7-7DC8-4FD4-83F5-29BC78D56C90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der of Last Resor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bate on the IMF’s role as a lender of last resort and moral hazard center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l of IMF interest rates: should the rates be hig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gth of the payback period: should the period be shor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 of  loans: countries often exceed the borrowing limitation of 300% above their quota; should the borrowing limits be curb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3582-C81D-4E1F-A5C4-6A6FCE410BA5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ditiona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changes in economic policy that borrowing nations are required to make in order to receive loans from the lender of last r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ically covers monetary and fiscal policies, exchange rate policies, and structural policies affecting the financial sector, international trade, and public 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MF makes loans 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ch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—installments of the total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ch tranche hinges on the completion of reform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F6C7-C251-47DB-B195-669FC6B0B6F5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ore the ways in which financial crises develop and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y financial crises may occur in countries with sound macroeconomic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mechanisms to prevent and remedy financial c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1D99-DC43-46A8-BD7E-69A7C2E856DE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ity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tics of conditionality ar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ed to comply with conditionalities may intensify the recessionary effects of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itionality may entail high social costs on the poorest members of the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4AFD-38EC-414F-A209-250AB3D1B8EF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ity (cont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onents argue that crises could be avoided by a pre-qualific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receive assistance, countries must meet requirements of sound financial sector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critics claim th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requalification will not deter speculative attacks on the country´s curr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MF could not ignore crises cases that failed to prequa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A01A-CD8F-4011-B92E-C477DC5E6E88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merging Issues in International Financial Architectur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ed for greater transparency to make a country’s financial standing clearer to potential l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l Capital Accord includes issues of transparency and data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ata dissemination standard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IMF´s standards for data reporting; currently und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A866-BF07-4685-AF99-6691A58D6160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merging Issues in International Financial Architectur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to coordinate private sector involvement: private sector creditors’ insistence they be paid first make it more difficult to resolve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to resolve the conflict between lend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ndstil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MF’s recognition that a crisis country temporarily stop making repayments on its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llective action clau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lenders would have to agree on collective mediation among themselves and the debtor in the event of a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BA6C-042A-4D72-B196-2B396A9A1932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orm Urg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ediately following the Asian Crisis financial reform was at the top of everyone’s age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ade later, not much reform has occurred and it is no longer at the top of the agen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tion has been diverted to other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, terrorism, energy, 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3C01-5769-4E89-A90F-715B293F5562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12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esos Per Dollar: December 12, 1994 to March 22,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2303640"/>
            <a:ext cx="8024760" cy="303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6F8E-E10D-4CB9-B597-15969DBD15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12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urrent Account Balances and Currency Depre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3160" y="1822320"/>
            <a:ext cx="7274160" cy="41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4FBB-5C14-4506-B632-3CA5FA1DF8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12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Real GDP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789200"/>
            <a:ext cx="680400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DD61-B032-4107-A0D2-D49C6B6C85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conomic integration has enhanced growth and development, but also made it easier for crises to spread across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gion effects of crises do not conform to a single patterns, and are thus difficult to pred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ancial crises could be prevented through a reform of the international financial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10C1-3422-43FD-8065-CF71868EA9A7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banking crisis, exchange rate crisis, or a combination of the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anking cris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banking system’s becoming unable to perform its normal lend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intermed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banks becoming unable to serve as intermediaries between savers and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hange rate cris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sudden and unexpected collapse in the value of a nation’s 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6322-9696-4083-B660-F293E24AED0D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ancial Crisis and Exchange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 a fixed exchange rate system, crisis entails the loss of international reserves and d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 a flexible exchange rate system, crisis means an uncontrolled, rapid depreciation of the 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ries with a pegged exchange rate may be more vulnerable to a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2E55-A399-4910-9FEE-EB6D610B800A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wo Causes of Financial Cr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macroeconomic imbalances, such as large budget deficits caused by overly expansionary fiscal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: Third World debt crisis of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volatile capital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: the East Asian financial crisis of 1997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073E-3BF6-43CF-9F47-FCEA3069096B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mestic Issues in Crisis Avoi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 in financial sector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al haza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centive to act in a manner that creates personal benefits at the expense of the common good: e.g., banks have an incentive to make riskier investments when they know they will be bail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al hazard problems are exacerbated by governments’ providing incentives or threatening banks to make bad loans for political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East Asian crisis, such loans gave rise to the term crony capit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5657-E4AE-4BB9-BD73-9B4E4C4003DA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aping Moral Haz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oblem of moral hazard is inescapable if policies to protect the financial sector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y to decrease the problem: establish supervision and regulation standards for internationally active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l Capital Acco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formulated in 1989 by bank regulators from industrialized countries; adopted by more than 100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w Basel Capital Accord of 2001 updated the previous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610D-034A-44E2-A944-328CF566FCD8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Basel Capital Acc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mmends three best practices to reduce the problem of moral haz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pital require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quire the owners of banks to invest a certain percentage of their own capital in the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pervisory revie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oversight mechanism to assist with risk management and to provide standards for daily business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ormation disclosu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quires banks to disclose operational information to lenders, investors, depo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6C14-654E-41EC-AD45-1F14131B7921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30:26Z</dcterms:modified>
  <cp:revision>247</cp:revision>
  <dc:subject>International Financial Crises </dc:subject>
  <dc:title>Chapter 12</dc:title>
</cp:coreProperties>
</file>