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AA7-3DF2-421B-83B9-807CBDFF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FA0-51F0-4402-BCFE-A0834571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551-BB41-4A1C-B32A-BF03DEA2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4DB-5844-41DE-B3C5-9DD9EBD7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D969-6E8A-47DF-9554-AB786CC0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F56D-D8BF-4275-B3B1-9E7969A6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024A-2ACE-446C-92FD-4E500D73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1449-0AD5-4ACC-B551-9968C863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A8F5-B7D3-4AF6-9383-74B5BD09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D916-450E-49DC-AD10-05D2C0C9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2DE6-4AC6-4CD2-B437-4849723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B7D-9C41-4F7C-B2A2-CD839DDB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60EB-0DCE-425F-BC04-17224944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7CA6-68BF-498C-81C9-0DE83724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302F-4A9E-447E-901E-A4903DCE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C2E6-A8BF-4232-9284-5B7C0543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CC39-3AC3-4E48-894E-B1D559B5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76D-2ADA-4113-A3FB-28D8EA83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578-3952-4DC9-B2D1-E08FC815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337-4924-4A28-822C-75819A5C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67E-BB99-4A28-8EBB-597E1AFE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746-1E29-4380-BBFB-AF00CD67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7B0-3C0B-4BA9-A8F9-0A0B248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33B-22B2-400A-B63D-BB29844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96D3-B129-4704-9FAF-A915DB6EBEB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2CBB-11C2-4682-938B-AAF11D9A98F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rnational Organization of Standar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By: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92929"/>
                </a:solidFill>
                <a:latin typeface="Arial Narrow"/>
              </a:rPr>
              <a:t>Christine Natal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292929"/>
                </a:solidFill>
                <a:latin typeface="Arial Narrow"/>
              </a:rPr>
              <a:t>Riri Putrian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IHA – C0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2268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The largest developer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Network of national standard institut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Non-governmental organiz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y Standards 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 Narrow"/>
              </a:rPr>
              <a:t>Standards  ensure desirable characteristic of products and servi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When standards are absent, we soon notic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tandard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More efficient, safer and clean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Facilitate trade fair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Share innov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Safeguards consum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Solution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 9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he purpose of the ISO standard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n the year 2000 ISO 9000 were revised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mposed of 3 areas;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SO 9000:2000, Quality Management Systems: Fundamentals and Vocabular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SO 9001:2000, Quality Management Systems: Requirement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SO 9000:2004, Quality Management Systems: Guidelines for Performance Improvement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 14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overall objec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vided into 2 main classifications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Narrow"/>
              </a:rPr>
              <a:t>Organization/Process-Oriented Standa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Narrow"/>
              </a:rPr>
              <a:t>Product-Oriented Standa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SO 14001; Environmental Management Syste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 14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SO 1400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ction 4: Environmental Management Systems Require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1 General Require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2 Environmental Polic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3 Plann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4 Implementation and Oper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5 Checking and Corrective Ac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6 Management Review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47640" y="2876400"/>
            <a:ext cx="58327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292929">
                    <a:alpha val="63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</a:rPr>
              <a:t>ISO makes easier</a:t>
            </a:r>
            <a:endParaRPr b="0" lang="en-US" sz="2800" spc="1" strike="noStrike">
              <a:ln w="0">
                <a:noFill/>
              </a:ln>
              <a:solidFill>
                <a:srgbClr val="292929">
                  <a:alpha val="63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E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*Thank you*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0:46:13Z</dcterms:created>
  <dc:creator>christine natalia</dc:creator>
  <dc:description/>
  <dc:language>en-US</dc:language>
  <cp:lastModifiedBy>christine natalia</cp:lastModifiedBy>
  <dcterms:modified xsi:type="dcterms:W3CDTF">2007-09-25T11:09:06Z</dcterms:modified>
  <cp:revision>7</cp:revision>
  <dc:subject/>
  <dc:title>International Organization of Standardization</dc:title>
</cp:coreProperties>
</file>