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4C6-E5C7-4F16-A332-7CFAF207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7F1D-B1D7-45A6-8A24-BCA5BE16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6EB2-959A-499A-A7AA-AAD5CDAA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61E9-219F-49DA-B019-A3CF1371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CC23-5BE5-42A1-A02B-90E800B1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0A96-ED0C-4DBD-BAC2-6888C7CA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F7FF-E4AA-4AFB-BC40-9CA6E7A3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1A97A-17C2-41ED-A711-93019083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563E-A073-40A6-8485-6EA229A7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B3F6-E3C7-486B-B36D-AE37DCB65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FD56-D4CE-45C3-8F6E-D95CFF12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F5C6-9BD7-45FF-9369-28D1A70F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2AB7-977D-466A-B7CE-1BAAD912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A91B2-4406-42B1-9F5B-135EEF1D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1565-8E5B-4504-9555-B8720CBB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CB4B-4529-472D-AC9A-CD477546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9220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8760" y="35812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28564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9220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98760" y="4576680"/>
            <a:ext cx="1815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C948-3E8D-4D9A-B22B-341770FA4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3C79-0A1B-41A3-BDE1-3F06A1A6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326C-B202-427A-BBEF-BA2A3B71A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AC6D-E5DA-419D-AE1F-CC8090FE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1442520"/>
            <a:ext cx="70866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FD7E-60BE-4830-B35B-17410911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A1BA-D689-4153-BE0B-E40CB2820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5000" y="45766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C143-078F-410F-B68D-03E05021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564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5000" y="3581280"/>
            <a:ext cx="27514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285640" y="4576680"/>
            <a:ext cx="5638680" cy="9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E860-38BB-443C-B2C8-4B7F4C6C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9FD6-AAFC-427D-B036-C020857A0C81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08844-D68B-4FB5-8D4B-E6B2B943E36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nternational Organization of Standard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By:</a:t>
            </a: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292929"/>
                </a:solidFill>
                <a:latin typeface="Arial Narrow"/>
              </a:rPr>
              <a:t>Christine Natalia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 Narrow"/>
              </a:rPr>
              <a:t>	</a:t>
            </a:r>
            <a:r>
              <a:rPr b="0" lang="en-GB" sz="2800" spc="-1" strike="noStrike">
                <a:solidFill>
                  <a:srgbClr val="292929"/>
                </a:solidFill>
                <a:latin typeface="Arial Narrow"/>
              </a:rPr>
              <a:t>Riri Putrianti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92929"/>
                </a:solidFill>
                <a:latin typeface="Arial"/>
              </a:rPr>
              <a:t>IHA – C01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9640" y="4653000"/>
            <a:ext cx="22687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IS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The largest developers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Network of national standard institut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Non-governmental organiz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y Standards Ma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 Narrow"/>
              </a:rPr>
              <a:t>Standards  ensure desirable characteristic of products and service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When standards are absent, we soon notice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tandards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More efficient, safer and clean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Facilitate trade fair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Share innovation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Safeguards consumer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 Narrow"/>
              </a:rPr>
              <a:t>Solutions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ISO 900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The purpose of the ISO standard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n the year 2000 ISO 9000 were revised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Composed of 3 areas;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SO 9000:2000, Quality Management Systems: Fundamentals and Vocabular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SO 9001:2000, Quality Management Systems: Requirements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70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Arial"/>
              </a:rPr>
              <a:t>ISO 9000:2004, Quality Management Systems: Guidelines for Performance Improvement 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ISO 14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e overall objectiv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ivided into 2 main classifications;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 Narrow"/>
              </a:rPr>
              <a:t>Organization/Process-Oriented Standard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347840" indent="-457200">
              <a:lnSpc>
                <a:spcPct val="10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Arial Narrow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 Narrow"/>
              </a:rPr>
              <a:t>Product-Oriented Standard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SO 14001; Environmental Management System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is ISO 14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ISO 1400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Section 4: Environmental Management Systems Requireme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1 General Requireme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2 Environmental Policy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3 Planning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4 Implementation and Opera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5 Checking and Corrective Action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4.6 Management Review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00000" y="1989000"/>
            <a:ext cx="766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47640" y="2876400"/>
            <a:ext cx="583272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292929">
                    <a:alpha val="63000"/>
                  </a:srgbClr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Unicode MS"/>
              </a:rPr>
              <a:t>ISO makes easier</a:t>
            </a:r>
            <a:endParaRPr b="0" lang="en-US" sz="2800" spc="1" strike="noStrike">
              <a:ln w="0">
                <a:noFill/>
              </a:ln>
              <a:solidFill>
                <a:srgbClr val="292929">
                  <a:alpha val="63000"/>
                </a:srgbClr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Unicode MS"/>
              <a:ea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The End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92929"/>
                </a:solidFill>
                <a:latin typeface="Arial"/>
              </a:rPr>
              <a:t>*Thank you*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8T10:46:13Z</dcterms:created>
  <dc:creator>christine natalia</dc:creator>
  <dc:description/>
  <dc:language>en-US</dc:language>
  <cp:lastModifiedBy>christine natalia</cp:lastModifiedBy>
  <dcterms:modified xsi:type="dcterms:W3CDTF">2007-09-25T11:09:06Z</dcterms:modified>
  <cp:revision>7</cp:revision>
  <dc:subject/>
  <dc:title>International Organization of Standardization</dc:title>
</cp:coreProperties>
</file>