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B0B0-6C0E-4E6B-B5F7-8CC987D1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731F-BA57-443F-AE17-2F13DECD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AD81-2E27-4013-96EB-B8416F37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827-F432-4BBB-ADEC-1F1310D3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9D9A-73EC-4C6A-972D-8D03D030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8E9A-AC7F-4B1C-A0D5-4AC1CB0C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5E1D-2D4B-4AFC-A7B7-23E16E10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3F0B-A57E-41AE-B4EA-9B18A1D9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CBED-AA7E-4A2F-BDED-0F8DDE60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4C93-A803-43F1-A109-3AA4728D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4AB9-35EE-4B7A-A96E-885C647F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1C17-175B-498F-9B55-8D42EC21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C53A-57A7-47C2-8B59-6E2F8662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D945-BB68-475A-AD9F-021631A7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CAE6-2A3E-4778-A98A-B96F04B9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53C6-3264-48D8-816B-1462683C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5C1B-7D02-4A3D-8282-86251C53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A69-4A66-40DD-BD99-70011B58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FB4B-B934-46E2-8CC0-537D708F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3C9-9B13-4D6F-8ECC-4AC70FA5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3FE6-25AB-4FD0-B33D-841759DF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1196-49A6-410B-AD17-C6D2331F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F31B-E445-48F3-9CE8-F4676DF3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FC3-4C7B-475D-ADA8-67017642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82E6-B8FD-4091-ADA4-36EE79969D8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ACE0-11DB-435B-9A6A-621F59117D2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ternational Organization of Standard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By: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92929"/>
                </a:solidFill>
                <a:latin typeface="Arial Narrow"/>
              </a:rPr>
              <a:t>Christine Natali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292929"/>
                </a:solidFill>
                <a:latin typeface="Arial Narrow"/>
              </a:rPr>
              <a:t>Riri Putriant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IHA – C0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9640" y="4653000"/>
            <a:ext cx="22687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is IS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The largest developers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Network of national standard institut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Non-governmental organiz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y Standards Ma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 Narrow"/>
              </a:rPr>
              <a:t>Standards  ensure desirable characteristic of products and servic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When standards are absent, we soon notice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tandards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More efficient, safer and clean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Facilitate trade fair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Share innov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Safeguards consum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Solutions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is ISO 9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The purpose of the ISO standard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In the year 2000 ISO 9000 were revised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omposed of 3 areas;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-4572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ISO 9000:2000, Quality Management Systems: Fundamentals and Vocabular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-4572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ISO 9001:2000, Quality Management Systems: Requirement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-4572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ISO 9000:2004, Quality Management Systems: Guidelines for Performance Improvement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is ISO 14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overall objectiv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ivided into 2 main classifications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-45720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 Narrow"/>
              </a:rPr>
              <a:t>Organization/Process-Oriented Standard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-45720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 Narrow"/>
              </a:rPr>
              <a:t>Product-Oriented Standard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SO 14001; Environmental Management System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is ISO 14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SO 1400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ction 4: Environmental Management Systems Requireme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1 General Requireme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2 Environmental Polic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3 Plannin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4 Implementation and Oper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5 Checking and Corrective Ac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6 Management Review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47640" y="2876400"/>
            <a:ext cx="58327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292929">
                    <a:alpha val="63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Unicode MS"/>
              </a:rPr>
              <a:t>ISO makes easier</a:t>
            </a:r>
            <a:endParaRPr b="0" lang="en-US" sz="2800" spc="1" strike="noStrike">
              <a:ln w="0">
                <a:noFill/>
              </a:ln>
              <a:solidFill>
                <a:srgbClr val="292929">
                  <a:alpha val="63000"/>
                </a:srgbClr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e E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*Thank you*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0:46:13Z</dcterms:created>
  <dc:creator>christine natalia</dc:creator>
  <dc:description/>
  <dc:language>en-US</dc:language>
  <cp:lastModifiedBy>christine natalia</cp:lastModifiedBy>
  <dcterms:modified xsi:type="dcterms:W3CDTF">2007-09-25T11:09:06Z</dcterms:modified>
  <cp:revision>7</cp:revision>
  <dc:subject/>
  <dc:title>International Organization of Standardization</dc:title>
</cp:coreProperties>
</file>