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08A-396F-48E5-8324-E3D18F93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18D-AB7F-4309-83DA-AC70CD87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812-1873-49D8-8F6F-0A2BAF45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E4A-524E-4DE4-B8D1-B2B61207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DDDF-1464-4E94-9C47-A444A0E8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F22C-9F90-4CD7-8E74-64E0F166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98CB-4688-4592-8F63-226A42E4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55C0-E8A2-4EAA-A327-3670A8B0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5525-6FC2-4F03-B89D-FB2EB662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22D0-FCFF-47C4-B57D-6F829142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CB0C-88D4-4220-96F0-E5DEBF6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1A2-7E23-42A1-8802-31DF03B7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F417-6EEA-4411-9610-5F581D5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8122-3820-4D92-B3A8-4619F035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59F6-937C-42E0-B944-627EFC83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2454-A462-431D-9BF2-5DF2C1FF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4264-751A-4A32-AB55-8A33DD4C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242-12E4-4AFA-A7F7-CD99C218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FCF4-1650-45E4-A6A9-8F9BDCBC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36609-D706-4943-BDFC-E6260A3A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9CB9-6706-41A1-819B-78B785D9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703-A6C0-4367-8C95-6F909F3B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43F6-927C-481F-B6DB-215CAB25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5FE94-4263-4E50-9567-BFD5633D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6E99-9A5D-45A2-9529-F3F0E3E1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5FC2-D8FC-4E91-A5EB-18BE1E71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A467-D26E-48CA-A3DC-DD2AD8DE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F24A-D34D-4D0C-85C2-6E1C2E4B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665A-8148-40BB-AD5E-19F7BE3C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51E31-485B-44DE-96F0-AC573012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64C5-3D32-4E7B-BAE5-60A24491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8B9-7A8D-4E56-A068-5347264F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31E-00B6-4FB3-B829-FFDF5065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DB6-5B61-47BD-BFCB-ACE3BE12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DCA-3F3D-44B6-B9C5-922D8BEE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709-4009-4F0C-8760-3256678C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m62online.net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97760" y="731880"/>
            <a:ext cx="2489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7600" y="1558440"/>
            <a:ext cx="458136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2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3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4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5" marL="298440" indent="-298440">
              <a:spcBef>
                <a:spcPts val="601"/>
              </a:spcBef>
              <a:buClr>
                <a:srgbClr val="004f7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6" marL="298440" indent="-298440">
              <a:spcBef>
                <a:spcPts val="601"/>
              </a:spcBef>
              <a:buClr>
                <a:srgbClr val="004f7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4CBD-CB36-415C-92A2-77583BF05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34600" y="5734080"/>
            <a:ext cx="307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ec051"/>
                </a:solidFill>
                <a:uFillTx/>
                <a:latin typeface="AvantGarde Bk BT"/>
                <a:hlinkClick r:id="rId3"/>
              </a:rPr>
              <a:t>http://www.m62online.net</a:t>
            </a:r>
            <a:r>
              <a:rPr b="0" lang="en-US" sz="1800" spc="-1" strike="noStrike">
                <a:solidFill>
                  <a:srgbClr val="004f76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4f76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-1440" y="0"/>
            <a:ext cx="9144000" cy="847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rcRect l="0" t="0" r="0" b="12168"/>
          <a:stretch/>
        </p:blipFill>
        <p:spPr>
          <a:xfrm>
            <a:off x="1476360" y="1484280"/>
            <a:ext cx="7077240" cy="41814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18900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Using your m62 template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14000" y="6563880"/>
            <a:ext cx="801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3480" y="6535800"/>
            <a:ext cx="6969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58120" y="6555960"/>
            <a:ext cx="32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DED1-0AC8-411A-9E43-9B510270481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101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a2d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5a2d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a2d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2560" y="57240"/>
            <a:ext cx="9038880" cy="428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4000" y="6563880"/>
            <a:ext cx="801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1293480" y="6535800"/>
            <a:ext cx="6969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358120" y="6555960"/>
            <a:ext cx="32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1CD9-AE6F-4AC0-A863-05776CB17CF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291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616120" y="161100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600" spc="-1" strike="noStrike">
                <a:solidFill>
                  <a:srgbClr val="ffffff"/>
                </a:solidFill>
                <a:latin typeface="Rockwell"/>
              </a:rPr>
              <a:t>CBS Dental C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Brian Berend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Yemin Ch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Christine Natal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Pratiwi Indria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Kai Sh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436680"/>
            <a:ext cx="5730840" cy="37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Curlz MT"/>
              </a:rPr>
              <a:t>Choosing us</a:t>
            </a:r>
            <a:endParaRPr b="0" lang="en-US" sz="3600" spc="-1" strike="noStrike">
              <a:solidFill>
                <a:srgbClr val="004f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Curlz MT"/>
              </a:rPr>
              <a:t>Choosing a bright smile.......</a:t>
            </a:r>
            <a:endParaRPr b="0" lang="en-US" sz="3600" spc="-1" strike="noStrike">
              <a:solidFill>
                <a:srgbClr val="004f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f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Curlz MT"/>
              </a:rPr>
              <a:t>Show Us Your Smile</a:t>
            </a:r>
            <a:endParaRPr b="0" lang="en-US" sz="4000" spc="-1" strike="noStrike">
              <a:solidFill>
                <a:srgbClr val="004f7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3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Jokerman"/>
              </a:rPr>
              <a:t>It is Time TO Know U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Name : Christal Bright Smile Dental Care (CBS Dental Car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Location : London  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Mission statement : 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keep dental hygiene for children 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    u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fourteen years old, us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environment friendly materials, and saf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ingredients for children 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Our Product</a:t>
            </a:r>
            <a:r>
              <a:rPr b="0" lang="cy-GB" sz="20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Toothbrush with Toothpaste inside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Designed especially for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928880" y="2398680"/>
            <a:ext cx="4398840" cy="2567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Description of Our Product</a:t>
            </a: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Toothpast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fruit extracted essence and cool gene flavored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toothpaste 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Toothbrush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soft nylon brist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Barrel hand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Toothbrush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Easy to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Easy to refi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416480" y="2614680"/>
            <a:ext cx="4398840" cy="2566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78000" y="825480"/>
            <a:ext cx="657000" cy="603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Jokerman"/>
              </a:rPr>
              <a:t>Are you our Targ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Children up to 14 years 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Children who travel a 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      </a:t>
            </a: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Children whose parents have an averag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26960" y="826920"/>
            <a:ext cx="630360" cy="579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993000" y="4363920"/>
            <a:ext cx="2151000" cy="2494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Your Best Friend---CB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258560"/>
            <a:ext cx="8658360" cy="69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We believe that oral hygiene is important.</a:t>
            </a: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A good oral hygiene is good for your health.</a:t>
            </a: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618240" y="4525920"/>
            <a:ext cx="2306520" cy="2332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Benefit for you 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dental hyg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arry, can fit in a small 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plaque and protects  the g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551720" y="495288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Jokerman"/>
              </a:rPr>
              <a:t>We are coming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Starting in 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the Year of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Price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₤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5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Introduction to the market on the national “ Smile Da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Extra Promotion on “Smile day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381800" y="5448240"/>
            <a:ext cx="1536840" cy="1409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Places to Find Our Product 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Stores and Drugstores  (Great Britain Only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y-GB" sz="2400" spc="-1" strike="noStrike">
                <a:solidFill>
                  <a:srgbClr val="000000"/>
                </a:solidFill>
                <a:latin typeface="Franklin Gothic Demi Cond"/>
              </a:rPr>
              <a:t>As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Franklin Gothic Demi Cond"/>
              </a:rPr>
              <a:t>Te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Franklin Gothic Demi Cond"/>
              </a:rPr>
              <a:t>Walm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Franklin Gothic Demi Cond"/>
              </a:rPr>
              <a:t>Moriss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9440" y="733320"/>
            <a:ext cx="1721160" cy="1376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186080" y="1922400"/>
            <a:ext cx="1825920" cy="1333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789600" y="3032280"/>
            <a:ext cx="1994040" cy="1520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Super market chain Wm Morrison Supermarkets Plc. may close down at least two of its distribution centres, which may lead to some 1,600 job losses. The closure follows a review undertaken by the company in the wake of its acquisition of rival Safeway chain in 2004 for 3 billion pounds."/>
          <p:cNvPicPr/>
          <p:nvPr/>
        </p:nvPicPr>
        <p:blipFill>
          <a:blip r:embed="rId4"/>
          <a:stretch/>
        </p:blipFill>
        <p:spPr>
          <a:xfrm>
            <a:off x="4278240" y="4452840"/>
            <a:ext cx="2143080" cy="1447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0:55:14Z</dcterms:created>
  <dc:creator>pratiwi siahaan</dc:creator>
  <dc:description/>
  <cp:keywords/>
  <dc:language>en-US</dc:language>
  <cp:lastModifiedBy>XPserviceAccount</cp:lastModifiedBy>
  <dcterms:modified xsi:type="dcterms:W3CDTF">2007-01-12T10:36:48Z</dcterms:modified>
  <cp:revision>7</cp:revision>
  <dc:subject/>
  <dc:title>About  The Compan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2318901033</vt:lpwstr>
  </property>
</Properties>
</file>