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7.jpeg" ContentType="image/jpeg"/>
  <Override PartName="/ppt/media/image6.png" ContentType="image/png"/>
  <Override PartName="/ppt/media/image19.jpeg" ContentType="image/jpeg"/>
  <Override PartName="/ppt/media/image1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EC7-F6F5-44FB-AE59-D448D6E9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1A94-3086-4A1C-A998-70156F31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4DD8-AFF6-4130-AD35-BDD4B992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3827-1D4E-4E8E-BB9C-8EBE66A3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4C3E-7624-41E8-80AF-903BC697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5FEE-0019-4BB0-8099-B678EB4B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47EE-C3C1-4B4F-9E4B-B3A63354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5299-B466-4A65-908B-6380EFB2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5AC6-8B93-4347-A34B-307F41FC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E21E-CD52-4A2D-ACC3-70E73D3E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A989-6CBC-4529-80CA-1FE82990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7513-D0D4-4DCD-B1EB-3CEC83F4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5A04-4C76-41BC-83C7-14A640BA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AD9ED-D662-439D-B05E-C4FA616E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A3067-5673-45AC-8E3C-5D072E5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A784-B1BA-4244-B2AC-CBFA1FED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C353-AF7F-462D-B74A-4E94D3FF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F3E5-22FD-40BC-BF7D-4ABE946C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59ED2-D651-498A-ACBF-4F68EE58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1DE1-C343-4B30-A617-ADB34E05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66EE4-A0DA-4176-832C-5AA8FC8C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7520-987C-4216-A861-BB6AC873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AF5A1-6832-4AA8-B459-7EA32A23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64282-CAFD-4187-93AF-37B0595E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71ED-5EBE-4A50-A9ED-316F0CFA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B21D3-A2F7-4B7B-8B16-A575E70D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6C3E1-AC71-402C-93BA-46F8ACE5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688E5-4CBB-4062-8F76-777931F4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2F3DA-3473-4A2B-9A19-3E8724D6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6D955-5B3E-4180-A2F6-AA3589F4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116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78320" y="68688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2400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116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78320" y="3699000"/>
            <a:ext cx="278748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72C0-F247-415E-9D52-8C6087BC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90A-8998-40B5-9ABC-05F4103F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41280" y="43920"/>
            <a:ext cx="8694720" cy="22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609D-39ED-4C3F-9AA1-60B7C6F7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2F0-A2FF-4E26-9F7C-0F82D943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60640" y="369900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E77-557E-43F6-A3E7-A1137F55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0640" y="686880"/>
            <a:ext cx="422496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24000" y="3699000"/>
            <a:ext cx="8658000" cy="275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5A98-D013-4D6A-B72A-7F1AC9ED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m62online.net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97760" y="731880"/>
            <a:ext cx="2489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7600" y="1558440"/>
            <a:ext cx="4581360" cy="27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1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2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3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4" marL="298440" indent="-29844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5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  <a:p>
            <a:pPr lvl="6" marL="298440" indent="-298440">
              <a:spcBef>
                <a:spcPts val="601"/>
              </a:spcBef>
              <a:buClr>
                <a:srgbClr val="004f76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f7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CE4A-6A17-44CB-BF24-C709D947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34600" y="5734080"/>
            <a:ext cx="307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ec051"/>
                </a:solidFill>
                <a:uFillTx/>
                <a:latin typeface="AvantGarde Bk BT"/>
                <a:hlinkClick r:id="rId3"/>
              </a:rPr>
              <a:t>http://www.m62online.net</a:t>
            </a:r>
            <a:r>
              <a:rPr b="0" lang="en-US" sz="1800" spc="-1" strike="noStrike">
                <a:solidFill>
                  <a:srgbClr val="004f76"/>
                </a:solidFill>
                <a:latin typeface="AvantGarde Bk BT"/>
              </a:rPr>
              <a:t> </a:t>
            </a:r>
            <a:endParaRPr b="0" lang="en-US" sz="1800" spc="-1" strike="noStrike">
              <a:solidFill>
                <a:srgbClr val="004f76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-1440" y="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rcRect l="0" t="0" r="0" b="12168"/>
          <a:stretch/>
        </p:blipFill>
        <p:spPr>
          <a:xfrm>
            <a:off x="1476360" y="1484280"/>
            <a:ext cx="7077240" cy="41814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18900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 Bk BT"/>
              </a:rPr>
              <a:t>Using your m62 template</a:t>
            </a:r>
            <a:endParaRPr b="0" lang="en-US" sz="2400" spc="-1" strike="noStrike">
              <a:solidFill>
                <a:srgbClr val="004f7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E7561-9C04-4DA0-B8EE-F1797B7BCE18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44520" y="1015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a2d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5a2d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a2d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a2d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5a2d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25a2d8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2560" y="57240"/>
            <a:ext cx="9038880" cy="428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14000" y="6563880"/>
            <a:ext cx="801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1293480" y="6535800"/>
            <a:ext cx="6969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358120" y="6555960"/>
            <a:ext cx="324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B79A-8BDD-466B-AD5E-D10964AC285A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291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2616120" y="161100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1600" spc="-1" strike="noStrike">
                <a:solidFill>
                  <a:srgbClr val="ffffff"/>
                </a:solidFill>
                <a:latin typeface="Rockwell"/>
              </a:rPr>
              <a:t>CBS Dental Car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Brian Berend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Yemin Che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Christine Natali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Pratiwi Indrian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1600" spc="-1" strike="noStrike">
                <a:solidFill>
                  <a:srgbClr val="ffffff"/>
                </a:solidFill>
                <a:latin typeface="Rockwell"/>
              </a:rPr>
              <a:t>Kai Sh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436680"/>
            <a:ext cx="5730840" cy="37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Curlz MT"/>
              </a:rPr>
              <a:t>Choosing us</a:t>
            </a: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3600" spc="-1" strike="noStrike">
                <a:solidFill>
                  <a:srgbClr val="000000"/>
                </a:solidFill>
                <a:latin typeface="Curlz MT"/>
              </a:rPr>
              <a:t>Choosing a bright smile.......</a:t>
            </a: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f7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4000" spc="-1" strike="noStrike">
                <a:solidFill>
                  <a:srgbClr val="000000"/>
                </a:solidFill>
                <a:latin typeface="Curlz MT"/>
              </a:rPr>
              <a:t>Show Us Your Smile</a:t>
            </a:r>
            <a:endParaRPr b="0" lang="en-US" sz="4000" spc="-1" strike="noStrike">
              <a:solidFill>
                <a:srgbClr val="004f7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3922560"/>
            <a:ext cx="9144000" cy="29354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000000"/>
                </a:solidFill>
                <a:latin typeface="Jokerman"/>
              </a:rPr>
              <a:t>It is Time TO Know Us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Name : Christal Bright Smile Dental Care (CBS Dental Care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Location : London  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Mission statement :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keep dental hygiene for children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    up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ourteen years old, us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environment friendly materials, and saf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ingredients for children 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Our Product</a:t>
            </a:r>
            <a:r>
              <a:rPr b="0" lang="cy-GB" sz="2000" spc="-1" strike="noStrike">
                <a:solidFill>
                  <a:srgbClr val="000000"/>
                </a:solidFill>
                <a:latin typeface="Jokerman"/>
              </a:rPr>
              <a:t> 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brush with Toothpaste inside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Designed especially for Child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928880" y="2398680"/>
            <a:ext cx="4398840" cy="256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Description of Our Product</a:t>
            </a: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paste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fruit extracted essence and cool gene flavored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oothpaste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oothbrush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soft nylon brist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Barrel hand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Toothbrush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asy to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Easy to refill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16480" y="2614680"/>
            <a:ext cx="4398840" cy="25668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78000" y="825480"/>
            <a:ext cx="657000" cy="60336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000000"/>
                </a:solidFill>
                <a:latin typeface="Jokerman"/>
              </a:rPr>
              <a:t>Are you our Target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up to 14 years o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who travel a 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      </a:t>
            </a:r>
            <a:r>
              <a:rPr b="1" lang="cy-GB" sz="2400" spc="-1" strike="noStrike">
                <a:solidFill>
                  <a:srgbClr val="000000"/>
                </a:solidFill>
                <a:latin typeface="Rockwell"/>
              </a:rPr>
              <a:t>Children whose parents have an averag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26960" y="826920"/>
            <a:ext cx="630360" cy="579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993000" y="4363920"/>
            <a:ext cx="2151000" cy="24940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Your Best Friend---CB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-360" y="1258560"/>
            <a:ext cx="8658360" cy="69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We believe that oral hygiene is important.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ckwell"/>
              </a:rPr>
              <a:t>A good oral hygiene is good for your health.</a:t>
            </a:r>
            <a:endParaRPr b="0" lang="en-US" sz="2400" spc="-1" strike="noStrike">
              <a:solidFill>
                <a:srgbClr val="25a2d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18240" y="4525920"/>
            <a:ext cx="2306520" cy="23320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Benefit for you 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the dental hygie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arry, can fit in a small b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plaque and protects  the g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551720" y="495288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y-GB" sz="2800" spc="-1" strike="noStrike">
                <a:solidFill>
                  <a:srgbClr val="000000"/>
                </a:solidFill>
                <a:latin typeface="Jokerman"/>
              </a:rPr>
              <a:t>We are coming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Starting in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the Year of 200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Price 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₤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5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Introduction to the market on the national “ Smile Da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Rockwell"/>
              </a:rPr>
              <a:t>Extra Promotion on “Smile day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381800" y="5448240"/>
            <a:ext cx="1536840" cy="14097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1280" y="43920"/>
            <a:ext cx="8694720" cy="4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600" spc="-1" strike="noStrike">
                <a:solidFill>
                  <a:srgbClr val="000000"/>
                </a:solidFill>
                <a:latin typeface="Jokerman"/>
              </a:rPr>
              <a:t>Places to Find Our Product 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686880"/>
            <a:ext cx="8658000" cy="57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y-GB" sz="2400" spc="-1" strike="noStrike">
                <a:solidFill>
                  <a:srgbClr val="000000"/>
                </a:solidFill>
                <a:latin typeface="Arial"/>
              </a:rPr>
              <a:t>Stores and Drugstores  (Great Britain Only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As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Tes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Walm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Franklin Gothic Demi C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400" spc="-1" strike="noStrike">
                <a:solidFill>
                  <a:srgbClr val="000000"/>
                </a:solidFill>
                <a:latin typeface="Franklin Gothic Demi Cond"/>
              </a:rPr>
              <a:t>Morisson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59440" y="733320"/>
            <a:ext cx="1721160" cy="1376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186080" y="1922400"/>
            <a:ext cx="1825920" cy="1333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6789600" y="3032280"/>
            <a:ext cx="1994040" cy="152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Super market chain Wm Morrison Supermarkets Plc. may close down at least two of its distribution centres, which may lead to some 1,600 job losses. The closure follows a review undertaken by the company in the wake of its acquisition of rival Safeway chain in 2004 for 3 billion pounds."/>
          <p:cNvPicPr/>
          <p:nvPr/>
        </p:nvPicPr>
        <p:blipFill>
          <a:blip r:embed="rId4"/>
          <a:stretch/>
        </p:blipFill>
        <p:spPr>
          <a:xfrm>
            <a:off x="4278240" y="4452840"/>
            <a:ext cx="2143080" cy="14479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1852560" y="6068880"/>
            <a:ext cx="416088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latin typeface="Edwardian Script ITC"/>
              </a:rPr>
              <a:t>CBS Dental Care</a:t>
            </a:r>
            <a:endParaRPr b="0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latin typeface="Edwardian Script ITC"/>
              <a:ea typeface="Edwardian Script ITC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8T20:55:14Z</dcterms:created>
  <dc:creator>pratiwi siahaan</dc:creator>
  <dc:description/>
  <cp:keywords/>
  <dc:language>en-US</dc:language>
  <cp:lastModifiedBy>XPserviceAccount</cp:lastModifiedBy>
  <dcterms:modified xsi:type="dcterms:W3CDTF">2007-01-12T10:36:48Z</dcterms:modified>
  <cp:revision>7</cp:revision>
  <dc:subject/>
  <dc:title>About  The Compan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2318901033</vt:lpwstr>
  </property>
</Properties>
</file>