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074-E2D7-4D0F-AB44-5C71C03A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DA8-A075-4B14-985C-262479D0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662-CC64-445D-85B0-09B1CFB6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2C6-C453-48B9-8E9F-3FE8A927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3FC6-2E6A-4A4B-A8D7-5B272861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77A9-445A-46D6-A30D-E0A33A2D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25BF-A31A-46B6-A4E7-4E91989D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8A44-E052-4107-A608-2A3961EE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CB01-6896-4239-92A3-5DD28D28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F1FD-53F9-4171-9991-7A5B7EB2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774D-8A50-481D-9137-FED61DC2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8A3-AA16-488F-9D6B-E854C7CC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BFEF-4384-4740-B253-C2BA8B9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AE45-AEBC-498A-9518-45A38F45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2F0B-D744-4931-9633-41F191CF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57D1-3E42-4EC6-9019-62F3A7DA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E58D-03D1-4BFF-AFC7-2E73851F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8D7-DDC1-4D48-9056-B9DDD744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182B-A484-4549-99D1-65357536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E39B8-E2ED-4A7E-A82B-25BA3793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F467-2D21-49FA-988C-662A9D85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F38-FB44-4C5F-9870-845D7A38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7115E-3DCF-49CD-A409-776AF74A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E780-4559-460D-B185-6071A96A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7D1C4-02D6-4FD2-A869-8695FF1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D220-9315-48C4-BDCC-FE51883F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03640-EC08-4C76-9983-F275191F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175D-86EF-42A4-8D83-D141FEEC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FFFA-BCBE-4BCD-8F32-7816A232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8B776-22ED-42E7-A125-EF0FA24A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B92E-EA2A-48AC-9B02-7965CB8C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E34-8547-4180-ACB1-EB21B347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DB3-0E44-4DCD-8EB5-60DCE41A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65C-1125-460D-B221-A2F1B9D3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3C3-8098-41E6-B796-4463855C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811-55DF-40CE-9965-0B966D80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m62online.net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97760" y="731880"/>
            <a:ext cx="2489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7600" y="1558440"/>
            <a:ext cx="458136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2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3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4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5" marL="298440" indent="-298440">
              <a:spcBef>
                <a:spcPts val="601"/>
              </a:spcBef>
              <a:buClr>
                <a:srgbClr val="004f7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6" marL="298440" indent="-298440">
              <a:spcBef>
                <a:spcPts val="601"/>
              </a:spcBef>
              <a:buClr>
                <a:srgbClr val="004f7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1A60-4F5A-4792-9344-79C700CBE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34600" y="5734080"/>
            <a:ext cx="307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ec051"/>
                </a:solidFill>
                <a:uFillTx/>
                <a:latin typeface="AvantGarde Bk BT"/>
                <a:hlinkClick r:id="rId3"/>
              </a:rPr>
              <a:t>http://www.m62online.net</a:t>
            </a:r>
            <a:r>
              <a:rPr b="0" lang="en-US" sz="1800" spc="-1" strike="noStrike">
                <a:solidFill>
                  <a:srgbClr val="004f76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4f76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-1440" y="0"/>
            <a:ext cx="9144000" cy="847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rcRect l="0" t="0" r="0" b="12168"/>
          <a:stretch/>
        </p:blipFill>
        <p:spPr>
          <a:xfrm>
            <a:off x="1476360" y="1484280"/>
            <a:ext cx="7077240" cy="4181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18900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Using your m62 template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14000" y="6563880"/>
            <a:ext cx="801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3480" y="6535800"/>
            <a:ext cx="6969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58120" y="6555960"/>
            <a:ext cx="32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8F2C-B956-4576-BB21-6C73093164B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a2d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5a2d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a2d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560" y="57240"/>
            <a:ext cx="9038880" cy="428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4000" y="6563880"/>
            <a:ext cx="801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1293480" y="6535800"/>
            <a:ext cx="6969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358120" y="6555960"/>
            <a:ext cx="32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2BD8-EA00-4928-B7E9-52D938D7244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291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616120" y="161100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600" spc="-1" strike="noStrike">
                <a:solidFill>
                  <a:srgbClr val="ffffff"/>
                </a:solidFill>
                <a:latin typeface="Rockwell"/>
              </a:rPr>
              <a:t>CBS Dental C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Brian Berend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Yemin Ch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Christine Natal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Pratiwi Indria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Kai Sh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436680"/>
            <a:ext cx="573084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Curlz MT"/>
              </a:rPr>
              <a:t>Choosing us</a:t>
            </a:r>
            <a:endParaRPr b="0" lang="en-US" sz="3600" spc="-1" strike="noStrike">
              <a:solidFill>
                <a:srgbClr val="004f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Curlz MT"/>
              </a:rPr>
              <a:t>Choosing a bright smile.......</a:t>
            </a:r>
            <a:endParaRPr b="0" lang="en-US" sz="3600" spc="-1" strike="noStrike">
              <a:solidFill>
                <a:srgbClr val="004f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f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Curlz MT"/>
              </a:rPr>
              <a:t>Show Us Your Smile</a:t>
            </a:r>
            <a:endParaRPr b="0" lang="en-US" sz="4000" spc="-1" strike="noStrike">
              <a:solidFill>
                <a:srgbClr val="004f7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3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Jokerman"/>
              </a:rPr>
              <a:t>It is Time TO Know U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Name : Christal Bright Smile Dental Care (CBS Dental Car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Location : London  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Mission statement : 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keep dental hygiene for children 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    u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fourteen years old, us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environment friendly materials, and saf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ingredients for children 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Our Product</a:t>
            </a:r>
            <a:r>
              <a:rPr b="0" lang="cy-GB" sz="20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oothbrush with Toothpaste inside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Designed especially for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928880" y="2398680"/>
            <a:ext cx="4398840" cy="2567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Description of Our Product</a:t>
            </a: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oothpast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fruit extracted essence and cool gene flavored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toothpaste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oothbrush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oft nylon brist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Barrel hand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Toothbrush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Easy to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Easy to refi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16480" y="2614680"/>
            <a:ext cx="4398840" cy="2566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78000" y="825480"/>
            <a:ext cx="657000" cy="603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Jokerman"/>
              </a:rPr>
              <a:t>Are you our Targ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Children up to 14 years 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Children who travel a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Children whose parents have an averag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26960" y="826920"/>
            <a:ext cx="630360" cy="579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993000" y="4363920"/>
            <a:ext cx="2151000" cy="2494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Your Best Friend---CB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258560"/>
            <a:ext cx="8658360" cy="69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We believe that oral hygiene is important.</a:t>
            </a: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A good oral hygiene is good for your health.</a:t>
            </a: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618240" y="4525920"/>
            <a:ext cx="2306520" cy="233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Benefit for you 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dental hyg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arry, can fit in a small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plaque and protects  the g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551720" y="495288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Jokerman"/>
              </a:rPr>
              <a:t>We are coming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Starting in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he Year of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Price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₤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5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Introduction to the market on the national “ Smile D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Extra Promotion on “Smile day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381800" y="5448240"/>
            <a:ext cx="1536840" cy="1409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Places to Find Our Product 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Stores and Drugstores  (Great Britain Only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As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Te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Walm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Moriss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9440" y="733320"/>
            <a:ext cx="1721160" cy="1376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186080" y="1922400"/>
            <a:ext cx="1825920" cy="1333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789600" y="3032280"/>
            <a:ext cx="1994040" cy="152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Super market chain Wm Morrison Supermarkets Plc. may close down at least two of its distribution centres, which may lead to some 1,600 job losses. The closure follows a review undertaken by the company in the wake of its acquisition of rival Safeway chain in 2004 for 3 billion pounds."/>
          <p:cNvPicPr/>
          <p:nvPr/>
        </p:nvPicPr>
        <p:blipFill>
          <a:blip r:embed="rId4"/>
          <a:stretch/>
        </p:blipFill>
        <p:spPr>
          <a:xfrm>
            <a:off x="4278240" y="4452840"/>
            <a:ext cx="2143080" cy="1447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0:55:14Z</dcterms:created>
  <dc:creator>pratiwi siahaan</dc:creator>
  <dc:description/>
  <cp:keywords/>
  <dc:language>en-US</dc:language>
  <cp:lastModifiedBy>XPserviceAccount</cp:lastModifiedBy>
  <dcterms:modified xsi:type="dcterms:W3CDTF">2007-01-12T10:36:48Z</dcterms:modified>
  <cp:revision>7</cp:revision>
  <dc:subject/>
  <dc:title>About  The Compan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2318901033</vt:lpwstr>
  </property>
</Properties>
</file>