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whoosh.wav" ContentType="audio/x-wav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1.png" ContentType="image/png"/>
  <Override PartName="/ppt/media/image12.png" ContentType="image/png"/>
  <Override PartName="/ppt/media/image29.png" ContentType="image/png"/>
  <Override PartName="/ppt/media/explode.wav" ContentType="audio/x-wav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B6C-56A7-45F3-8A83-216FEF59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4EE-9DA6-49EF-9C91-8E9895ED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D11-270F-49F3-A09F-F0324185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C9A-1A81-4097-AF9C-7BB4111C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1B0E-4D06-427B-8185-A03DFB0E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5556-EAFF-40A8-840B-B60135C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10C6-46B6-4771-A37C-02E40F0B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4A17-5BD5-4186-AF7D-6F02BF2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629-7F4F-47BF-B7A9-A43625EE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F00-5ECB-4A62-8C7D-7823BA2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81C-4367-4480-9C13-8E3F856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118-2571-4D4F-8A41-34FB7D6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87E4-AE15-4E66-8879-31856BD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C25-7869-4723-9138-67B6986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BCE9-8D55-445D-B595-7D6146B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1D0D-02BC-4E4B-B7AA-6874736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5083-FF21-47D0-9AFC-8B635FCC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7F7-3982-46DB-835F-4920AE1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A9D-DF3D-426D-9ED7-116E82C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CAA-605C-45BB-8F1C-B134666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1DB-985E-4D22-9284-7F935DE9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B8D-9667-4C44-B54B-FE023BD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86F-0698-4677-B880-4916257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030-957D-43B7-A222-A020D27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1997-F96C-4617-9866-C9EDB3C57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67D-8EDE-4833-A3DB-C06E528BAA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mgres%3Fimgurl=http://www.bikelib.org/images/lawlog96.gif&amp;imgrefurl=http://www.bikelib.org/trails/law1896ride.htm&amp;h=660&amp;w=633&amp;sz=11&amp;tbnid=JbtBHeTf18UJ:&amp;tbnh=135&amp;tbnw=130&amp;start=15&amp;prev=/images%3Fq%3Dbicycle%252Blogo%26hl%3Dnl%26lr%3D%26i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elearn.han.n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blackboard.fem.han.nl/bin/common/logout.pl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han.nl/restyle/sheo/fac_frameset.xml" TargetMode="External"/><Relationship Id="rId9" Type="http://schemas.openxmlformats.org/officeDocument/2006/relationships/hyperlink" Target="http://www.blackboard.fem.han.nl/" TargetMode="External"/><Relationship Id="rId10" Type="http://schemas.openxmlformats.org/officeDocument/2006/relationships/hyperlink" Target="http://www.elearn.han.nl/" TargetMode="External"/><Relationship Id="rId11" Type="http://schemas.openxmlformats.org/officeDocument/2006/relationships/hyperlink" Target="http://www.blackboard.fem.han.nl/bin/common/logout.pl" TargetMode="External"/><Relationship Id="rId12" Type="http://schemas.openxmlformats.org/officeDocument/2006/relationships/hyperlink" Target="http://www.blackboard.fem.han.nl/bin/frame.pl?item=my_inst&amp;m=sXzikDqmyrQGKPxr" TargetMode="External"/><Relationship Id="rId13" Type="http://schemas.openxmlformats.org/officeDocument/2006/relationships/hyperlink" Target="http://www.blackboard.fem.han.nl/bin/frame.pl?item=courses&amp;m=MLtWKwnUTdgwmmUc" TargetMode="External"/><Relationship Id="rId14" Type="http://schemas.openxmlformats.org/officeDocument/2006/relationships/hyperlink" Target="http://www.blackboard.fem.han.nl/bin/frame.pl?item=academic&amp;m=ygRWgkZiNFDHXJhs" TargetMode="External"/><Relationship Id="rId15" Type="http://schemas.openxmlformats.org/officeDocument/2006/relationships/hyperlink" Target="http://www.han.nl/restyle/sheo/fac_frameset.xml" TargetMode="External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hyperlink" Target="http://www.blackboard.fem.han.nl/bin/frame.pl?item=my_inst&amp;m=sXzikDqmyrQGKPxr" TargetMode="External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hyperlink" Target="http://www.blackboard.fem.han.nl/bin/frame.pl?item=courses&amp;m=MLtWKwnUTdgwmmUc" TargetMode="External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hyperlink" Target="http://www.blackboard.fem.han.nl/bin/frame.pl?item=academic&amp;m=ygRWgkZiNFDHXJhs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16.png"/><Relationship Id="rId32" Type="http://schemas.openxmlformats.org/officeDocument/2006/relationships/image" Target="../media/image24.png"/><Relationship Id="rId33" Type="http://schemas.openxmlformats.org/officeDocument/2006/relationships/hyperlink" Target="http://www.elearn.han.nl/" TargetMode="External"/><Relationship Id="rId34" Type="http://schemas.openxmlformats.org/officeDocument/2006/relationships/image" Target="../media/image13.png"/><Relationship Id="rId35" Type="http://schemas.openxmlformats.org/officeDocument/2006/relationships/hyperlink" Target="http://www.blackboard.fem.han.nl/bin/common/logout.pl" TargetMode="External"/><Relationship Id="rId36" Type="http://schemas.openxmlformats.org/officeDocument/2006/relationships/image" Target="../media/image14.png"/><Relationship Id="rId37" Type="http://schemas.openxmlformats.org/officeDocument/2006/relationships/hyperlink" Target="http://www.blackboard.fem.han.nl/" TargetMode="External"/><Relationship Id="rId38" Type="http://schemas.openxmlformats.org/officeDocument/2006/relationships/image" Target="../media/image12.png"/><Relationship Id="rId3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bin/common/category.pl?category_id=_4_1&amp;type=COURSE" TargetMode="External"/><Relationship Id="rId3" Type="http://schemas.openxmlformats.org/officeDocument/2006/relationships/hyperlink" Target="http://www.blackboard.fem.han.nl/bin/common/category.pl?category_id=_4_1&amp;type=COURSE" TargetMode="External"/><Relationship Id="rId4" Type="http://schemas.openxmlformats.org/officeDocument/2006/relationships/hyperlink" Target="http://www.blackboard.fem.han.nl/bin/common/category.pl?category_id=_4_1&amp;type=COURSE" TargetMode="External"/><Relationship Id="rId5" Type="http://schemas.openxmlformats.org/officeDocument/2006/relationships/hyperlink" Target="http://www.blackboard.fem.han.nl/bin/common/category.pl?category_id=_2_1&amp;type=COURSE" TargetMode="External"/><Relationship Id="rId6" Type="http://schemas.openxmlformats.org/officeDocument/2006/relationships/hyperlink" Target="http://www.blackboard.fem.han.nl/bin/common/category.pl?category_id=_2_1&amp;type=COURSE" TargetMode="External"/><Relationship Id="rId7" Type="http://schemas.openxmlformats.org/officeDocument/2006/relationships/hyperlink" Target="http://www.blackboard.fem.han.nl/bin/common/category.pl?category_id=_2_1&amp;type=COURSE" TargetMode="External"/><Relationship Id="rId8" Type="http://schemas.openxmlformats.org/officeDocument/2006/relationships/hyperlink" Target="http://www.blackboard.fem.han.nl/bin/common/category.pl?category_id=_2_1&amp;type=COURSE" TargetMode="External"/><Relationship Id="rId9" Type="http://schemas.openxmlformats.org/officeDocument/2006/relationships/hyperlink" Target="http://www.blackboard.fem.han.nl/bin/common/category.pl?category_id=_2_1&amp;type=COURSE" TargetMode="External"/><Relationship Id="rId10" Type="http://schemas.openxmlformats.org/officeDocument/2006/relationships/hyperlink" Target="http://www.blackboard.fem.han.nl/bin/common/category.pl?category_id=_3_1&amp;type=COURSE" TargetMode="External"/><Relationship Id="rId11" Type="http://schemas.openxmlformats.org/officeDocument/2006/relationships/hyperlink" Target="http://www.blackboard.fem.han.nl/bin/common/category.pl?category_id=_3_1&amp;type=COURSE" TargetMode="External"/><Relationship Id="rId12" Type="http://schemas.openxmlformats.org/officeDocument/2006/relationships/hyperlink" Target="http://www.blackboard.fem.han.nl/bin/common/category.pl?category_id=_5_1&amp;type=COURSE" TargetMode="External"/><Relationship Id="rId13" Type="http://schemas.openxmlformats.org/officeDocument/2006/relationships/hyperlink" Target="http://www.blackboard.fem.han.nl/bin/common/category.pl?category_id=_5_1&amp;type=COURSE" TargetMode="External"/><Relationship Id="rId14" Type="http://schemas.openxmlformats.org/officeDocument/2006/relationships/hyperlink" Target="http://www.blackboard.fem.han.nl/bin/common/category.pl?type=COURSE" TargetMode="External"/><Relationship Id="rId15" Type="http://schemas.openxmlformats.org/officeDocument/2006/relationships/hyperlink" Target="http://www.blackboard.fem.han.nl/bin/common/category.pl?type=COURSE" TargetMode="External"/><Relationship Id="rId16" Type="http://schemas.openxmlformats.org/officeDocument/2006/relationships/image" Target="../media/image25.png"/><Relationship Id="rId17" Type="http://schemas.openxmlformats.org/officeDocument/2006/relationships/image" Target="../media/image16.png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blackboard.fem.han.nl/bin/common/course.pl?frame=top&amp;course_id=_558_1" TargetMode="External"/><Relationship Id="rId5" Type="http://schemas.openxmlformats.org/officeDocument/2006/relationships/hyperlink" Target="http://www.blackboard.fem.han.nl/bin/common/course.pl?frame=top&amp;course_id=_114_1" TargetMode="External"/><Relationship Id="rId6" Type="http://schemas.openxmlformats.org/officeDocument/2006/relationships/hyperlink" Target="http://www.blackboard.fem.han.nl/bin/common/course.pl?frame=top&amp;course_id=_114_1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ijwiel.net/gallery/img/galvv001.jpg&amp;imgrefurl=http://www.rijwiel.net/gallery/foto_6dn.htm&amp;h=438&amp;w=640&amp;sz=56&amp;tbnid=pFBMDu7ouwsJ:&amp;tbnh=92&amp;tbnw=134&amp;start=24&amp;prev=/images%3Fq%3DBicycle%2Brepair%2Bshop%26start%3D20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219320"/>
            <a:ext cx="2820960" cy="2928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19520" y="4419720"/>
            <a:ext cx="351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aettenschweiler"/>
              </a:rPr>
              <a:t>SB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Iss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ompany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affing and w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arketing strategy and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blems in log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nancial con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Project R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Marketing 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Human Resource/ Quality Management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HRQ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ccounting / Finance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F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28600"/>
            <a:ext cx="746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cedure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You indicate your order of preference for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362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form project groups and assign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try to follow your preferences, but if we can’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800600"/>
            <a:ext cx="8153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rst week 2</a:t>
            </a:r>
            <a:r>
              <a:rPr b="1" lang="nl-NL" sz="3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semester we will tell who plays what role in what group with whic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30492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ppen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36232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ekly meeting wit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7772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One instruction sessions per period per discipline (mandatory for role-playe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2860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will you be do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sign an overall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286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lan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971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e an improvement plan for your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0384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bine the individual reports to one workable, coherent, consistent, and financial possible operation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638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sent the plan to the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ction classes by exper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dnesday 7-2-200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in D1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.45 Project Management  Mr. St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9.30 Marketing   Mr. Stee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0.30 Finance   Mr.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1.15 HRM   Mr.Vin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00 Communication   Mr. van der G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45 Logistics   Mr. Pi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1295280"/>
            <a:ext cx="67057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 information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lackboard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Hom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Hel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ogou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650960" y="1089000"/>
          <a:ext cx="5732640" cy="4313160"/>
        </p:xfrm>
        <a:graphic>
          <a:graphicData uri="http://schemas.openxmlformats.org/drawingml/2006/table">
            <a:tbl>
              <a:tblPr/>
              <a:tblGrid>
                <a:gridCol w="4300200"/>
                <a:gridCol w="284760"/>
                <a:gridCol w="284760"/>
                <a:gridCol w="284760"/>
                <a:gridCol w="363600"/>
                <a:gridCol w="216000"/>
              </a:tblGrid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652400" y="5401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60680" y="2262240"/>
          <a:ext cx="3001680" cy="1401840"/>
        </p:xfrm>
        <a:graphic>
          <a:graphicData uri="http://schemas.openxmlformats.org/drawingml/2006/table">
            <a:tbl>
              <a:tblPr/>
              <a:tblGrid>
                <a:gridCol w="401400"/>
                <a:gridCol w="216000"/>
                <a:gridCol w="520200"/>
                <a:gridCol w="216000"/>
                <a:gridCol w="340560"/>
                <a:gridCol w="216000"/>
                <a:gridCol w="660240"/>
                <a:gridCol w="216000"/>
                <a:gridCol w="216000"/>
              </a:tblGrid>
              <a:tr h="14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HAN - Faculteit Economie en Management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9600" y="762120"/>
            <a:ext cx="4703760" cy="93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127920" y="223848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6800760" y="223848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1806480" y="1865160"/>
            <a:ext cx="47880" cy="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>
            <a:off x="1816200" y="2825640"/>
            <a:ext cx="142920" cy="9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>
            <a:off x="0" y="2857680"/>
            <a:ext cx="412920" cy="66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My Institution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72880" y="2897280"/>
            <a:ext cx="190512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4"/>
          <a:stretch/>
        </p:blipFill>
        <p:spPr>
          <a:xfrm>
            <a:off x="2170080" y="2854440"/>
            <a:ext cx="588960" cy="70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Courses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701800" y="2879640"/>
            <a:ext cx="118116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3863880" y="2897280"/>
            <a:ext cx="511200" cy="67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cademic Web Resources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4314960" y="2925720"/>
            <a:ext cx="1922400" cy="61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0"/>
          <a:stretch/>
        </p:blipFill>
        <p:spPr>
          <a:xfrm>
            <a:off x="6126120" y="2878200"/>
            <a:ext cx="398520" cy="638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1"/>
          <a:stretch/>
        </p:blipFill>
        <p:spPr>
          <a:xfrm>
            <a:off x="4632480" y="2825640"/>
            <a:ext cx="47520" cy="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2"/>
          <a:stretch/>
        </p:blipFill>
        <p:spPr>
          <a:xfrm>
            <a:off x="1806480" y="434988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35120" y="3641760"/>
            <a:ext cx="556092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4720" y="3824280"/>
            <a:ext cx="1160640" cy="2130480"/>
          </a:xfrm>
          <a:prstGeom prst="upArrow">
            <a:avLst>
              <a:gd name="adj1" fmla="val 50000"/>
              <a:gd name="adj2" fmla="val 45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Help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7126200" y="73656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Logout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6256440" y="903240"/>
            <a:ext cx="784080" cy="78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Home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160960" y="692280"/>
            <a:ext cx="103968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16040" y="79092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atalo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00440" y="2938320"/>
          <a:ext cx="3387600" cy="1346400"/>
        </p:xfrm>
        <a:graphic>
          <a:graphicData uri="http://schemas.openxmlformats.org/drawingml/2006/table">
            <a:tbl>
              <a:tblPr/>
              <a:tblGrid>
                <a:gridCol w="216000"/>
                <a:gridCol w="317160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74640" y="1857240"/>
          <a:ext cx="6508800" cy="3726000"/>
        </p:xfrm>
        <a:graphic>
          <a:graphicData uri="http://schemas.openxmlformats.org/drawingml/2006/table">
            <a:tbl>
              <a:tblPr/>
              <a:tblGrid>
                <a:gridCol w="263520"/>
                <a:gridCol w="624528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Gemeenschappelijk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pedeu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Bedrijfskund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en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Rechte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Finance and Managemen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International Business and Communicatio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Browse Cours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Catalo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874800" y="81108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2927520" y="2649600"/>
            <a:ext cx="9360" cy="2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1797120" y="4861080"/>
            <a:ext cx="218880" cy="401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6200000">
            <a:off x="6579360" y="3942000"/>
            <a:ext cx="1160280" cy="2130480"/>
          </a:xfrm>
          <a:prstGeom prst="upArrow">
            <a:avLst>
              <a:gd name="adj1" fmla="val 50000"/>
              <a:gd name="adj2" fmla="val 459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0" y="330120"/>
          <a:ext cx="8190000" cy="61977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51920"/>
                <a:gridCol w="545040"/>
                <a:gridCol w="545040"/>
              </a:tblGrid>
              <a:tr h="3682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leidingscommissie FM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M-FM-FMOC.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CJM Peters, MP Karsten, MME Wolfs, ID Booman, J Scherpenborg, I Fraij, EA Werner, E Gijsbers, SA Werz, W Vromans, JWG G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ject B cluster International foundation y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(FEM-IF-OPL.ond</a:t>
                      </a:r>
                      <a:r>
                        <a:rPr b="1" lang="en-GB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PS Steemers, R Pieters, Brigitte Faber - de Lange, RM Cremers, RP Taal, M Bosch, FAAM Elk, MM Fruchten, JCA Geer, K Garritsen, HBJJ Holswilder, OJ Ntenje, P Post, AJM Sterk, J Vinke, PW Meij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 aspects concerning the project in the second semester op the International Foundation Year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opleidingscommissie</a:t>
                      </a: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MER (OPC)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-LE-OPC.o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WGCJ Kuipers, DJ Brouwer, DVA Hulsteijn, G Winsum, JM Kolner, H Holtes, F Wolf, PH Snijders, JG Vogelzang, CM Bergwerff, AJ Heu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-631800" y="1281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-566640" y="240840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-631800" y="3049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-566640" y="417672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-631800" y="4818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Enroll"/>
          <p:cNvPicPr/>
          <p:nvPr/>
        </p:nvPicPr>
        <p:blipFill>
          <a:blip r:embed="rId12"/>
          <a:stretch/>
        </p:blipFill>
        <p:spPr>
          <a:xfrm>
            <a:off x="7845480" y="770040"/>
            <a:ext cx="1055520" cy="336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Enroll"/>
          <p:cNvPicPr/>
          <p:nvPr/>
        </p:nvPicPr>
        <p:blipFill>
          <a:blip r:embed="rId13"/>
          <a:stretch/>
        </p:blipFill>
        <p:spPr>
          <a:xfrm>
            <a:off x="7889760" y="3213000"/>
            <a:ext cx="1055880" cy="3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Enroll"/>
          <p:cNvPicPr/>
          <p:nvPr/>
        </p:nvPicPr>
        <p:blipFill>
          <a:blip r:embed="rId14"/>
          <a:stretch/>
        </p:blipFill>
        <p:spPr>
          <a:xfrm>
            <a:off x="7889760" y="5565600"/>
            <a:ext cx="1055880" cy="33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9760" y="2293920"/>
            <a:ext cx="6791400" cy="763560"/>
          </a:xfrm>
          <a:prstGeom prst="rect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3520" y="3629160"/>
            <a:ext cx="636480" cy="1230120"/>
          </a:xfrm>
          <a:prstGeom prst="upArrow">
            <a:avLst>
              <a:gd name="adj1" fmla="val 50000"/>
              <a:gd name="adj2" fmla="val 483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8001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WIFT BICYCLE COMPAN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nce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5486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hristofer Sw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59400" y="5665680"/>
            <a:ext cx="1771920" cy="40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412880" y="5100480"/>
            <a:ext cx="954360" cy="1604880"/>
          </a:xfrm>
          <a:prstGeom prst="upArrow">
            <a:avLst>
              <a:gd name="adj1" fmla="val 50000"/>
              <a:gd name="adj2" fmla="val 420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24400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ses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2160" y="2536920"/>
            <a:ext cx="46130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1676520"/>
            <a:ext cx="7315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estions ??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7175e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efore you leav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17175e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3962520"/>
            <a:ext cx="7696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and in your 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352680" cy="23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81480" y="609480"/>
            <a:ext cx="3426120" cy="342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The early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19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hdepont" descr="photo Lili Eijsten"/>
          <p:cNvPicPr/>
          <p:nvPr/>
        </p:nvPicPr>
        <p:blipFill>
          <a:blip r:embed="rId1"/>
          <a:stretch/>
        </p:blipFill>
        <p:spPr>
          <a:xfrm>
            <a:off x="304920" y="685800"/>
            <a:ext cx="419724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685800"/>
            <a:ext cx="38862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.Swift sen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Retired, still advisor to the current CEO his son Ge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6692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INCathyRalf" descr=""/>
          <p:cNvPicPr/>
          <p:nvPr/>
        </p:nvPicPr>
        <p:blipFill>
          <a:blip r:embed="rId1"/>
          <a:stretch/>
        </p:blipFill>
        <p:spPr>
          <a:xfrm>
            <a:off x="4857840" y="609480"/>
            <a:ext cx="3876480" cy="563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609480"/>
            <a:ext cx="4419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erry Swift j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urrent CEO/shareholder and his wife Ang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743200" y="228600"/>
          <a:ext cx="3986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986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" y="4640400"/>
            <a:ext cx="8077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avid Swift and Elisabeth Delson Swif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-Shareholders and members of the managemen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3880" y="1600200"/>
          <a:ext cx="701064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70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</a:rPr>
              <a:t>Sales and Profit in billions of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60840" cy="6095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2880" y="2819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r. Stochnavo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68580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Assignment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esent a report that shows how the SWIFT Bicycle Company can become profitable again, using Mr. Stochnavoch’s f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07:52Z</dcterms:created>
  <dc:creator>Peter van der Meijden</dc:creator>
  <dc:description/>
  <dc:language>en-US</dc:language>
  <cp:lastModifiedBy>christine natalia</cp:lastModifiedBy>
  <dcterms:modified xsi:type="dcterms:W3CDTF">2007-02-06T20:35:23Z</dcterms:modified>
  <cp:revision>6</cp:revision>
  <dc:subject/>
  <dc:title>PowerPoint-presentatie</dc:title>
</cp:coreProperties>
</file>