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9.wmf" ContentType="image/x-wmf"/>
  <Override PartName="/ppt/media/image14.png" ContentType="image/png"/>
  <Override PartName="/ppt/media/image10.jpeg" ContentType="image/jpeg"/>
  <Override PartName="/ppt/media/whoosh.wav" ContentType="audio/x-wav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1.png" ContentType="image/png"/>
  <Override PartName="/ppt/media/image12.png" ContentType="image/png"/>
  <Override PartName="/ppt/media/image29.png" ContentType="image/png"/>
  <Override PartName="/ppt/media/explode.wav" ContentType="audio/x-wav"/>
  <Override PartName="/ppt/media/image5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D48-6E45-4354-918B-EC2E8ADF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F02-F15A-4F85-8CDF-C862C79A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CD5-B1D6-43A0-9D77-D729D34D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F71-2C01-4011-860A-7852BAF0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8C4E-44BD-446D-B642-CCB764D5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2F58-1C18-4935-8204-CC1F8D71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369C-1155-44A8-A4AA-8113CFF8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DD8A-A883-4625-B9F1-7B0E31C5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6D65-99AD-40CB-875B-86052476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B31C-1B2F-4FCC-B012-CFD5371A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82BA-D4B3-437F-A89C-891DA6A4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FB6-962E-44FA-B8D3-FCA06EB0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A9F1-0286-4D2A-93E8-A09C804B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929A-D9EB-4511-B58E-96E047D5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2517-D08F-4664-8B91-CA2CA50F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42E8-EB14-40A8-8EA9-C1C37845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9319-0A71-4A23-AE92-81915700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2FA-DF17-4971-88C2-D9C7E8D8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696-1B85-40F2-9A86-F37D4666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D34-18D6-4863-AF29-BA0FE6E1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28C-424F-4080-AF58-0789B7AB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D46-A744-4A0F-BF3B-A317CD04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EB3-577F-494D-AB09-6BD10426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FAB-C746-4CF6-9697-2143B989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AD0F-561F-4808-8422-A08B06F936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10E2-0113-46F9-86BC-D4658F1FC5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imgres%3Fimgurl=http://www.bikelib.org/images/lawlog96.gif&amp;imgrefurl=http://www.bikelib.org/trails/law1896ride.htm&amp;h=660&amp;w=633&amp;sz=11&amp;tbnid=JbtBHeTf18UJ:&amp;tbnh=135&amp;tbnw=130&amp;start=15&amp;prev=/images%3Fq%3Dbicycle%252Blogo%26hl%3Dnl%26lr%3D%26ie%3DUTF-8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blackboard.fem.han.nl/" TargetMode="External"/><Relationship Id="rId3" Type="http://schemas.openxmlformats.org/officeDocument/2006/relationships/image" Target="../media/image12.png"/><Relationship Id="rId4" Type="http://schemas.openxmlformats.org/officeDocument/2006/relationships/hyperlink" Target="http://www.elearn.han.nl/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blackboard.fem.han.nl/bin/common/logout.pl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han.nl/restyle/sheo/fac_frameset.xml" TargetMode="External"/><Relationship Id="rId9" Type="http://schemas.openxmlformats.org/officeDocument/2006/relationships/hyperlink" Target="http://www.blackboard.fem.han.nl/" TargetMode="External"/><Relationship Id="rId10" Type="http://schemas.openxmlformats.org/officeDocument/2006/relationships/hyperlink" Target="http://www.elearn.han.nl/" TargetMode="External"/><Relationship Id="rId11" Type="http://schemas.openxmlformats.org/officeDocument/2006/relationships/hyperlink" Target="http://www.blackboard.fem.han.nl/bin/common/logout.pl" TargetMode="External"/><Relationship Id="rId12" Type="http://schemas.openxmlformats.org/officeDocument/2006/relationships/hyperlink" Target="http://www.blackboard.fem.han.nl/bin/frame.pl?item=my_inst&amp;m=sXzikDqmyrQGKPxr" TargetMode="External"/><Relationship Id="rId13" Type="http://schemas.openxmlformats.org/officeDocument/2006/relationships/hyperlink" Target="http://www.blackboard.fem.han.nl/bin/frame.pl?item=courses&amp;m=MLtWKwnUTdgwmmUc" TargetMode="External"/><Relationship Id="rId14" Type="http://schemas.openxmlformats.org/officeDocument/2006/relationships/hyperlink" Target="http://www.blackboard.fem.han.nl/bin/frame.pl?item=academic&amp;m=ygRWgkZiNFDHXJhs" TargetMode="External"/><Relationship Id="rId15" Type="http://schemas.openxmlformats.org/officeDocument/2006/relationships/hyperlink" Target="http://www.han.nl/restyle/sheo/fac_frameset.xml" TargetMode="External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hyperlink" Target="http://www.blackboard.fem.han.nl/bin/frame.pl?item=my_inst&amp;m=sXzikDqmyrQGKPxr" TargetMode="External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hyperlink" Target="http://www.blackboard.fem.han.nl/bin/frame.pl?item=courses&amp;m=MLtWKwnUTdgwmmUc" TargetMode="External"/><Relationship Id="rId26" Type="http://schemas.openxmlformats.org/officeDocument/2006/relationships/image" Target="../media/image20.png"/><Relationship Id="rId27" Type="http://schemas.openxmlformats.org/officeDocument/2006/relationships/image" Target="../media/image21.png"/><Relationship Id="rId28" Type="http://schemas.openxmlformats.org/officeDocument/2006/relationships/hyperlink" Target="http://www.blackboard.fem.han.nl/bin/frame.pl?item=academic&amp;m=ygRWgkZiNFDHXJhs" TargetMode="External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image" Target="../media/image16.png"/><Relationship Id="rId32" Type="http://schemas.openxmlformats.org/officeDocument/2006/relationships/image" Target="../media/image24.png"/><Relationship Id="rId33" Type="http://schemas.openxmlformats.org/officeDocument/2006/relationships/hyperlink" Target="http://www.elearn.han.nl/" TargetMode="External"/><Relationship Id="rId34" Type="http://schemas.openxmlformats.org/officeDocument/2006/relationships/image" Target="../media/image13.png"/><Relationship Id="rId35" Type="http://schemas.openxmlformats.org/officeDocument/2006/relationships/hyperlink" Target="http://www.blackboard.fem.han.nl/bin/common/logout.pl" TargetMode="External"/><Relationship Id="rId36" Type="http://schemas.openxmlformats.org/officeDocument/2006/relationships/image" Target="../media/image14.png"/><Relationship Id="rId37" Type="http://schemas.openxmlformats.org/officeDocument/2006/relationships/hyperlink" Target="http://www.blackboard.fem.han.nl/" TargetMode="External"/><Relationship Id="rId38" Type="http://schemas.openxmlformats.org/officeDocument/2006/relationships/image" Target="../media/image12.png"/><Relationship Id="rId3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blackboard.fem.han.nl/bin/common/category.pl?category_id=_4_1&amp;type=COURSE" TargetMode="External"/><Relationship Id="rId3" Type="http://schemas.openxmlformats.org/officeDocument/2006/relationships/hyperlink" Target="http://www.blackboard.fem.han.nl/bin/common/category.pl?category_id=_4_1&amp;type=COURSE" TargetMode="External"/><Relationship Id="rId4" Type="http://schemas.openxmlformats.org/officeDocument/2006/relationships/hyperlink" Target="http://www.blackboard.fem.han.nl/bin/common/category.pl?category_id=_4_1&amp;type=COURSE" TargetMode="External"/><Relationship Id="rId5" Type="http://schemas.openxmlformats.org/officeDocument/2006/relationships/hyperlink" Target="http://www.blackboard.fem.han.nl/bin/common/category.pl?category_id=_2_1&amp;type=COURSE" TargetMode="External"/><Relationship Id="rId6" Type="http://schemas.openxmlformats.org/officeDocument/2006/relationships/hyperlink" Target="http://www.blackboard.fem.han.nl/bin/common/category.pl?category_id=_2_1&amp;type=COURSE" TargetMode="External"/><Relationship Id="rId7" Type="http://schemas.openxmlformats.org/officeDocument/2006/relationships/hyperlink" Target="http://www.blackboard.fem.han.nl/bin/common/category.pl?category_id=_2_1&amp;type=COURSE" TargetMode="External"/><Relationship Id="rId8" Type="http://schemas.openxmlformats.org/officeDocument/2006/relationships/hyperlink" Target="http://www.blackboard.fem.han.nl/bin/common/category.pl?category_id=_2_1&amp;type=COURSE" TargetMode="External"/><Relationship Id="rId9" Type="http://schemas.openxmlformats.org/officeDocument/2006/relationships/hyperlink" Target="http://www.blackboard.fem.han.nl/bin/common/category.pl?category_id=_2_1&amp;type=COURSE" TargetMode="External"/><Relationship Id="rId10" Type="http://schemas.openxmlformats.org/officeDocument/2006/relationships/hyperlink" Target="http://www.blackboard.fem.han.nl/bin/common/category.pl?category_id=_3_1&amp;type=COURSE" TargetMode="External"/><Relationship Id="rId11" Type="http://schemas.openxmlformats.org/officeDocument/2006/relationships/hyperlink" Target="http://www.blackboard.fem.han.nl/bin/common/category.pl?category_id=_3_1&amp;type=COURSE" TargetMode="External"/><Relationship Id="rId12" Type="http://schemas.openxmlformats.org/officeDocument/2006/relationships/hyperlink" Target="http://www.blackboard.fem.han.nl/bin/common/category.pl?category_id=_5_1&amp;type=COURSE" TargetMode="External"/><Relationship Id="rId13" Type="http://schemas.openxmlformats.org/officeDocument/2006/relationships/hyperlink" Target="http://www.blackboard.fem.han.nl/bin/common/category.pl?category_id=_5_1&amp;type=COURSE" TargetMode="External"/><Relationship Id="rId14" Type="http://schemas.openxmlformats.org/officeDocument/2006/relationships/hyperlink" Target="http://www.blackboard.fem.han.nl/bin/common/category.pl?type=COURSE" TargetMode="External"/><Relationship Id="rId15" Type="http://schemas.openxmlformats.org/officeDocument/2006/relationships/hyperlink" Target="http://www.blackboard.fem.han.nl/bin/common/category.pl?type=COURSE" TargetMode="External"/><Relationship Id="rId16" Type="http://schemas.openxmlformats.org/officeDocument/2006/relationships/image" Target="../media/image25.png"/><Relationship Id="rId17" Type="http://schemas.openxmlformats.org/officeDocument/2006/relationships/image" Target="../media/image16.png"/><Relationship Id="rId18" Type="http://schemas.openxmlformats.org/officeDocument/2006/relationships/image" Target="../media/image26.png"/><Relationship Id="rId19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hyperlink" Target="http://www.blackboard.fem.han.nl/bin/common/course.pl?frame=top&amp;course_id=_558_1" TargetMode="External"/><Relationship Id="rId5" Type="http://schemas.openxmlformats.org/officeDocument/2006/relationships/hyperlink" Target="http://www.blackboard.fem.han.nl/bin/common/course.pl?frame=top&amp;course_id=_114_1" TargetMode="External"/><Relationship Id="rId6" Type="http://schemas.openxmlformats.org/officeDocument/2006/relationships/hyperlink" Target="http://www.blackboard.fem.han.nl/bin/common/course.pl?frame=top&amp;course_id=_114_1" TargetMode="External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28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rijwiel.net/gallery/img/galvv001.jpg&amp;imgrefurl=http://www.rijwiel.net/gallery/foto_6dn.htm&amp;h=438&amp;w=640&amp;sz=56&amp;tbnid=pFBMDu7ouwsJ:&amp;tbnh=92&amp;tbnw=134&amp;start=24&amp;prev=/images%3Fq%3DBicycle%2Brepair%2Bshop%26start%3D20%26hl%3Dnl%26lr%3D%26sa%3DN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219320"/>
            <a:ext cx="2820960" cy="2928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19520" y="4419720"/>
            <a:ext cx="351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aettenschweiler"/>
              </a:rPr>
              <a:t>SB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aettenschweiler"/>
              <a:ea typeface="Haettenschwei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0000"/>
                </a:solidFill>
                <a:latin typeface="Times New Roman"/>
              </a:rPr>
              <a:t>Iss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Company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taffing and w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Marketing strategy and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roblems in log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Financial conseq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0000"/>
                </a:solidFill>
                <a:latin typeface="Times New Roman"/>
              </a:rPr>
              <a:t>Project Ro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Marketing 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I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Human Resource/ Quality Management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HRQ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oject Planning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I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Accounting / Finance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F&amp;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8080" y="228600"/>
            <a:ext cx="7467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cedures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2193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You indicate your order of preference for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362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We form project groups and assign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581280"/>
            <a:ext cx="8382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We try to follow your preferences, but if we can’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800600"/>
            <a:ext cx="81532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First week 2</a:t>
            </a:r>
            <a:r>
              <a:rPr b="1" lang="nl-NL" sz="3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semester we will tell who plays what role in what group with which tu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09480" y="30492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happens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362320"/>
            <a:ext cx="7925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Weekly meeting with tu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77724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One instruction sessions per period per discipline (mandatory for role-player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2860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will you be do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447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sign an overall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286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lan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9718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rite an improvement plan for your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0384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bine the individual reports to one workable, coherent, consistent, and financial possible operation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638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esent the plan to the inve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ction classes by exper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dnesday 7-2-200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in D1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.45 Project Management  Mr. St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9.30 Marketing   Mr. Stee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0.30 Finance   Mr. 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1.15 HRM   Mr.Vin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2.00 Communication   Mr. van der G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2.45 Logistics   Mr. Pi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71600" y="1295280"/>
            <a:ext cx="670572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l information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lackboard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Hom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50960" y="108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Hel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50960" y="108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Logou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50960" y="10890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650960" y="1089000"/>
          <a:ext cx="5732640" cy="4313160"/>
        </p:xfrm>
        <a:graphic>
          <a:graphicData uri="http://schemas.openxmlformats.org/drawingml/2006/table">
            <a:tbl>
              <a:tblPr/>
              <a:tblGrid>
                <a:gridCol w="4300200"/>
                <a:gridCol w="284760"/>
                <a:gridCol w="284760"/>
                <a:gridCol w="284760"/>
                <a:gridCol w="363600"/>
                <a:gridCol w="216000"/>
              </a:tblGrid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 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652400" y="5401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60680" y="2262240"/>
          <a:ext cx="3001680" cy="1401840"/>
        </p:xfrm>
        <a:graphic>
          <a:graphicData uri="http://schemas.openxmlformats.org/drawingml/2006/table">
            <a:tbl>
              <a:tblPr/>
              <a:tblGrid>
                <a:gridCol w="401400"/>
                <a:gridCol w="216000"/>
                <a:gridCol w="520200"/>
                <a:gridCol w="216000"/>
                <a:gridCol w="340560"/>
                <a:gridCol w="216000"/>
                <a:gridCol w="660240"/>
                <a:gridCol w="216000"/>
                <a:gridCol w="216000"/>
              </a:tblGrid>
              <a:tr h="14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" descr="HAN - Faculteit Economie en Management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09600" y="762120"/>
            <a:ext cx="4703760" cy="93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7"/>
          <a:stretch/>
        </p:blipFill>
        <p:spPr>
          <a:xfrm>
            <a:off x="6127920" y="2238480"/>
            <a:ext cx="47520" cy="47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8"/>
          <a:stretch/>
        </p:blipFill>
        <p:spPr>
          <a:xfrm>
            <a:off x="6800760" y="2238480"/>
            <a:ext cx="142920" cy="47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9"/>
          <a:stretch/>
        </p:blipFill>
        <p:spPr>
          <a:xfrm>
            <a:off x="1806480" y="1865160"/>
            <a:ext cx="47880" cy="47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0"/>
          <a:stretch/>
        </p:blipFill>
        <p:spPr>
          <a:xfrm>
            <a:off x="1816200" y="2825640"/>
            <a:ext cx="142920" cy="9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1"/>
          <a:stretch/>
        </p:blipFill>
        <p:spPr>
          <a:xfrm>
            <a:off x="0" y="2857680"/>
            <a:ext cx="412920" cy="660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My Institution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272880" y="2897280"/>
            <a:ext cx="1905120" cy="663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4"/>
          <a:stretch/>
        </p:blipFill>
        <p:spPr>
          <a:xfrm>
            <a:off x="2170080" y="2854440"/>
            <a:ext cx="588960" cy="706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Courses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2701800" y="2879640"/>
            <a:ext cx="1181160" cy="674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7"/>
          <a:stretch/>
        </p:blipFill>
        <p:spPr>
          <a:xfrm>
            <a:off x="3863880" y="2897280"/>
            <a:ext cx="511200" cy="67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Academic Web Resources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4314960" y="2925720"/>
            <a:ext cx="1922400" cy="617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0"/>
          <a:stretch/>
        </p:blipFill>
        <p:spPr>
          <a:xfrm>
            <a:off x="6126120" y="2878200"/>
            <a:ext cx="398520" cy="638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1"/>
          <a:stretch/>
        </p:blipFill>
        <p:spPr>
          <a:xfrm>
            <a:off x="4632480" y="2825640"/>
            <a:ext cx="47520" cy="4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2"/>
          <a:stretch/>
        </p:blipFill>
        <p:spPr>
          <a:xfrm>
            <a:off x="1806480" y="4349880"/>
            <a:ext cx="285840" cy="380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35120" y="3641760"/>
            <a:ext cx="5560920" cy="175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44720" y="3824280"/>
            <a:ext cx="1160640" cy="2130480"/>
          </a:xfrm>
          <a:prstGeom prst="upArrow">
            <a:avLst>
              <a:gd name="adj1" fmla="val 50000"/>
              <a:gd name="adj2" fmla="val 458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Help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7126200" y="73656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Logout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6256440" y="903240"/>
            <a:ext cx="784080" cy="78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Home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5160960" y="692280"/>
            <a:ext cx="103968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16040" y="790920"/>
            <a:ext cx="565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urse Catalo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800440" y="2938320"/>
          <a:ext cx="3387600" cy="1346400"/>
        </p:xfrm>
        <a:graphic>
          <a:graphicData uri="http://schemas.openxmlformats.org/drawingml/2006/table">
            <a:tbl>
              <a:tblPr/>
              <a:tblGrid>
                <a:gridCol w="216000"/>
                <a:gridCol w="3171600"/>
              </a:tblGrid>
              <a:tr h="13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574640" y="1857240"/>
          <a:ext cx="6508800" cy="3726000"/>
        </p:xfrm>
        <a:graphic>
          <a:graphicData uri="http://schemas.openxmlformats.org/drawingml/2006/table">
            <a:tbl>
              <a:tblPr/>
              <a:tblGrid>
                <a:gridCol w="263520"/>
                <a:gridCol w="6245280"/>
              </a:tblGrid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•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Gemeenschappelijke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Propedeus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•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Instituut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Bedrijfskunde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 en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Rechten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•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Instituut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 Finance and Management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•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Instituut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 International Business and Communication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Browse Course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Catalog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874800" y="811080"/>
            <a:ext cx="753840" cy="754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7"/>
          <a:stretch/>
        </p:blipFill>
        <p:spPr>
          <a:xfrm>
            <a:off x="2927520" y="2649600"/>
            <a:ext cx="9360" cy="28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8"/>
          <a:stretch/>
        </p:blipFill>
        <p:spPr>
          <a:xfrm>
            <a:off x="1797120" y="4861080"/>
            <a:ext cx="218880" cy="401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6200000">
            <a:off x="6579360" y="3942000"/>
            <a:ext cx="1160280" cy="2130480"/>
          </a:xfrm>
          <a:prstGeom prst="upArrow">
            <a:avLst>
              <a:gd name="adj1" fmla="val 50000"/>
              <a:gd name="adj2" fmla="val 459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754440" y="431784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754440" y="4317840"/>
            <a:ext cx="19044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0" y="330120"/>
          <a:ext cx="8190000" cy="61977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51920"/>
                <a:gridCol w="545040"/>
                <a:gridCol w="545040"/>
              </a:tblGrid>
              <a:tr h="36828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leidingscommissie FM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EM-FM-FMOC.o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(s): CJM Peters, MP Karsten, MME Wolfs, ID Booman, J Scherpenborg, I Fraij, EA Werner, E Gijsbers, SA Werz, W Vromans, JWG Go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project B cluster International foundation y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(FEM-IF-OPL.ond</a:t>
                      </a:r>
                      <a:r>
                        <a:rPr b="1" lang="en-GB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(s): PS Steemers, R Pieters, Brigitte Faber - de Lange, RM Cremers, RP Taal, M Bosch, FAAM Elk, MM Fruchten, JCA Geer, K Garritsen, HBJJ Holswilder, OJ Ntenje, P Post, AJM Sterk, J Vinke, PW Meij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ll aspects concerning the project in the second semester op the International Foundation Year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opleidingscommissie</a:t>
                      </a:r>
                      <a:r>
                        <a:rPr b="0" lang="en-GB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 MER (OPC)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M-LE-OPC.o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(s): WGCJ Kuipers, DJ Brouwer, DVA Hulsteijn, G Winsum, JM Kolner, H Holtes, F Wolf, PH Snijders, JG Vogelzang, CM Bergwerff, AJ Heu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-631800" y="12812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-566640" y="2408400"/>
            <a:ext cx="66600" cy="9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-631800" y="30495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-566640" y="4176720"/>
            <a:ext cx="66600" cy="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-631800" y="481824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9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Enroll"/>
          <p:cNvPicPr/>
          <p:nvPr/>
        </p:nvPicPr>
        <p:blipFill>
          <a:blip r:embed="rId12"/>
          <a:stretch/>
        </p:blipFill>
        <p:spPr>
          <a:xfrm>
            <a:off x="7845480" y="770040"/>
            <a:ext cx="1055520" cy="336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Enroll"/>
          <p:cNvPicPr/>
          <p:nvPr/>
        </p:nvPicPr>
        <p:blipFill>
          <a:blip r:embed="rId13"/>
          <a:stretch/>
        </p:blipFill>
        <p:spPr>
          <a:xfrm>
            <a:off x="7889760" y="3213000"/>
            <a:ext cx="1055880" cy="336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Enroll"/>
          <p:cNvPicPr/>
          <p:nvPr/>
        </p:nvPicPr>
        <p:blipFill>
          <a:blip r:embed="rId14"/>
          <a:stretch/>
        </p:blipFill>
        <p:spPr>
          <a:xfrm>
            <a:off x="7889760" y="5565600"/>
            <a:ext cx="1055880" cy="336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39760" y="2293920"/>
            <a:ext cx="6791400" cy="763560"/>
          </a:xfrm>
          <a:prstGeom prst="rect">
            <a:avLst/>
          </a:prstGeom>
          <a:solidFill>
            <a:srgbClr val="fff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83520" y="3629160"/>
            <a:ext cx="636480" cy="1230120"/>
          </a:xfrm>
          <a:prstGeom prst="upArrow">
            <a:avLst>
              <a:gd name="adj1" fmla="val 50000"/>
              <a:gd name="adj2" fmla="val 483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8001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WIFT BICYCLE COMPAN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ince 19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91492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47920" y="54864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hristofer Sw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359400" y="5665680"/>
            <a:ext cx="1771920" cy="40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4412880" y="5100480"/>
            <a:ext cx="954360" cy="1604880"/>
          </a:xfrm>
          <a:prstGeom prst="upArrow">
            <a:avLst>
              <a:gd name="adj1" fmla="val 50000"/>
              <a:gd name="adj2" fmla="val 420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840" y="244008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ses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2160" y="2536920"/>
            <a:ext cx="46130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143000" y="1676520"/>
            <a:ext cx="73152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estions ??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1143000"/>
            <a:ext cx="7848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17175e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efore you leav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17175e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2120" y="3962520"/>
            <a:ext cx="76960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75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and in your for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75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429000"/>
            <a:ext cx="3352680" cy="2300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81480" y="609480"/>
            <a:ext cx="3426120" cy="3426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The early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19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jhdepont" descr="photo Lili Eijsten"/>
          <p:cNvPicPr/>
          <p:nvPr/>
        </p:nvPicPr>
        <p:blipFill>
          <a:blip r:embed="rId1"/>
          <a:stretch/>
        </p:blipFill>
        <p:spPr>
          <a:xfrm>
            <a:off x="304920" y="685800"/>
            <a:ext cx="419724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685800"/>
            <a:ext cx="3886200" cy="49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G.Swift sen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Retired, still advisor to the current CEO his son Ger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6692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WINCathyRalf" descr=""/>
          <p:cNvPicPr/>
          <p:nvPr/>
        </p:nvPicPr>
        <p:blipFill>
          <a:blip r:embed="rId1"/>
          <a:stretch/>
        </p:blipFill>
        <p:spPr>
          <a:xfrm>
            <a:off x="4857840" y="609480"/>
            <a:ext cx="3876480" cy="5639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609480"/>
            <a:ext cx="4419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Gerry Swift j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urrent CEO/shareholder and his wife Ange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743200" y="228600"/>
          <a:ext cx="398628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398628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85800" y="4640400"/>
            <a:ext cx="80773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David Swift and Elisabeth Delson Swift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-Shareholders and members of the managemen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523880" y="1600200"/>
          <a:ext cx="701064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70106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066680" y="990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Times New Roman"/>
              </a:rPr>
              <a:t>Sales and Profit in billions of 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60840" cy="6095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52880" y="2819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Mr. Stochnavo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685800"/>
            <a:ext cx="723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Assignment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9718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resent a report that shows how the SWIFT Bicycle Company can become profitable again, using Mr. Stochnavoch’s fu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3:07:52Z</dcterms:created>
  <dc:creator>Peter van der Meijden</dc:creator>
  <dc:description/>
  <dc:language>en-US</dc:language>
  <cp:lastModifiedBy>christine natalia</cp:lastModifiedBy>
  <dcterms:modified xsi:type="dcterms:W3CDTF">2007-02-06T20:35:23Z</dcterms:modified>
  <cp:revision>6</cp:revision>
  <dc:subject/>
  <dc:title>PowerPoint-presentatie</dc:title>
</cp:coreProperties>
</file>