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3.png" ContentType="image/png"/>
  <Override PartName="/ppt/media/image9.wmf" ContentType="image/x-wmf"/>
  <Override PartName="/ppt/media/image14.png" ContentType="image/png"/>
  <Override PartName="/ppt/media/image10.jpeg" ContentType="image/jpeg"/>
  <Override PartName="/ppt/media/whoosh.wav" ContentType="audio/x-wav"/>
  <Override PartName="/ppt/media/image28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11.png" ContentType="image/png"/>
  <Override PartName="/ppt/media/image12.png" ContentType="image/png"/>
  <Override PartName="/ppt/media/image29.png" ContentType="image/png"/>
  <Override PartName="/ppt/media/explode.wav" ContentType="audio/x-wav"/>
  <Override PartName="/ppt/media/image5.jpeg" ContentType="image/jpeg"/>
  <Override PartName="/ppt/media/image4.jpeg" ContentType="image/jpeg"/>
  <Override PartName="/ppt/media/image25.png" ContentType="image/png"/>
  <Override PartName="/ppt/media/image20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3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DB8D-9CEB-4B87-ACD9-969F644E8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9BD-C1D1-4115-BC17-A40A7F7B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D55C-754B-42ED-A293-50121A05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807F-348C-459F-9866-9B2FA79D2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F94A-5705-41A3-8942-09293A47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89E4-69A1-4087-A1F4-58FCB1E3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6F79-2E2C-4A07-A326-038DC75E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2EC5-40D3-47FF-A405-D1473EF2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AA83-1C4A-4080-A478-5713AE7F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62E7-E5E6-42B7-9833-D7E7AFD7A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2C5E-C190-4066-A184-8244F869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9CEC-57F4-4ABF-81AA-D8064E89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4825-B5B9-4CC9-8C51-BA8DBF4C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E4BE-A04A-4EEB-B370-805AD46A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450C-AA32-4B39-904F-7C0D0236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8A48-76DA-4ACB-A5F6-C4857E810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756B-D4F2-40F2-AE94-D933FB5E9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7AFB-2896-4923-8554-D7C24629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926-BBBA-4102-B61A-8A2A845F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7606-2E55-4AED-9C79-062F2DD9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C84-FE2C-4BF3-95FF-2B9E202D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729-798D-4E57-96D3-D02BA316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C91-D216-4FD0-BA68-1B4016FB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2A8-9EC4-490D-BCB7-DB9A3D3D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9B6A-A19A-4BC2-8423-7B023A73F4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7056B-3FAF-4DC2-AF77-22AB65FF880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imgres%3Fimgurl=http://www.bikelib.org/images/lawlog96.gif&amp;imgrefurl=http://www.bikelib.org/trails/law1896ride.htm&amp;h=660&amp;w=633&amp;sz=11&amp;tbnid=JbtBHeTf18UJ:&amp;tbnh=135&amp;tbnw=130&amp;start=15&amp;prev=/images%3Fq%3Dbicycle%252Blogo%26hl%3Dnl%26lr%3D%26ie%3DUTF-8%26sa%3D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blackboard.fem.han.nl/" TargetMode="External"/><Relationship Id="rId3" Type="http://schemas.openxmlformats.org/officeDocument/2006/relationships/image" Target="../media/image12.png"/><Relationship Id="rId4" Type="http://schemas.openxmlformats.org/officeDocument/2006/relationships/hyperlink" Target="http://www.elearn.han.nl/" TargetMode="External"/><Relationship Id="rId5" Type="http://schemas.openxmlformats.org/officeDocument/2006/relationships/image" Target="../media/image13.png"/><Relationship Id="rId6" Type="http://schemas.openxmlformats.org/officeDocument/2006/relationships/hyperlink" Target="http://www.blackboard.fem.han.nl/bin/common/logout.pl" TargetMode="External"/><Relationship Id="rId7" Type="http://schemas.openxmlformats.org/officeDocument/2006/relationships/image" Target="../media/image14.png"/><Relationship Id="rId8" Type="http://schemas.openxmlformats.org/officeDocument/2006/relationships/hyperlink" Target="http://www.han.nl/restyle/sheo/fac_frameset.xml" TargetMode="External"/><Relationship Id="rId9" Type="http://schemas.openxmlformats.org/officeDocument/2006/relationships/hyperlink" Target="http://www.blackboard.fem.han.nl/" TargetMode="External"/><Relationship Id="rId10" Type="http://schemas.openxmlformats.org/officeDocument/2006/relationships/hyperlink" Target="http://www.elearn.han.nl/" TargetMode="External"/><Relationship Id="rId11" Type="http://schemas.openxmlformats.org/officeDocument/2006/relationships/hyperlink" Target="http://www.blackboard.fem.han.nl/bin/common/logout.pl" TargetMode="External"/><Relationship Id="rId12" Type="http://schemas.openxmlformats.org/officeDocument/2006/relationships/hyperlink" Target="http://www.blackboard.fem.han.nl/bin/frame.pl?item=my_inst&amp;m=sXzikDqmyrQGKPxr" TargetMode="External"/><Relationship Id="rId13" Type="http://schemas.openxmlformats.org/officeDocument/2006/relationships/hyperlink" Target="http://www.blackboard.fem.han.nl/bin/frame.pl?item=courses&amp;m=MLtWKwnUTdgwmmUc" TargetMode="External"/><Relationship Id="rId14" Type="http://schemas.openxmlformats.org/officeDocument/2006/relationships/hyperlink" Target="http://www.blackboard.fem.han.nl/bin/frame.pl?item=academic&amp;m=ygRWgkZiNFDHXJhs" TargetMode="External"/><Relationship Id="rId15" Type="http://schemas.openxmlformats.org/officeDocument/2006/relationships/hyperlink" Target="http://www.han.nl/restyle/sheo/fac_frameset.xml" TargetMode="External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7.png"/><Relationship Id="rId22" Type="http://schemas.openxmlformats.org/officeDocument/2006/relationships/hyperlink" Target="http://www.blackboard.fem.han.nl/bin/frame.pl?item=my_inst&amp;m=sXzikDqmyrQGKPxr" TargetMode="External"/><Relationship Id="rId23" Type="http://schemas.openxmlformats.org/officeDocument/2006/relationships/image" Target="../media/image18.png"/><Relationship Id="rId24" Type="http://schemas.openxmlformats.org/officeDocument/2006/relationships/image" Target="../media/image19.png"/><Relationship Id="rId25" Type="http://schemas.openxmlformats.org/officeDocument/2006/relationships/hyperlink" Target="http://www.blackboard.fem.han.nl/bin/frame.pl?item=courses&amp;m=MLtWKwnUTdgwmmUc" TargetMode="External"/><Relationship Id="rId26" Type="http://schemas.openxmlformats.org/officeDocument/2006/relationships/image" Target="../media/image20.png"/><Relationship Id="rId27" Type="http://schemas.openxmlformats.org/officeDocument/2006/relationships/image" Target="../media/image21.png"/><Relationship Id="rId28" Type="http://schemas.openxmlformats.org/officeDocument/2006/relationships/hyperlink" Target="http://www.blackboard.fem.han.nl/bin/frame.pl?item=academic&amp;m=ygRWgkZiNFDHXJhs" TargetMode="External"/><Relationship Id="rId29" Type="http://schemas.openxmlformats.org/officeDocument/2006/relationships/image" Target="../media/image22.png"/><Relationship Id="rId30" Type="http://schemas.openxmlformats.org/officeDocument/2006/relationships/image" Target="../media/image23.png"/><Relationship Id="rId31" Type="http://schemas.openxmlformats.org/officeDocument/2006/relationships/image" Target="../media/image16.png"/><Relationship Id="rId32" Type="http://schemas.openxmlformats.org/officeDocument/2006/relationships/image" Target="../media/image24.png"/><Relationship Id="rId33" Type="http://schemas.openxmlformats.org/officeDocument/2006/relationships/hyperlink" Target="http://www.elearn.han.nl/" TargetMode="External"/><Relationship Id="rId34" Type="http://schemas.openxmlformats.org/officeDocument/2006/relationships/image" Target="../media/image13.png"/><Relationship Id="rId35" Type="http://schemas.openxmlformats.org/officeDocument/2006/relationships/hyperlink" Target="http://www.blackboard.fem.han.nl/bin/common/logout.pl" TargetMode="External"/><Relationship Id="rId36" Type="http://schemas.openxmlformats.org/officeDocument/2006/relationships/image" Target="../media/image14.png"/><Relationship Id="rId37" Type="http://schemas.openxmlformats.org/officeDocument/2006/relationships/hyperlink" Target="http://www.blackboard.fem.han.nl/" TargetMode="External"/><Relationship Id="rId38" Type="http://schemas.openxmlformats.org/officeDocument/2006/relationships/image" Target="../media/image12.png"/><Relationship Id="rId3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blackboard.fem.han.nl/bin/common/category.pl?category_id=_4_1&amp;type=COURSE" TargetMode="External"/><Relationship Id="rId3" Type="http://schemas.openxmlformats.org/officeDocument/2006/relationships/hyperlink" Target="http://www.blackboard.fem.han.nl/bin/common/category.pl?category_id=_4_1&amp;type=COURSE" TargetMode="External"/><Relationship Id="rId4" Type="http://schemas.openxmlformats.org/officeDocument/2006/relationships/hyperlink" Target="http://www.blackboard.fem.han.nl/bin/common/category.pl?category_id=_4_1&amp;type=COURSE" TargetMode="External"/><Relationship Id="rId5" Type="http://schemas.openxmlformats.org/officeDocument/2006/relationships/hyperlink" Target="http://www.blackboard.fem.han.nl/bin/common/category.pl?category_id=_2_1&amp;type=COURSE" TargetMode="External"/><Relationship Id="rId6" Type="http://schemas.openxmlformats.org/officeDocument/2006/relationships/hyperlink" Target="http://www.blackboard.fem.han.nl/bin/common/category.pl?category_id=_2_1&amp;type=COURSE" TargetMode="External"/><Relationship Id="rId7" Type="http://schemas.openxmlformats.org/officeDocument/2006/relationships/hyperlink" Target="http://www.blackboard.fem.han.nl/bin/common/category.pl?category_id=_2_1&amp;type=COURSE" TargetMode="External"/><Relationship Id="rId8" Type="http://schemas.openxmlformats.org/officeDocument/2006/relationships/hyperlink" Target="http://www.blackboard.fem.han.nl/bin/common/category.pl?category_id=_2_1&amp;type=COURSE" TargetMode="External"/><Relationship Id="rId9" Type="http://schemas.openxmlformats.org/officeDocument/2006/relationships/hyperlink" Target="http://www.blackboard.fem.han.nl/bin/common/category.pl?category_id=_2_1&amp;type=COURSE" TargetMode="External"/><Relationship Id="rId10" Type="http://schemas.openxmlformats.org/officeDocument/2006/relationships/hyperlink" Target="http://www.blackboard.fem.han.nl/bin/common/category.pl?category_id=_3_1&amp;type=COURSE" TargetMode="External"/><Relationship Id="rId11" Type="http://schemas.openxmlformats.org/officeDocument/2006/relationships/hyperlink" Target="http://www.blackboard.fem.han.nl/bin/common/category.pl?category_id=_3_1&amp;type=COURSE" TargetMode="External"/><Relationship Id="rId12" Type="http://schemas.openxmlformats.org/officeDocument/2006/relationships/hyperlink" Target="http://www.blackboard.fem.han.nl/bin/common/category.pl?category_id=_5_1&amp;type=COURSE" TargetMode="External"/><Relationship Id="rId13" Type="http://schemas.openxmlformats.org/officeDocument/2006/relationships/hyperlink" Target="http://www.blackboard.fem.han.nl/bin/common/category.pl?category_id=_5_1&amp;type=COURSE" TargetMode="External"/><Relationship Id="rId14" Type="http://schemas.openxmlformats.org/officeDocument/2006/relationships/hyperlink" Target="http://www.blackboard.fem.han.nl/bin/common/category.pl?type=COURSE" TargetMode="External"/><Relationship Id="rId15" Type="http://schemas.openxmlformats.org/officeDocument/2006/relationships/hyperlink" Target="http://www.blackboard.fem.han.nl/bin/common/category.pl?type=COURSE" TargetMode="External"/><Relationship Id="rId16" Type="http://schemas.openxmlformats.org/officeDocument/2006/relationships/image" Target="../media/image25.png"/><Relationship Id="rId17" Type="http://schemas.openxmlformats.org/officeDocument/2006/relationships/image" Target="../media/image16.png"/><Relationship Id="rId18" Type="http://schemas.openxmlformats.org/officeDocument/2006/relationships/image" Target="../media/image26.png"/><Relationship Id="rId19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hyperlink" Target="http://www.blackboard.fem.han.nl/bin/common/course.pl?frame=top&amp;course_id=_558_1" TargetMode="External"/><Relationship Id="rId5" Type="http://schemas.openxmlformats.org/officeDocument/2006/relationships/hyperlink" Target="http://www.blackboard.fem.han.nl/bin/common/course.pl?frame=top&amp;course_id=_114_1" TargetMode="External"/><Relationship Id="rId6" Type="http://schemas.openxmlformats.org/officeDocument/2006/relationships/hyperlink" Target="http://www.blackboard.fem.han.nl/bin/common/course.pl?frame=top&amp;course_id=_114_1" TargetMode="External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28.png"/><Relationship Id="rId12" Type="http://schemas.openxmlformats.org/officeDocument/2006/relationships/image" Target="../media/image30.png"/><Relationship Id="rId13" Type="http://schemas.openxmlformats.org/officeDocument/2006/relationships/image" Target="../media/image30.png"/><Relationship Id="rId14" Type="http://schemas.openxmlformats.org/officeDocument/2006/relationships/image" Target="../media/image30.png"/><Relationship Id="rId1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rijwiel.net/gallery/img/galvv001.jpg&amp;imgrefurl=http://www.rijwiel.net/gallery/foto_6dn.htm&amp;h=438&amp;w=640&amp;sz=56&amp;tbnid=pFBMDu7ouwsJ:&amp;tbnh=92&amp;tbnw=134&amp;start=24&amp;prev=/images%3Fq%3DBicycle%2Brepair%2Bshop%26start%3D20%26hl%3Dnl%26lr%3D%26sa%3DN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95280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219320"/>
            <a:ext cx="2820960" cy="2928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819520" y="4419720"/>
            <a:ext cx="35146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aettenschweiler"/>
              </a:rPr>
              <a:t>SB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aettenschweiler"/>
              <a:ea typeface="Haettenschweile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0000"/>
                </a:solidFill>
                <a:latin typeface="Times New Roman"/>
              </a:rPr>
              <a:t>Issu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Company 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Staffing and w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Marketing strategy and 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Problems in log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Promo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Financial consequen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0000"/>
                </a:solidFill>
                <a:latin typeface="Times New Roman"/>
              </a:rPr>
              <a:t>Project Rol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Marketing </a:t>
            </a:r>
            <a:br>
              <a:rPr sz="3200"/>
            </a:b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I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br>
              <a:rPr sz="3200"/>
            </a:b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Human Resource/ Quality Management</a:t>
            </a:r>
            <a:br>
              <a:rPr sz="3200"/>
            </a:b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HRQ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roject Planning</a:t>
            </a:r>
            <a:br>
              <a:rPr sz="3200"/>
            </a:b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I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Accounting / Finance</a:t>
            </a:r>
            <a:br>
              <a:rPr sz="3200"/>
            </a:b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F&amp;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6520" indent="-236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Logistics</a:t>
            </a:r>
            <a:br>
              <a:rPr sz="3200"/>
            </a:br>
            <a:r>
              <a:rPr b="1" lang="nl-NL" sz="3200" spc="-1" strike="noStrike">
                <a:solidFill>
                  <a:srgbClr val="3333cc"/>
                </a:solidFill>
                <a:latin typeface="Times New Roman"/>
              </a:rPr>
              <a:t>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8080" y="228600"/>
            <a:ext cx="7467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cedures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2193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You indicate your order of preference for r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23623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We form project groups and assign ro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581280"/>
            <a:ext cx="8382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We try to follow your preferences, but if we can’t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4800600"/>
            <a:ext cx="81532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First week 2</a:t>
            </a:r>
            <a:r>
              <a:rPr b="1" lang="nl-NL" sz="36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semester we will tell who plays what role in what group with which tu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09480" y="304920"/>
            <a:ext cx="784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happens</a:t>
            </a:r>
            <a:endParaRPr b="0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2362320"/>
            <a:ext cx="7925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Weekly meeting with tu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00400"/>
            <a:ext cx="77724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One instruction sessions per period per discipline (mandatory for role-player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228600"/>
            <a:ext cx="8381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will you be doing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1447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Design an overall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22860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lan th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9718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Write an improvement plan for your discip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03848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ombine the individual reports to one workable, coherent, consistent, and financial possible operationa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638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Present the plan to the inves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struction classes by expert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dnesday 7-2-2007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in D10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8.45 Project Management  Mr. Ste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9.30 Marketing   Mr. Stee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0.30 Finance   Mr. P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1.15 HRM   Mr.Vin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2.00 Communication   Mr. van der G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12.45 Logistics   Mr. Pi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371600" y="1295280"/>
            <a:ext cx="670572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ll information 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lackboard 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Hom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50960" y="108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Hel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50960" y="108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Logout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650960" y="10890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1650960" y="1089000"/>
          <a:ext cx="5732640" cy="4313160"/>
        </p:xfrm>
        <a:graphic>
          <a:graphicData uri="http://schemas.openxmlformats.org/drawingml/2006/table">
            <a:tbl>
              <a:tblPr/>
              <a:tblGrid>
                <a:gridCol w="4300200"/>
                <a:gridCol w="284760"/>
                <a:gridCol w="284760"/>
                <a:gridCol w="284760"/>
                <a:gridCol w="363600"/>
                <a:gridCol w="216000"/>
              </a:tblGrid>
              <a:tr h="654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               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 </a:t>
                      </a: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1652400" y="5401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660680" y="2262240"/>
          <a:ext cx="3001680" cy="1401840"/>
        </p:xfrm>
        <a:graphic>
          <a:graphicData uri="http://schemas.openxmlformats.org/drawingml/2006/table">
            <a:tbl>
              <a:tblPr/>
              <a:tblGrid>
                <a:gridCol w="401400"/>
                <a:gridCol w="216000"/>
                <a:gridCol w="520200"/>
                <a:gridCol w="216000"/>
                <a:gridCol w="340560"/>
                <a:gridCol w="216000"/>
                <a:gridCol w="660240"/>
                <a:gridCol w="216000"/>
                <a:gridCol w="216000"/>
              </a:tblGrid>
              <a:tr h="140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      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" descr="HAN - Faculteit Economie en Management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309600" y="762120"/>
            <a:ext cx="4703760" cy="93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17"/>
          <a:stretch/>
        </p:blipFill>
        <p:spPr>
          <a:xfrm>
            <a:off x="6127920" y="2238480"/>
            <a:ext cx="47520" cy="475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18"/>
          <a:stretch/>
        </p:blipFill>
        <p:spPr>
          <a:xfrm>
            <a:off x="6800760" y="2238480"/>
            <a:ext cx="142920" cy="47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19"/>
          <a:stretch/>
        </p:blipFill>
        <p:spPr>
          <a:xfrm>
            <a:off x="1806480" y="1865160"/>
            <a:ext cx="47880" cy="478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0"/>
          <a:stretch/>
        </p:blipFill>
        <p:spPr>
          <a:xfrm>
            <a:off x="1816200" y="2825640"/>
            <a:ext cx="142920" cy="9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1"/>
          <a:stretch/>
        </p:blipFill>
        <p:spPr>
          <a:xfrm>
            <a:off x="0" y="2857680"/>
            <a:ext cx="412920" cy="660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My Institution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272880" y="2897280"/>
            <a:ext cx="1905120" cy="6634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4"/>
          <a:stretch/>
        </p:blipFill>
        <p:spPr>
          <a:xfrm>
            <a:off x="2170080" y="2854440"/>
            <a:ext cx="588960" cy="7063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Courses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2701800" y="2879640"/>
            <a:ext cx="1181160" cy="674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7"/>
          <a:stretch/>
        </p:blipFill>
        <p:spPr>
          <a:xfrm>
            <a:off x="3863880" y="2897280"/>
            <a:ext cx="511200" cy="67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Academic Web Resources">
            <a:hlinkClick r:id="rId28"/>
          </p:cNvPr>
          <p:cNvPicPr/>
          <p:nvPr/>
        </p:nvPicPr>
        <p:blipFill>
          <a:blip r:embed="rId29"/>
          <a:stretch/>
        </p:blipFill>
        <p:spPr>
          <a:xfrm>
            <a:off x="4314960" y="2925720"/>
            <a:ext cx="1922400" cy="617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0"/>
          <a:stretch/>
        </p:blipFill>
        <p:spPr>
          <a:xfrm>
            <a:off x="6126120" y="2878200"/>
            <a:ext cx="398520" cy="638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1"/>
          <a:stretch/>
        </p:blipFill>
        <p:spPr>
          <a:xfrm>
            <a:off x="4632480" y="2825640"/>
            <a:ext cx="47520" cy="47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2"/>
          <a:stretch/>
        </p:blipFill>
        <p:spPr>
          <a:xfrm>
            <a:off x="1806480" y="4349880"/>
            <a:ext cx="285840" cy="380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635120" y="3641760"/>
            <a:ext cx="5560920" cy="1752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44720" y="3824280"/>
            <a:ext cx="1160640" cy="2130480"/>
          </a:xfrm>
          <a:prstGeom prst="upArrow">
            <a:avLst>
              <a:gd name="adj1" fmla="val 50000"/>
              <a:gd name="adj2" fmla="val 458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Help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7126200" y="73656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Logout">
            <a:hlinkClick r:id="rId35"/>
          </p:cNvPr>
          <p:cNvPicPr/>
          <p:nvPr/>
        </p:nvPicPr>
        <p:blipFill>
          <a:blip r:embed="rId36"/>
          <a:stretch/>
        </p:blipFill>
        <p:spPr>
          <a:xfrm>
            <a:off x="6256440" y="903240"/>
            <a:ext cx="784080" cy="784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Home">
            <a:hlinkClick r:id="rId37"/>
          </p:cNvPr>
          <p:cNvPicPr/>
          <p:nvPr/>
        </p:nvPicPr>
        <p:blipFill>
          <a:blip r:embed="rId38"/>
          <a:stretch/>
        </p:blipFill>
        <p:spPr>
          <a:xfrm>
            <a:off x="5160960" y="692280"/>
            <a:ext cx="1039680" cy="10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616040" y="790920"/>
            <a:ext cx="565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Course Catalo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800440" y="2938320"/>
          <a:ext cx="3387600" cy="1346400"/>
        </p:xfrm>
        <a:graphic>
          <a:graphicData uri="http://schemas.openxmlformats.org/drawingml/2006/table">
            <a:tbl>
              <a:tblPr/>
              <a:tblGrid>
                <a:gridCol w="216000"/>
                <a:gridCol w="3171600"/>
              </a:tblGrid>
              <a:tr h="134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574640" y="1857240"/>
          <a:ext cx="6508800" cy="3726000"/>
        </p:xfrm>
        <a:graphic>
          <a:graphicData uri="http://schemas.openxmlformats.org/drawingml/2006/table">
            <a:tbl>
              <a:tblPr/>
              <a:tblGrid>
                <a:gridCol w="263520"/>
                <a:gridCol w="6245280"/>
              </a:tblGrid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•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/>
                        </a:rPr>
                        <a:t>Gemeenschappelijke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/>
                        </a:rPr>
                        <a:t>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Propedeuse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•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Instituut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/>
                        </a:rPr>
                        <a:t>Bedrijfskunde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/>
                        </a:rPr>
                        <a:t> en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/>
                        </a:rPr>
                        <a:t>Rechten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•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/>
                        </a:rPr>
                        <a:t>Instituut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/>
                        </a:rPr>
                        <a:t> Finance and Management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3399"/>
                          </a:solidFill>
                          <a:latin typeface="Verdana"/>
                        </a:rPr>
                        <a:t>•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/>
                        </a:rPr>
                        <a:t>Instituut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/>
                        </a:rPr>
                        <a:t> International Business and Communication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400"/>
                      </a:b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/>
                        </a:rPr>
                        <a:t>Browse Course </a:t>
                      </a:r>
                      <a:r>
                        <a:rPr b="0" lang="en-GB" sz="2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/>
                        </a:rPr>
                        <a:t>Catalog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6" name="" descr=""/>
          <p:cNvPicPr/>
          <p:nvPr/>
        </p:nvPicPr>
        <p:blipFill>
          <a:blip r:embed="rId16"/>
          <a:stretch/>
        </p:blipFill>
        <p:spPr>
          <a:xfrm>
            <a:off x="874800" y="811080"/>
            <a:ext cx="753840" cy="754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7"/>
          <a:stretch/>
        </p:blipFill>
        <p:spPr>
          <a:xfrm>
            <a:off x="2927520" y="2649600"/>
            <a:ext cx="9360" cy="284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8"/>
          <a:stretch/>
        </p:blipFill>
        <p:spPr>
          <a:xfrm>
            <a:off x="1797120" y="4861080"/>
            <a:ext cx="218880" cy="401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rot="16200000">
            <a:off x="6579360" y="3942000"/>
            <a:ext cx="1160280" cy="2130480"/>
          </a:xfrm>
          <a:prstGeom prst="upArrow">
            <a:avLst>
              <a:gd name="adj1" fmla="val 50000"/>
              <a:gd name="adj2" fmla="val 4590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754440" y="4317840"/>
            <a:ext cx="190440" cy="1429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3754440" y="4317840"/>
            <a:ext cx="190440" cy="14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0" y="330120"/>
          <a:ext cx="8190000" cy="619776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6451920"/>
                <a:gridCol w="545040"/>
                <a:gridCol w="545040"/>
              </a:tblGrid>
              <a:tr h="368280"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leidingscommissie FM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FEM-FM-FMOC.o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or(s): CJM Peters, MP Karsten, MME Wolfs, ID Booman, J Scherpenborg, I Fraij, EA Werner, E Gijsbers, SA Werz, W Vromans, JWG God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/>
                        </a:rPr>
                        <a:t>project B cluster International foundation year</a:t>
                      </a:r>
                      <a:r>
                        <a:rPr b="1" lang="en-GB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 (FEM-IF-OPL.ond</a:t>
                      </a:r>
                      <a:r>
                        <a:rPr b="1" lang="en-GB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or(s): PS Steemers, R Pieters, Brigitte Faber - de Lange, RM Cremers, RP Taal, M Bosch, FAAM Elk, MM Fruchten, JCA Geer, K Garritsen, HBJJ Holswilder, OJ Ntenje, P Post, AJM Sterk, J Vinke, PW Meij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all aspects concerning the project in the second semester op the International Foundation Year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  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/>
                        </a:rPr>
                        <a:t>opleidingscommissie</a:t>
                      </a:r>
                      <a:r>
                        <a:rPr b="0" lang="en-GB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/>
                        </a:rPr>
                        <a:t> MER (OPC)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EM-LE-OPC.on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69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or(s): WGCJ Kuipers, DJ Brouwer, DVA Hulsteijn, G Winsum, JM Kolner, H Holtes, F Wolf, PH Snijders, JG Vogelzang, CM Bergwerff, AJ Heu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-631800" y="128124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8"/>
          <a:stretch/>
        </p:blipFill>
        <p:spPr>
          <a:xfrm>
            <a:off x="-566640" y="2408400"/>
            <a:ext cx="66600" cy="9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-631800" y="304956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10"/>
          <a:stretch/>
        </p:blipFill>
        <p:spPr>
          <a:xfrm>
            <a:off x="-566640" y="4176720"/>
            <a:ext cx="66600" cy="93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11"/>
          <a:stretch/>
        </p:blipFill>
        <p:spPr>
          <a:xfrm>
            <a:off x="-631800" y="481824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1828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9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Enroll"/>
          <p:cNvPicPr/>
          <p:nvPr/>
        </p:nvPicPr>
        <p:blipFill>
          <a:blip r:embed="rId12"/>
          <a:stretch/>
        </p:blipFill>
        <p:spPr>
          <a:xfrm>
            <a:off x="7845480" y="770040"/>
            <a:ext cx="1055520" cy="3366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Enroll"/>
          <p:cNvPicPr/>
          <p:nvPr/>
        </p:nvPicPr>
        <p:blipFill>
          <a:blip r:embed="rId13"/>
          <a:stretch/>
        </p:blipFill>
        <p:spPr>
          <a:xfrm>
            <a:off x="7889760" y="3213000"/>
            <a:ext cx="1055880" cy="336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Enroll"/>
          <p:cNvPicPr/>
          <p:nvPr/>
        </p:nvPicPr>
        <p:blipFill>
          <a:blip r:embed="rId14"/>
          <a:stretch/>
        </p:blipFill>
        <p:spPr>
          <a:xfrm>
            <a:off x="7889760" y="5565600"/>
            <a:ext cx="1055880" cy="336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39760" y="2293920"/>
            <a:ext cx="6791400" cy="763560"/>
          </a:xfrm>
          <a:prstGeom prst="rect">
            <a:avLst/>
          </a:prstGeom>
          <a:solidFill>
            <a:srgbClr val="ffff00">
              <a:alpha val="3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183520" y="3629160"/>
            <a:ext cx="636480" cy="1230120"/>
          </a:xfrm>
          <a:prstGeom prst="upArrow">
            <a:avLst>
              <a:gd name="adj1" fmla="val 50000"/>
              <a:gd name="adj2" fmla="val 483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" dur="250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09480"/>
            <a:ext cx="80010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SWIFT BICYCLE COMPAN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Since 19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291492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47920" y="548640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hristofer Sw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359400" y="5665680"/>
            <a:ext cx="1771920" cy="403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4412880" y="5100480"/>
            <a:ext cx="954360" cy="1604880"/>
          </a:xfrm>
          <a:prstGeom prst="upArrow">
            <a:avLst>
              <a:gd name="adj1" fmla="val 50000"/>
              <a:gd name="adj2" fmla="val 4204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7840" y="2440080"/>
            <a:ext cx="29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sess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02160" y="2536920"/>
            <a:ext cx="4613040" cy="53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25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143000" y="1676520"/>
            <a:ext cx="7315200" cy="35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7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uestions ??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7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1143000"/>
            <a:ext cx="784872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17175e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efore you leav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17175e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2120" y="3962520"/>
            <a:ext cx="769608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75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hand in your for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75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3429000"/>
            <a:ext cx="3352680" cy="2300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81480" y="609480"/>
            <a:ext cx="3426120" cy="3426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160020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The early d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1944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jhdepont" descr="photo Lili Eijsten"/>
          <p:cNvPicPr/>
          <p:nvPr/>
        </p:nvPicPr>
        <p:blipFill>
          <a:blip r:embed="rId1"/>
          <a:stretch/>
        </p:blipFill>
        <p:spPr>
          <a:xfrm>
            <a:off x="304920" y="685800"/>
            <a:ext cx="4197240" cy="5562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76920" y="685800"/>
            <a:ext cx="3886200" cy="49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G.Swift sen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Retired, still advisor to the current CEO his son Ger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166920" y="13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WINCathyRalf" descr=""/>
          <p:cNvPicPr/>
          <p:nvPr/>
        </p:nvPicPr>
        <p:blipFill>
          <a:blip r:embed="rId1"/>
          <a:stretch/>
        </p:blipFill>
        <p:spPr>
          <a:xfrm>
            <a:off x="4857840" y="609480"/>
            <a:ext cx="3876480" cy="5639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80880" y="609480"/>
            <a:ext cx="4419720" cy="58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Gerry Swift jr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imes New Roman"/>
              </a:rPr>
              <a:t>Current CEO/shareholder and his wife Ange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743200" y="228600"/>
          <a:ext cx="3986280" cy="39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28600"/>
                    <a:ext cx="3986280" cy="39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685800" y="4640400"/>
            <a:ext cx="80773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David Swift and Elisabeth Delson Swift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o-Shareholders and members of the management 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523880" y="1600200"/>
          <a:ext cx="7010640" cy="467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7010640" cy="46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066680" y="9907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Times New Roman"/>
              </a:rPr>
              <a:t>Sales and Profit in billions of 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4560840" cy="60958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952880" y="28195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Mr. Stochnavo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762120" y="685800"/>
            <a:ext cx="7238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 Assignment</a:t>
            </a:r>
            <a:endParaRPr b="0" lang="en-US" sz="5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97180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Present a report that shows how the SWIFT Bicycle Company can become profitable again, using Mr. Stochnavoch’s fun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6T13:07:52Z</dcterms:created>
  <dc:creator>Peter van der Meijden</dc:creator>
  <dc:description/>
  <dc:language>en-US</dc:language>
  <cp:lastModifiedBy>christine natalia</cp:lastModifiedBy>
  <dcterms:modified xsi:type="dcterms:W3CDTF">2007-02-06T20:35:23Z</dcterms:modified>
  <cp:revision>6</cp:revision>
  <dc:subject/>
  <dc:title>PowerPoint-presentatie</dc:title>
</cp:coreProperties>
</file>