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634-E12D-46B8-ABA1-608D7438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9000" y="49435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70A-2FE5-436D-B0DC-40AD4034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7948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3CA-7E38-4A23-B4F1-1BF2003A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10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1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9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10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91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37E-8320-4000-93E3-673BF8D7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3395-2E88-4080-8220-C7826B8C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351E-1E7D-4F86-B810-69C821F1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70F1-EB14-4B1D-9419-48876E8F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EB5A-D0CB-4483-9DB7-5AE47FBF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73A6-D7B5-4EEB-88BB-027C3538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24379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E8BB-BDF3-4D2E-850F-3FC2F0B2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AD47-0A73-4EA0-AC19-D52A7F98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1DF-FF4E-4C2F-80DD-7B381763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7948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24B1-4A44-4D0B-B389-EECF0EA8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1476-FDDC-469F-B8E8-FC2E36BD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9000" y="49435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E086-B979-4511-B55B-6C94B3D1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7948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5C6D-193E-407E-905F-39611F76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10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91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9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310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91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D8A2-4F8A-4FA8-BC7C-85F476F3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022-1A4A-44CD-ADA4-2612BB04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DBB-CF9D-43FF-A4AB-5A1CFABD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A7D-2B28-4D6C-B2AF-DF2E8D26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24379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591-75AF-40F3-A6B7-125B9018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CCC-E799-4736-853E-F43742A0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7948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7BF-CA66-45ED-B4AE-F2AC6B77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457-EB41-4CBD-914B-6F9FF488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 fontScale="73000"/>
          </a:bodyPr>
          <a:p>
            <a:pPr marL="444600" indent="-444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2880" indent="-389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79080" indent="-277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6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27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6A30-8266-450D-8104-579FF70648E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3972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9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098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F2AE-12ED-443D-ABA6-6B17B87E7BE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640" y="2781000"/>
            <a:ext cx="5943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300c"/>
                </a:solidFill>
                <a:latin typeface="Bookman Old Style"/>
              </a:rPr>
              <a:t>“</a:t>
            </a:r>
            <a:r>
              <a:rPr b="0" lang="en-US" sz="4400" spc="-1" strike="noStrike">
                <a:solidFill>
                  <a:srgbClr val="60300c"/>
                </a:solidFill>
                <a:latin typeface="Bookman Old Style"/>
              </a:rPr>
              <a:t>Having a child takes nine months, no matter how many women are assigned to the project.”</a:t>
            </a:r>
            <a:br>
              <a:rPr sz="4400"/>
            </a:br>
            <a:endParaRPr b="0" lang="en-US" sz="4400" spc="-1" strike="noStrike">
              <a:solidFill>
                <a:srgbClr val="60300c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97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There are no good project managers, only lucky ones. The more you plan, the luckier you get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Aspects of Project Managemen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68360" y="2997360"/>
            <a:ext cx="4876920" cy="3657600"/>
            <a:chOff x="2268360" y="2997360"/>
            <a:chExt cx="4876920" cy="36576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2268360" y="299736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V="1">
              <a:off x="3708360" y="4868640"/>
              <a:ext cx="432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92720" y="4797360"/>
              <a:ext cx="43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95640" y="4005360"/>
              <a:ext cx="287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716360" y="53002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003640" y="407664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60300c"/>
                </a:solidFill>
                <a:latin typeface="Bookman Old Style"/>
              </a:rPr>
              <a:t>Project Plan (general)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t up aims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End product(s) &amp; D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hases and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strument, NOT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plan (detail)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380988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Objectives and 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roject scope and pre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3352320"/>
            <a:ext cx="380988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termediate products an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roject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osts and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58920" y="2000160"/>
            <a:ext cx="6481800" cy="4597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autoRev="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54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If you fail to plan, you plan to fail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Why projects fail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oor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tarting an activity too late (s.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ject members not compe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ject members aim at too much perfection, etc, et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300c"/>
                </a:solidFill>
                <a:latin typeface="Bookman Old Style"/>
              </a:rPr>
              <a:t>Requirements</a:t>
            </a:r>
            <a:endParaRPr b="0" lang="en-US" sz="4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42900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rojec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4005360"/>
            <a:ext cx="359892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Using 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79736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Gantt char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530064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udget (T/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50846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140360" y="2997360"/>
            <a:ext cx="4859280" cy="331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60300c"/>
                </a:solidFill>
                <a:latin typeface="Bookman Old Style"/>
              </a:rPr>
              <a:t>Some tips</a:t>
            </a:r>
            <a:endParaRPr b="0" lang="en-US" sz="4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Work from beginning to end AND BACKWA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Begin writing a (dummy-)report AT AN EARLY STA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Appoint an (1!) EDITOR for the repo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60300c"/>
                </a:solidFill>
                <a:latin typeface="Bookman Old Style"/>
              </a:rPr>
              <a:t>Examples: Gantt char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Managemen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tep into the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looking for strategic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60300c"/>
                </a:solidFill>
                <a:latin typeface="Bookman Old Style"/>
              </a:rPr>
              <a:t>Examples Pert char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Also called: Project Network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87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Types of activity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285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Improv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852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Project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2852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357720"/>
            <a:ext cx="223380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Re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ell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i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3429000"/>
            <a:ext cx="151308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Wh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Resul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Familiar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Freedo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Procedur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357720"/>
            <a:ext cx="237636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edic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Reasonably c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New, 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ncreasingly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3357720"/>
            <a:ext cx="223344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d 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Unc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New, sud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Un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Features?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2997000"/>
            <a:ext cx="7772400" cy="36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tart-up (kick-o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imited duration (dead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End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ields of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rganizational set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urposeful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ojec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Types of projects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uilding the pyram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olumbus’ preparation for his 1492 jour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Napoleon’s war efforts to conquer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utting a man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hips, planes, construction wor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phases (in general)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eparation (thin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Execution (a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ftercare (maint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phases (in more detail)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oncept (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efinition (what to 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reliminary design (how to do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etaile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roduction (DOING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Operation and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Organizing the team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reas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Manager’s characteristics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3212640"/>
            <a:ext cx="3809880" cy="31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Organi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Negoti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otiv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onflic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tress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3212640"/>
            <a:ext cx="3809880" cy="31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Goal 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Helicopter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aily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elega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lan and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18:10:12Z</dcterms:created>
  <dc:creator>HAN</dc:creator>
  <dc:description/>
  <dc:language>en-US</dc:language>
  <cp:lastModifiedBy>christine natalia</cp:lastModifiedBy>
  <dcterms:modified xsi:type="dcterms:W3CDTF">2007-02-13T23:23:38Z</dcterms:modified>
  <cp:revision>25</cp:revision>
  <dc:subject/>
  <dc:title>Project Management</dc:title>
</cp:coreProperties>
</file>