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306-3F34-43F6-B416-D9868EF7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556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9000" y="4943520"/>
            <a:ext cx="556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C22-6604-4CA3-85E4-C0F1D107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900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7948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5DF-1A9F-4843-9CEA-F67CDE65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10000" y="42667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91000" y="42667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9000" y="49435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10000" y="49435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91000" y="49435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B03-D7CA-4459-9C6E-7ED2A34E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F86E-C956-4FFB-AA7C-61158286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9000" y="42667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EAD6-D405-4C42-9387-D3238492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BEF4-1A77-48E6-8CAA-AF6278F9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6A63-A8C7-447A-9B7F-9058EFE4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87B0-D646-47FE-A89B-F9D78E9E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24379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366B-C5BE-42FE-9063-152C50EE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900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6D6F-7987-4CE4-8A7C-23625C8D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9000" y="42667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89FF-E2E6-4063-A40F-3E321883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7948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5F71-3345-4116-9088-361492F9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9000" y="4943520"/>
            <a:ext cx="556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C952-70DB-4434-BC1E-603D0086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556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9000" y="4943520"/>
            <a:ext cx="556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31FF-FA36-473A-A8E5-8F51CB77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900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7948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443C-6C73-44EE-9FF7-84B1C3DC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10000" y="42667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91000" y="42667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9000" y="49435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310000" y="49435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91000" y="49435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B2B8-FFF9-4928-8F76-7A68D7EC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C34B-F450-4193-BAD6-FEB0C4EF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13D-E7BD-4CD3-A1D3-E7834DE6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679-7F2D-4E7F-B552-30B19B9D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24379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E57-D287-49EF-B2BE-7CF171BA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900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3F7-6756-49F7-941E-BDD53BC9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7948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DFA-7A0D-4314-B8CE-85C2F185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9000" y="4943520"/>
            <a:ext cx="556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E26-B20B-45E5-90CD-8EA20CD1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 fontScale="73000"/>
          </a:bodyPr>
          <a:p>
            <a:pPr marL="444600" indent="-444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2880" indent="-389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1160" indent="-333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79080" indent="-277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6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27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5324-30CF-4205-AB2B-C791F6B2820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3972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9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098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07DF-D8EF-4171-8AEE-D3350AFF2E4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640" y="2781000"/>
            <a:ext cx="5943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300c"/>
                </a:solidFill>
                <a:latin typeface="Bookman Old Style"/>
              </a:rPr>
              <a:t>“</a:t>
            </a:r>
            <a:r>
              <a:rPr b="0" lang="en-US" sz="4400" spc="-1" strike="noStrike">
                <a:solidFill>
                  <a:srgbClr val="60300c"/>
                </a:solidFill>
                <a:latin typeface="Bookman Old Style"/>
              </a:rPr>
              <a:t>Having a child takes nine months, no matter how many women are assigned to the project.”</a:t>
            </a:r>
            <a:br>
              <a:rPr sz="4400"/>
            </a:br>
            <a:endParaRPr b="0" lang="en-US" sz="4400" spc="-1" strike="noStrike">
              <a:solidFill>
                <a:srgbClr val="60300c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97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There are no good project managers, only lucky ones. The more you plan, the luckier you get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Aspects of Project Managemen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68360" y="2997360"/>
            <a:ext cx="4876920" cy="3657600"/>
            <a:chOff x="2268360" y="2997360"/>
            <a:chExt cx="4876920" cy="36576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2268360" y="2997360"/>
              <a:ext cx="487692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flipV="1">
              <a:off x="3708360" y="4868640"/>
              <a:ext cx="432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92720" y="4797360"/>
              <a:ext cx="43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95640" y="4005360"/>
              <a:ext cx="287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716360" y="53002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003640" y="407664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60300c"/>
                </a:solidFill>
                <a:latin typeface="Bookman Old Style"/>
              </a:rPr>
              <a:t>Project Plan (general)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t up aims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End product(s) &amp; D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hases and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strument, NOT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Project plan (detail)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380988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Backgrou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Objectives and problem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roject scope and pre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3352320"/>
            <a:ext cx="380988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termediate products and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roject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osts and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58920" y="2000160"/>
            <a:ext cx="6481800" cy="4597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autoRev="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54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If you fail to plan, you plan to fail.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Why projects fail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oor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tarting an activity too late (s.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oject members not compe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oject members aim at too much perfection, etc, et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300c"/>
                </a:solidFill>
                <a:latin typeface="Bookman Old Style"/>
              </a:rPr>
              <a:t>Requirements</a:t>
            </a:r>
            <a:endParaRPr b="0" lang="en-US" sz="44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42900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rojec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4005360"/>
            <a:ext cx="359892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Using 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79736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Gantt char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530064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udget (T/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50846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140360" y="2997360"/>
            <a:ext cx="4859280" cy="3311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60300c"/>
                </a:solidFill>
                <a:latin typeface="Bookman Old Style"/>
              </a:rPr>
              <a:t>Some tips</a:t>
            </a:r>
            <a:endParaRPr b="0" lang="en-US" sz="44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Work from beginning to end AND BACKWA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Begin writing a (dummy-)report AT AN EARLY STA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Appoint an (1!) EDITOR for the repo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60300c"/>
                </a:solidFill>
                <a:latin typeface="Bookman Old Style"/>
              </a:rPr>
              <a:t>Examples: Gantt char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Project Managemen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29000" y="42667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tep into the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looking for strategic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60300c"/>
                </a:solidFill>
                <a:latin typeface="Bookman Old Style"/>
              </a:rPr>
              <a:t>Examples Pert char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429000" y="42667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Also called: Project Network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87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Types of activity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2852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Improv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852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Project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2852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3357720"/>
            <a:ext cx="223380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Repet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ell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i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3429000"/>
            <a:ext cx="151308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Wh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Resul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Familiar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Freedo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Procedur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3357720"/>
            <a:ext cx="237636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edic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Reasonably c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New, 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ncreasingly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3357720"/>
            <a:ext cx="223344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d 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Unc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New, sud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Un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Project Features?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2997000"/>
            <a:ext cx="7772400" cy="36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tart-up (kick-o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imited duration (dead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End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ields of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rganizational set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urposeful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ojec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Types of projects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uilding the pyram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olumbus’ preparation for his 1492 jour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Napoleon’s war efforts to conquer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utting a man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hips, planes, construction wor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Project phases (in general)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eparation (thin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Execution (a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ftercare (maint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Project phases (in more detail)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oncept (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Definition (what to 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reliminary design (how to do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Detaile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roduction (DOING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Operation and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Organizing the team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reas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Project Manager’s characteristics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3212640"/>
            <a:ext cx="3809880" cy="31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Organi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Negoti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otiv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onflict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tress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3212640"/>
            <a:ext cx="3809880" cy="31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Goal 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Helicopter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Daily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Delegat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lan and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9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18:10:12Z</dcterms:created>
  <dc:creator>HAN</dc:creator>
  <dc:description/>
  <dc:language>en-US</dc:language>
  <cp:lastModifiedBy>christine natalia</cp:lastModifiedBy>
  <dcterms:modified xsi:type="dcterms:W3CDTF">2007-02-13T23:23:38Z</dcterms:modified>
  <cp:revision>25</cp:revision>
  <dc:subject/>
  <dc:title>Project Management</dc:title>
</cp:coreProperties>
</file>