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EB65-C53E-459A-A29A-6A850C3E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9000" y="49435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4A5-C822-4FCE-964E-93C287752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7948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F606-230B-4B3B-8884-E1A555A3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10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91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9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310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91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BB67-B1DD-4D5D-B043-94CA76C47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FB1F-860C-4379-9405-F6A21A39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6EE4-3996-4E1B-9DB8-65910893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00E95-6B88-4983-8F8D-B0D0F5618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7970-F369-4F50-B6F8-81185B32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7BEE-3488-42FE-9126-850D66F76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5120" y="24379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789C-1EB8-4C1E-87F1-FF05D9EC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1DD7B-000F-4998-8F6E-827719F7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73E-B775-402E-887E-960559C2E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7948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3ED6-F4B4-45B4-8A8F-0BF764FB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4DE8-3405-4BFA-9012-5725F376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9000" y="49435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DFD3-A996-4332-96A2-2F4D7FC3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7948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E3F33-7FE2-4981-A139-D69288FC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10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91000" y="42667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9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310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91000" y="4943520"/>
            <a:ext cx="17910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1887A-1944-434C-A60B-A9A6E34B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C93B-8455-48FE-972C-0FA34AD0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55C1-2114-416D-BE29-FD6D1CD2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684-C2F3-46D6-A4C6-75EB2172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24379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6D5-2999-47F6-A7AC-C19E2D30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A645-9D7D-45F9-8C9F-6EBB803C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79480" y="49435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E464-B4EF-45A9-A1B2-B7524E67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900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79480" y="4266720"/>
            <a:ext cx="271440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9000" y="4943520"/>
            <a:ext cx="5562720" cy="6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7D13-EC06-45EA-96BD-F6617080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 fontScale="73000"/>
          </a:bodyPr>
          <a:p>
            <a:pPr marL="444600" indent="-444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2880" indent="-389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79080" indent="-277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6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27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7560-AE71-41A6-B314-B25B4DD6555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3972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9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098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6BEF-3B82-4912-846C-72B2B61A3B1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95640" y="2781000"/>
            <a:ext cx="5943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300c"/>
                </a:solidFill>
                <a:latin typeface="Bookman Old Style"/>
              </a:rPr>
              <a:t>“</a:t>
            </a:r>
            <a:r>
              <a:rPr b="0" lang="en-US" sz="4400" spc="-1" strike="noStrike">
                <a:solidFill>
                  <a:srgbClr val="60300c"/>
                </a:solidFill>
                <a:latin typeface="Bookman Old Style"/>
              </a:rPr>
              <a:t>Having a child takes nine months, no matter how many women are assigned to the project.”</a:t>
            </a:r>
            <a:br>
              <a:rPr sz="4400"/>
            </a:br>
            <a:endParaRPr b="0" lang="en-US" sz="4400" spc="-1" strike="noStrike">
              <a:solidFill>
                <a:srgbClr val="60300c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979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Bookman Old Style"/>
              </a:rPr>
              <a:t>There are no good project managers, only lucky ones. The more you plan, the luckier you get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Aspects of Project Managemen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68360" y="2997360"/>
            <a:ext cx="4876920" cy="3657600"/>
            <a:chOff x="2268360" y="2997360"/>
            <a:chExt cx="4876920" cy="365760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2268360" y="2997360"/>
              <a:ext cx="487692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 flipV="1">
              <a:off x="3708360" y="4868640"/>
              <a:ext cx="432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92720" y="4797360"/>
              <a:ext cx="43164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95640" y="4005360"/>
              <a:ext cx="2872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716360" y="530028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003640" y="407664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60300c"/>
                </a:solidFill>
                <a:latin typeface="Bookman Old Style"/>
              </a:rPr>
              <a:t>Project Plan (general)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t up aims and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End product(s) &amp; D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hases and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Instrument, NOT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plan (detail)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380988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Backgrou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Objectives and problem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roject scope and pre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3352320"/>
            <a:ext cx="380988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Intermediate products and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Project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Costs and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isk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258920" y="2000160"/>
            <a:ext cx="6481800" cy="4597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p:transition>
    <p:strips dir="r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autoRev="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75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2852640"/>
            <a:ext cx="7772400" cy="354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If you fail to plan, you plan to fail.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Why projects fail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oor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tarting an activity too late (s.e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ject members not compe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oject members aim at too much perfection, etc, etc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0300c"/>
                </a:solidFill>
                <a:latin typeface="Bookman Old Style"/>
              </a:rPr>
              <a:t>Requirements</a:t>
            </a:r>
            <a:endParaRPr b="0" lang="en-US" sz="4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468360" y="342900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rojec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8360" y="4005360"/>
            <a:ext cx="359892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Using Microso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79736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Gantt chart 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5300640"/>
            <a:ext cx="35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udget (T/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50846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140360" y="2997360"/>
            <a:ext cx="4859280" cy="3311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60300c"/>
                </a:solidFill>
                <a:latin typeface="Bookman Old Style"/>
              </a:rPr>
              <a:t>Some tips</a:t>
            </a:r>
            <a:endParaRPr b="0" lang="en-US" sz="44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Work from beginning to end AND BACKWARD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Begin writing a (dummy-)report AT AN EARLY STA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Appoint an (1!) EDITOR for the repor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60300c"/>
                </a:solidFill>
                <a:latin typeface="Bookman Old Style"/>
              </a:rPr>
              <a:t>Examples: Gantt char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Managemen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tep into the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looking for strategic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60300c"/>
                </a:solidFill>
                <a:latin typeface="Bookman Old Style"/>
              </a:rPr>
              <a:t>Examples Pert char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429000" y="42667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Bookman Old Style"/>
              </a:rPr>
              <a:t>Also called: Project Network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87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Types of activity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6588000" y="285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Improv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2852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Project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8000" y="2852640"/>
            <a:ext cx="15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357720"/>
            <a:ext cx="223380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Repet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ell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it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3429000"/>
            <a:ext cx="151308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Wh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Resul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Familiarit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Freedom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man Old Style"/>
              </a:rPr>
              <a:t>Procedur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08360" y="3357720"/>
            <a:ext cx="237636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edic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Reasonably c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New, 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Increasingly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3357720"/>
            <a:ext cx="2233440" cy="304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d h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Uncer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New, sud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Un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Features?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2997000"/>
            <a:ext cx="7772400" cy="36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tart-up (kick-of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Limited duration (deadli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End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Fields of 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Organizational set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urposeful 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rojec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Types of projects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Building the pyram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olumbus’ preparation for his 1492 jour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Napoleon’s war efforts to conquer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utting a man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hips, planes, construction wor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phases (in general)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Preparation (thin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Execution (a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Aftercare (maint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phases (in more detail)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oncept (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efinition (what to 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reliminary design (how to do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etailed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roduction (DOING 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Operation and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Organizing the team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re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reasu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Bookman Old Style"/>
              </a:rPr>
              <a:t>Project Manager’s characteristics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3212640"/>
            <a:ext cx="3809880" cy="31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Organi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Negoti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Motiv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onflict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Stress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3212640"/>
            <a:ext cx="3809880" cy="31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Goal 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Helicopter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aily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Delegat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Plan and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9T18:10:12Z</dcterms:created>
  <dc:creator>HAN</dc:creator>
  <dc:description/>
  <dc:language>en-US</dc:language>
  <cp:lastModifiedBy>christine natalia</cp:lastModifiedBy>
  <dcterms:modified xsi:type="dcterms:W3CDTF">2007-02-13T23:23:38Z</dcterms:modified>
  <cp:revision>25</cp:revision>
  <dc:subject/>
  <dc:title>Project Management</dc:title>
</cp:coreProperties>
</file>