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C2A4-D0E4-4676-9238-4B9062992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747B-C709-44A3-9B48-FEEFC7F7A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D612-29CC-4471-BA72-11C678585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141D-969B-4EED-BAC4-7BD8684EE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FB2B-BA73-42D5-A979-0CB57BDBA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52A2-710C-46F6-A9BD-A0D4C4436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93A3-8B1F-43E7-87B2-5A842B420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1CDB-98C2-492D-AE6A-3E509D388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AEAA-1ED1-4D57-89A5-4B1681BA0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7848-22E1-471A-85D7-2CA05C18E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1474-9C24-4839-A0D5-ED17F1316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543A-183D-41E3-9C02-E5984541B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640080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882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924680" y="6400800"/>
            <a:ext cx="1067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8ACF0FFB-864F-4971-B2C9-BA7D8613FE52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Product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Manufacturing (Manufacturing Overhead or Factory Over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sts that are not traceable to the produ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D388-D723-462B-9B8F-011D8DE344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inctions Between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iable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893E-8C29-44AA-8589-9B579BD2E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of Goods Manufactu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00200"/>
          <a:ext cx="4484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4484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85800" y="2209680"/>
            <a:ext cx="4876920" cy="114300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514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s the cost of Direct Material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429000"/>
            <a:ext cx="5029200" cy="167652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5053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s the three product costs for the curren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181480"/>
            <a:ext cx="4876920" cy="91440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02920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s the current period manufacturing costs to account for units actually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C732-56EC-4DE7-96BC-3AEE5B8D8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come Stat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2209680"/>
          <a:ext cx="5052960" cy="31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052960" cy="31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876920" y="3581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25146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carries forward from the Schedule of Cost of Goods Manufac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486252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43434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Costs are expensed as in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67A7-0DBF-43BD-AF5C-4CB82B8EC9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Flowcha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12880" y="1600200"/>
          <a:ext cx="6056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600200"/>
                    <a:ext cx="6056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ABF4-8463-4B82-A282-334F8B7F2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2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vin 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Cost of Goods 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Year Ended December 3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ransportation-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16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return and allow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discou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6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purch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D869-2E53-4620-9791-3F63A6A381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29 cont’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vin 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Cost of Good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Year Ended December 3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merchandise inventory 1/1/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27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purchased (under 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available for s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79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merchandise inventory 12/31/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3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4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F6C9-DAD0-472A-A83B-3DC3C00E7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3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seco Compan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 of Cost of Goods Manufactu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ar Ended December 31,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 thousan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terial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inventory, January 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$ 22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s of direct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75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direct materials available for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97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ing inventory, December 31, 2007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26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terials u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$ 71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nufacturing la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2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manufacturing cos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manufacturing la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1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insurance                                                                                        9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—plant building &amp; equ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11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s and maintenance—plant       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4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direct manufacturing 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39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 costs incurred during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13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beginning work-in-process inventory, January 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21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manufacturing costs to account f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156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t ending work-in-process inventory, December 3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20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goods manufactured (to Income Stateme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136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3907-149C-4DE9-9B4D-55F94ACB1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30 cont’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seco Company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 Ended December 31, 200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in thousands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$300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sold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ginning finished goods, January 1, 200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$  18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manufactur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136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available for sal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154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ing finished goods, December 31, 2007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  23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131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oss margi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169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ng costs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ing, distribution, and customer-service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93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 and administrative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29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tal operating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122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$ 47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3B27-962C-4B3C-8972-4CB10CF4AE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Cost Termi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– sacrificed resource to achieve a specific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Cost – a cost that has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ed Cost – a predi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bject – anything of interest for which a cost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0AC5-240D-4CC8-AB49-B263B28BD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Cost Termi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ing accumulated cos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ing accumulate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58EA-D4AF-40C0-844D-BD5CEFDD9F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rect and Indirect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an be conveniently and economically traced (tracked) to a cos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rect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nnot be conveniently or economically traced (tracked) to a cost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83AA-6DB5-4DD7-94E3-0137BCA92B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mbly line w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4372-B91A-40FD-8F07-1FB67138DE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Behavi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8487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2819520"/>
                <a:gridCol w="28954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Total Doll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ost per Un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Variable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hange in proportion with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ore output = More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Unchanged in relation to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Fixed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Unchanged in relation to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hange inversely with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ore output = lower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per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971800" y="1981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p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7432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43434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590920"/>
            <a:ext cx="27432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in proportion with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utput = Mo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590920"/>
            <a:ext cx="2819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hanged in relation to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48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64832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hanged in relation to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648320"/>
            <a:ext cx="2819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inversely with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utput = lower cost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BC1B-6220-4135-8EF2-F10F92A192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1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00200"/>
          <a:ext cx="7772400" cy="4721400"/>
        </p:xfrm>
        <a:graphic>
          <a:graphicData uri="http://schemas.openxmlformats.org/drawingml/2006/table">
            <a:tbl>
              <a:tblPr/>
              <a:tblGrid>
                <a:gridCol w="2819160"/>
                <a:gridCol w="2432160"/>
                <a:gridCol w="252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or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or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056B-B9B5-43FF-8F2E-AC0E7EEC31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fferent Types of Fi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-sector companies – create and sell their ow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dising-sector companies – product rese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-sector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DC47-9208-41FE-AFA3-1AFCDB270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Invento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-in-Process (or progress - abbreviation W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Goods – products completed and ready for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AB56-6CF3-4686-B918-D0388D95D0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34:40Z</dcterms:created>
  <dc:creator>Michael Flores</dc:creator>
  <dc:description/>
  <dc:language>en-US</dc:language>
  <cp:lastModifiedBy>christine natalia</cp:lastModifiedBy>
  <dcterms:modified xsi:type="dcterms:W3CDTF">2006-12-28T10:25:45Z</dcterms:modified>
  <cp:revision>24</cp:revision>
  <dc:subject/>
  <dc:title>Chapter 2</dc:title>
</cp:coreProperties>
</file>