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12D1-1EDA-4A76-8B95-D90CAAC47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8FC6-252E-4552-84D9-C447A4ED4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F774-1D78-4E8C-AEB3-E85F7BC02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F8AE-4AAD-4931-A75D-A2314F544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F7B7-4B5B-4D79-9416-259B6A668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DB80-F6B3-45BA-9E53-E6B8A0FB2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718-8C31-49B3-AB3C-E273E866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DB89-2629-4F5D-801F-09E5519DF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5FEA-63CB-48B4-B5F5-79F3A5302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2E2-1FF4-4A95-BB45-C598D3B4E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71DC-1330-4DBC-B488-0502103CF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ED25-42E3-423E-8DAB-6A0401399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640080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882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924680" y="6400800"/>
            <a:ext cx="1067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0E68BA5-D3F3-4CE8-8C59-371C5959CFD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Produ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Manufacturing (Manufacturing Overhead or Factory Over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sts that are not traceable to the produ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511E-EDA4-4E50-AFB3-4C4782440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inctions Between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iable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73A3-FD16-4242-BE17-55DF38B54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of Goods Manufact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00200"/>
          <a:ext cx="4484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4484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5800" y="2209680"/>
            <a:ext cx="4876920" cy="11430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514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s the cost of Direct Materia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429000"/>
            <a:ext cx="5029200" cy="167652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5053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the three product costs for the curren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181480"/>
            <a:ext cx="4876920" cy="9144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0292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s the current period manufacturing costs to account for units actually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8293-EF6D-4944-AEA8-47FBCF4F40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come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2209680"/>
          <a:ext cx="5052960" cy="31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052960" cy="31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876920" y="3581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5146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carries forward from the Schedule of Cost of Goods Manufac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486252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3434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Costs are expensed as in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BFEB-047C-4145-8727-BEADCE9EA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Flowcha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12880" y="1600200"/>
          <a:ext cx="6056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600200"/>
                    <a:ext cx="6056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78F5-6957-4CAE-BE2A-378B041A6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ransportation-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16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return and allow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dis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6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99AB-24D2-49E2-BA92-7628C1C7E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merchandise inventory 1/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27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 (under 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79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merchandise inventory 12/3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3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4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A603-6557-42EA-80F2-880DD83BC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 of Cost of Goods Manufactu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$ 22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s of direct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75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direct materials available for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97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ing inventory, December 31, 2007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2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 u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$ 7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2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cos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1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insurance                                                                                        9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—plant building &amp;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1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s and maintenance—plant       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4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direct manufacturing 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39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 costs incurred during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13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beginning work-in-process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21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manufacturing costs to account f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156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t ending work-in-process inventory, December 3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20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goods manufactured (to Income Stateme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13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4BAA-5C58-4DA8-8D8A-2CC5F259A4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300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ginning finished goods, January 1, 200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  18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manufactur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36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154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ing finished goods, December 31, 2007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  23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131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ss margi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169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costs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ing, distribution, and customer-servic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93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and administrativ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29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 operating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22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$ 47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4257-31CF-4081-80E3-66441ACC03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– sacrificed resource to achieve a specific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Cost – a cost tha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ed Cost – a predi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bject – anything of interest for which a cost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B7FF-8C98-4B00-ABFB-0FA46F610C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ing accumulated cos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ing accumulat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7A0A-AF26-43E3-9836-0BC225B56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rect and Indire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n be conveniently and economically traced (tracked) to a cos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nnot be conveniently or economically traced (tracked) to a cost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91F3-4542-4382-8DCB-140B2C0E9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mbly line w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C4D0-57AF-4C4F-8B63-D8D0B58E0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Behavi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8487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2819520"/>
                <a:gridCol w="28954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Total Doll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ost per Un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Variable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 proportion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More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Fixed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versely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lower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per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971800" y="1981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p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7432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3434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590920"/>
            <a:ext cx="27432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 proportion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Mo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590920"/>
            <a:ext cx="2819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48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64832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648320"/>
            <a:ext cx="2819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versely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lower cost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D7E7-D978-4263-99DB-13079C053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1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00200"/>
          <a:ext cx="7772400" cy="4721400"/>
        </p:xfrm>
        <a:graphic>
          <a:graphicData uri="http://schemas.openxmlformats.org/drawingml/2006/table">
            <a:tbl>
              <a:tblPr/>
              <a:tblGrid>
                <a:gridCol w="2819160"/>
                <a:gridCol w="2432160"/>
                <a:gridCol w="252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or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or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552C-F6D4-4034-9898-A78F5190F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fferent Types of Fi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-sector companies – create and sell their ow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dising-sector companies – product rese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-sect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34A8-052D-4B67-A528-0587A8DE2A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Invento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-in-Process (or progress - abbreviation W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Goods – products completed and ready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CFC5-0DBC-4D9D-8D58-C6471D906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34:40Z</dcterms:created>
  <dc:creator>Michael Flores</dc:creator>
  <dc:description/>
  <dc:language>en-US</dc:language>
  <cp:lastModifiedBy>christine natalia</cp:lastModifiedBy>
  <dcterms:modified xsi:type="dcterms:W3CDTF">2006-12-28T10:25:45Z</dcterms:modified>
  <cp:revision>24</cp:revision>
  <dc:subject/>
  <dc:title>Chapter 2</dc:title>
</cp:coreProperties>
</file>