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95D79-FF6E-4C4D-A23E-DF8E063E5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2FA5B-A02A-4E89-8DBE-90619152D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2874-5D5F-4C04-B4B1-E822037FE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39DD-A910-4FA8-B6F3-0EA09F2C43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6C38-9FCF-4A92-ABD5-D94A5B7AA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8E9A-9C62-419B-8290-A84550C7D0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831ED-6A01-4373-9448-0CD1E352D1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DAFFC-E3F2-44C7-AC5C-AFD54235A7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2519-042C-4F13-B75E-945788C9B8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3317-60BC-4F89-AF14-14CCB8A25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1FC13-2BC3-4A8F-95A9-FEB226765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D1EE2-B7DF-4525-8F7E-5E7DF598F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640080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8820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7924680" y="6400800"/>
            <a:ext cx="10670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8B22D5B2-BA4F-4578-AFAF-44BB9B0D2F8A}" type="slidenum"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2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Product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Manufacturing (Manufacturing Overhead or Factory Overh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y costs that are not traceable to the produ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2890-4EA3-4437-926E-3BCBD56310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stinctions Between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ntoriable Co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4F3DE-074C-4A61-8B4E-B1DE299DCB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of Goods Manufacture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600200"/>
          <a:ext cx="448452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448452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85800" y="2209680"/>
            <a:ext cx="4876920" cy="114300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514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s the cost of Direct Material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429000"/>
            <a:ext cx="5029200" cy="167652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38680" y="350532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es the three product costs for the current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181480"/>
            <a:ext cx="4876920" cy="914400"/>
          </a:xfrm>
          <a:prstGeom prst="bracePair">
            <a:avLst>
              <a:gd name="adj" fmla="val 8333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029200"/>
            <a:ext cx="320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s the current period manufacturing costs to account for units actually comp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187C-D02C-4EAA-9621-08C79AB75FA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indefinite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indefinite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come Stat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914400" y="2209680"/>
          <a:ext cx="5052960" cy="317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09680"/>
                    <a:ext cx="5052960" cy="317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4876920" y="358128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2514600"/>
            <a:ext cx="2133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carries forward from the Schedule of Cost of Goods Manufac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486252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4343400"/>
            <a:ext cx="22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 Costs are expensed as incu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FF13-9A1F-44DB-A69E-5D50ECCD18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Flowcha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712880" y="1600200"/>
          <a:ext cx="605628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1600200"/>
                    <a:ext cx="60562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2C306-112A-43CB-AE36-8C65319060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2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vin 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Cost of Goods Purch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Year Ended December 3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5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ransportation-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16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return and allowa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$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discou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6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purcha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806D-3F22-45F6-BBCD-0178287585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29 cont’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vin Department 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e of Cost of Goods S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Year Ended December 31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ousan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ning merchandise inventory 1/1/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 27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purchased (under a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5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available for s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79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ing merchandise inventory 12/31/200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34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14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E67A-805D-4149-98C1-52163C4437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30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seco Compan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edule of Cost of Goods Manufacture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ar Ended December 31, 200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in thousands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terial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ning inventory, January 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$ 22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chases of direct materi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75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direct materials available for u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97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ing inventory, December 31, 2007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26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terials u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$ 71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manufacturing la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2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manufacturing cost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manufacturing lab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1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 insurance                                                                                        9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ciation—plant building &amp; equip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11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s and maintenance—plant       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  4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indirect manufacturing cos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39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ufacturing costs incurred during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135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beginning work-in-process inventory, January 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21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manufacturing costs to account f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156,000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duct ending work-in-process inventory, December 31, 20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   20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of goods manufactured (to Income Stateme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$136,00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FB0BA-57FD-42A1-9CFF-FC28A024B2C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30 cont’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nseco Company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come Statement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Year Ended December 31, 2007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in thousands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venue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$300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sold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ginning finished goods, January 1, 200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$  18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manufacture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136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available for sal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154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ing finished goods, December 31, 2007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  23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st of goods sol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131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ross margi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169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ng costs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rketing, distribution, and customer-service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93,000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eneral and administrative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29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tal operating costs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  122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$ 47,00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01EE4-5B5A-48F6-A43A-850D077D0C9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Cost Termi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– sacrificed resource to achieve a specific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Cost – a cost that has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ed Cost – a predicte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Object – anything of interest for which a cost is des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B5A6-9F91-4671-8B40-E92A34D6A3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asic Cost Terminolog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ccu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cing accumulated cos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cating accumulate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FE82-2E21-4EA2-98E1-42003EA8F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rect and Indirect Cost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can be conveniently and economically traced (tracked) to a cost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rect Co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annot be conveniently or economically traced (tracked) to a cost objec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016F-511D-4563-AA7D-58C40E0D58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Examp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embly line w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erty tax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477A-6433-486B-BF62-6C4E524EE5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st Behavio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8487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2819520"/>
                <a:gridCol w="289548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Total Dollar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5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ost per Unit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Variable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hange in proportion with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ore output = More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Unchanged in relation to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Fixed Cos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Unchanged in relation to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Change inversely with 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More output = lower cos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lang="en-US" sz="1600" spc="-1" strike="noStrike">
                          <a:solidFill>
                            <a:srgbClr val="ffffe1"/>
                          </a:solidFill>
                          <a:latin typeface="Arial"/>
                        </a:rPr>
                        <a:t>per un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2971800" y="19810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E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1981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p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274320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4343400"/>
            <a:ext cx="2819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71800" y="2590920"/>
            <a:ext cx="27432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in proportion with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utput = More c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2590920"/>
            <a:ext cx="2819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hanged in relation to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46483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xe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4648320"/>
            <a:ext cx="2743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changed in relation to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648320"/>
            <a:ext cx="28191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ange inversely with outpu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output = lower cost per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15BA6-3B3E-453B-B83B-FE7FCB6E02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2-1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00200"/>
          <a:ext cx="7772400" cy="4721400"/>
        </p:xfrm>
        <a:graphic>
          <a:graphicData uri="http://schemas.openxmlformats.org/drawingml/2006/table">
            <a:tbl>
              <a:tblPr/>
              <a:tblGrid>
                <a:gridCol w="2819160"/>
                <a:gridCol w="2432160"/>
                <a:gridCol w="252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 It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 or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 or 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2AE4-5D32-4DFA-A05F-A72F7353F9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fferent Types of Firm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ing-sector companies – create and sell their ow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dising-sector companies – product resel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-sector 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9DB8-9CDC-47C1-9024-0C32CCAD65C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ypes of Inventori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458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ateri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-in-Process (or progress - abbreviation WI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shed Goods – products completed and ready for s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572E-2D2F-4785-91C9-99931DEA1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34:40Z</dcterms:created>
  <dc:creator>Michael Flores</dc:creator>
  <dc:description/>
  <dc:language>en-US</dc:language>
  <cp:lastModifiedBy>christine natalia</cp:lastModifiedBy>
  <dcterms:modified xsi:type="dcterms:W3CDTF">2006-12-28T10:25:45Z</dcterms:modified>
  <cp:revision>24</cp:revision>
  <dc:subject/>
  <dc:title>Chapter 2</dc:title>
</cp:coreProperties>
</file>