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924680" y="6400800"/>
            <a:ext cx="1067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3-</a:t>
            </a:r>
            <a:fld id="{F340A629-CFA0-4529-BB9D-A9312FEFC05E}" type="slidenum"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6324480"/>
            <a:ext cx="883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o accompan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st Accounting 12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y Horngren/Datar/Foster. Copyright © 2006 by Pearson Education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31188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Accounting and Financ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 2 – Lectur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H FLOWS – DIREC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sh Flow Statemen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826920" y="1628640"/>
            <a:ext cx="7921800" cy="4305600"/>
            <a:chOff x="826920" y="1628640"/>
            <a:chExt cx="7921800" cy="4305600"/>
          </a:xfrm>
        </p:grpSpPr>
        <p:sp>
          <p:nvSpPr>
            <p:cNvPr id="98" name=""/>
            <p:cNvSpPr/>
            <p:nvPr/>
          </p:nvSpPr>
          <p:spPr>
            <a:xfrm>
              <a:off x="826920" y="1628640"/>
              <a:ext cx="2232000" cy="83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Balance Sh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December 31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20x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16720" y="1628640"/>
              <a:ext cx="2232000" cy="834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Balance Sh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December 31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20x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23400" y="5479200"/>
              <a:ext cx="4016880" cy="45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Statement of Cash Flow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23400" y="4264920"/>
              <a:ext cx="4016880" cy="45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Statement of Retained Inc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23400" y="3202920"/>
              <a:ext cx="4016880" cy="455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 Unicode MS"/>
                </a:rPr>
                <a:t>Statement of Inco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1830960" y="2519640"/>
              <a:ext cx="360" cy="31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830960" y="3422880"/>
              <a:ext cx="893160" cy="360"/>
              <a:chOff x="1830960" y="3422880"/>
              <a:chExt cx="893160" cy="360"/>
            </a:xfrm>
          </p:grpSpPr>
          <p:sp>
            <p:nvSpPr>
              <p:cNvPr id="105" name=""/>
              <p:cNvSpPr/>
              <p:nvPr/>
            </p:nvSpPr>
            <p:spPr>
              <a:xfrm>
                <a:off x="1830960" y="342288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165400" y="342288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1830960" y="4482000"/>
              <a:ext cx="893160" cy="360"/>
              <a:chOff x="1830960" y="4482000"/>
              <a:chExt cx="893160" cy="360"/>
            </a:xfrm>
          </p:grpSpPr>
          <p:sp>
            <p:nvSpPr>
              <p:cNvPr id="108" name=""/>
              <p:cNvSpPr/>
              <p:nvPr/>
            </p:nvSpPr>
            <p:spPr>
              <a:xfrm>
                <a:off x="1830960" y="448200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165400" y="448200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1830960" y="5706720"/>
              <a:ext cx="893160" cy="360"/>
              <a:chOff x="1830960" y="5706720"/>
              <a:chExt cx="893160" cy="360"/>
            </a:xfrm>
          </p:grpSpPr>
          <p:sp>
            <p:nvSpPr>
              <p:cNvPr id="111" name=""/>
              <p:cNvSpPr/>
              <p:nvPr/>
            </p:nvSpPr>
            <p:spPr>
              <a:xfrm>
                <a:off x="1830960" y="570672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65400" y="570672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6755400" y="3420000"/>
              <a:ext cx="893160" cy="360"/>
              <a:chOff x="6755400" y="3420000"/>
              <a:chExt cx="893160" cy="360"/>
            </a:xfrm>
          </p:grpSpPr>
          <p:sp>
            <p:nvSpPr>
              <p:cNvPr id="114" name=""/>
              <p:cNvSpPr/>
              <p:nvPr/>
            </p:nvSpPr>
            <p:spPr>
              <a:xfrm>
                <a:off x="6755400" y="342000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89840" y="342000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755400" y="4479120"/>
              <a:ext cx="893160" cy="360"/>
              <a:chOff x="6755400" y="4479120"/>
              <a:chExt cx="893160" cy="360"/>
            </a:xfrm>
          </p:grpSpPr>
          <p:sp>
            <p:nvSpPr>
              <p:cNvPr id="117" name=""/>
              <p:cNvSpPr/>
              <p:nvPr/>
            </p:nvSpPr>
            <p:spPr>
              <a:xfrm>
                <a:off x="6755400" y="447912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089840" y="447912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6755400" y="5703480"/>
              <a:ext cx="893160" cy="360"/>
              <a:chOff x="6755400" y="5703480"/>
              <a:chExt cx="893160" cy="360"/>
            </a:xfrm>
          </p:grpSpPr>
          <p:sp>
            <p:nvSpPr>
              <p:cNvPr id="120" name=""/>
              <p:cNvSpPr/>
              <p:nvPr/>
            </p:nvSpPr>
            <p:spPr>
              <a:xfrm>
                <a:off x="6755400" y="5703480"/>
                <a:ext cx="4471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089840" y="5703480"/>
                <a:ext cx="5587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flipV="1">
              <a:off x="7647840" y="2519640"/>
              <a:ext cx="720" cy="318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sh Flows from Operation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71640" y="1773360"/>
          <a:ext cx="7772400" cy="3759120"/>
        </p:xfrm>
        <a:graphic>
          <a:graphicData uri="http://schemas.openxmlformats.org/drawingml/2006/table">
            <a:tbl>
              <a:tblPr/>
              <a:tblGrid>
                <a:gridCol w="4017960"/>
                <a:gridCol w="3754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In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Out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llections from custom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t and dividends collected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operating receipt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payments to suppli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payments to employ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t and taxes pai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ther operating cash pay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ash Flows from Investment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844640"/>
          <a:ext cx="7772400" cy="2955960"/>
        </p:xfrm>
        <a:graphic>
          <a:graphicData uri="http://schemas.openxmlformats.org/drawingml/2006/table">
            <a:tbl>
              <a:tblPr/>
              <a:tblGrid>
                <a:gridCol w="4017960"/>
                <a:gridCol w="3754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In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Out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 of property, plant, and    equi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 of securities that are not cash equival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eipt of loan repayment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chase of property, plant, and equip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rchase of securities that are not cash equival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king lo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Cash Flows from Financing Activiti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71640" y="1844640"/>
          <a:ext cx="7772400" cy="3321000"/>
        </p:xfrm>
        <a:graphic>
          <a:graphicData uri="http://schemas.openxmlformats.org/drawingml/2006/table">
            <a:tbl>
              <a:tblPr/>
              <a:tblGrid>
                <a:gridCol w="4017960"/>
                <a:gridCol w="3754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In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h Outflow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rrowing cash from credito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ing equity secur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suing debt securities (including the purchase of treasury stock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ayment of amounts borrow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urchase of equity sh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yment of dividends</a:t>
                      </a:r>
                      <a:r>
                        <a:rPr b="0" lang="nl-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b2b2b2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mportant Things to Remember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reciation is never cash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 capital (debt or equity) to maintain on-going operations = &gt; Financing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st capital (excessive cash) in activities outside of the company’s core business in order to obtain extra return =&gt; Investing 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ash Flow Statement Framework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1557360"/>
            <a:ext cx="8604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h Flows from Operat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tract Paymen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 Cash Flow from Operating Activ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-b)…..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h Flows from Financing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tract Outf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 Cash Flow from Operating Activ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c-d)…..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h Flows from Investment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tract Outflow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 Cash Flow from Investment Activiti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-f)……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Net Increase (Decrease) in Cash 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0033"/>
                </a:solidFill>
                <a:latin typeface="Times New Roman"/>
              </a:rPr>
              <a:t>(1) + (2) + (3)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: Beginning Balance Cas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Ending Balance Cash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NC+BB…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5-45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se 5-49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3T23:41:51Z</dcterms:created>
  <dc:creator>Aleksandra Goceva</dc:creator>
  <dc:description/>
  <dc:language>en-US</dc:language>
  <cp:lastModifiedBy>christine natalia</cp:lastModifiedBy>
  <dcterms:modified xsi:type="dcterms:W3CDTF">2006-12-28T10:22:31Z</dcterms:modified>
  <cp:revision>14</cp:revision>
  <dc:subject/>
  <dc:title>Breakeven Point, extended:  Profit Planning</dc:title>
</cp:coreProperties>
</file>