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24680" y="6400800"/>
            <a:ext cx="1067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-</a:t>
            </a:r>
            <a:fld id="{E3EC6044-B339-47BB-A3C3-B1F4F868868B}" type="slidenum"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32448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 accomp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Accounting 12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y Horngren/Datar/Foster. Copyright © 2006 by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3118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ccounting and Finan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2 – Lectur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FLOWS – DIR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h Flow Stat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26920" y="1628640"/>
            <a:ext cx="7921800" cy="4305600"/>
            <a:chOff x="826920" y="1628640"/>
            <a:chExt cx="7921800" cy="4305600"/>
          </a:xfrm>
        </p:grpSpPr>
        <p:sp>
          <p:nvSpPr>
            <p:cNvPr id="98" name=""/>
            <p:cNvSpPr/>
            <p:nvPr/>
          </p:nvSpPr>
          <p:spPr>
            <a:xfrm>
              <a:off x="826920" y="1628640"/>
              <a:ext cx="2232000" cy="83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Balance Sh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December 31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20x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16720" y="1628640"/>
              <a:ext cx="2232000" cy="83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Balance Sh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December 31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20x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23400" y="5479200"/>
              <a:ext cx="4016880" cy="45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Statement of Cash Flo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23400" y="4264920"/>
              <a:ext cx="4016880" cy="45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Statement of Retained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23400" y="3202920"/>
              <a:ext cx="4016880" cy="45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Statement of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830960" y="2519640"/>
              <a:ext cx="360" cy="31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830960" y="3422880"/>
              <a:ext cx="893160" cy="360"/>
              <a:chOff x="1830960" y="3422880"/>
              <a:chExt cx="893160" cy="360"/>
            </a:xfrm>
          </p:grpSpPr>
          <p:sp>
            <p:nvSpPr>
              <p:cNvPr id="105" name=""/>
              <p:cNvSpPr/>
              <p:nvPr/>
            </p:nvSpPr>
            <p:spPr>
              <a:xfrm>
                <a:off x="1830960" y="342288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165400" y="342288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830960" y="4482000"/>
              <a:ext cx="893160" cy="360"/>
              <a:chOff x="1830960" y="4482000"/>
              <a:chExt cx="893160" cy="360"/>
            </a:xfrm>
          </p:grpSpPr>
          <p:sp>
            <p:nvSpPr>
              <p:cNvPr id="108" name=""/>
              <p:cNvSpPr/>
              <p:nvPr/>
            </p:nvSpPr>
            <p:spPr>
              <a:xfrm>
                <a:off x="1830960" y="448200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65400" y="448200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830960" y="5706720"/>
              <a:ext cx="893160" cy="360"/>
              <a:chOff x="1830960" y="5706720"/>
              <a:chExt cx="893160" cy="36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0960" y="570672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65400" y="570672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755400" y="3420000"/>
              <a:ext cx="893160" cy="360"/>
              <a:chOff x="6755400" y="3420000"/>
              <a:chExt cx="893160" cy="360"/>
            </a:xfrm>
          </p:grpSpPr>
          <p:sp>
            <p:nvSpPr>
              <p:cNvPr id="114" name=""/>
              <p:cNvSpPr/>
              <p:nvPr/>
            </p:nvSpPr>
            <p:spPr>
              <a:xfrm>
                <a:off x="6755400" y="342000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89840" y="342000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755400" y="4479120"/>
              <a:ext cx="893160" cy="360"/>
              <a:chOff x="6755400" y="4479120"/>
              <a:chExt cx="893160" cy="360"/>
            </a:xfrm>
          </p:grpSpPr>
          <p:sp>
            <p:nvSpPr>
              <p:cNvPr id="117" name=""/>
              <p:cNvSpPr/>
              <p:nvPr/>
            </p:nvSpPr>
            <p:spPr>
              <a:xfrm>
                <a:off x="6755400" y="447912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89840" y="447912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755400" y="5703480"/>
              <a:ext cx="893160" cy="360"/>
              <a:chOff x="6755400" y="5703480"/>
              <a:chExt cx="893160" cy="360"/>
            </a:xfrm>
          </p:grpSpPr>
          <p:sp>
            <p:nvSpPr>
              <p:cNvPr id="120" name=""/>
              <p:cNvSpPr/>
              <p:nvPr/>
            </p:nvSpPr>
            <p:spPr>
              <a:xfrm>
                <a:off x="6755400" y="570348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89840" y="570348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flipV="1">
              <a:off x="7647840" y="2519640"/>
              <a:ext cx="720" cy="31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h Flows from Ope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71640" y="1773360"/>
          <a:ext cx="7772400" cy="3759120"/>
        </p:xfrm>
        <a:graphic>
          <a:graphicData uri="http://schemas.openxmlformats.org/drawingml/2006/table">
            <a:tbl>
              <a:tblPr/>
              <a:tblGrid>
                <a:gridCol w="4017960"/>
                <a:gridCol w="375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In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Out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ections from custo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 and dividends collect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operating receipt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payments to suppli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payments to employ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 and taxes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operating cash pay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ash Flows from Investment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844640"/>
          <a:ext cx="7772400" cy="2955960"/>
        </p:xfrm>
        <a:graphic>
          <a:graphicData uri="http://schemas.openxmlformats.org/drawingml/2006/table">
            <a:tbl>
              <a:tblPr/>
              <a:tblGrid>
                <a:gridCol w="4017960"/>
                <a:gridCol w="375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In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Out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of property, plant, and    equi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of securities that are not cash equival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ipt of loan repayment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chase of property, plant, and equi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chase of securities that are not cash equival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ing lo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ash Flows from Financing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1844640"/>
          <a:ext cx="7772400" cy="3321000"/>
        </p:xfrm>
        <a:graphic>
          <a:graphicData uri="http://schemas.openxmlformats.org/drawingml/2006/table">
            <a:tbl>
              <a:tblPr/>
              <a:tblGrid>
                <a:gridCol w="4017960"/>
                <a:gridCol w="375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In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Out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ing cash from credi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ing equity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ing debt securities (including the purchase of treasury stoc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ayment of amounts borrow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urchase of equity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yment of dividends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Things to Rememb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is never cas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capital (debt or equity) to maintain on-going operations = &gt; Financ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 capital (excessive cash) in activities outside of the company’s core business in order to obtain extra return =&gt; Investing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h Flow Statement Framework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h Flows from Operat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ract Paym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 Cash Flow from Operating Acti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-b)…..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h Flows from Financ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ract Out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 Cash Flow from Operating Acti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-d)…..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h Flows from Investmen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ract Out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 Cash Flow from Investment Acti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-f)……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Net Increase (Decrease) in Cash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(1) + (2) + (3)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: Beginning Balance Ca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nding Balance Cash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NC+BB…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5-4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5-4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3:41:51Z</dcterms:created>
  <dc:creator>Aleksandra Goceva</dc:creator>
  <dc:description/>
  <dc:language>en-US</dc:language>
  <cp:lastModifiedBy>christine natalia</cp:lastModifiedBy>
  <dcterms:modified xsi:type="dcterms:W3CDTF">2006-12-28T10:22:31Z</dcterms:modified>
  <cp:revision>14</cp:revision>
  <dc:subject/>
  <dc:title>Breakeven Point, extended:  Profit Planning</dc:title>
</cp:coreProperties>
</file>