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6400800"/>
            <a:ext cx="106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fld id="{B96242C6-C2F5-4BCB-8EDA-487F34CAB2F8}" type="slidenum"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3244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311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1147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eakeven Poi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is point, a firm has no profit or loss at a given sales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*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FC = OI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 (quantit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Q = FC ÷ 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Reve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r = FC ÷ C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reakeven Point and Target Incom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 - Profit Plann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t is now reinstated to the BE formula, changing it to a simple sales volume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(FC + O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VP and Income Tax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153280" cy="403884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-tax Net Income can be calcul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I x (1-Tax Rate) = 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OI = NI/(1-Tax R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can substitute into the profit planning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FC + OI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= [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C + NI/(1-Tax Rate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ting Lever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Leverage (OL) is the effect that fixed costs have on changes in operating income as changes occur in units sold, expressed as changes in contribution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tribution Mar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 these two items are identical, except for fixe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Sales-Mix on CV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e presented to this point have assumed a single product is produced and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ealistic scenario involves multiple products sold, in different volumes, with differ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mplicity’s sake, only two products will be presented, but this could easily be extended to even mor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Sales-Mix on CV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9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ighted-average CM must be calculated (in this case, for two product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w CM would be used in CVP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666880"/>
          <a:ext cx="7045560" cy="7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70455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95600" y="4498920"/>
          <a:ext cx="3746520" cy="941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5600" y="4498920"/>
                    <a:ext cx="37465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38280" y="3048120"/>
            <a:ext cx="586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876920"/>
            <a:ext cx="243828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ltiple Cost Driv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s may arise from multiple cost drivers or activities.  A separate variable cost needs to be calculated for each driver.  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or patient c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enger m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credit-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tribution Margin vs.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Gross Profit Comparative Statement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725560"/>
          <a:ext cx="38131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25560"/>
                    <a:ext cx="38131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873680" y="2751120"/>
          <a:ext cx="3813120" cy="222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3680" y="2751120"/>
                    <a:ext cx="38131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3:41:51Z</dcterms:created>
  <dc:creator>Aleksandra Goceva</dc:creator>
  <dc:description/>
  <dc:language>en-US</dc:language>
  <cp:lastModifiedBy>christine natalia</cp:lastModifiedBy>
  <dcterms:modified xsi:type="dcterms:W3CDTF">2006-12-28T10:23:46Z</dcterms:modified>
  <cp:revision>4</cp:revision>
  <dc:subject/>
  <dc:title>Breakeven Point, extended:  Profit Planning</dc:title>
</cp:coreProperties>
</file>