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24680" y="6400800"/>
            <a:ext cx="1067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-</a:t>
            </a:r>
            <a:fld id="{A8D3AC4A-8477-4F91-B198-6E228B87C5F0}" type="slidenum"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32448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 accompan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Accounting 12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y Horngren/Datar/Foster. Copyright © 2006 by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3118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0560" y="114732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ccounting and Financ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2 – Lecture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Breakeven Poi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is point, a firm has no profit or loss at a given sales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*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FC = OI = 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even Point (quantit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Q = FC ÷ C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even Reven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r = FC ÷ C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Breakeven Point and Target Incom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even Point - Profit Planning t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fit is now reinstated to the BE formula, changing it to a simple sales volume eq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(FC + O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VP and Income Tax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8153280" cy="4038840"/>
          </a:xfrm>
          <a:prstGeom prst="rect">
            <a:avLst/>
          </a:prstGeom>
          <a:noFill/>
          <a:ln w="9360">
            <a:solidFill>
              <a:srgbClr val="ffffe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-tax Net Income can be calculat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I x (1-Tax Rate) = N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=&gt;  OI = NI/(1-Tax R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can substitute into the profit planning eq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 =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(FC + OI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 = [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FC + NI/(1-Tax Rate)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perating Leverag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Leverage (OL) is the effect that fixed costs have on changes in operating income as changes occur in units sold, expressed as changes in contribution mar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L =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tribution Marg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ng Inc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ce these two items are identical, except for fixed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ffects of Sales-Mix on CV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ulae presented to this point have assumed a single product is produced and s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ealistic scenario involves multiple products sold, in different volumes, with differen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mplicity’s sake, only two products will be presented, but this could easily be extended to even mor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ffects of Sales-Mix on CV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99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ighted-average CM must be calculated (in this case, for two product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new CM would be used in CVP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95280" y="2666880"/>
          <a:ext cx="7045560" cy="78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666880"/>
                    <a:ext cx="704556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2595600" y="4498920"/>
          <a:ext cx="3746520" cy="941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5600" y="4498920"/>
                    <a:ext cx="3746520" cy="9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438280" y="3048120"/>
            <a:ext cx="586764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4876920"/>
            <a:ext cx="2438280" cy="0"/>
          </a:xfrm>
          <a:prstGeom prst="line">
            <a:avLst/>
          </a:prstGeom>
          <a:ln w="28440">
            <a:solidFill>
              <a:srgbClr val="ffff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ultiple Cost Driv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costs may arise from multiple cost drivers or activities.  A separate variable cost needs to be calculated for each driver.  Exampl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er or patient cou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ssenger m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tient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 credit-ho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ontribution Margin vs.</a:t>
            </a:r>
            <a:br>
              <a:rPr sz="3400"/>
            </a:b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Gross Profit Comparative Statements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2725560"/>
          <a:ext cx="3813120" cy="227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725560"/>
                    <a:ext cx="3813120" cy="22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873680" y="2751120"/>
          <a:ext cx="3813120" cy="2228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3680" y="2751120"/>
                    <a:ext cx="38131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3:41:51Z</dcterms:created>
  <dc:creator>Aleksandra Goceva</dc:creator>
  <dc:description/>
  <dc:language>en-US</dc:language>
  <cp:lastModifiedBy>christine natalia</cp:lastModifiedBy>
  <dcterms:modified xsi:type="dcterms:W3CDTF">2006-12-28T10:23:46Z</dcterms:modified>
  <cp:revision>4</cp:revision>
  <dc:subject/>
  <dc:title>Breakeven Point, extended:  Profit Planning</dc:title>
</cp:coreProperties>
</file>