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76C6F-B90F-45A7-A396-94FCDB382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ACDA1-40AA-41F9-918E-7D744BB3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1A727-7E39-44C1-8187-843260B5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2184E-573F-4095-8105-A1EBF560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CC7F-9D47-437F-B72A-D63B0CEA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DCD1-8B02-4CAD-99D7-FD1D7FAF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C5AE-F547-4236-895B-267DA9EF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4298-37F2-4FCA-BEA0-86EEEF99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DDA5-8D73-48EE-8F22-FB07822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A0A5-D577-49E8-9CD0-D88E376D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9CA1-1B9B-4212-B57F-99427ACD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24601-8052-4234-8A49-1C1B99D0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31E2-F801-4D99-958D-FC33C2AA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0F99B-ACBD-491A-A526-28E6A346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3D3E-EEEC-4839-81F3-E9452016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3598-5C34-4017-A710-ED740B0B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BEC5-64EA-46BD-9C00-36456E15B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2D6B0-A76D-4A94-B2E9-ABB1B0AE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187A-4E28-45EC-8D09-E7284773D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2B8F-5A25-45C4-95F7-1563D96E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BA03E-6D9A-4567-952A-D5E14C92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41C63-D474-4E11-BDBD-7A189DF5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359FE-DEAE-4D30-938F-1BFFA745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22FE9-C108-43E9-8A02-A9C0DC50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30A8-A405-4228-913D-06B0E676B374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F4B4-D1D5-4CD2-B717-7B082F5C8C89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rulecam.net/pivotbeta/images/sinterklaas.gif&amp;imgrefurl=http://www.rulecam.net/pivotbeta/archives/archive_2004-m12.php&amp;h=262&amp;w=196&amp;sz=39&amp;hl=nl&amp;start=9&amp;tbnid=tl70_pVFPDTo0M:&amp;tbnh=112&amp;tbnw=84&amp;prev=/images%3Fq%3Dsinterklaas%26svnum%3D10%26hl%3Dnl%26lr%3D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llandemb.org.eg/images/beatrix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tl.nl/components/actueel/rtlboulevard/2002/royalty/juni/images/wa_maxima2klein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bureaucratie.tinoz.com/balkenende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e5e5ff"/>
                </a:solidFill>
                <a:latin typeface="Garamond"/>
              </a:rPr>
              <a:t>Dutch 2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inks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      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ch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P  GL  PvdA  D66   CU    CDA   VVD   OR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idd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dnesday: Electon da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19162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62728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1916280"/>
            <a:ext cx="0" cy="288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67280" y="198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1916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00720" y="1916280"/>
            <a:ext cx="7164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36000" y="1989000"/>
            <a:ext cx="288720" cy="287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7524360" y="1916280"/>
            <a:ext cx="3603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00720" y="1197000"/>
            <a:ext cx="0" cy="244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word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kiez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el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et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temm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eilin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al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rtij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eerderh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tij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oali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minderheid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zweve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pposti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nn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reger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liezen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t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in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uitsla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verkiezing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formati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uiste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efening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et programma van vandaa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oefeningen hoofdstuk 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olitiek in Nederla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luister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interkla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 is different from Santacla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oth men are famous for giving pres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interklaas has arrived last Sunday en celebrates his birthday in our country an Belgium. His official Birthday is Dec, 6th, but in Holland, we celebrate that the 5th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177336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651640" y="5373720"/>
            <a:ext cx="110484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words Sinterkla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de Si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ie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boot (stoomboot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kje (pakjesavon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adea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oorsteen (=chimne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schimm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intoc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e5e5ff"/>
                </a:solidFill>
                <a:latin typeface="Garamond"/>
              </a:rPr>
              <a:t>a brief histor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Untill the Middle Ages (-15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The influence of Spain and Luther (1500- 18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Willem van Oranj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The Golden Centur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Napoleon and exit Belgium (1800-183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WW1&amp;2 (1914-194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Rebuilding in poverty (1945-197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1953 and the battle against the wa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Garamond"/>
              </a:rPr>
              <a:t>Pillar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70s as a fundament for today’s mor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efeningen H5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tekstboek (= blauwe boek) bladzijde, oefening 1, 2, 4, 7, 8, (9), 10, 11, (12), 13, 1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werkboek blz 49, oefening 9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Queen: Beatrix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rown Prince: Willem-Alexander and his wife Maxim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700280"/>
            <a:ext cx="80820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3640" y="3645000"/>
            <a:ext cx="1046160" cy="13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arlement: 2 Kam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- 1</a:t>
            </a:r>
            <a:r>
              <a:rPr b="0" lang="nl-NL" sz="3200" spc="-1" strike="noStrike" baseline="30000">
                <a:solidFill>
                  <a:srgbClr val="ffffff"/>
                </a:solidFill>
                <a:latin typeface="Garamond"/>
              </a:rPr>
              <a:t>st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Kamer (Upper House): 75 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nl-NL" sz="3200" spc="-1" strike="noStrike" baseline="30000">
                <a:solidFill>
                  <a:srgbClr val="ffffff"/>
                </a:solidFill>
                <a:latin typeface="Garamond"/>
              </a:rPr>
              <a:t>de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 Kamer (Lower House): 150 p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Cabinet: 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Prime minister: Balkenen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Garamond"/>
              </a:rPr>
              <a:t>15 minis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149720"/>
            <a:ext cx="581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olitie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arties in the parli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PVDA (Labour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DA (Christian Democrat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VVD (Liber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SP (socialistic Par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GroenLinks (The Green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D66 (social liberal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ChristenUnie (Christian Part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Garamond"/>
              </a:rPr>
              <a:t>some right Parti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10:40:39Z</dcterms:created>
  <dc:creator>B. van Eerd</dc:creator>
  <dc:description/>
  <dc:language>en-US</dc:language>
  <cp:lastModifiedBy>christine natalia</cp:lastModifiedBy>
  <dcterms:modified xsi:type="dcterms:W3CDTF">2007-01-09T17:25:46Z</dcterms:modified>
  <cp:revision>5</cp:revision>
  <dc:subject/>
  <dc:title>Dutch 2</dc:title>
</cp:coreProperties>
</file>