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91F55-9A68-4D38-9911-DA82F560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1EF25-CB94-4C07-8FD8-48ECE08F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DC647-C8CA-4F72-B1F1-35EDBA27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E47EE-F2BD-4891-98B1-C3EA6CEC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C1C4-234B-4784-9383-0E2575D7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0C92-2C3D-4CD5-AC7A-EFB3C652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2373-A972-49DE-A277-13C01CD2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6315-D2C7-468D-9D5E-02F468AE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6047-97C6-4F21-8EF1-48143995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AF88-0343-437B-BD57-324C9F6C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B3BC-E81A-49B9-B637-BDD547BC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CFCD6-4FBB-45BA-9094-7147344B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DE08-17B8-4541-8439-96BE854E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0FEE-0E7B-4756-B84E-EB502B3A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0650-2FB5-48D2-970B-99BE4722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E7A5-89EF-46A5-AA6A-210C6E82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F200-9F27-4C75-919B-C56C48D8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63C8B-5B51-4AB8-B7FC-3BDDA7A4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A3C27-357C-4CD6-A448-4AAB66A4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53D88-6AE3-48BF-A28F-AB814490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978FC-759B-43A1-A987-97153190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69BED-0F10-4856-B1C3-A533A40E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EBB7A-9305-4519-95A2-F037ED50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E0C34-BFCD-4FDB-AD0F-A4B8F750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1E51-D332-4C5F-8EBB-A6C891680FA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D6D6-4B6D-4845-9442-45A715D1046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rulecam.net/pivotbeta/images/sinterklaas.gif&amp;imgrefurl=http://www.rulecam.net/pivotbeta/archives/archive_2004-m12.php&amp;h=262&amp;w=196&amp;sz=39&amp;hl=nl&amp;start=9&amp;tbnid=tl70_pVFPDTo0M:&amp;tbnh=112&amp;tbnw=84&amp;prev=/images%3Fq%3Dsinterklaas%26svnum%3D10%26hl%3Dnl%26lr%3D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ollandemb.org.eg/images/beatrix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rtl.nl/components/actueel/rtlboulevard/2002/royalty/juni/images/wa_maxima2klein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ureaucratie.tinoz.com/balkenende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5e5ff"/>
                </a:solidFill>
                <a:latin typeface="Garamond"/>
              </a:rPr>
              <a:t>Dutch 2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 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ti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inks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ech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P  GL  PvdA  D66   CU    CDA   VVD   OR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id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ednesday: Electon d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19162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19162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1916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27280" y="1916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32000" y="19162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1989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6720" y="1916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1916280"/>
            <a:ext cx="71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36000" y="1989000"/>
            <a:ext cx="28872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524360" y="1916280"/>
            <a:ext cx="3603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119700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word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iez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eleid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et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temm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eiling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al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artij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eerderheid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tij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coalitie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inderheid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weven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ppostitie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nn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eger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liez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et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n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uitslag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kiezing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formatie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efen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t programma van vanda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interkla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 brief hi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efeningen hoofdstuk 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olitiek in Nederl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uis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interkla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interklaas is different from Santacla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oth men are famous for giving pres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interklaas has arrived last Sunday en celebrates his birthday in our country an Belgium. His official Birthday is Dec, 6th, but in Holland, we celebrate that the 5t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1773360"/>
            <a:ext cx="1296720" cy="172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651640" y="5373720"/>
            <a:ext cx="11048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words Sinterkla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e Si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ie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oot (stoomboo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akje (pakjesavon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cadea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choorsteen (=chimne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chimm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ntoc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 brief 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Untill the Middle Ages (-15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he influence of Spain and Luther (1500- 18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Garamond"/>
              </a:rPr>
              <a:t>Willem van Oran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Garamond"/>
              </a:rPr>
              <a:t>The Golden Centu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Napoleon and exit Belgium (1800-183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WW1&amp;2 (1914-194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ebuilding in poverty (1945-197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Garamond"/>
              </a:rPr>
              <a:t>1953 and the battle against the wa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Garamond"/>
              </a:rPr>
              <a:t>Pilla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70s as a fundament for today’s mor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efeningen H5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ekstboek (= blauwe boek) bladzijde, oefening 1, 2, 4, 7, 8, (9), 10, 11, (12), 13, 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erkboek blz 49, oefening 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ti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Queen: Beatri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Crown Prince: Willem-Alexander and his wife Maxim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700280"/>
            <a:ext cx="808200" cy="100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3640" y="3645000"/>
            <a:ext cx="104616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ti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arlement: 2 Kam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1</a:t>
            </a:r>
            <a:r>
              <a:rPr b="0" lang="nl-NL" sz="3200" spc="-1" strike="noStrike" baseline="30000">
                <a:solidFill>
                  <a:srgbClr val="ffffff"/>
                </a:solidFill>
                <a:latin typeface="Garamond"/>
              </a:rPr>
              <a:t>ste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Kamer (Upper House): 75 p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nl-NL" sz="3200" spc="-1" strike="noStrike" baseline="30000">
                <a:solidFill>
                  <a:srgbClr val="ffffff"/>
                </a:solidFill>
                <a:latin typeface="Garamond"/>
              </a:rPr>
              <a:t>de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Kamer (Lower House): 150 p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Cabinet: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rime minister: Balkenend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5 minis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149720"/>
            <a:ext cx="5810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ti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arties in the parlia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VDA (Labou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DA (Christian Democra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VVD (Liberal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SP (socialistic Part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GroenLinks (The Gree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D66 (social liberal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hristenUnie (Christian Part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some right Par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0:40:39Z</dcterms:created>
  <dc:creator>B. van Eerd</dc:creator>
  <dc:description/>
  <dc:language>en-US</dc:language>
  <cp:lastModifiedBy>christine natalia</cp:lastModifiedBy>
  <dcterms:modified xsi:type="dcterms:W3CDTF">2007-01-09T17:25:46Z</dcterms:modified>
  <cp:revision>5</cp:revision>
  <dc:subject/>
  <dc:title>Dutch 2</dc:title>
</cp:coreProperties>
</file>