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93E8C-7668-4377-B70C-F6FED1BF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899A-A0BE-48D6-B652-EF72C4B5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5A021-D17B-44EA-A147-69C45B8E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CCF3-09C9-48A1-B151-E15F07B6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5739-F14D-4069-AA76-99C6378F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A974-4AFA-4EBB-9FAD-9A06648D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96FD-A19A-4FA6-AE93-92853F4D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F061-5216-4D5D-94D1-818B80E7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CBAF-5F66-4C06-9C13-93D8B58A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CA45-DB43-46C9-AB8E-4BC6DC79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E9C6-DFA0-491C-ACBF-60ADF4E4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3EAEC-B1B5-4470-BEF5-2DAD2AC4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3814-F706-4237-AF63-5FD2E7E4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398C-2A0F-436E-B989-C594784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C07A-0961-4E5C-8C24-248D71C8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2E62-1AFE-430C-BB2E-F0622A62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3A4C-CE69-4735-9D55-AFC329CA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6435-3E32-4581-AC2F-67B9D86F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33FD-5EC0-4347-8268-43C1AC32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EA0F-86E2-4BB0-8C21-91ED984E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B86D-E46B-4FC2-AF51-1B401C04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65C8-5AD6-48D6-A9E1-3894ADC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7F6D-79E4-43A0-BCBC-E5EF1D2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A903-55CA-4C95-86E0-75423AA4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5D58-0732-46CF-98CF-F149B994608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A629-BA1A-47B7-A0C6-2EE407AB7B3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rulecam.net/pivotbeta/images/sinterklaas.gif&amp;imgrefurl=http://www.rulecam.net/pivotbeta/archives/archive_2004-m12.php&amp;h=262&amp;w=196&amp;sz=39&amp;hl=nl&amp;start=9&amp;tbnid=tl70_pVFPDTo0M:&amp;tbnh=112&amp;tbnw=84&amp;prev=/images%3Fq%3Dsinterklaas%26svnum%3D10%26hl%3Dnl%26lr%3D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llandemb.org.eg/images/beatrix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tl.nl/components/actueel/rtlboulevard/2002/royalty/juni/images/wa_maxima2klein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ureaucratie.tinoz.com/balkenend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inks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c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  GL  PvdA  D66   CU    CDA   VVD   OR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id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dnesday: Electon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9162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98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191628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6000" y="1989000"/>
            <a:ext cx="28872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524360" y="1916280"/>
            <a:ext cx="360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1197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word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iez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leid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et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temm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iling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al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art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eerderheid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tij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oalit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inderheid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weve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tit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nn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ger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liez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n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itslag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kiezing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format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efen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t programma van vanda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interkla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 brief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efeningen hoofdstuk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olitiek in Neder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nterkla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interklaas is different from Santacla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oth men are famous for giving pres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interklaas has arrived last Sunday en celebrates his birthday in our country an Belgium. His official Birthday is Dec, 6th, but in Holland, we celebrate that the 5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177336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651640" y="5373720"/>
            <a:ext cx="11048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words Sinterkla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S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ie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oot (stoomboo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akje (pakjesavon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ade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oorsteen (=chimne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imm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nto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 brief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Untill the Middle Ages (-15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he influence of Spain and Luther (1500- 18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Willem van Ora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The Golden Cen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Napoleon and exit Belgium (1800-183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WW1&amp;2 (1914-194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ebuilding in poverty (1945-197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1953 and the battle against the wa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Pill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70s as a fundament for today’s mor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ingen H5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(= blauwe boek) bladzijde, oefening 1, 2, 4, 7, 8, (9), 10, 11, (12), 13,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 49, oefening 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Queen: Beatri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rown Prince: Willem-Alexander and his wife Maxim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700280"/>
            <a:ext cx="808200" cy="100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3640" y="3645000"/>
            <a:ext cx="10461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arlement: 2 Ka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1</a:t>
            </a:r>
            <a:r>
              <a:rPr b="0" lang="nl-NL" sz="3200" spc="-1" strike="noStrike" baseline="30000">
                <a:solidFill>
                  <a:srgbClr val="ffffff"/>
                </a:solidFill>
                <a:latin typeface="Garamond"/>
              </a:rPr>
              <a:t>st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Kamer (Upper House): 75 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nl-NL" sz="3200" spc="-1" strike="noStrike" baseline="30000">
                <a:solidFill>
                  <a:srgbClr val="ffffff"/>
                </a:solidFill>
                <a:latin typeface="Garamond"/>
              </a:rPr>
              <a:t>d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Kamer (Lower House): 150 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abinet: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ime minister: Balkenen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5 minis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149720"/>
            <a:ext cx="581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arties in the parli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VDA (Labou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DA (Christian Democra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VVD (Libera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SP (socialistic Par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roenLinks (The Gree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D66 (social libera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hristenUnie (Christian Par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some right Par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0:40:39Z</dcterms:created>
  <dc:creator>B. van Eerd</dc:creator>
  <dc:description/>
  <dc:language>en-US</dc:language>
  <cp:lastModifiedBy>christine natalia</cp:lastModifiedBy>
  <dcterms:modified xsi:type="dcterms:W3CDTF">2007-01-09T17:25:46Z</dcterms:modified>
  <cp:revision>5</cp:revision>
  <dc:subject/>
  <dc:title>Dutch 2</dc:title>
</cp:coreProperties>
</file>