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D5450-19AC-40F5-85D3-8F24AAA40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ADB56-8076-48FC-8CC2-020B17AD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A6491-02F2-4E14-8F23-83AA2FC4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7A5A1-F1A2-4E35-9325-B0D162CC7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2D1D-BD1C-47E5-A7E5-337EE60D2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05DA-CF46-4F4A-BEBC-3672AB6F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046C-B731-4AE0-A6F3-93E69693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1FE0-04F2-4088-93E3-D581FA5C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2E87-E73F-478E-9242-8EB13C2D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83C3-D4D2-4A61-A0FC-78A98674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31C6-2C5A-4BE3-A644-E70AD76E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640B1-156C-4F6B-99FF-7FBC6495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FA45-C508-4032-BB4F-98771A56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3C41-2A98-483B-B2CF-799E4E40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9C00-0FAB-444F-AA31-F9C5DE4C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F3F4-EC67-4D1C-BD73-201FDB5B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AEBD-AE2C-4552-9D3A-5F7230EE6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4ED19-3F6D-451E-987B-C79957B0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DC35E-31C4-4ED4-9015-223B96D9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46E52-BAD4-45A5-A6D5-25535A1F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2FF01-8A48-433E-A4BD-5295DE18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65106-B4EA-4040-A16F-F0BB027A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2263C-91C9-430E-9D19-638AA7E8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74643-AB9C-4F0E-AFFD-BCD82B36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DAF5-EB42-4A83-917F-EB3222F34A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ECC8-5329-421A-8E85-604DEBD5A7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e5e5ff"/>
                </a:solidFill>
                <a:latin typeface="Garamond"/>
              </a:rPr>
              <a:t>Dutch 2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Les 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perfectu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 / T???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Fill i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GE + IKVORM + D/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ge-maak-t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ge-regen-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Note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- never ending in 2 equal consona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gebrandd = gebra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gewitt = gew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- watch out with non-seperatable verbs! (ge-, be-, ver-, ont-, her-, er-,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gegebruikt = gebruik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geverhuisd = verhuis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geontdekt = ontdek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oefen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rok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huiz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mak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pel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lev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behandel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branden 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teken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lag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rust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luister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v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bell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uil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Goed of fout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rok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gerookt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verhuiz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verhuis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mak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gemaak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spel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gespeel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lev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geleef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behandel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behandel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branden 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gebrand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teken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geteken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slag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geslaag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rust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geru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luister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geluisterd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verv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geverf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bell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gebeld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huilen 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gehuil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Oefenen in het bo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Tekstboek blz. 51, oefening 3-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erkboek blz. 57, oefening 4-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lez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Tekstboek blz. 55, 13-1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erkboek blz. 60, 1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luis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C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communicat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UISWER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present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woorden les 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blz. 202 t/m kiez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Het programma van vandaa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Pepernoten &amp; Politi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Tenta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Perfectum / imperfectu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Lez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Luiste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uiswerk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Pepernoten &amp; Politi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De resultate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11280" y="2421000"/>
          <a:ext cx="7272360" cy="1244520"/>
        </p:xfrm>
        <a:graphic>
          <a:graphicData uri="http://schemas.openxmlformats.org/drawingml/2006/table">
            <a:tbl>
              <a:tblPr/>
              <a:tblGrid>
                <a:gridCol w="502920"/>
                <a:gridCol w="720720"/>
                <a:gridCol w="650880"/>
                <a:gridCol w="500400"/>
                <a:gridCol w="576000"/>
                <a:gridCol w="576360"/>
                <a:gridCol w="504720"/>
                <a:gridCol w="647640"/>
                <a:gridCol w="720720"/>
                <a:gridCol w="792360"/>
                <a:gridCol w="647640"/>
                <a:gridCol w="4320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v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V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G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vd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vd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P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’</a:t>
                      </a: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‘</a:t>
                      </a: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Tentamen Dutch 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riting pa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Oral part (presentation and during the lesson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imperfectu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Regular verbs: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‘T KoFSCHiP+X 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(=te/te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the rest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(=de/de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Remember the difference between the STAM and the IK-vorm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imperfectu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rok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mak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rook(t)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rook</a:t>
            </a:r>
            <a:r>
              <a:rPr b="1" i="1" lang="nl-NL" sz="3200" spc="-1" strike="noStrike" u="sng">
                <a:solidFill>
                  <a:srgbClr val="ffffff"/>
                </a:solidFill>
                <a:uFillTx/>
                <a:latin typeface="Garamond"/>
              </a:rPr>
              <a:t>te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maak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   maak</a:t>
            </a:r>
            <a:r>
              <a:rPr b="1" i="1" lang="nl-NL" sz="3200" spc="-1" strike="noStrike" u="sng">
                <a:solidFill>
                  <a:srgbClr val="ffffff"/>
                </a:solidFill>
                <a:uFillTx/>
                <a:latin typeface="Garamond"/>
              </a:rPr>
              <a:t>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rok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rook</a:t>
            </a:r>
            <a:r>
              <a:rPr b="1" i="1" lang="nl-NL" sz="3200" spc="-1" strike="noStrike" u="sng">
                <a:solidFill>
                  <a:srgbClr val="ffffff"/>
                </a:solidFill>
                <a:uFillTx/>
                <a:latin typeface="Garamond"/>
              </a:rPr>
              <a:t>t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maken  maak</a:t>
            </a:r>
            <a:r>
              <a:rPr b="1" i="1" lang="nl-NL" sz="3200" spc="-1" strike="noStrike" u="sng">
                <a:solidFill>
                  <a:srgbClr val="ffffff"/>
                </a:solidFill>
                <a:uFillTx/>
                <a:latin typeface="Garamond"/>
              </a:rPr>
              <a:t>t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Dus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Garamond"/>
              </a:rPr>
              <a:t>In singular forms + te/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Garamond"/>
              </a:rPr>
              <a:t>In plural forms + ten/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Take a look at the last letter of the STAM (infinitive – en) to decide whether to use a T or a D. Combine the chosen suffix with the IK-vorm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Let’s practise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oefen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rok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huiz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mak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pel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lev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behandel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branden 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teken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lag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rust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luister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v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bell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uil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Goed of fout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rok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rookte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rookt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verhuiz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verhuisde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verhuisd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mak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maakte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maakt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spel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speelde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+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lev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leefde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+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behandel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behandelde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+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branden 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brandde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teken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tekend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slag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slaagd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rust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rust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luister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luisterde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verv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verfd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bell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belde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huilen 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huild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2:06:04Z</dcterms:created>
  <dc:creator>HAN</dc:creator>
  <dc:description/>
  <dc:language>en-US</dc:language>
  <cp:lastModifiedBy>christine natalia</cp:lastModifiedBy>
  <dcterms:modified xsi:type="dcterms:W3CDTF">2007-01-09T17:27:27Z</dcterms:modified>
  <cp:revision>3</cp:revision>
  <dc:subject/>
  <dc:title>Dutch 2</dc:title>
</cp:coreProperties>
</file>