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1FCE2-10C2-41F3-A35D-EB9E9674E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A47A2-4DED-4557-83D5-002D42F5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9E9B4-5D7B-4D76-9E77-D9F29FFEF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B95CC-1342-4334-AFED-6BEE270F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36AD-035D-4762-AA57-0E3DB0F8F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C803E-F396-4821-9D5A-D2CDFB1E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90DA-B3F3-436A-A865-A2869B07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2029-18F5-40A1-B66D-C80B1C0A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62C2-1C1A-474D-92C6-1ED213F5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B3A4-4C9E-4F70-8C50-5F8626B4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BDCD-456F-4D47-B569-31D99079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6F549-2137-4465-BC06-7E6DA3E4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82FB-E83C-4C1B-B165-CAC72558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1B24-76E5-402C-AF49-31806684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B126-9A04-4764-890E-31419315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C140-095E-4274-BD18-58EBA9A6B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C2B3-6BBB-42C7-9152-A40C67FE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D73C6-597B-40B2-88B0-C4E4E890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1DD4A-6743-42AA-9F08-C497382F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69153-9522-40FA-BD71-53CC9CAA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EF994-9CC9-4BFA-9CDA-3A35D859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FAC96-9D50-4174-892B-F0086AAD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0F822-F34E-4314-A143-84B5476C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799F-2587-4FED-B7BA-72758959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3020-C39E-4B95-BFF6-889F8D635B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D604-BB2A-4A82-8319-6E5A7B9B51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Dutch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es 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perfect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 / T???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Fill 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GE + IKVORM + D/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ge-maak-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ge-regen-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Note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- never ending in 2 equal consona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ebrandd = gebr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ewitt = gew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- watch out with non-seperatable verbs! (ge-, be-, ver-, ont-, her-, er-,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egebruikt = gebruik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everhuisd = verhuis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eontdekt = ontdek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efe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huiz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e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ev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ehandel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randen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e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lag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us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uister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el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uil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Goed of fou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rookt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huiz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huis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mak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maak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pe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spee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ev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leef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hande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hande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randen 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brand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teken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teken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lag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slaag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ust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ru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uister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luisterd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v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verf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l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beld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huilen 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gehui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efenen in het bo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stboek blz. 51, oefening 3-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rkboek blz. 57, oefening 4-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lez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stboek blz. 55, 13-1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rkboek blz. 60, 1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communicati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UISWERK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present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woorden les 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blz. 202 t/m kiez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Het programma van vanda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epernoten &amp; Politie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ntam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erfectum / imperfectu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ez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uis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uiswerk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Pepernoten &amp; Politi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Garamond"/>
              </a:rPr>
              <a:t>De resultaten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11280" y="2421000"/>
          <a:ext cx="7272360" cy="1244520"/>
        </p:xfrm>
        <a:graphic>
          <a:graphicData uri="http://schemas.openxmlformats.org/drawingml/2006/table">
            <a:tbl>
              <a:tblPr/>
              <a:tblGrid>
                <a:gridCol w="502920"/>
                <a:gridCol w="720720"/>
                <a:gridCol w="650880"/>
                <a:gridCol w="500400"/>
                <a:gridCol w="576000"/>
                <a:gridCol w="576360"/>
                <a:gridCol w="504720"/>
                <a:gridCol w="647640"/>
                <a:gridCol w="720720"/>
                <a:gridCol w="792360"/>
                <a:gridCol w="647640"/>
                <a:gridCol w="432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v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VV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U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G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vd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vd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P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’</a:t>
                      </a: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‘</a:t>
                      </a: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0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Tentamen Dutch 2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riting pa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ral part (presentation and during the lesson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imperfect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egular verbs: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‘T KoFSCHiP+X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(=te/t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he res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(=de/de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emember the difference between the STAM and the IK-vor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imperfectu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k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ok(t)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ok</a:t>
            </a:r>
            <a:r>
              <a:rPr b="1" i="1" lang="nl-NL" sz="3200" spc="-1" strike="noStrike" u="sng">
                <a:solidFill>
                  <a:srgbClr val="ffffff"/>
                </a:solidFill>
                <a:uFillTx/>
                <a:latin typeface="Garamond"/>
              </a:rPr>
              <a:t>t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ak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  maak</a:t>
            </a:r>
            <a:r>
              <a:rPr b="1" i="1" lang="nl-NL" sz="3200" spc="-1" strike="noStrike" u="sng">
                <a:solidFill>
                  <a:srgbClr val="ffffff"/>
                </a:solidFill>
                <a:uFillTx/>
                <a:latin typeface="Garamond"/>
              </a:rPr>
              <a:t>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ok</a:t>
            </a:r>
            <a:r>
              <a:rPr b="1" i="1" lang="nl-NL" sz="3200" spc="-1" strike="noStrike" u="sng">
                <a:solidFill>
                  <a:srgbClr val="ffffff"/>
                </a:solidFill>
                <a:uFillTx/>
                <a:latin typeface="Garamond"/>
              </a:rPr>
              <a:t>t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ken  maak</a:t>
            </a:r>
            <a:r>
              <a:rPr b="1" i="1" lang="nl-NL" sz="3200" spc="-1" strike="noStrike" u="sng">
                <a:solidFill>
                  <a:srgbClr val="ffffff"/>
                </a:solidFill>
                <a:uFillTx/>
                <a:latin typeface="Garamond"/>
              </a:rPr>
              <a:t>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Dus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Garamond"/>
              </a:rPr>
              <a:t>In singular forms + te/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Garamond"/>
              </a:rPr>
              <a:t>In plural forms + ten/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ake a look at the last letter of the STAM (infinitive – en) to decide whether to use a T or a D. Combine the chosen suffix with the IK-vorm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et’s practise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oefen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huiz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ak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e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ev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ehandel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randen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en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lag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us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uister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v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ell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huile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Goed of fout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ok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ookt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ookt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huiz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huis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huisd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mak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maakt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maakte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pe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peel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+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ev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eef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+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hande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handel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+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randen 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rand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teken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teken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lag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slaag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ust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rust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uister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luister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v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verf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llen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belde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huilen 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Garamond"/>
              </a:rPr>
              <a:t>huild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12:06:04Z</dcterms:created>
  <dc:creator>HAN</dc:creator>
  <dc:description/>
  <dc:language>en-US</dc:language>
  <cp:lastModifiedBy>christine natalia</cp:lastModifiedBy>
  <dcterms:modified xsi:type="dcterms:W3CDTF">2007-01-09T17:27:27Z</dcterms:modified>
  <cp:revision>3</cp:revision>
  <dc:subject/>
  <dc:title>Dutch 2</dc:title>
</cp:coreProperties>
</file>