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CF48-0B20-4163-91FD-793E3949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210B-F810-42F2-A88A-F5C99F5D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8D0A-7E54-452F-8CC5-1228565D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C69E-F4ED-48F8-92F9-6DC5D62D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E209-8F37-42A0-85BE-659B97A8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ED91-4DE1-45F4-9A42-861CFA73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2949-8CFC-41B1-8019-B432CA59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1521-D8F8-40E3-BB6F-D009D072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8898-DEE1-4E77-BBD6-FD5B55E1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DECE-36D5-4945-BC8B-DEFA29AD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BDD8-39A6-4D5A-B382-608DC5E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6460-E28D-4D5D-A7B6-0799AEF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5004-C315-4D3E-813A-D88EE9A2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BCCB-4766-4368-BD1F-3F79F36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7A74-73B1-4A64-940F-DC56808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2489-5D28-47B6-A209-4413C18E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6995-76B9-4ECD-9856-CCBDA9E5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D307-45E9-49A3-A0D6-D548CB9A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824F-0BE0-4856-B36E-6778451C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5720-5CD0-4A11-8779-4A385EE8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E174-3ABA-47FB-B392-4DAE08AE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2A86-A8F9-40B1-9044-A0301A15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78DC-2A23-4EA0-B28C-B967341F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9E15-4DB8-4D3E-AAE4-194225AE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F57E-6DF1-4B5F-9ECA-DA783DBDF8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72AC-BCFD-4BC3-8709-C3A64E895F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 / T???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ill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 + IKVORM + D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-maak-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-regen-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Note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- never ending in 2 equal conson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brandd = gebr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witt = gew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- watch out with non-seperatable verbs! (ge-, be-, ver-, ont-, her-, er-,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gebruikt = gebruik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verhuisd = verhuis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ontdekt = ontdek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hui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hande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e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u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l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Goed of fou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rookt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z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maak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spee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leef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bran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tek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slaag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ru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luister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verf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bel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hui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 in het b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blz. 51, oefening 3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. 57, oefening 4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blz. 55, 13-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. 60,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SWER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present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woorden les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blz. 202 t/m kie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Het 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pernoten &amp; Politi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nta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rfectum / imperfec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swe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epernoten &amp; 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De resultate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2421000"/>
          <a:ext cx="7272360" cy="1244520"/>
        </p:xfrm>
        <a:graphic>
          <a:graphicData uri="http://schemas.openxmlformats.org/drawingml/2006/table">
            <a:tbl>
              <a:tblPr/>
              <a:tblGrid>
                <a:gridCol w="502920"/>
                <a:gridCol w="720720"/>
                <a:gridCol w="650880"/>
                <a:gridCol w="500400"/>
                <a:gridCol w="576000"/>
                <a:gridCol w="576360"/>
                <a:gridCol w="504720"/>
                <a:gridCol w="647640"/>
                <a:gridCol w="720720"/>
                <a:gridCol w="792360"/>
                <a:gridCol w="647640"/>
                <a:gridCol w="432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V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G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P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’</a:t>
                      </a: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‘</a:t>
                      </a: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entamen Dutch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riting p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ral part (presentation and during the less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im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gular verbs: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‘T KoFSCHiP+X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(=te/t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he res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(=de/d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member the difference between the STAM and the IK-vor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im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(t)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a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maa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  maa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Du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In singular forms + te/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In plural forms + ten/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ake a look at the last letter of the STAM (infinitive – en) to decide whether to use a T or a D. Combine the chosen suffix with the IK-vor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t’s practis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hui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hande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e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u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l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Goed of fou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okt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ok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z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akt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ak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ef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ag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f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06:04Z</dcterms:created>
  <dc:creator>HAN</dc:creator>
  <dc:description/>
  <dc:language>en-US</dc:language>
  <cp:lastModifiedBy>christine natalia</cp:lastModifiedBy>
  <dcterms:modified xsi:type="dcterms:W3CDTF">2007-01-09T17:27:27Z</dcterms:modified>
  <cp:revision>3</cp:revision>
  <dc:subject/>
  <dc:title>Dutch 2</dc:title>
</cp:coreProperties>
</file>