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9A66A-FE9E-49DC-9B3B-2DBABF91D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043E2-77B4-4A67-9FE7-52FB158D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91A8F-6124-46D6-B6B4-BE83B3668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B0F46-41FD-4229-BA45-6776E56FD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4D6D-5F00-410B-8683-116D9969E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31E9-16FA-45B9-885A-9B66C4BE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48F3-95A3-4A39-8A23-073BF311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7677-84DB-46EF-9A28-4877F761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AF73-63D0-497B-B80D-868530A0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BABC-A318-4ED5-BB25-B4381E18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5DF2-34E4-45C1-9C44-4908FB44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7742B-F787-49A3-B322-8DCC0399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C3B2-2CF6-4AE5-83BB-AB8D9C64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CC7E-35AB-4DAA-94BA-70BDC5EF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6245-C8C1-491D-9956-FBB96821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A39B-620B-461E-9182-9B1222CB1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C256-E853-4E43-97A1-F2B722CF8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09602-CD57-4307-A0A0-B290F03A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60464-E266-404A-AFA9-3830DFDC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AC966-49BE-4A8F-960E-D60A1723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39930-170C-48AE-9623-97D37DD4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E42B2-E428-472A-A3FE-D7BD7625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1CFE7-DDF3-424A-9795-EAA6BC20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05262-E966-4B2C-A07E-DC5B2C00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2C6D-B152-451D-8F73-B11DD9EF03F4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A5EB-AC77-4087-94C2-5162FD563F54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e5e5ff"/>
                </a:solidFill>
                <a:latin typeface="Garamond"/>
              </a:rPr>
              <a:t>Dutch 2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s 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gramma van vandaa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senta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efenen met perfectum en imperfectu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etsje werkwoord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uisteren (liedj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ieuwsberich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efenen luistervaardighei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efeningen boe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z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unica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5T08:47:43Z</dcterms:created>
  <dc:creator>B. van Eerd</dc:creator>
  <dc:description/>
  <dc:language>en-US</dc:language>
  <cp:lastModifiedBy>christine natalia</cp:lastModifiedBy>
  <dcterms:modified xsi:type="dcterms:W3CDTF">2007-01-09T17:28:27Z</dcterms:modified>
  <cp:revision>1</cp:revision>
  <dc:subject/>
  <dc:title>Dutch 2</dc:title>
</cp:coreProperties>
</file>