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47058-4AD7-4871-B481-A9CC0F39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084C0-A979-44C2-B202-0CFF8FEB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EDEA1-6C7D-464A-9ECF-DA687792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017C6-5C73-4231-AF4F-473E86D4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CF7C-129B-4682-BD1C-26433022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85C4-E598-4769-B578-E64B698E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E011-C9C3-4FE4-B3CD-049A607C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E4C0-5E8D-4C84-9E97-21707A9C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70B1-D917-40E7-8EE3-19FAAA77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E73E-5A7D-4E8C-B99C-DBD4ADB9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F250-162C-4E41-BF68-A8C8999A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64F30-4F58-42D5-BAC9-AF91B011A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40FB-5AE8-46D8-B0BA-2A5F38F2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63F5-A9BF-45BD-8A4A-D2EA7606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D479-07E1-4A87-AFF4-8AA19058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A40B-7240-4B8D-B9AD-AB574814F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5AAD-E5EF-441D-9C80-5932BBBD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6BE1E-62BA-4926-BB66-0CB23295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5AD29-9826-4B48-A763-FBF0367F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7131F-4019-49F2-986E-F25451B5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39ED6-0038-4195-9704-9239A7E5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90BB4-FFF6-4981-B96D-EB411147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AB9D-00AF-4E9F-885E-28934F6B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D2C7-C2DF-4F19-B1C1-30CC5FCF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BDAA-05F3-4146-9E6B-78D618DCC190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02F1-491E-4170-907F-669C8989140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5e5ff"/>
                </a:solidFill>
                <a:latin typeface="Garamond"/>
              </a:rPr>
              <a:t>Dutch 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 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gramma van vanda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senta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efenen met perfectum en imperfectu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oetsje werkwoor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uisteren (liedj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ieuwsbericht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efenen luistervaardighei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efeningen boe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z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mmunicat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5T08:47:43Z</dcterms:created>
  <dc:creator>B. van Eerd</dc:creator>
  <dc:description/>
  <dc:language>en-US</dc:language>
  <cp:lastModifiedBy>christine natalia</cp:lastModifiedBy>
  <dcterms:modified xsi:type="dcterms:W3CDTF">2007-01-09T17:28:27Z</dcterms:modified>
  <cp:revision>1</cp:revision>
  <dc:subject/>
  <dc:title>Dutch 2</dc:title>
</cp:coreProperties>
</file>