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70EB-6D51-4AE7-B804-2F00621A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45F8-6479-4EBF-ACD7-81F8C0B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DD66-91C7-4D3E-981F-11CC2B2E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41A3-8A72-491D-80EB-859BD876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858-FC84-4383-B0FA-138FC6F2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0F0-300A-489B-9B6C-254ADCE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6CF-229E-4A44-AA75-89216A3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E0C-5979-4A91-8A91-0AF47A7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6B09-268E-41BA-93F6-37CE006B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238-B2A2-4CFE-B85F-049DAB1A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2DE-AA50-4246-B5B5-248E964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B229-2782-4F6B-88DD-234954E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66BA-0CC4-4F79-BA68-B42F529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3CA-0247-44B5-B17E-3AF6913F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CAD-BEBA-4547-9746-D56A71D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11D4-8479-4A7F-B53A-EA78D9F5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D51-6B13-4786-BF82-0224C4B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8A31-D8D7-440E-8A06-47D1C6F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4089-1B5F-4A71-9B68-20B0ACA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C480-8764-473E-90E4-5B3496A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D6EC-DE5A-4691-BA48-272AAE7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7853-9C72-4778-A8B4-7971913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A642-1B4C-4BD8-A7AD-0FB921A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A3FF-BDB8-488B-9496-9286367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67B-06EB-455F-A39B-A75CCBA1FF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346-ADD9-4997-AFFF-2D21D11515C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a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met perfectum en imperfect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etsje werk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isteren (liedj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euwsberich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luistervaardighe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ingen bo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8:47:43Z</dcterms:created>
  <dc:creator>B. van Eerd</dc:creator>
  <dc:description/>
  <dc:language>en-US</dc:language>
  <cp:lastModifiedBy>christine natalia</cp:lastModifiedBy>
  <dcterms:modified xsi:type="dcterms:W3CDTF">2007-01-09T17:28:27Z</dcterms:modified>
  <cp:revision>1</cp:revision>
  <dc:subject/>
  <dc:title>Dutch 2</dc:title>
</cp:coreProperties>
</file>