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5527-4F0D-447D-8996-5107CFE2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09F8-8429-4ABD-B998-F8A1BD68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C876-8AD3-4927-97E9-DE8CA59B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438A-F1DD-4576-961F-F00129CD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4BE-F78B-49C0-8650-729C3DE6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DCA3-0AC3-4005-90A8-EC9B894E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1B0-144C-450F-A533-D868918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3A8F-DE89-4ECA-8E5A-EDD58AB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E2C4-4D7D-4D7F-A793-8601D89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FD4-23D5-42D5-86C1-04D89D78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7B12-D899-4A5B-B383-286820C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5ABF-08FE-4E25-BF81-CC2F391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A3D0-956F-4E54-A7EA-07DB8C0F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C0C-AC5C-42CA-991F-7146B65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7F0D-ACAC-4350-B983-382299A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4AFF-C0CC-4269-A6D6-749880A7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7C73-7252-4111-9540-B32CEA31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5F46-5E34-44B3-9B00-8B73564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3678-F2A3-47AB-812E-23298AA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33CF-C55B-4FFC-8DC0-6481F16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A5EC-EC7E-4579-BBB9-EAF7C6E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1BAD-62CC-4F8B-848B-1C2B782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AA2E-2ED1-4F3E-BCBF-65199D6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789E-80DC-4509-A2AC-D30E3B6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D18-6297-46EA-A829-402A8CE2864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E12-4CDE-4331-9F5E-1C31CD90CDA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onomen reflexiv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/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li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ummary prono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rkboek, bladzijde 48 – 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 6 – 7 – 10 – 11 – 12 – 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reading a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drukkingen op bladzijde 49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es de tekst op bladzijde 48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k oefening 17 op bladzijde 53 van je werkboek (=gro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uiswer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rden hoofdstuk 5 leren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 thuis lez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oday’s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eposit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litting ve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 en 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nsvolgorde (right ord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dverbia van frequen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nomen reflexiv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ummary pro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ading a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epos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ach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te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– u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– a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a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plitting ver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hen a verb is combined with a preposion or an adverb, in most cases, both parts will be split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fwassen – klaarzetten – opmaken - tegenhou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3284640"/>
          <a:ext cx="7058160" cy="201600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5130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sen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ten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n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en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adzijde 48, ofening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llen / do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/u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/wil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ij/zij/h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ul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zinsvolg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 – V – R (normal sente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 – S – R (questi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 – V – S (possi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erbia van freq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ooi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e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s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f en to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ce in a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sta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ost of the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tijd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e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0:01:31Z</dcterms:created>
  <dc:creator>B. van Eerd</dc:creator>
  <dc:description/>
  <dc:language>en-US</dc:language>
  <cp:lastModifiedBy>christine natalia</cp:lastModifiedBy>
  <dcterms:modified xsi:type="dcterms:W3CDTF">2007-01-09T17:24:39Z</dcterms:modified>
  <cp:revision>2</cp:revision>
  <dc:subject/>
  <dc:title>Dutch 2</dc:title>
</cp:coreProperties>
</file>