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3169-5DDB-4835-8755-F0573F06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94C3F-5ADF-44E8-B8A2-B001812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16152-82BC-4EEB-A13B-EC2173E9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D6FD1-6057-40D1-9BAA-C9B2BD1C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2677-581E-4C1E-AAC8-E6E86D9B6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4656-FFD8-4C65-9E16-D6E8201B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E69D-D111-4B2A-8348-1704A7CF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EA7E-603F-4F33-996B-DECFA03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19B2-268A-431C-A332-6BDE2F1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8DE1-70CE-4156-A7FA-E16837A4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ADF3-703B-47A1-9BF6-EA23EC89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85017-7A8F-4C18-93BD-8137930A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3097-BAA4-4792-A6AE-A233144C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D70F-8999-4990-8C4E-571CEF18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FC7F-ACCE-44ED-8E21-110CEBE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3CF9-4A11-4F0B-8A5F-850E6CEA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AB7D-E641-4C75-8E9C-A1ABB68EB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F73F6-3E9D-455B-8359-31648926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E509E-B36E-4789-A92D-4C266639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C9869-12E5-42FA-8DF7-233910DA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EBB3-2EF5-4917-8EB5-82AFF600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8591E-E039-4686-887D-D0FCD857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89BD6-233B-4154-9B07-89352CF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C647A-E996-45A2-9860-FB2354BF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C8A4-45CB-4227-B451-6E80ACF9895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C6BE-6E89-442F-BC47-C363306B655E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onomen reflexiv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/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e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ulli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j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asse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zi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ummary pronom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p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erkboek, bladzijde 48 – 5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 6 – 7 – 10 – 11 – 12 – 1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reading a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itdrukkingen op bladzijde 49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es de tekst op bladzijde 48 van het tekstbo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ak oefening 17 op bladzijde 53 van je werkboek (=gro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uiswerk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orden hoofdstuk 5 leren.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grammatica thuis lez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oday’s progra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eposit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litting verb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 en 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nsvolgorde (right orde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dverbia van frequent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onomen reflexiv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ummary prono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ading a tex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reposi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n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acht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or – te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– ui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p – a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naa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m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splitting verb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hen a verb is combined with a preposion or an adverb, in most cases, both parts will be splitte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afwassen – klaarzetten – opmaken - tegenhoude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55640" y="3284640"/>
          <a:ext cx="7058160" cy="201600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6920"/>
                <a:gridCol w="1513080"/>
                <a:gridCol w="144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J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ij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t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akt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t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Wassen a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Zetten kla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ken o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ouden teg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adzijde 48, ofening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llen / do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k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/u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/wil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ij/zij/h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jul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o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zinsvolgor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 – V – R (normal sentenc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 – S – R (questi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 – V – S (possible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dverbia van frequen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ooi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nev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s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ome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f en to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nce in a wh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stal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ost of the tim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tijd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&gt;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lway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e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0:01:31Z</dcterms:created>
  <dc:creator>B. van Eerd</dc:creator>
  <dc:description/>
  <dc:language>en-US</dc:language>
  <cp:lastModifiedBy>christine natalia</cp:lastModifiedBy>
  <dcterms:modified xsi:type="dcterms:W3CDTF">2007-01-09T17:24:39Z</dcterms:modified>
  <cp:revision>2</cp:revision>
  <dc:subject/>
  <dc:title>Dutch 2</dc:title>
</cp:coreProperties>
</file>