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C0CDE-1744-41B0-BA62-F68BEEC6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E10A-FA78-4160-98B9-42860B44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0C97-BED1-4137-B34E-15911358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E4A66-C701-407E-8EC8-21892E2C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457B-8B21-4C96-9C1E-C880715D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16C7-5392-4AA8-9930-5D1CC8F1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73A2-5790-488D-BA9D-884AEA0C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B6A1-2B8B-47B2-988A-E4989E97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C8D7-01BD-4EB1-9294-9A97F4DD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92B1-A192-4DB7-8F43-E941AD5E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13A6-FBFE-4CA8-96D3-2721CBC3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5533-502B-4CD9-B505-9EA4F867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6C4C-2F78-437D-A39D-F2563721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FF5E-FB28-499D-B8B0-929060F4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5730-A2F6-419A-96E2-061EB1FC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FB34-DA41-4AC7-9723-AF142957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5D2D-0C94-4789-B4BD-BF823173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6DAFE-3ACC-4657-90EC-E59ADF38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FC064-AF61-4176-8DF2-9D3F349A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1EE62-8DF0-497A-BE29-B4D09B95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F80F-6939-4CAC-900A-898FC214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79C0-8924-45AE-906D-79B672F7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40565-22E2-417D-B4D7-58FCB24E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D2AA-6001-4961-B375-BAA986EA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9BCE-5846-47FD-96F7-EE6112E0760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3E5B-0539-4614-A9D4-1E35B608294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Dutch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pronomen reflexiv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ch/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s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lli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s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se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summary prono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p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efe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rkboek, bladzijde 48 – 5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efening 6 – 7 – 10 – 11 – 12 – 1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reading a tex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itdrukkingen op bladzijde 49 van het tekstbo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es de tekst op bladzijde 48 van het tekstbo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ak oefening 17 op bladzijde 53 van je werkboek (=gro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uiswer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orden hoofdstuk 5 leren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mmatica thuis lez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today’s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reposit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litting ver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len en do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insvolgorde (right ord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dverbia van frequen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ronomen reflexiv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ummary pro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eading a tex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preposi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or – 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or – ach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or – te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– u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– a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a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splitting verb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When a verb is combined with a preposion or an adverb, in most cases, both parts will be splitt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afwassen – klaarzetten – opmaken - tegenhou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55640" y="3284640"/>
          <a:ext cx="7058160" cy="201600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6920"/>
                <a:gridCol w="1513080"/>
                <a:gridCol w="144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s 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et kla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ak 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oud te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i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st 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et kla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akt 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oudt te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i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st 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et kla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akt 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oudt te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ssen 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etten kla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ken 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ouden te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efe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rkboek bladzijde 48, ofening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llen / do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k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jij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/u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/wil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ij/zij/he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j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juli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ij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zinsvolgor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 – V – R (normal sentenc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 – S – R (questio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 – V – S (possib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efe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stboek (= blauwe boek) bladzijde, oefening 1, 2, 4, 7, 8, (9), 10, 11, (12), 13, 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rkboek blz 49, oefening 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erbia van freq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nooi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ne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oms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ometi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f en to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nce in a wh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aak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f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eestal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ost of the ti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ltijd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lw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efene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0:01:31Z</dcterms:created>
  <dc:creator>B. van Eerd</dc:creator>
  <dc:description/>
  <dc:language>en-US</dc:language>
  <cp:lastModifiedBy>christine natalia</cp:lastModifiedBy>
  <dcterms:modified xsi:type="dcterms:W3CDTF">2007-01-09T17:24:39Z</dcterms:modified>
  <cp:revision>2</cp:revision>
  <dc:subject/>
  <dc:title>Dutch 2</dc:title>
</cp:coreProperties>
</file>