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2D19B-AED8-46BE-BECB-6F9F0EDD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41BF8-0FCE-4173-98DC-DAE7477A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0BF8E-0AB4-46ED-98B4-A7F2C22E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3A57B-97E9-48D7-AB33-0F9E1704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4665-F89C-4CEB-A7C9-7AE38A3D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C658-1ECD-4AE3-A663-85536F72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DFBC-7F7F-4D75-B7C2-65C3C3A8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8D1C-3C2E-4958-B282-11C010AD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C4FD4-29DF-436C-ADAE-FC0A011E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270A-3A9C-4053-8656-066FC4F0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5380-4AB9-4008-9621-7602D8F4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965E-7DC9-4F0F-B116-562DC17C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C2EE1-9590-49DC-BFCB-0DA54F81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2A9F-7160-4F3A-8970-0D88C3F5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423B-0BAB-4A4B-8AA2-C7FDBF15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31A3-C2D1-4B32-9D23-4064AC3D5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E11D3-9CAE-47E2-A8A1-EBC08973D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4B6A4-B42D-4011-9970-208F5271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3A46-DF41-4A76-9907-095652FA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14562-531E-4B5D-A9AB-31797CE7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0E2F6-6491-4067-9A69-44173E0C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8FE2-6DF1-4360-BB3B-90EE4180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C0E3-A186-466F-9439-22AD63E33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94D6-5CEA-4C54-8C9E-FB17C75A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7A53-424E-45F4-8EA2-B535BD5A0F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4365-72B4-41C8-9426-080BDA5EDC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answ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st exam DU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jouw sc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unten / 3.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ff"/>
                </a:solidFill>
                <a:latin typeface="Garamond"/>
              </a:rPr>
              <a:t>A (1 ft = -1)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1916280"/>
            <a:ext cx="6400800" cy="37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ek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k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ijd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oo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o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593720"/>
                <a:gridCol w="2952720"/>
                <a:gridCol w="368316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ij / 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ij / zij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ij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ulli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ij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Ko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o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 (1ft=-0.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74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even honderd vijf en veer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57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wee honderd zeven en vijf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3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ht honderd een en der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29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er honderd negen en twinti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 (1ft=-0.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5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ien voor t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7.20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ien voor half z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wintig over vij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2.2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vijf voor half e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1.0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wee over 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8.15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kwart over a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9.4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twaalf over half t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et is achttien voor ti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Nee, ik ben geen aardige ma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Nee, ik drink geen koffi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Nee, ik kom niet uit Rusla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Nee, ik woon niet in Den Haa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Nee, je mag mijn boek niet len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ee, je mag niet mijn boek len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bru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lie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knap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groe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fij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sigare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dr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lan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har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rat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 (1ft=-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. zo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. ro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 we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4. zee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5. let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0:56:45Z</dcterms:created>
  <dc:creator>tp</dc:creator>
  <dc:description/>
  <dc:language>en-US</dc:language>
  <cp:lastModifiedBy>tp</cp:lastModifiedBy>
  <dcterms:modified xsi:type="dcterms:W3CDTF">2006-10-23T12:24:25Z</dcterms:modified>
  <cp:revision>2</cp:revision>
  <dc:subject/>
  <dc:title>answers</dc:title>
</cp:coreProperties>
</file>