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71C8-B846-4477-9F3F-F609FCF2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C049-1CC2-4BCF-AF55-112A1467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45FC-5F70-4EC9-9AEC-32C039EA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C877-074C-4AF9-B384-61B17F26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F8AC-FF1D-416D-83C3-14619DDC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5DC3-3EA6-46C8-9F9A-E918B713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73B5-5BE0-46DB-930C-94B27755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F2DB-DC5C-47BE-BEA3-D01441A2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230A-ED42-466F-8E95-8A9E08DE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7499-3D37-4779-ADFE-1DF23D6E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BEAE-68E6-4C95-B315-4CC2108B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D849-A010-4DFA-A2B3-B2FF40FE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1FBA-08E7-415D-B7C3-E065757F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7AC2-7CCF-42D9-B90D-234312B8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93AA-1F99-427A-ADFC-01F48DE9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5A5C-9C84-4E86-A6C5-D20E222A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98E3-81CC-42EF-B3B9-60CFACAF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B105-2B31-435F-94F3-C685DC14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4A94-8728-4F21-9EDB-9EF145D9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CB1D-BCDB-48F8-9A2E-325D8A5F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BDB4-F615-436A-BC27-BA0F464C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AA6C-19A5-4088-B65F-11BE580E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E441-E957-48DB-9964-625BDCF8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BD25-5FFD-43E7-B4FA-4ADFCEC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0118-A2AF-41E4-8F00-4836F55530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45B0-0032-4A77-9932-1E38C267DD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answ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st exam DU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ouw sc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nten / 3.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A (1 ft = -1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ek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jd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o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593720"/>
                <a:gridCol w="2952720"/>
                <a:gridCol w="368316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ij / 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j / zij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i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ull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ij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 (1ft=-0.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4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even honderd vijf en veer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7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ee honderd zeven en vijf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3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ht honderd een en der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2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r honderd negen en twin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 (1ft=-0.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5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ien voor t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7.2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ien voor half z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wintig over vij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.2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vijf voor half 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1.0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wee over 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.1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kwart over 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4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waalf over half t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achttien voor t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Nee, ik ben geen aardige 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Nee, ik drink geen koffi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e, ik kom niet uit Rusl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Nee, ik woon niet in Den Haa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Nee, je mag mijn boek niet len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, je mag niet mijn boek len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bru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lie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knap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gro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fij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sigare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dr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lan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har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ra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zo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ro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ze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le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0:56:45Z</dcterms:created>
  <dc:creator>tp</dc:creator>
  <dc:description/>
  <dc:language>en-US</dc:language>
  <cp:lastModifiedBy>tp</cp:lastModifiedBy>
  <dcterms:modified xsi:type="dcterms:W3CDTF">2006-10-23T12:24:25Z</dcterms:modified>
  <cp:revision>2</cp:revision>
  <dc:subject/>
  <dc:title>answers</dc:title>
</cp:coreProperties>
</file>