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129D-636D-46FE-98D4-29BBFE2F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4568-C49B-47C7-A8B3-C5205BDF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BB14-DF08-4C36-8599-0349FCB0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3784-A662-4075-94FD-859019BF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7D53-4F6A-45F6-9548-D4D7D192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05EC-9F49-450F-88B8-EFFB021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4AE3-05B2-401B-BD87-869A608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72C-1875-4C7D-9A7B-026DB48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4DF-DE72-4DFA-BAAA-CEBF479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FE86-E146-4328-A722-1E50A2D7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15DE-3535-41B3-AF36-DA22AA8F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685A-5798-40AA-B256-D95FBA41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9871-4965-46D7-ABD2-0ADBEE7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DF0-F2FC-4120-9287-0EA94C6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0A9-174E-458C-96A5-DDBEC68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70E4-DADF-44CC-907F-DF03353B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4DEC-038E-4573-BA5A-00CB4C66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E2EA-9A60-4673-BFA1-F414BF6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CE87-A91B-45FF-823C-A73042AB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3AF5-B9B7-4399-80DF-B69C6F72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01AE-7922-45AF-8F72-A8E700A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B420-E850-442E-9F31-4F3ECDD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DD7E-703E-48D6-A9BB-93D0CC1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D374-1467-4748-B69F-B9864BE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EF4A-AEE5-449D-8A5C-8633678D1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062-9B6E-4DD7-86FE-B48FBB1F4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answ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st exam DU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uw sc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nten / 3.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 (1 ft = -1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ek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jd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93720"/>
                <a:gridCol w="2952720"/>
                <a:gridCol w="3683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 / 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 / 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ull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4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ven honderd vijf en ve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ee honderd zeven en vijf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3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ht honderd een en d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2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r honderd negen en twin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5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7.2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half 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intig over vij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.2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vijf voor half 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.0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ee over 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1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kwart over 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4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aalf over half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acht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Nee, ik ben geen aardige 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Nee, ik drink geen koffi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e, ik kom niet uit Rusl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Nee, ik woon niet in Den Haa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Nee, je mag mijn boek niet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, je mag niet mijn boek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bru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lie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kna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gro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fij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sigare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dr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lan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har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ra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zo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ro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ze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le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56:45Z</dcterms:created>
  <dc:creator>tp</dc:creator>
  <dc:description/>
  <dc:language>en-US</dc:language>
  <cp:lastModifiedBy>tp</cp:lastModifiedBy>
  <dcterms:modified xsi:type="dcterms:W3CDTF">2006-10-23T12:24:25Z</dcterms:modified>
  <cp:revision>2</cp:revision>
  <dc:subject/>
  <dc:title>answers</dc:title>
</cp:coreProperties>
</file>