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D23-0815-4D99-AB5E-CD30222C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964C-D24C-4483-8834-588AEEB5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90C-4968-4E26-A4AA-D5BC76F2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2170-889A-4358-8FE8-2660C2B9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CB6F-55F8-4B69-9B44-B8F052AA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70C9-FACB-4A5A-9E28-B6E5FF3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58C47-6C4A-4316-8DF5-32D97CCA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A4EA-C36A-43C1-AEB9-158BD41A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B703-E021-4215-9419-3FD55F72E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3211-3889-43E0-92A6-C3829544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529E-CD81-4932-A0B5-1212CCB5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67B7-33FE-4362-AA4D-54D48FC2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3538-4BC5-4AC1-A42B-ADBAD6D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22D71-7AA2-4D11-94E6-B9B8DD59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2ABD-56DE-4FEB-A2E4-A763670D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C526-BB8D-4A03-BF74-DCF9D641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D0F9-10BB-4C44-BF4B-26163428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18B-C533-4B8C-AAB4-E02AA14B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B8B-1B96-40CE-BEBF-96BD3AEA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64D9-859C-4892-BA0A-E65E6A54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F41-3434-40B5-AF93-4B094894A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152-FAC0-4532-978A-D6CC37AB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365-80A8-40CF-AAE8-4796966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4D99-6185-42E9-B010-7E05DAB2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5E01-B265-4B46-A21A-3CD296A6F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8D9C-A7F1-4608-B648-CA0112FB4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000" spc="-1" strike="noStrike">
                <a:solidFill>
                  <a:srgbClr val="e5ffff"/>
                </a:solidFill>
                <a:latin typeface="Tahoma"/>
              </a:rPr>
              <a:t>Welkom bij Dutch 1</a:t>
            </a:r>
            <a:endParaRPr b="0" lang="en-US" sz="5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8728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Mijn naam is Bas van Eer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(Just call me Bas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Mijn emailadres is: </a:t>
            </a:r>
            <a:r>
              <a:rPr b="1" lang="nl-NL" sz="3600" spc="-1" strike="noStrike">
                <a:solidFill>
                  <a:srgbClr val="ffffff"/>
                </a:solidFill>
                <a:latin typeface="Tahoma"/>
              </a:rPr>
              <a:t>bas.vaneerd@han.n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6. Presens (present tense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wo kinds of verbs: irregular and reg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Ir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 just learn / know them by hea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Regular verbs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ake –en off the infinitive (werken – werk). This is the so called </a:t>
            </a:r>
            <a:r>
              <a:rPr b="0" i="1" lang="nl-NL" sz="2800" spc="-1" strike="noStrike">
                <a:solidFill>
                  <a:srgbClr val="ffffff"/>
                </a:solidFill>
                <a:latin typeface="Tahoma"/>
              </a:rPr>
              <a:t>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Ik = st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rest in singularis = stam + 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luralis = infini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today’s pro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205000"/>
            <a:ext cx="64008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the alphabe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dialog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one of the most difficult rules in Dutch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pronomen persona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me verb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prese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1. the Dutch alphabe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Tahoma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1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Hal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Ho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Hoe heet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Ik heet Bas. En jij? Hoe heet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Ik heet Anna. Hoe gaat he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Het gaat prima. Met jou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Met mij ook. Waar kom jij vandaa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Ik kom uit Nederland. Ik woon in Amsterdam. Waar woon jij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Ik woon in Arnh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: Arnhem is een mooie stad. Maar ik moet nu weg. Doe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: Okee. Tot ziens. Doei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2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Goedemiddag, ik ben Bas van Ee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Goedemiddag, ik ben Anna de Jo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Hoe maakt u he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Het gaat uitstekend! Met u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Met mij gaat het ook prima, bedank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Leuk u te ontmoete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: Hetzelfde. Maar nu moet ik gaan. Tot zien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: Da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2. dialogues (3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allo, hoi, hey, hi, goedemiddag, goedemorgen, goedeavond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Tot ziens, dag, doei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e heet jij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k hee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ar kom jij vandaa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k kom ui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e gaat het (met je)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t gaa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3. one of the most difficult rules in Dutch….. (good luck!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wels: A – O – E – U – 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onsonants: the r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Syllabe: a part of a 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pen syllabe: ends in a vowe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a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wo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e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n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bu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r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Closed syllabe: ends in a consona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kap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p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dok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r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fles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sen; </a:t>
            </a:r>
            <a:r>
              <a:rPr b="0" lang="nl-NL" sz="2400" spc="-1" strike="noStrike">
                <a:solidFill>
                  <a:srgbClr val="ff00ff"/>
                </a:solidFill>
                <a:latin typeface="Tahoma"/>
              </a:rPr>
              <a:t>put</a:t>
            </a: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-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ff"/>
                </a:solidFill>
                <a:latin typeface="Tahoma"/>
              </a:rPr>
              <a:t>RULE: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When the syllabe is open, you write a l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sound with only ONE characte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4. pronomen persona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ij (je) / u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ij (w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you 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nl-NL" sz="3200" spc="-1" strike="noStrike">
                <a:solidFill>
                  <a:srgbClr val="ffffff"/>
                </a:solidFill>
                <a:latin typeface="Tahoma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zij (ze)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th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4437000"/>
            <a:ext cx="792000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e5ffff"/>
                </a:solidFill>
                <a:latin typeface="Tahoma"/>
              </a:rPr>
              <a:t>5. some verb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b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have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can)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(to 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k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BE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HEB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KUN je/jij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00ff"/>
                </a:solidFill>
                <a:latin typeface="Tahoma"/>
              </a:rPr>
              <a:t>WERK je/jij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BE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/KUN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IS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EFT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A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ij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Jullie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 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ZIJ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HEBB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UNNEN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18:33:09Z</dcterms:created>
  <dc:creator>B. van Eerd</dc:creator>
  <dc:description/>
  <dc:language>en-US</dc:language>
  <cp:lastModifiedBy>B. van Eerd</cp:lastModifiedBy>
  <dcterms:modified xsi:type="dcterms:W3CDTF">2006-09-11T21:21:00Z</dcterms:modified>
  <cp:revision>7</cp:revision>
  <dc:subject/>
  <dc:title>Welkom bij Dutch 1</dc:title>
</cp:coreProperties>
</file>