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7BA-DD44-44C6-BE6C-CD572696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41F-D7AF-411B-AB57-07A875C8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7F0-8879-4D3A-9379-57CB926E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AAA-E046-43EE-B9C9-5EFFDFE6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4186-6940-4D98-9DB8-0E4B6994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8A03-9B40-4AEC-A540-74959AE7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E9CE-A4B5-471B-A2A9-14BF049B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E177-F7C2-4027-A67F-08B5E73A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DB48-BDAF-498B-9D97-03564CF2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C899-5BB4-450E-BEF9-1F278A6A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0A3D-5D24-4E1D-AF80-524773DB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494-AFE5-43E6-9524-69AB6E57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45CE-CAAA-41D2-9742-235CF2D5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22E8-C420-47F1-A779-B11D6604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2F4C-87CA-432C-BD58-A1A97CD5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FA11-89D6-4EA9-8536-B19B32A2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1103-AAE4-4E0D-9C47-A51E93E5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68A-1410-4ED6-9F51-8F645691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D37-A533-4219-BEF0-6AA572E0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8B2-203C-4A63-AC74-D88FF685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89D-4226-4307-A499-A62DC937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655-D2F9-45CC-82F8-BBE1A207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C25-FBBE-4541-9AB9-C209EFFB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FD5-6FD6-4E51-B4B5-73B04FD6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BF27-B513-44C5-BF03-0C371C4CF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D4F2-EB50-4035-B8AE-31E5B3366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000" spc="-1" strike="noStrike">
                <a:solidFill>
                  <a:srgbClr val="e5ffff"/>
                </a:solidFill>
                <a:latin typeface="Tahoma"/>
              </a:rPr>
              <a:t>Welkom bij Dutch 1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ahoma"/>
              </a:rPr>
              <a:t>Mijn naam is Bas van Eer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ahoma"/>
              </a:rPr>
              <a:t>(Just call me Bas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ahoma"/>
              </a:rPr>
              <a:t>Mijn emailadres is: </a:t>
            </a:r>
            <a:r>
              <a:rPr b="1" lang="nl-NL" sz="3600" spc="-1" strike="noStrike">
                <a:solidFill>
                  <a:srgbClr val="ffffff"/>
                </a:solidFill>
                <a:latin typeface="Tahoma"/>
              </a:rPr>
              <a:t>bas.vaneerd@han.n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6. Presens (present tense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wo kinds of verbs: irregular and reg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Irregular verbs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: just learn / know them by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Regular verbs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ake –en off the infinitive (werken – werk). This is the so called </a:t>
            </a:r>
            <a:r>
              <a:rPr b="0" i="1" lang="nl-NL" sz="2800" spc="-1" strike="noStrike">
                <a:solidFill>
                  <a:srgbClr val="ffffff"/>
                </a:solidFill>
                <a:latin typeface="Tahoma"/>
              </a:rPr>
              <a:t>ST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k = st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t in singularis = stam + 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uralis = infini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today’s pro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the alphab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dialog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one of the most difficult rules in Dutch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pronomen person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some ver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pres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1. the Dutch alphab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 B   C   D   E   F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G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H   I   J   K   L   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N   O   P  Q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R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S   T   U   V   W   X  Y  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________________________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Sound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– aa, o – oo, e – ee, u – uu, (i – 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u, ou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ui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eu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ei/ij, o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2. dialogues (1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Hall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: Ho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Hoe heet jij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: Ik heet Bas. En jij? Hoe heet jij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Ik heet Anna. Hoe gaat he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: Het gaat prima. Met jou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Met mij ook. Waar kom jij vanda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: Ik kom uit Nederland. Ik woon in Amsterdam. Waar woon jij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Ik woon in Arnh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: Arnhem is een mooie stad. Maar ik moet nu weg. Doei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Okee. Tot ziens. Doei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2. dialogues (2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: Goedemiddag, ik ben Bas van Ee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: Goedemiddag, ik ben Anna de Jo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: Hoe maakt u he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: Het gaat uitstekend! Met 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: Met mij gaat het ook prima, bedank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: Leuk u te ontmoete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: Hetzelfde. Maar nu moet ik gaan. Tot zien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: Da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2. dialogues (3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allo, hoi, hey, hi, goedemiddag, goedemorgen, goedeavond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ot ziens, dag, doei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e heet jij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k hee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ar kom jij vandaa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k kom ui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e gaat het (met je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t gaa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3. one of the most difficult rules in Dutch….. (good luck!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wels: A – O – E – U – 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Consonants: the r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yllabe: a part of a w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en syllabe: ends in a vow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wa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wo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n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be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n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bu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r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Closed syllabe: ends in a conson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kap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p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dok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fles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s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put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ff"/>
                </a:solidFill>
                <a:latin typeface="Tahoma"/>
              </a:rPr>
              <a:t>RULE: 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When the syllabe is open, you write a lo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sound with only ONE charact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4. pronomen persona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ij (je) / u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ij (we)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j (ze)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h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4437000"/>
            <a:ext cx="792000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5. some ver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b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hav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an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wor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BE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HEB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KU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WERK je/ji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/KU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8:33:09Z</dcterms:created>
  <dc:creator>B. van Eerd</dc:creator>
  <dc:description/>
  <dc:language>en-US</dc:language>
  <cp:lastModifiedBy>B. van Eerd</cp:lastModifiedBy>
  <dcterms:modified xsi:type="dcterms:W3CDTF">2006-09-11T21:21:00Z</dcterms:modified>
  <cp:revision>7</cp:revision>
  <dc:subject/>
  <dc:title>Welkom bij Dutch 1</dc:title>
</cp:coreProperties>
</file>