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1B6-032B-4C71-B776-CF1EEA81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446-9D21-468E-A15D-83B8EC13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E7E-42DE-4C62-BDDE-FCAED5E1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FA2-67B5-4A01-A162-A20E8F18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426-4AB4-4F3A-984F-D329EDA9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19BA-397B-4D24-A4ED-35EECE6F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88A4-B918-4603-9249-20255C07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6A5C-A33F-4875-93BA-0BEAF983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98E7-5B06-4494-BBB1-21DC6BB4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5482-0E8B-47BA-B3FB-BA12C951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8EFF-B2DD-4BCC-AF9C-467E064A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0EC-6094-4B98-AD20-9079CD73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2541-152F-4D29-A70E-C58281F3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2841-ED65-4F79-9BC5-1448F76D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5228-EE41-48F0-B5EA-1E20CA39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90B-9E90-4BAA-9755-0B962016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148B-F778-44B9-BCE9-FCD60EC9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742-1C7C-4774-A2A3-7C651808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CCE-546B-4627-9F15-55004570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695-E3CA-4A7C-96E5-B83C00D1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4C7-B282-43D9-B422-615E2131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F4B-8826-4482-927E-B1F3C975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4DD-D232-4A51-8F43-32A2F0AD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868-78EA-41F3-B573-CEC99096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FC17-231F-4E5E-A29C-C4B629949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BD76-E5FA-43EF-8061-97AB0EC64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000" spc="-1" strike="noStrike">
                <a:solidFill>
                  <a:srgbClr val="e5ffff"/>
                </a:solidFill>
                <a:latin typeface="Tahoma"/>
              </a:rPr>
              <a:t>Welkom bij Dutch 1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Mijn naam is Bas van Eer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(Just call me Bas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Mijn emailadres is: </a:t>
            </a:r>
            <a:r>
              <a:rPr b="1" lang="nl-NL" sz="3600" spc="-1" strike="noStrike">
                <a:solidFill>
                  <a:srgbClr val="ffffff"/>
                </a:solidFill>
                <a:latin typeface="Tahoma"/>
              </a:rPr>
              <a:t>bas.vaneerd@han.n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6. Presens (present tense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wo kinds of verbs: irregular and reg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Ir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 just learn / know them by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ake –en off the infinitive (werken – werk). This is the so called </a:t>
            </a:r>
            <a:r>
              <a:rPr b="0" i="1" lang="nl-NL" sz="2800" spc="-1" strike="noStrike">
                <a:solidFill>
                  <a:srgbClr val="ffffff"/>
                </a:solidFill>
                <a:latin typeface="Tahoma"/>
              </a:rPr>
              <a:t>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k = 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t in singularis = stam +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uralis = infin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today’s pro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the alphab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dialo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one of the most difficult rules in Dutc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pronomen pers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me ver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pres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1. the Dutch alphab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2. dialogues (1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Hal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Ho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Hoe heet jij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Ik heet Bas. En jij? Hoe heet jij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Ik heet Anna. Hoe gaat h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Het gaat prima. Met jou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Met mij ook. Waar kom jij vand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Ik kom uit Nederland. Ik woon in Amsterdam. Waar woon jij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Ik woon in Arn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Arnhem is een mooie stad. Maar ik moet nu weg. Doe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Okee. Tot ziens. Doe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2. dialogues (2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Goedemiddag, ik ben Bas van Ee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Goedemiddag, ik ben Anna de J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Hoe maakt u he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Het gaat uitstekend! Met 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Met mij gaat het ook prima, bedan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Leuk u te ontmoete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Hetzelfde. Maar nu moet ik gaan. Tot zien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Da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2. dialogues (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allo, hoi, hey, hi, goedemiddag, goedemorgen, goedeavond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ot ziens, dag, doei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e heet jij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k hee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ar kom jij vandaa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k kom ui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e gaat het (met je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 gaa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3. one of the most difficult rules in Dutch….. (good luck!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wels: A – O – E – U –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onsonants: the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yllabe: a part of a 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en syllabe: ends in a vo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a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o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r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losed syllabe: ends in a conson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kap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p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dok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fle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s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pu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ff"/>
                </a:solidFill>
                <a:latin typeface="Tahoma"/>
              </a:rPr>
              <a:t>RULE: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When the syllabe is open, you write a l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sound with only ONE charact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4. pronomen persona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ij (je) / u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ij (w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4437000"/>
            <a:ext cx="7920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b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BE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HEB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U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WERK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/KU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33:09Z</dcterms:created>
  <dc:creator>B. van Eerd</dc:creator>
  <dc:description/>
  <dc:language>en-US</dc:language>
  <cp:lastModifiedBy>B. van Eerd</cp:lastModifiedBy>
  <dcterms:modified xsi:type="dcterms:W3CDTF">2006-09-11T21:21:00Z</dcterms:modified>
  <cp:revision>7</cp:revision>
  <dc:subject/>
  <dc:title>Welkom bij Dutch 1</dc:title>
</cp:coreProperties>
</file>