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D8CF-9241-46E9-952F-12B21ABB7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A938-CD08-4401-B1CE-ED4C4B6E0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EADA-FE80-423C-8E5C-7CD26A78E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8908-904A-40FB-B7A3-E48456CF8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BF8D2-DEDD-40F0-AC76-9C5ACD542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FF431-F552-4540-A94E-AEAB26457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53840-F79E-49FD-A43D-8B16A2B5A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C9728-0E81-4691-975A-BBA37E8FD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BCCAB-ACE5-4309-B0B4-4255491E7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93F8B-9EF1-4FE4-90DE-2BF35A5ED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21FAE-9A03-465D-AD54-FB405D84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BE6C-E134-4A80-81B2-2110F958F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96D99-C66C-4EBD-A975-BB3007FC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60AC5-6A31-4392-877C-53F17798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00CBB-B094-4051-9B4D-6C64C05FA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26817-2291-48A7-95B5-CCA4F9DF8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7DE1C-07F7-4132-9FCB-D8C814795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CF3D-F8C7-4831-A645-313ACE8CB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F07C-2572-4D8F-8A95-825A01183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4134-9C28-4363-AA5C-FF61BF7CF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121A-EB3C-42B6-9F57-4052782EB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5ED7-0FAA-46F6-B298-41F4F172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CA57-2E9A-408F-A94B-07EEFB68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505E-600B-4DBC-90B0-17CACD42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16534-903B-4D5B-B065-87BC7B0FDB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64C92-4FDF-49B8-859F-40438FD5E5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000" spc="-1" strike="noStrike">
                <a:solidFill>
                  <a:srgbClr val="e5ffff"/>
                </a:solidFill>
                <a:latin typeface="Tahoma"/>
              </a:rPr>
              <a:t>Welkom bij Dutch 1</a:t>
            </a:r>
            <a:endParaRPr b="0" lang="en-US" sz="5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87280" y="3212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ff"/>
                </a:solidFill>
                <a:latin typeface="Tahoma"/>
              </a:rPr>
              <a:t>2nd less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1. the Dutch alphabe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A  B   C   D   E   F   </a:t>
            </a:r>
            <a:r>
              <a:rPr b="1" lang="nl-NL" sz="2800" spc="-1" strike="noStrike">
                <a:solidFill>
                  <a:srgbClr val="ff00ff"/>
                </a:solidFill>
                <a:latin typeface="Tahoma"/>
              </a:rPr>
              <a:t>G</a:t>
            </a: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   H   I   J   K   L   M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N   O   P  Q   </a:t>
            </a:r>
            <a:r>
              <a:rPr b="1" lang="nl-NL" sz="2800" spc="-1" strike="noStrike">
                <a:solidFill>
                  <a:srgbClr val="ff00ff"/>
                </a:solidFill>
                <a:latin typeface="Tahoma"/>
              </a:rPr>
              <a:t>R</a:t>
            </a: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   S   T   U   V   W   X  Y  Z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_______________________________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Sounds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a – aa, o – oo, e – ee, u – uu, (i – i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au, ou, </a:t>
            </a:r>
            <a:r>
              <a:rPr b="1" lang="nl-NL" sz="2800" spc="-1" strike="noStrike">
                <a:solidFill>
                  <a:srgbClr val="ff00ff"/>
                </a:solidFill>
                <a:latin typeface="Tahoma"/>
              </a:rPr>
              <a:t>ui</a:t>
            </a: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nl-NL" sz="2800" spc="-1" strike="noStrike">
                <a:solidFill>
                  <a:srgbClr val="ff00ff"/>
                </a:solidFill>
                <a:latin typeface="Tahoma"/>
              </a:rPr>
              <a:t>eu</a:t>
            </a: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, ei/ij, oe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3. one of the most difficult rules in Dutch….. (good luck!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owels: A – O – E – U – I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Consonants: the r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Syllabe: a part of a wor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Open syllabe: ends in a vowe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nl-NL" sz="2400" spc="-1" strike="noStrike">
                <a:solidFill>
                  <a:srgbClr val="ff00ff"/>
                </a:solidFill>
                <a:latin typeface="Tahoma"/>
              </a:rPr>
              <a:t>wa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-ter; </a:t>
            </a:r>
            <a:r>
              <a:rPr b="0" lang="nl-NL" sz="2400" spc="-1" strike="noStrike">
                <a:solidFill>
                  <a:srgbClr val="ff00ff"/>
                </a:solidFill>
                <a:latin typeface="Tahoma"/>
              </a:rPr>
              <a:t>wo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-nen; </a:t>
            </a:r>
            <a:r>
              <a:rPr b="0" lang="nl-NL" sz="2400" spc="-1" strike="noStrike">
                <a:solidFill>
                  <a:srgbClr val="ff00ff"/>
                </a:solidFill>
                <a:latin typeface="Tahoma"/>
              </a:rPr>
              <a:t>be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-nen; </a:t>
            </a:r>
            <a:r>
              <a:rPr b="0" lang="nl-NL" sz="2400" spc="-1" strike="noStrike">
                <a:solidFill>
                  <a:srgbClr val="ff00ff"/>
                </a:solidFill>
                <a:latin typeface="Tahoma"/>
              </a:rPr>
              <a:t>bu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-re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Closed syllabe: ends in a consona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nl-NL" sz="2400" spc="-1" strike="noStrike">
                <a:solidFill>
                  <a:srgbClr val="ff00ff"/>
                </a:solidFill>
                <a:latin typeface="Tahoma"/>
              </a:rPr>
              <a:t>kap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-per; </a:t>
            </a:r>
            <a:r>
              <a:rPr b="0" lang="nl-NL" sz="2400" spc="-1" strike="noStrike">
                <a:solidFill>
                  <a:srgbClr val="ff00ff"/>
                </a:solidFill>
                <a:latin typeface="Tahoma"/>
              </a:rPr>
              <a:t>dok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-ter; </a:t>
            </a:r>
            <a:r>
              <a:rPr b="0" lang="nl-NL" sz="2400" spc="-1" strike="noStrike">
                <a:solidFill>
                  <a:srgbClr val="ff00ff"/>
                </a:solidFill>
                <a:latin typeface="Tahoma"/>
              </a:rPr>
              <a:t>fles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-sen; </a:t>
            </a:r>
            <a:r>
              <a:rPr b="0" lang="nl-NL" sz="2400" spc="-1" strike="noStrike">
                <a:solidFill>
                  <a:srgbClr val="ff00ff"/>
                </a:solidFill>
                <a:latin typeface="Tahoma"/>
              </a:rPr>
              <a:t>put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-te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ff"/>
                </a:solidFill>
                <a:latin typeface="Tahoma"/>
              </a:rPr>
              <a:t>RULE: </a:t>
            </a:r>
            <a:r>
              <a:rPr b="1" lang="nl-NL" sz="2400" spc="-1" strike="noStrike">
                <a:solidFill>
                  <a:srgbClr val="ffffff"/>
                </a:solidFill>
                <a:latin typeface="Tahoma"/>
              </a:rPr>
              <a:t>When the syllabe is open, you write a lo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ffffff"/>
                </a:solidFill>
                <a:latin typeface="Tahoma"/>
              </a:rPr>
              <a:t>sound with only ONE characte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exercis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klop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vrag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zit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ill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zeg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zinn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put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kenn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oor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tal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naam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mak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spreek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kantor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4. pronomen persona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k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jij (je) / u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yo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ij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e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nl-NL" sz="3200" spc="-1" strike="noStrike">
                <a:solidFill>
                  <a:srgbClr val="ffffff"/>
                </a:solidFill>
                <a:latin typeface="Tahoma"/>
              </a:rPr>
              <a:t>singul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zij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sh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et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ij (we)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jullie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you 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nl-NL" sz="3200" spc="-1" strike="noStrike">
                <a:solidFill>
                  <a:srgbClr val="ffffff"/>
                </a:solidFill>
                <a:latin typeface="Tahoma"/>
              </a:rPr>
              <a:t>plur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zij (ze)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the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539640" y="4437000"/>
            <a:ext cx="792000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5. some verb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ZIJ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EBB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UNN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(to be)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(to have)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(to can)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(to work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Ik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B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EB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A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BEN je/jij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HEB je/jij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KUN je/jij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WERK je/jij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Jij 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BEN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EB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AN/KUN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ij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IS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EEF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A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Zij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IS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EEF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A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e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IS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EEF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A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ij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ZIJ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EBB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UNN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Jullie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ZIJ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EBB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UNN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Zij 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ZIJ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EBB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UNN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5. some more (irregular) verbs…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OG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OET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GAA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(to can)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(to have to)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(to go)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(to com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Ik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AG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OE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GA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O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MAG je/jij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MOET je/jij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GA je/jij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KOM je/jij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Jij 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AG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OE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GAA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OM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ij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AG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OE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GAA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OM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Zij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AG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OE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GAA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OM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e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AG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OE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GAA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OM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ij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OG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OET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GAA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Jullie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OG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OET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GAA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Zij 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OG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OET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GAA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6. Presens (present tense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two kinds of verbs: irregular and regu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Irregular verbs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: just learn / know them by hea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Regular verbs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Take –en off the infinitive (werken – werk). This is the so called </a:t>
            </a:r>
            <a:r>
              <a:rPr b="0" i="1" lang="nl-NL" sz="2800" spc="-1" strike="noStrike">
                <a:solidFill>
                  <a:srgbClr val="ffffff"/>
                </a:solidFill>
                <a:latin typeface="Tahoma"/>
              </a:rPr>
              <a:t>ST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Ik = st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rest in singularis = stam + 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luralis = infini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18:33:09Z</dcterms:created>
  <dc:creator>B. van Eerd</dc:creator>
  <dc:description/>
  <dc:language>en-US</dc:language>
  <cp:lastModifiedBy>B. van Eerd</cp:lastModifiedBy>
  <dcterms:modified xsi:type="dcterms:W3CDTF">2006-09-21T09:04:23Z</dcterms:modified>
  <cp:revision>11</cp:revision>
  <dc:subject/>
  <dc:title>Welkom bij Dutch 1</dc:title>
</cp:coreProperties>
</file>