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0A5-C6A7-464B-A31E-342B90B7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E32-F919-42F2-9BE9-371BD62A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44D9-F95F-4582-A21D-B50AE300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42F-CDD7-421C-8C1B-E9837629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3C18-F116-4A46-AFBD-2CD44CC6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AE50-F3CA-488F-A036-C1B7D58E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658D-4BBF-4B85-99E3-A3007569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EDF3-2CFE-47C3-B19C-F499F616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A94B-F4D1-48E9-8802-919C6BD2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820E-5D7D-4E79-83E0-48975EBD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1EFC6-A962-4769-8489-240933A1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62E4-3AB0-4A9E-B5CC-3EFE89B0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E8ED-F767-4987-92B2-AD6EB9A2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BD6D-A7B8-4E60-916C-5B615884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A390-1573-44CC-92AB-B941FED0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45C7-9645-4E56-9B80-99903D40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D439-2897-4EAB-8D2F-26D2ECD2F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8839-AB1E-4553-8D04-59F9EA58B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B15-8720-4D45-8038-068B21A5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701-7DD7-4566-A757-35578F1BC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AABB-AB0A-4AA8-BF8E-00A6CDD2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B6F-75F2-496B-8058-0C2857BB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DF21-CFDE-40BC-A7F2-1E35E117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868-414F-4DF8-BC83-D8298BE9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F28B-7177-42F7-8AB9-14906499B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2ADF-645D-43D6-A212-FA2F30004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000" spc="-1" strike="noStrike">
                <a:solidFill>
                  <a:srgbClr val="e5ffff"/>
                </a:solidFill>
                <a:latin typeface="Tahoma"/>
              </a:rPr>
              <a:t>Welkom bij Dutch 1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Tahoma"/>
              </a:rPr>
              <a:t>2nd less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1. the Dutch alphab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 B   C   D   E   F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G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H   I   J   K   L   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N   O   P  Q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R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S   T   U   V   W   X  Y  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_____________________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ound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– aa, o – oo, e – ee, u – uu, (i – 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u, ou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ui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eu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ei/ij, o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3. one of the most difficult rules in Dutch….. (good luck!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wels: A – O – E – U –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Consonants: the 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yllabe: a part of a 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en syllabe: ends in a vow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wa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wo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n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b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n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bu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r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Closed syllabe: ends in a conson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kap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p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dok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fle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s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pu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ff"/>
                </a:solidFill>
                <a:latin typeface="Tahoma"/>
              </a:rPr>
              <a:t>RULE: 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When the syllabe is open, you write a l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sound with only ONE charact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exercis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lop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ra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t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il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eg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n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put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or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a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aam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ma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reek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anto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4. pronomen persona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ij (je) / u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ij (we)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 (ze)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4437000"/>
            <a:ext cx="79200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b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BE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HEB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U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WERK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/KU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more (irregular) verb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 to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go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om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MAG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MOET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GA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OM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6. Presens (present tense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wo kinds of verbs: irregular and reg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Irregular verbs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: just learn / know them by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Regular verbs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ake –en off the infinitive (werken – werk). This is the so called </a:t>
            </a:r>
            <a:r>
              <a:rPr b="0" i="1" lang="nl-NL" sz="2800" spc="-1" strike="noStrike">
                <a:solidFill>
                  <a:srgbClr val="ffffff"/>
                </a:solidFill>
                <a:latin typeface="Tahoma"/>
              </a:rPr>
              <a:t>S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k = s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t in singularis = stam +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uralis = infin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8:33:09Z</dcterms:created>
  <dc:creator>B. van Eerd</dc:creator>
  <dc:description/>
  <dc:language>en-US</dc:language>
  <cp:lastModifiedBy>B. van Eerd</cp:lastModifiedBy>
  <dcterms:modified xsi:type="dcterms:W3CDTF">2006-09-21T09:04:23Z</dcterms:modified>
  <cp:revision>11</cp:revision>
  <dc:subject/>
  <dc:title>Welkom bij Dutch 1</dc:title>
</cp:coreProperties>
</file>