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C81-22E7-466E-BD0B-B6000A7C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A3B-87BC-4F6B-8E58-139FB90A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B47-B3FB-434E-849E-4FE7C4A9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3CB-836D-4BC7-BB76-D6908426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FA55-239C-421D-B658-FD38DF2A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4697-5C75-4ED7-AA76-62A9F788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6F5E-3648-4AD5-B25B-23B6749A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EE05-7B27-40B2-B62E-BD688A1E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44A5-C532-4B04-8374-54926817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AFED-87EE-4797-95E8-479A3F10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D8E8-8909-4C23-8B97-BADE0449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CED-E205-4BEA-B7CB-B8BB59D6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DFD4-EEC4-453C-BABA-2AF55962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DD48-CC9E-4D34-B5AC-EECF08B0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A685-5D37-4B3E-BD09-CCD5BCCF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F7CE-ADC8-49CC-8D55-F69A16C0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02FE-2D2F-41DB-A45A-FAD08EDE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E5E-AB5F-4695-99D7-D48EF0B5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17B-D099-4D34-8B73-EB2271BB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375-B75C-4295-8696-554048CB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6B8-BF71-474B-B718-E1AB24C1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017-3815-4514-84B7-33FA2FC8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416-94D1-44A4-8EBA-B61FC8A7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387-8F72-4339-BE2D-7B3456D4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E60F-0FAF-4F51-BCFE-933FBBE15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63E5-50E7-4593-86B9-34FBDC985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000" spc="-1" strike="noStrike">
                <a:solidFill>
                  <a:srgbClr val="e5ffff"/>
                </a:solidFill>
                <a:latin typeface="Tahoma"/>
              </a:rPr>
              <a:t>Welkom bij Dutch 1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Tahoma"/>
              </a:rPr>
              <a:t>2nd less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1. the Dutch alphab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 B   C   D   E   F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G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H   I   J   K   L   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N   O   P  Q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R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S   T   U   V   W   X  Y  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_____________________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ound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– aa, o – oo, e – ee, u – uu, (i – 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u, ou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ui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eu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ei/ij, o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3. one of the most difficult rules in Dutch….. (good luck!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wels: A – O – E – U – 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Consonants: the 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yllabe: a part of a w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en syllabe: ends in a vow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wa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wo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n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b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n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bu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r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Closed syllabe: ends in a conson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kap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p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dok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fle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s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put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ff"/>
                </a:solidFill>
                <a:latin typeface="Tahoma"/>
              </a:rPr>
              <a:t>RULE: 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When the syllabe is open, you write a l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sound with only ONE charact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op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r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t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il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eg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n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ut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or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a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aam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reek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anto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4. pronomen persona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ij (je) / u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ij (we)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 (ze)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4437000"/>
            <a:ext cx="792000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b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wo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BE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HEB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U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WERK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/KU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more (irregular) verb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 to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go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om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MAG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MOET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GA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OM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6. Presens (present tense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wo kinds of verbs: irregular and reg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Irregular verbs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: just learn / know them by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Regular verbs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ake –en off the infinitive (werken – werk). This is the so called </a:t>
            </a:r>
            <a:r>
              <a:rPr b="0" i="1" lang="nl-NL" sz="2800" spc="-1" strike="noStrike">
                <a:solidFill>
                  <a:srgbClr val="ffffff"/>
                </a:solidFill>
                <a:latin typeface="Tahoma"/>
              </a:rPr>
              <a:t>S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k = s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t in singularis = stam + 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uralis = infin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8:33:09Z</dcterms:created>
  <dc:creator>B. van Eerd</dc:creator>
  <dc:description/>
  <dc:language>en-US</dc:language>
  <cp:lastModifiedBy>B. van Eerd</cp:lastModifiedBy>
  <dcterms:modified xsi:type="dcterms:W3CDTF">2006-09-21T09:04:23Z</dcterms:modified>
  <cp:revision>11</cp:revision>
  <dc:subject/>
  <dc:title>Welkom bij Dutch 1</dc:title>
</cp:coreProperties>
</file>