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DB9-7B1F-4AB2-AC07-6AFC3EB0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A33-574B-41C5-9CBB-E205BC7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FF4-D770-4CD6-A4CE-8275CFFA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3CC-EC79-4DF3-A985-4BD013F7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8D9D-9ED4-49C9-BF97-DA73FE78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8762-239B-4FFC-921A-FC26BFEC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86B6-B40F-4CA1-B97B-41325658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6ED6-EB46-4BDB-8805-24B0827E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B2CB-FCCA-4872-B1F8-AE7E6CA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6984-2EB2-404B-B080-D61A54B5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F236-BF56-434D-B1A2-A40437D0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57C-0540-4D84-BF03-00875EB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F27C-7A18-46E7-8339-6E5E78A1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1F81-52D7-4D60-8B44-A3E7EE8A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DD4F-A929-40EE-B81D-8076FA5D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AB33-0E05-42B3-BB65-658D989C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B623-23D7-4763-AAF6-48AF158D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944-B142-4A52-A38E-CA8A3B35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D8F-2E86-4A68-9707-7DEB18EC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738-E53A-4122-844B-C7B945F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D47-A81C-40F9-8C89-9B40091E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752-82E7-4DF9-89A8-9F19385E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9DA-7C40-4642-943A-DAC59AFF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24D-8481-4AF5-9608-0F219DA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0FE4-C216-4FBD-A7AF-826F23818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BA13-28B2-4C10-88BC-FBA590A0E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ffff"/>
                </a:solidFill>
                <a:latin typeface="Tahoma"/>
              </a:rPr>
              <a:t>Welkom bij Dutch 1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Tahoma"/>
              </a:rPr>
              <a:t>derde 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1. the Dutch alphab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b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BE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HEB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U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WERK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/KU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more (irregular) verb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 t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g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o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AG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OET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GA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OM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op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o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ij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ing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o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bb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g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u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nn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ull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ult / z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The word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Str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ho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Scho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ow l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al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arli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Lea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L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Today (gisteren = yesterday, morgen = tomorro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ronomen personale (S+O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ij (m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ij (j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ou (j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o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m (‘m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ijn (z’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aar (‘r)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aar (‘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t (‘t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t (‘t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wij (w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n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ns / on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ull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n / hun (z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u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negation  niet / ge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een boe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geen 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hong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geen ho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ben mo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ben niet m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is moeilij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is niet moei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j substantief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i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j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33:09Z</dcterms:created>
  <dc:creator>B. van Eerd</dc:creator>
  <dc:description/>
  <dc:language>en-US</dc:language>
  <cp:lastModifiedBy>WS804367</cp:lastModifiedBy>
  <dcterms:modified xsi:type="dcterms:W3CDTF">2006-09-25T11:30:42Z</dcterms:modified>
  <cp:revision>14</cp:revision>
  <dc:subject/>
  <dc:title>Welkom bij Dutch 1</dc:title>
</cp:coreProperties>
</file>