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604-2316-4DA2-8521-6EF916A9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CB5-408F-4187-AD6D-40CA5574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0FD-028E-4366-87E7-B9B08C89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623C-E773-4315-A6E6-E683F248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CCA7-9170-4431-B58B-05C17500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67E4-5ADA-4F18-B448-D03CACB4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F32F-22A1-4002-ABE5-3F238E9F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2063-5913-4092-A82F-D630CDF8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54E3-CA26-498B-9EDC-15324610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B094-3663-46B1-AA79-1758FA04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6EE7-7751-4DDC-BEB2-87122566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D0A-75B5-4C88-86AB-D004CB72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5D91-8848-497D-B8AF-4EED293B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32BE-2A9D-42E7-AC56-533C7A37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53F6-42D0-4B98-859A-28146F10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4C5D-4A75-4AB9-9CC3-F3EB9F2C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9808-66B0-4337-B84A-C786C2EF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CA7F-4BD7-486F-B60D-A257B8C5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17E-6947-4E19-995C-AA0AA7EE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2372-0337-4D94-8EC3-7A9C8CF7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471-B9EE-474C-A85B-9D4C422E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774-2775-4D5F-BE0D-94F6DF7D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03F-3830-460E-ABB6-143D3B61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332-6EE9-4657-B4B0-4DAB953E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A74A-66D3-4AD5-AE48-65075A61C7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5C67-6DBD-49A1-8008-D4E9FD8AD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5ffff"/>
                </a:solidFill>
                <a:latin typeface="Tahoma"/>
              </a:rPr>
              <a:t>Welkom bij Dutch 1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7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Tahoma"/>
              </a:rPr>
              <a:t>derde 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1. the Dutch alphab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  B   C   D   E   F  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G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 H   I   J   K   L   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N   O   P  Q  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R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 S   T   U   V   W   X  Y  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___________________________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Sound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 – aa, o – oo, e – ee, u – uu, (i – i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u, ou,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ui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eu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, ei/ij, o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5. some verb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be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have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an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wor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BEN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HEB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KUN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WERK je/ji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N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/KUN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5. some more (irregular) verbs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an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have to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go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om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MAG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MOET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GA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KOM je/ji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op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o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ij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ing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o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bb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g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uu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nn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ull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ult / z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The words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Stre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th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ho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D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Scho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ow lo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ome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Doc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al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arli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Lea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Le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Today (gisteren = yesterday, morgen = tomorrow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ronomen personale (S+O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P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mij (m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m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jij (j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jou (j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jo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m (‘m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zijn (z’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zij (z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aar (‘r) 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aar (‘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t (‘t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t (‘t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wij (w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ns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ns / on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jull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zij (z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n / hun (z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un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negation  niet / ge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 heb een boe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 heb geen b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 heb hong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 heb geen ho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 ben mo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 ben niet m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 is moeilij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 is niet moeilij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e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ij substantief,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i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ij 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8:33:09Z</dcterms:created>
  <dc:creator>B. van Eerd</dc:creator>
  <dc:description/>
  <dc:language>en-US</dc:language>
  <cp:lastModifiedBy>WS804367</cp:lastModifiedBy>
  <dcterms:modified xsi:type="dcterms:W3CDTF">2006-09-25T11:30:42Z</dcterms:modified>
  <cp:revision>14</cp:revision>
  <dc:subject/>
  <dc:title>Welkom bij Dutch 1</dc:title>
</cp:coreProperties>
</file>