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832A-FB2E-44B3-BD3C-DBB56C26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67A-83F5-41AC-863F-5703827F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D5B-1243-49C4-873C-E04C3332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AA5-108B-452A-A190-A817430B1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1BC1-E192-4694-869F-C5E5EFBA8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688C-0968-4E38-A6A9-A1BF2B69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5E869-9C6D-432C-8491-0F6A3118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A777-684F-438A-9A45-411FBEE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466F-44E8-4E81-919F-E14CF1CE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354C-4345-47DC-89AD-AA6585041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3A5B-EAFF-4086-AF20-4F4858AE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AC1-F976-423F-967A-C2685D42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1E1F-F971-4158-B319-46058CB4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F467-E309-4187-80C8-C2A4E4E3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C13F-4C6F-4DB7-9E0B-298A579F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9F53-952C-49F4-8C55-1F7D2527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59E0-1D4B-4C35-8859-9374E250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914-0DCA-4A07-8B2B-45A37A82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25D-5C9E-47DD-A2DE-9652C4F4E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3C8-46D3-480F-AC6B-4EA1642B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3A0-3CE3-4948-87A6-0E48464C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1353-3BD6-40D2-ACA0-D46D71A0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7E57-E76F-4D76-AB37-65CCBB7B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B367-5A10-4147-BD3A-EA87865E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E14B-72FE-47BB-93E8-3130C9AAF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6C45-191C-45FD-85D7-A0290925A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ffff"/>
                </a:solidFill>
                <a:latin typeface="Tahoma"/>
              </a:rPr>
              <a:t>Welkom bij Dutch 1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ff"/>
                </a:solidFill>
                <a:latin typeface="Tahoma"/>
              </a:rPr>
              <a:t>derde l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1. the Dutch alphab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b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BE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HEB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U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WERK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/KU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more (irregular) verb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 t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go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om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AG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MOET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GA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OM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G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G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ET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GA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answ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op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ook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lijf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ing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o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bb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g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uur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nn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ull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Zult / z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The words…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Str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oth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ho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Scho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ow l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ome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a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Doc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al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arli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Lea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Lett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Today (gisteren = yesterday, morgen = tomorrow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pronomen personale (S+O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ij (m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m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ij (j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ou (j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o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m (‘m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ijn (z’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aar (‘r) 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aar (‘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t (‘t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t (‘t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wij (w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n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ns / onz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jull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en / hun (ze)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hun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negation  niet / ge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een boe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geen b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hong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heb geen hong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ben mo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k ben niet mo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is moeilij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t is niet moeilij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ge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j substantief,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nie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ij 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33:09Z</dcterms:created>
  <dc:creator>B. van Eerd</dc:creator>
  <dc:description/>
  <dc:language>en-US</dc:language>
  <cp:lastModifiedBy>WS804367</cp:lastModifiedBy>
  <dcterms:modified xsi:type="dcterms:W3CDTF">2006-09-25T11:30:42Z</dcterms:modified>
  <cp:revision>14</cp:revision>
  <dc:subject/>
  <dc:title>Welkom bij Dutch 1</dc:title>
</cp:coreProperties>
</file>