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376AA-E98B-4390-A301-722C68E1F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D1A22-763E-43F8-955A-E6187E0FB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20516-9683-47B5-AA4F-863C52255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30D27-D57A-4027-B7B3-844F64B77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CD899-DAC0-4003-ABE7-7198F6224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68EF1-F08B-4FF0-844A-847E17EB7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3B617-0CC5-4E63-B972-6A9BFBE12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E4A6B-5CD9-4130-8EF4-DC18DBCA6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BFAF2-9AE4-4AD4-928F-CACE160C6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18D80-781D-4FE5-A6F8-CDC6DA6B7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A657D-6A10-4E11-BCC6-1671876B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94323-C04B-4682-8CBE-AD37B821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38D10-9DF0-499E-A169-3EB83A91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B781C-5A77-4275-A687-CC5D54EF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3A6B8-4A80-46DC-A710-5633E7264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81D95-5399-43B8-AA7B-DB0BA42E7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34EC8-C587-4760-819C-D0594DEF9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9C180-D2BC-47B1-AE77-4E0808D4E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55B11-E7F0-4312-84F5-61C417471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AFE56-7F4B-49A9-90D5-6B014A4C0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FC22F-3912-4445-B627-44FF3B8E6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9B559-4F74-4132-A02F-9D32DA9F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8CD82-73AA-41EC-9BD0-72A82FE8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B2E74-428C-4D6B-A5F8-A10AC588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8A0A5-9252-4123-B56C-D5D7EB422C1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405B0-415D-415D-967B-BE4174A594A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e5e5ff"/>
                </a:solidFill>
                <a:latin typeface="Garamond"/>
              </a:rPr>
              <a:t>Dutch 1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8728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vierde 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municati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e laat is het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t studeer j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ar woon j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ar kom je vandaa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e oud ben j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nneer ben je jarig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nneer ben je gebore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e gaat het met j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gramm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ab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counting aga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one or two …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erbs, pronomen and neg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eek – mont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communic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the Dutch alphabe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Garamond"/>
              </a:rPr>
              <a:t>A  B   C   D   E   F   </a:t>
            </a:r>
            <a:r>
              <a:rPr b="1" lang="nl-NL" sz="2800" spc="-1" strike="noStrike">
                <a:solidFill>
                  <a:srgbClr val="ff00ff"/>
                </a:solidFill>
                <a:latin typeface="Garamond"/>
              </a:rPr>
              <a:t>G</a:t>
            </a:r>
            <a:r>
              <a:rPr b="1" lang="nl-NL" sz="2800" spc="-1" strike="noStrike">
                <a:solidFill>
                  <a:srgbClr val="ffffff"/>
                </a:solidFill>
                <a:latin typeface="Garamond"/>
              </a:rPr>
              <a:t>   H   I   J   K   L   M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Garamond"/>
              </a:rPr>
              <a:t>N   O   P  Q   </a:t>
            </a:r>
            <a:r>
              <a:rPr b="1" lang="nl-NL" sz="2800" spc="-1" strike="noStrike">
                <a:solidFill>
                  <a:srgbClr val="ff00ff"/>
                </a:solidFill>
                <a:latin typeface="Garamond"/>
              </a:rPr>
              <a:t>R</a:t>
            </a:r>
            <a:r>
              <a:rPr b="1" lang="nl-NL" sz="2800" spc="-1" strike="noStrike">
                <a:solidFill>
                  <a:srgbClr val="ffffff"/>
                </a:solidFill>
                <a:latin typeface="Garamond"/>
              </a:rPr>
              <a:t>   S   T   U   V   W   X  Y  Z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Garamond"/>
              </a:rPr>
              <a:t>_______________________________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Garamond"/>
              </a:rPr>
              <a:t>Sounds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Garamond"/>
              </a:rPr>
              <a:t>a – aa, o – oo, e – ee, u – uu, (i – i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Garamond"/>
              </a:rPr>
              <a:t>au, ou, </a:t>
            </a:r>
            <a:r>
              <a:rPr b="1" lang="nl-NL" sz="2800" spc="-1" strike="noStrike">
                <a:solidFill>
                  <a:srgbClr val="ff00ff"/>
                </a:solidFill>
                <a:latin typeface="Garamond"/>
              </a:rPr>
              <a:t>ui</a:t>
            </a:r>
            <a:r>
              <a:rPr b="1" lang="nl-NL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nl-NL" sz="2800" spc="-1" strike="noStrike">
                <a:solidFill>
                  <a:srgbClr val="ff00ff"/>
                </a:solidFill>
                <a:latin typeface="Garamond"/>
              </a:rPr>
              <a:t>eu</a:t>
            </a:r>
            <a:r>
              <a:rPr b="1" lang="nl-NL" sz="2800" spc="-1" strike="noStrike">
                <a:solidFill>
                  <a:srgbClr val="ffffff"/>
                </a:solidFill>
                <a:latin typeface="Garamond"/>
              </a:rPr>
              <a:t>, ei/ij, oe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count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en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lf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en en twintig (21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we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waalf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wee en twintig (22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dri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dertien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dertig (30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vier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veertien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veerti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vijf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vijftien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vijfti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ze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zestien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zesti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zeven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zeventien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zeventi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cht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chttien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achti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negen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negentien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negenti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ien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wintig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honder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one or tw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Again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open syllabe: </a:t>
            </a: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ending in a vow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closed syllabe:</a:t>
            </a: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ending in a consona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84360" y="3573360"/>
          <a:ext cx="4537080" cy="2612880"/>
        </p:xfrm>
        <a:graphic>
          <a:graphicData uri="http://schemas.openxmlformats.org/drawingml/2006/table">
            <a:tbl>
              <a:tblPr/>
              <a:tblGrid>
                <a:gridCol w="1469880"/>
                <a:gridCol w="1533600"/>
                <a:gridCol w="1533600"/>
              </a:tblGrid>
              <a:tr h="7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p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los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ong sou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 char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 char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hort sou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 char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im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het uur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kwart vo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de minuut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kwart ov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de wijzer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half (to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de klok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drie uu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Hoe laat is het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Het is 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verbs, pronomen and neg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exercise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ee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agen van de week: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woorde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andag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andaa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nsdag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ister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oensdag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ergister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nderdag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r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rijdag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vermor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aterdag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ori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ondag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olgen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Month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2 maanden: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seizoen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januari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int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ebruari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ente (voorjaar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art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zom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pril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erfst (najaar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ei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jun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jul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ugustu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ptemb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ktob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ovemb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cemb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2T07:10:07Z</dcterms:created>
  <dc:creator>B. van Eerd</dc:creator>
  <dc:description/>
  <dc:language>en-US</dc:language>
  <cp:lastModifiedBy>B. van Eerd</cp:lastModifiedBy>
  <dcterms:modified xsi:type="dcterms:W3CDTF">2006-10-02T07:29:53Z</dcterms:modified>
  <cp:revision>2</cp:revision>
  <dc:subject/>
  <dc:title>Dutch 1</dc:title>
</cp:coreProperties>
</file>