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44D9-BA18-4A1F-AF31-EC0F9CE7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81A6-633E-448A-9139-C7E8C7FD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2C3A-DF0A-4C30-8D11-0AFF4635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1548-D74D-4FF5-A39A-6B6553AC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994D-98AA-430C-BE98-42D24A7B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1B62-187C-49DB-84BC-904ED7D1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505B-4D63-47E0-8BB5-82446F82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BDF5-D2E5-476E-A160-E603D83E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CCD9-1125-4810-B336-E0E5460B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D03D-F7B5-4751-AC23-FB955DC2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0171-3D1B-441C-BB92-C7BEE306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54E6-27AB-4956-B6F7-C2E8539A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6A74-42B3-4ABB-933E-A10C5922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8C42-A65C-41D2-8E83-969FC580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40CA-E9C7-498D-99FC-356D07F8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ED5C-1F29-4BC5-BC49-7352B265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3D2A-D0B3-42AF-848C-A3EAD230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0A3C-879F-40CE-87AF-07490FE6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A37F-279B-44C3-A315-5B4FBD17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D29B-1355-4C10-80E7-E266234E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90DF-DAA9-4764-ABE0-4AB4C1D1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1277-3A09-47C9-8E7A-6401ADC8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602C1-0DF5-4DF1-815A-B8850EAB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D4A8-6865-4B4F-9B32-C7B5C04E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C09D-27B2-4987-B9E5-CEA8C87B56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1F0D-FF5F-4B6E-8977-F3E045C972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1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ierde 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e laat is he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studeer j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ar woon j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ar kom je vandaa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e oud ben j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nneer ben je jari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nneer ben je gebor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e gaat het met j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gram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b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ounting ag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ne or two …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s, pronomen and ne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ek – mon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the Dutch alphab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A  B   C   D   E   F   </a:t>
            </a:r>
            <a:r>
              <a:rPr b="1" lang="nl-NL" sz="2800" spc="-1" strike="noStrike">
                <a:solidFill>
                  <a:srgbClr val="ff00ff"/>
                </a:solidFill>
                <a:latin typeface="Garamond"/>
              </a:rPr>
              <a:t>G</a:t>
            </a: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   H   I   J   K   L   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N   O   P  Q   </a:t>
            </a:r>
            <a:r>
              <a:rPr b="1" lang="nl-NL" sz="2800" spc="-1" strike="noStrike">
                <a:solidFill>
                  <a:srgbClr val="ff00ff"/>
                </a:solidFill>
                <a:latin typeface="Garamond"/>
              </a:rPr>
              <a:t>R</a:t>
            </a: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   S   T   U   V   W   X  Y  Z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_______________________________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Sound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a – aa, o – oo, e – ee, u – uu, (i – 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au, ou, </a:t>
            </a:r>
            <a:r>
              <a:rPr b="1" lang="nl-NL" sz="2800" spc="-1" strike="noStrike">
                <a:solidFill>
                  <a:srgbClr val="ff00ff"/>
                </a:solidFill>
                <a:latin typeface="Garamond"/>
              </a:rPr>
              <a:t>ui</a:t>
            </a: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nl-NL" sz="2800" spc="-1" strike="noStrike">
                <a:solidFill>
                  <a:srgbClr val="ff00ff"/>
                </a:solidFill>
                <a:latin typeface="Garamond"/>
              </a:rPr>
              <a:t>eu</a:t>
            </a: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, ei/ij, o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un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lf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en en twintig (2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we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waalf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wee en twintig (2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ri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r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rtig (3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ie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eer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eer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ijf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ijf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ijf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s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s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v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ven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ven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ch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cht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ach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en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en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wintig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onde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ne or tw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Again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open syllabe: 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ending in a vow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losed syllabe: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ending in a conson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3573360"/>
          <a:ext cx="4537080" cy="2612880"/>
        </p:xfrm>
        <a:graphic>
          <a:graphicData uri="http://schemas.openxmlformats.org/drawingml/2006/table">
            <a:tbl>
              <a:tblPr/>
              <a:tblGrid>
                <a:gridCol w="1469880"/>
                <a:gridCol w="1533600"/>
                <a:gridCol w="153360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p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os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ng s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char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cha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ort s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cha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t uur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wart vo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e minuu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wart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e wijzer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alf (t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e klok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rie u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laat is he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t is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erbs, pronomen and neg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exercis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e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agen van de week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ord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an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da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ns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s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ens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ergis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der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rij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mor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ter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r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n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lge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Mon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2 maanden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izoe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anuar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in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bruar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nte (voorjaa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ar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o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ri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rfst (najaa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n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ugus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pt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kto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v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07:10:07Z</dcterms:created>
  <dc:creator>B. van Eerd</dc:creator>
  <dc:description/>
  <dc:language>en-US</dc:language>
  <cp:lastModifiedBy>B. van Eerd</cp:lastModifiedBy>
  <dcterms:modified xsi:type="dcterms:W3CDTF">2006-10-02T07:29:53Z</dcterms:modified>
  <cp:revision>2</cp:revision>
  <dc:subject/>
  <dc:title>Dutch 1</dc:title>
</cp:coreProperties>
</file>