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15979-947E-4DE5-86B3-21994A45E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CB066-CDC2-49D1-A4DB-6296E8A74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A64D4-671C-42B7-B992-0E0B6876F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17D5C-4B24-4064-9535-C34C42F16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5D6ED-CAB2-4586-A3A3-7A9B80B80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292A7-C24A-408E-93A5-6CCD5A369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1A546-9676-485D-B572-7D5531753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BE223-033F-4E65-8A99-1C0B3BFA5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94E85-4B45-4F83-9884-735E34A43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A982C-C26F-4E15-8C16-2C9448A5F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04B29-6C47-439E-8548-80918290F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004C8-8339-4C2E-9220-5C1BD57E9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26348-57A5-4DE3-8FB7-BD640264E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52579-E329-47F9-8483-255FB2D1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B17C9-6B96-40CA-B1E7-7C663EFCD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35D59-358C-4D39-B9CF-7CC0D87F3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067F4-F56E-491D-9FA7-F8E04F9AC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203D6-15E7-4624-8DE5-4318DF03E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91C95-6322-4976-8121-32386500B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B4995-1635-483C-98C2-921FE1366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FFCB2-1174-4CCC-8240-B1DC5AE98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7DB0D-CE36-4531-BFD0-60F9290C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DFCBB-5412-4DCE-9FA3-364E67FC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3220C-6659-494D-93BF-4FDCE864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E8735-CE27-4627-B62B-30C5C902FB9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1B245-3A0C-42FB-BCCD-CF4ABF8F2D2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e5e5ff"/>
                </a:solidFill>
                <a:latin typeface="Garamond"/>
              </a:rPr>
              <a:t>Dutch 1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18728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vierde 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municati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e laat is het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t studeer j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ar woon j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ar kom je vandaa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e oud ben j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nneer ben je jarig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anneer ben je gebore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e gaat het met j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gramm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ab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counting agai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one or two …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erbs, pronomen and neg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week – mont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communic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the Dutch alphabe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Garamond"/>
              </a:rPr>
              <a:t>A  B   C   D   E   F   </a:t>
            </a:r>
            <a:r>
              <a:rPr b="1" lang="nl-NL" sz="2800" spc="-1" strike="noStrike">
                <a:solidFill>
                  <a:srgbClr val="ff00ff"/>
                </a:solidFill>
                <a:latin typeface="Garamond"/>
              </a:rPr>
              <a:t>G</a:t>
            </a:r>
            <a:r>
              <a:rPr b="1" lang="nl-NL" sz="2800" spc="-1" strike="noStrike">
                <a:solidFill>
                  <a:srgbClr val="ffffff"/>
                </a:solidFill>
                <a:latin typeface="Garamond"/>
              </a:rPr>
              <a:t>   H   I   J   K   L   M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Garamond"/>
              </a:rPr>
              <a:t>N   O   P  Q   </a:t>
            </a:r>
            <a:r>
              <a:rPr b="1" lang="nl-NL" sz="2800" spc="-1" strike="noStrike">
                <a:solidFill>
                  <a:srgbClr val="ff00ff"/>
                </a:solidFill>
                <a:latin typeface="Garamond"/>
              </a:rPr>
              <a:t>R</a:t>
            </a:r>
            <a:r>
              <a:rPr b="1" lang="nl-NL" sz="2800" spc="-1" strike="noStrike">
                <a:solidFill>
                  <a:srgbClr val="ffffff"/>
                </a:solidFill>
                <a:latin typeface="Garamond"/>
              </a:rPr>
              <a:t>   S   T   U   V   W   X  Y  Z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Garamond"/>
              </a:rPr>
              <a:t>_______________________________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Garamond"/>
              </a:rPr>
              <a:t>Sounds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Garamond"/>
              </a:rPr>
              <a:t>a – aa, o – oo, e – ee, u – uu, (i – i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Garamond"/>
              </a:rPr>
              <a:t>au, ou, </a:t>
            </a:r>
            <a:r>
              <a:rPr b="1" lang="nl-NL" sz="2800" spc="-1" strike="noStrike">
                <a:solidFill>
                  <a:srgbClr val="ff00ff"/>
                </a:solidFill>
                <a:latin typeface="Garamond"/>
              </a:rPr>
              <a:t>ui</a:t>
            </a:r>
            <a:r>
              <a:rPr b="1" lang="nl-NL" sz="2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1" lang="nl-NL" sz="2800" spc="-1" strike="noStrike">
                <a:solidFill>
                  <a:srgbClr val="ff00ff"/>
                </a:solidFill>
                <a:latin typeface="Garamond"/>
              </a:rPr>
              <a:t>eu</a:t>
            </a:r>
            <a:r>
              <a:rPr b="1" lang="nl-NL" sz="2800" spc="-1" strike="noStrike">
                <a:solidFill>
                  <a:srgbClr val="ffffff"/>
                </a:solidFill>
                <a:latin typeface="Garamond"/>
              </a:rPr>
              <a:t>, ei/ij, oe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count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en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lf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en en twintig (21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we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waalf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wee en twintig (22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dri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dertien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dertig (30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vier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veertien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veerti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vijf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vijftien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vijfti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ze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zestien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zesti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zeven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zeventien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zeventi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cht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chttien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achti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negen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negentien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negenti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ien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wintig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honder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one or two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Again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open syllabe: </a:t>
            </a: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ending in a vow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closed syllabe:</a:t>
            </a: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ending in a consona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84360" y="3573360"/>
          <a:ext cx="4537080" cy="2612880"/>
        </p:xfrm>
        <a:graphic>
          <a:graphicData uri="http://schemas.openxmlformats.org/drawingml/2006/table">
            <a:tbl>
              <a:tblPr/>
              <a:tblGrid>
                <a:gridCol w="1469880"/>
                <a:gridCol w="1533600"/>
                <a:gridCol w="1533600"/>
              </a:tblGrid>
              <a:tr h="7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p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los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ong sou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 char.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 char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hort soun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 char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im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het uur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kwart voo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de minuut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kwart ov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de wijzer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half (to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de klok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drie uu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Hoe laat is het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Het is 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verbs, pronomen and neg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exercise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ee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agen van de week: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woorde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andag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andaa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nsdag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ister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oensdag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ergister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nderdag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r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rijdag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vermor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zaterdag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orig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zondag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olgen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Month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2 maanden: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seizoen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januari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int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ebruari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ente (voorjaar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aart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zom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pril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erfst (najaar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ei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jun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jul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ugustu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eptemb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ktob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ovemb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cemb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2T07:10:07Z</dcterms:created>
  <dc:creator>B. van Eerd</dc:creator>
  <dc:description/>
  <dc:language>en-US</dc:language>
  <cp:lastModifiedBy>B. van Eerd</cp:lastModifiedBy>
  <dcterms:modified xsi:type="dcterms:W3CDTF">2006-10-02T07:29:53Z</dcterms:modified>
  <cp:revision>2</cp:revision>
  <dc:subject/>
  <dc:title>Dutch 1</dc:title>
</cp:coreProperties>
</file>