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1255A-7F0B-4E2D-806F-DD8858DD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C48A0-4F7B-45F5-A01A-103D4E0E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2E1C7-E914-4262-9750-0099B32A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DCCF0-862B-49BB-91A1-A0FB23F5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AF31-F4BB-456B-BEFC-F777E3A4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524E-8714-49F2-A56E-DAD5553D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A43D-117D-4DBA-840D-8EC30CF7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4A72-2336-47C4-AD35-E145FDF0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6BD3-8D7D-4000-888B-DEE23833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CB98-7744-4F08-9E38-1AFAE6D4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B7B2-9FF1-429B-A05E-772E7262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577D3-EB28-4BBE-A64A-EA4B23BE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9438-28F2-4641-B67B-62173B12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7FA8-CD88-4C16-BB3F-0692EB70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EC95-E033-4562-B697-01CDE8D0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2718-D917-43F4-876E-F62F94E6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6C97-D412-4F15-A6D0-0CFDD655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8165E-2551-4F0C-9ABA-A2152F48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25A8-F2B5-4EEB-8A8F-260D9518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DDCF-0238-45EC-BE1F-2510D51D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779B-046F-4CB8-812A-F23955EF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62E34-B7FB-434C-B7F1-776A6FD2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A6EF-1096-4957-84D9-16A86870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9186B-F43E-490B-BCC1-1666E198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CB33-04B4-4250-BE51-14C4AAAD36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Verdana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F780-43DD-4A0C-BCB0-EB488D7CA7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Verdana"/>
              </a:rPr>
              <a:t>Welkom</a:t>
            </a:r>
            <a:endParaRPr b="1" lang="en-US" sz="60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tch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s 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karakter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 ben jij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nerlijk -&gt; ins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erlijk -&gt; outs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kstboek blz. 26; 1+3+4+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adjectief en adverbium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man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l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vrouw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di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liev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a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dikk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vrou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huis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gro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stoel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moo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grot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hui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mooi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sto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meisje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kle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boek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gro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en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kle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eisj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en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groe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o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haar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bru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emmer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lee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bruin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haa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le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mm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adjectief en adverbium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dverba NEVER chan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djectives get an –e in most cas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definite article: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lways –e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indefinite article: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only –e with HET-wo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tekstboek blz. 36; 16+1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werkboek blz. 30; 6+8+9+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familie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m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grootouder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e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om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n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oon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ch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ef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ic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o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d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nder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leinzo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leindoch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nbro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nz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leze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kstboek blz. 34, werkboek blz. 32; 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kstboek blz. 42, werkboek blz. 42; 16-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afsluiting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kstboek blz. 35 &amp; 4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sweek 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ntamen (exa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programma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te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klo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meervou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idwoord en demonstratief prono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karak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djectief en adverb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amil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ez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fslui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telle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lf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en en twintig (21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we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waalf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wee en twintig (22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ri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r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rtig (3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ier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eer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eer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ijf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ijf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ijf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es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es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ev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even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even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ch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cht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ach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eg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egen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egen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wintig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onde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Verdana"/>
              </a:rPr>
              <a:t>telle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00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: twee honde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02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: twee honderd twe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16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: twee honderd zesti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1900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: negentien honder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1985 : negentien honderd vijf en tach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467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854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48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582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13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330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106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63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722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965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471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397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658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485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54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15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578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8246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3691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22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de klok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uur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wart vo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minuu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wart o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r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alf (to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klok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rie u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 laat is het?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is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Q: Hoe laat kom j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: Om tien uu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: Over een half uu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Verdana"/>
              </a:rPr>
              <a:t>de klok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.14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12.37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5.00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7.5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8.30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2.10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4.45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6.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kstboek blz. 40; 11+12+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boek blz. 38; 5+6+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meervoud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ways to make a plural (meervoud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s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: when words ending in –en, -el, -er, -e, 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ie, -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’s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: when words ending in –a, -o, -i, -y, -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en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: res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1. think about double or single vowel or conson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2. f -&gt; v ; s -&gt; 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(werkboek blz. 34 &amp; 39; 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lidwoord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&amp; het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&gt; definite arti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een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&gt; indefinite arti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H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plural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diminutiv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profession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ending in -is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trees &amp; plant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met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fruit &amp; vegetable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langua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rivers &amp; mountains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verbs -&gt; nou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Verdana"/>
              </a:rPr>
              <a:t>demonstratief pronome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sage: instead of an artic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3068640"/>
          <a:ext cx="4824360" cy="2824200"/>
        </p:xfrm>
        <a:graphic>
          <a:graphicData uri="http://schemas.openxmlformats.org/drawingml/2006/table">
            <a:tbl>
              <a:tblPr/>
              <a:tblGrid>
                <a:gridCol w="1512720"/>
                <a:gridCol w="1872000"/>
                <a:gridCol w="1439640"/>
              </a:tblGrid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r aw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arb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8:23:30Z</dcterms:created>
  <dc:creator>B. van Eerd</dc:creator>
  <dc:description/>
  <dc:language>en-US</dc:language>
  <cp:lastModifiedBy>HAN</cp:lastModifiedBy>
  <dcterms:modified xsi:type="dcterms:W3CDTF">2006-10-10T09:39:55Z</dcterms:modified>
  <cp:revision>3</cp:revision>
  <dc:subject/>
  <dc:title>Welkom</dc:title>
</cp:coreProperties>
</file>