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6FC40-0FCA-4996-970F-F9E4A32CD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29EFA-1953-4676-B47D-71F26DF7E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FB06D-BD79-4E5A-9A60-9ACDB68CA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BACA6-5E01-4B04-BE1D-6EAE37C40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9DFC9-5D9C-4616-9E41-618E7E126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B30D4-B40D-4F2C-A8FC-A7A1030E1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E440A-9FB4-4D75-AB3D-B8667CAC4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BBE23-D53A-40B5-864A-B1724666F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CAE43-0458-4492-A18E-CED0CB894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36192-3A1F-4519-B6D0-6304DEF97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8FA32-4D89-474B-87D6-23D2581E8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7B97A-8503-4C2A-8439-F1ADD0969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2B02C-6239-419D-8D34-EBB7F7896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28A7C-C360-4D8C-8D99-F7DA27D6E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FE45B-F891-460D-BB2D-1D92649F0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9448D-BAA4-409E-8AE3-DC0C7EDA3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EA90A-931C-4CB3-A27E-389BC9E54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E71BD-9838-45BF-953E-55528400C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19D21-B316-48AA-8E2E-3EE217657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AFFDC-EE9F-4AE4-91E3-931742DE7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DB353-1CF5-46F0-972F-3F2B8A5F3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65EF9-F9F5-4A1F-ADC0-96E766950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E0573-BC81-4ED5-897D-449C7BD27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7A6A4-2655-43D3-A821-96B12CD92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CEEC1-075E-43C9-8F1F-0D29B413782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Verdana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E0C58-41A2-4B67-A1E5-27BAD57F651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90792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Verdana"/>
              </a:rPr>
              <a:t>Welkom</a:t>
            </a:r>
            <a:endParaRPr b="1" lang="en-US" sz="60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utch 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Les 5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karakter</a:t>
            </a: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oe ben jij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Innerlijk -&gt; ins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Uiterlijk -&gt; outs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tekstboek blz. 26; 1+3+4+5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adjectief en adverbium</a:t>
            </a: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 man is </a:t>
            </a:r>
            <a:r>
              <a:rPr b="0" lang="en-US" sz="2800" spc="-1" strike="noStrike">
                <a:solidFill>
                  <a:srgbClr val="ff00ff"/>
                </a:solidFill>
                <a:latin typeface="Verdana"/>
              </a:rPr>
              <a:t>lief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 vrouw is </a:t>
            </a:r>
            <a:r>
              <a:rPr b="0" lang="en-US" sz="2800" spc="-1" strike="noStrike">
                <a:solidFill>
                  <a:srgbClr val="ff00ff"/>
                </a:solidFill>
                <a:latin typeface="Verdana"/>
              </a:rPr>
              <a:t>di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 </a:t>
            </a: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liev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man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 </a:t>
            </a: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dikk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vrouw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et huis is </a:t>
            </a:r>
            <a:r>
              <a:rPr b="0" lang="en-US" sz="2800" spc="-1" strike="noStrike">
                <a:solidFill>
                  <a:srgbClr val="ff00ff"/>
                </a:solidFill>
                <a:latin typeface="Verdana"/>
              </a:rPr>
              <a:t>groot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 stoel is </a:t>
            </a:r>
            <a:r>
              <a:rPr b="0" lang="en-US" sz="2800" spc="-1" strike="noStrike">
                <a:solidFill>
                  <a:srgbClr val="ff00ff"/>
                </a:solidFill>
                <a:latin typeface="Verdana"/>
              </a:rPr>
              <a:t>moo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et </a:t>
            </a: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grot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hui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 </a:t>
            </a: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mooi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sto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et meisje is </a:t>
            </a:r>
            <a:r>
              <a:rPr b="0" lang="en-US" sz="2800" spc="-1" strike="noStrike">
                <a:solidFill>
                  <a:srgbClr val="ff00ff"/>
                </a:solidFill>
                <a:latin typeface="Verdana"/>
              </a:rPr>
              <a:t>klein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et boek is </a:t>
            </a:r>
            <a:r>
              <a:rPr b="0" lang="en-US" sz="2800" spc="-1" strike="noStrike">
                <a:solidFill>
                  <a:srgbClr val="ff00ff"/>
                </a:solidFill>
                <a:latin typeface="Verdana"/>
              </a:rPr>
              <a:t>gro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en </a:t>
            </a: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klein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meisj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en </a:t>
            </a: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groen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boe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et haar is </a:t>
            </a:r>
            <a:r>
              <a:rPr b="0" lang="en-US" sz="2800" spc="-1" strike="noStrike">
                <a:solidFill>
                  <a:srgbClr val="ff00ff"/>
                </a:solidFill>
                <a:latin typeface="Verdana"/>
              </a:rPr>
              <a:t>bruin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 emmer is </a:t>
            </a:r>
            <a:r>
              <a:rPr b="0" lang="en-US" sz="2800" spc="-1" strike="noStrike">
                <a:solidFill>
                  <a:srgbClr val="ff00ff"/>
                </a:solidFill>
                <a:latin typeface="Verdana"/>
              </a:rPr>
              <a:t>lee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et </a:t>
            </a: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bruin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haar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 </a:t>
            </a: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leg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emm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adjectief en adverbium</a:t>
            </a: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Verdana"/>
              </a:rPr>
              <a:t>Adverba NEVER chang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Verdana"/>
              </a:rPr>
              <a:t>Adjectives get an –e in most cas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Verdana"/>
              </a:rPr>
              <a:t>definite article: </a:t>
            </a:r>
            <a:r>
              <a:rPr b="1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nl-NL" sz="2800" spc="-1" strike="noStrike">
                <a:solidFill>
                  <a:srgbClr val="ffffff"/>
                </a:solidFill>
                <a:latin typeface="Verdana"/>
              </a:rPr>
              <a:t>always –e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Verdana"/>
              </a:rPr>
              <a:t>indefinite article: </a:t>
            </a:r>
            <a:r>
              <a:rPr b="1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nl-NL" sz="2800" spc="-1" strike="noStrike">
                <a:solidFill>
                  <a:srgbClr val="ffffff"/>
                </a:solidFill>
                <a:latin typeface="Verdana"/>
              </a:rPr>
              <a:t>only –e with HET-word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Verdana"/>
              </a:rPr>
              <a:t>tekstboek blz. 36; 16+18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Verdana"/>
              </a:rPr>
              <a:t>werkboek blz. 30; 6+8+9+1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familie</a:t>
            </a: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pa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ma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(grootouders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ader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oeder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om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ant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zoon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ochter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eef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ich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roer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zu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uder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inderen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leinzoon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leindocht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choonbroer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choonzu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lezen</a:t>
            </a: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ekstboek blz. 34, werkboek blz. 32; 15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ekstboek blz. 42, werkboek blz. 42; 16-17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afsluiting</a:t>
            </a: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tekstboek blz. 35 &amp; 43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lesweek 7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tentamen (exa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programma</a:t>
            </a: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tell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de klo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meervou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lidwoord en demonstratief pronom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karakt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adjectief en adverbu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famili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lez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afsluit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tellen</a:t>
            </a: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een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elf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een en twintig (21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wee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waalf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wee en twintig (22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drie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dertien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dertig (30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vier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veertien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veerti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vijf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vijftien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vijfti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zes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zestien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zesti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zeven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zeventien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zeventi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acht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achttien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achti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negen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negentien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negenti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ien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wintig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honder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Verdana"/>
              </a:rPr>
              <a:t>tellen</a:t>
            </a: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200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 : twee honder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202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 : twee honderd twe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216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 : twee honderd zesti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1900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 : negentien honderd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1985 : negentien honderd vijf en tachti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467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854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248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582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213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330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106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639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722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965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471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397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658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485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254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158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2578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8246 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3691 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2222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de klok</a:t>
            </a: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et uur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kwart voo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e minuut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kwart ov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e wijzer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alf (to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e klok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rie uu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oe laat is het?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et is 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Q: Hoe laat kom je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A: Om tien uur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A: Over een half uur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Verdana"/>
              </a:rPr>
              <a:t>de klok</a:t>
            </a: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3.14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12.37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5.00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7.55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8.30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2.10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4.45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6.2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tekstboek blz. 40; 11+12+13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werkboek blz. 38; 5+6+7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meervoud</a:t>
            </a: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3 ways to make a plural (meervoud)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-s</a:t>
            </a: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: when words ending in –en, -el, -er, -e, </a:t>
            </a: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-ie, -é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-’s</a:t>
            </a: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: when words ending in –a, -o, -i, -y, -u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-en</a:t>
            </a: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: rest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1. think about double or single vowel or consona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2. f -&gt; v ; s -&gt; z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(werkboek blz. 34 &amp; 39; 9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lidwoord</a:t>
            </a: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de &amp; het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-&gt; definite articl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een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-&gt; indefinite articl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DE 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HE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- plurals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- diminutiv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professions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- ending in -ism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- trees &amp; plants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- metal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- fruit &amp; vegetables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- languag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- rivers &amp; mountains 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- verbs -&gt; nou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Verdana"/>
              </a:rPr>
              <a:t>demonstratief pronomen</a:t>
            </a: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Usage: instead of an artic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95280" y="3068640"/>
          <a:ext cx="4824360" cy="2824200"/>
        </p:xfrm>
        <a:graphic>
          <a:graphicData uri="http://schemas.openxmlformats.org/drawingml/2006/table">
            <a:tbl>
              <a:tblPr/>
              <a:tblGrid>
                <a:gridCol w="1512720"/>
                <a:gridCol w="1872000"/>
                <a:gridCol w="1439640"/>
              </a:tblGrid>
              <a:tr h="94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ar awa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earb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z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t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0T08:23:30Z</dcterms:created>
  <dc:creator>B. van Eerd</dc:creator>
  <dc:description/>
  <dc:language>en-US</dc:language>
  <cp:lastModifiedBy>HAN</cp:lastModifiedBy>
  <dcterms:modified xsi:type="dcterms:W3CDTF">2006-10-10T09:39:55Z</dcterms:modified>
  <cp:revision>3</cp:revision>
  <dc:subject/>
  <dc:title>Welkom</dc:title>
</cp:coreProperties>
</file>