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514F-C998-491A-86A8-6FA19B6B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EF3D0-0966-4053-976B-E6626E21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9C84F-84A2-4E1B-BDDF-5F0C1D9B1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1370-67CA-4CD0-BBD3-039EA9B0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0511B-0A87-443F-B937-C8BAA2AA4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1BB4-5EAB-441D-949B-97FFD6489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8186-CE25-43EA-AEA2-D6859B13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2BB11-019D-47B2-AE4A-932EB4EC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9216-0979-4613-8AF1-C9FBB4C6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33F9-08EF-4E11-8FD3-D2FF91405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73A4-A5FE-4779-9469-B1BE8A2B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F525D-A0D6-4214-91ED-7563BA59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A99A-4030-4D9E-A5E1-4604E492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E08A7-3CA0-45FA-B836-2C89291B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E310-4414-4ACD-BC4B-4405E39E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86E1-BA41-4CDB-BF9C-972F840C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B16D-5816-4125-9B94-C7149C30E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21712-5237-4EF4-B719-4E8FFD6A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AE074-A7EA-40B2-8549-12F85AF2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5FD0-A31A-4513-A965-2B026F75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C5B5F-E84A-412A-99A2-BB79C551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A1001-43E6-4CDA-9274-8E7761D9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DC7AC-7A3C-4C05-A382-1D1AA54F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AC316-860C-4AA9-8B8A-2F0E6F46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4DB7-2C35-4214-9765-1013728E05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E06E-DE53-4C9C-9FCF-EF34E48937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Welkom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tch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s 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karakter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 ben jij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nerlijk -&gt; ins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erlijk -&gt; outs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kstboek blz. 26; 1+3+4+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jectief en adverbium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man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l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vrouw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d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lie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dikk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vrou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huis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gro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stoel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moo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ot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u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mooi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to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meisje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kle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boek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gro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kle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isj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oe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o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haar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bru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emmer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lee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bru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aa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le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mm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jectief en adverbium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dverba NEVER 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djectives get an –e in most cas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definite article: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lways –e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indefinite article: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only –e with HET-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tekstboek blz. 36; 16+1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werkboek blz. 30; 6+8+9+10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familie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a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(grootouder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va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ed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om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n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oon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cht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ef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ich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ro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u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uder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indere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leinzo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leindocht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nbroer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choonzu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ez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kstboek blz. 34, werkboek blz. 32;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kstboek blz. 42, werkboek blz. 42; 16-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fsluiting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kstboek blz. 35 &amp; 4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sweek 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ntamen (exam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programma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e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klo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eervou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idwoord en demonstratief prono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karak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djectief en adverbu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amil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ez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fslui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tell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lf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en en twintig (21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e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aalf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ee en twintig (22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rie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r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rtig (3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er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er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eer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jf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jf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vijf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s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s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v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ven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zeven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h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ht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ach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g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gen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gen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ie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wintig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honde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tell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00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: twee honder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02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: twee honderd twe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16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: twee honderd zesti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900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: negentien honder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985 : negentien honderd vijf en tachti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467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854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48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582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13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30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06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63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722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965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471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97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658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485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54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5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578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8246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691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22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de klok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uu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rt v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minuu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rt o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lf (to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klok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ie u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 laat is het?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is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Q: Hoe laat kom j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: Om tien uu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: Over een half uu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de klok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.14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12.37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5.0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7.5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8.3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2.1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4.45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6.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kstboek blz. 40; 11+12+1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boek blz. 38; 5+6+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meervou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ways to make a plural (meervoud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s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when words ending in –en, -el, -er, -e, 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ie, -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’s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when words ending in –a, -o, -i, -y, -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en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res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1. think about double or single vowel or conson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. f -&gt; v ; s -&gt; 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(werkboek blz. 34 &amp; 39; 9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idwoor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&amp; het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&gt; definite art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en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&gt; indefinite art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plural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diminut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profession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ending in -is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trees &amp; plant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met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fruit &amp; vegetable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langu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rivers &amp; mountains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verbs -&gt; nou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demonstratief pronom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sage: instead of an artic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95280" y="3068640"/>
          <a:ext cx="4824360" cy="2824200"/>
        </p:xfrm>
        <a:graphic>
          <a:graphicData uri="http://schemas.openxmlformats.org/drawingml/2006/table">
            <a:tbl>
              <a:tblPr/>
              <a:tblGrid>
                <a:gridCol w="1512720"/>
                <a:gridCol w="1872000"/>
                <a:gridCol w="143964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r aw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arb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8:23:30Z</dcterms:created>
  <dc:creator>B. van Eerd</dc:creator>
  <dc:description/>
  <dc:language>en-US</dc:language>
  <cp:lastModifiedBy>HAN</cp:lastModifiedBy>
  <dcterms:modified xsi:type="dcterms:W3CDTF">2006-10-10T09:39:55Z</dcterms:modified>
  <cp:revision>3</cp:revision>
  <dc:subject/>
  <dc:title>Welkom</dc:title>
</cp:coreProperties>
</file>