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AF0F-20DF-4622-B8E4-42D288DA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98E4-149F-4EE7-AD7F-41C1A86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8628-2DB8-4FAF-B327-4F96E8CA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8444-7A2E-407D-9B38-7EB6ABE5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538-C9DC-4DFB-A02A-CD8352E0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840-2365-4FF1-921D-9B598FC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2E4F-A922-410D-BFA6-1D9D60E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F56-4E84-4C7A-94DE-3F378583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08A0-7E5A-4E0D-82B2-9C4EE57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E600-F90A-456F-9742-D4EA3410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754-951C-4B80-9FD8-CA4917F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873F-9254-48EA-962D-2B146D2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8992-F6BB-4A5E-B710-48F8400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1B20-FE1F-42FD-B71E-C790FF0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00CB-63EA-45F7-8FEA-D9DC8FB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FBF-001F-4D00-8480-2A2DD591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87A2-57A1-4469-8B4B-4733E02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55A3-1EA5-4559-8C6E-BEC5870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30CA-C35A-43CF-9D52-CD5C13FB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D8FD-1A7E-4988-9886-E7A921B3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4BB7-517F-4B13-8EBE-F4712EB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7445-3FEC-40B7-B42A-0FCEA31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758F-8D58-4067-AF97-D3CBD10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1B04-BAE6-4E61-8558-1E96EB4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8EC-44F5-41A2-A6C0-D0599628FC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0A7-3E7E-4A81-8F98-AFB9A091EF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Welkom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tch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any questions about 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MMAR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34, werkboek blz. 32;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42, werkboek blz. 42; 16-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st ex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voud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dwoord en demonstratief pronomen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djectief en adverbum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ny questions about gramm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z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laat is het?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Q: Hoe laat kom j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m tien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ver een half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.14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12.37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5.0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7.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8.3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.1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.45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6.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meervou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ways to make a plural (meervoud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en, -el, -er, -e, 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ie, -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’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a, -o, -i, -y, -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en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res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1. think about double or single vowel or conso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. f -&gt; v ; s -&gt; 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idwoor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&amp; het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in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plural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dimin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ession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ending in -is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trees &amp; plant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me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ruit &amp; vegetable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rivers &amp; mountains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verbs -&gt; nou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monstratief pronom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sage: instead of an arti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3068640"/>
          <a:ext cx="4824360" cy="2824200"/>
        </p:xfrm>
        <a:graphic>
          <a:graphicData uri="http://schemas.openxmlformats.org/drawingml/2006/table">
            <a:tbl>
              <a:tblPr/>
              <a:tblGrid>
                <a:gridCol w="1512720"/>
                <a:gridCol w="1872000"/>
                <a:gridCol w="14396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 a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ar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man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vrouw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d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ie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ik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rou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uis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stoel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moo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u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oi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o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meisje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boek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isj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o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aa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bru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emme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e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u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e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verba NEVER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jectives get an –e in most cases. (BUT ONLY WHEN PLACED BEFORE A NOU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lways –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in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only –e with HET-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23:30Z</dcterms:created>
  <dc:creator>B. van Eerd</dc:creator>
  <dc:description/>
  <dc:language>en-US</dc:language>
  <cp:lastModifiedBy>B. van Eerd</cp:lastModifiedBy>
  <dcterms:modified xsi:type="dcterms:W3CDTF">2006-10-23T07:11:35Z</dcterms:modified>
  <cp:revision>4</cp:revision>
  <dc:subject/>
  <dc:title>Welkom</dc:title>
</cp:coreProperties>
</file>