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EB32B-0C59-4637-97FA-ED80EC0E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E2750-3ADC-453C-8BFF-9B68121D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6354-AA81-4742-8DD5-6D06D446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32AC-A491-4E03-8FEC-EF7635D6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A535-142B-4554-A400-9A27CA00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FA3B-6B4D-4C84-8959-598C4D14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A380-A589-45EE-BA33-12D8216C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3FDE-9840-4DC1-BFB3-70FB660B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4689-D8EB-4104-9C7F-5CC55602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CBB9-D838-45EA-84EC-2C2DDE56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9491-E5FC-4523-93EA-09990948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0949-25D1-4AF2-94EE-34CBD5CC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7720-D06E-4983-A945-AF6DEA43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2D7C-8473-495C-8B5D-A037B215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0F5F-7B40-42A8-A354-79C66B06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462D-8FC8-4776-819A-4823CED9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0ED3-9A32-4060-B943-FFAEABE1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8377-8025-4909-848B-11CA1493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5A13-E41E-42BC-BAAE-DD46E12B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F1C4A-7264-485A-AAC0-9C495A0F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7BE1-2C74-4CC6-A2A2-8F803F44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1686-0412-4F70-859E-9F08CDF5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49FD-AE24-4D39-A023-E5C8C1F9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26C9-C43F-4D23-895D-29464973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0C9E-0EF2-40A4-AA81-2584152E63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erdana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AC8F-7DB5-44D2-A66E-1846B76E26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erdana"/>
              </a:rPr>
              <a:t>Welkom</a:t>
            </a:r>
            <a:endParaRPr b="1" lang="en-US" sz="60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tch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s 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any questions about 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MMAR?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lez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kstboek blz. 34, werkboek blz. 32; 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kstboek blz. 42, werkboek blz. 42; 16-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programma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st ex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klok 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rvoud 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dwoord en demonstratief pronomen 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djectief en adverbum 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ny questions about gramm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z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de klok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uu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rt v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minuu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rt o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alf (to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klok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ie u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 laat is het?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is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Q: Hoe laat kom j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: Om tien uu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: Over een half uu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de klok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.14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12.37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5.0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7.5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8.3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2.1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4.45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6.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meervoud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ways to make a plural (meervoud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s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when words ending in –en, -el, -er, -e, 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ie, -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’s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when words ending in –a, -o, -i, -y, -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en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res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1. think about double or single vowel or conson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. f -&gt; v ; s -&gt; 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lidwoord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&amp; het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&gt; definite arti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en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&gt; indefinite arti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H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plural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diminut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profession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ending in -is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trees &amp; plant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met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fruit &amp; vegetable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langu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rivers &amp; mountains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verbs -&gt; nou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demonstratief pronom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sage: instead of an artic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3068640"/>
          <a:ext cx="4824360" cy="2824200"/>
        </p:xfrm>
        <a:graphic>
          <a:graphicData uri="http://schemas.openxmlformats.org/drawingml/2006/table">
            <a:tbl>
              <a:tblPr/>
              <a:tblGrid>
                <a:gridCol w="1512720"/>
                <a:gridCol w="1872000"/>
                <a:gridCol w="143964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r aw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arb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djectief en adverbium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man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l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vrouw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di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liev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dikk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vrou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huis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gro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stoel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moo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grot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hu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mooi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to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meisje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kle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boek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gro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kle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eisj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groe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o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haar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bru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emmer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lee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brui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haa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le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mm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djectief en adverbium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dverba NEVER ch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djectives get an –e in most cases. (BUT ONLY WHEN PLACED BEFORE A NOU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definite article: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lways –e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indefinite article: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only –e with HET-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8:23:30Z</dcterms:created>
  <dc:creator>B. van Eerd</dc:creator>
  <dc:description/>
  <dc:language>en-US</dc:language>
  <cp:lastModifiedBy>B. van Eerd</cp:lastModifiedBy>
  <dcterms:modified xsi:type="dcterms:W3CDTF">2006-10-23T07:11:35Z</dcterms:modified>
  <cp:revision>4</cp:revision>
  <dc:subject/>
  <dc:title>Welkom</dc:title>
</cp:coreProperties>
</file>