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34FD-5C59-4C37-83A4-A0AC6F9CB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8D73-F594-43C0-9F72-41A35F0F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A3C57-ACFF-49B0-BD9C-BD130C53E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AF0D9-F6A8-4820-B68F-A80CCEC30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E9996-AB34-4730-8901-A2E37EB3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3281-90EE-454B-BDFC-771B47AD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DA00-BABA-4441-B456-1CB12F76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99DD-594F-4677-8308-CC0C5E73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CE88-EE51-403F-84CF-9BAF7198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85EF-1471-4BDA-B97F-CE3CB4432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E576-6E0F-4F22-AF66-C2B1F98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9F32E-FE28-4635-8940-B40CF752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7710-013D-4F0D-8157-C22E1EA5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B7050-0D5A-4810-A732-7103DB66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FC90-B5DD-4901-A5E4-E5E10C3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739C-C31C-486A-BE30-8EABE5B0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3EAE-BA8A-4BFA-9E5C-CE184C94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63F4B-52F7-4CAC-9DD5-96972C5C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FCA5-97F1-40CD-AD33-206DE402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1D889-1643-409D-B6B2-95CECA1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A1239-48AF-4BF2-A55B-BB314216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8A7CD-6979-4EDC-BAE4-F50BF685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1529-4A7C-4456-9D63-CB6AD4D0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8CACD-1FEC-4419-B523-2BB0431C5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9952-11C3-4C10-8895-42AE49161B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6012-8A30-4CFD-B915-D5334E1D15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Verdana"/>
              </a:rPr>
              <a:t>Welkom</a:t>
            </a:r>
            <a:endParaRPr b="1" lang="en-US" sz="60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tch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s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any questions about 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MMAR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34, werkboek blz. 32; 1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kstboek blz. 42, werkboek blz. 42; 16-1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st ex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voud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dwoord en demonstratief pronomen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djectief en adverbum 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ny questions about gramm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 laat is het?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Q: Hoe laat kom j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m tien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: Over een half uu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 klok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.14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12.37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5.0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7.5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8.3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.10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.45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6.20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meervou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ways to make a plural (meervoud)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en, -el, -er, -e, 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ie, -é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’s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when words ending in –a, -o, -i, -y, -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-en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: res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1. think about double or single vowel or conso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Verdana"/>
              </a:rPr>
              <a:t>2. f -&gt; v ; s -&gt; z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lidwoord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&amp; het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en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&gt; indefinite artic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H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plural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diminu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ession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ending in -is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trees &amp; plant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meta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ruit &amp; vegetables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langua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rivers &amp; mountains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verbs -&gt; nou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Verdana"/>
              </a:rPr>
              <a:t>demonstratief pronomen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sage: instead of an artic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3068640"/>
          <a:ext cx="4824360" cy="2824200"/>
        </p:xfrm>
        <a:graphic>
          <a:graphicData uri="http://schemas.openxmlformats.org/drawingml/2006/table">
            <a:tbl>
              <a:tblPr/>
              <a:tblGrid>
                <a:gridCol w="1512720"/>
                <a:gridCol w="1872000"/>
                <a:gridCol w="1439640"/>
              </a:tblGrid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ar awa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arb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z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a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t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man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vrouw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di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ie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a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dikk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vrou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uis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ot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stoel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moo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t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uis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mooi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sto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meisje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boek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gro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kle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meisj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groe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bo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haa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brui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emmer is </a:t>
            </a:r>
            <a:r>
              <a:rPr b="0" lang="en-US" sz="2800" spc="-1" strike="noStrike">
                <a:solidFill>
                  <a:srgbClr val="ff00ff"/>
                </a:solidFill>
                <a:latin typeface="Verdana"/>
              </a:rPr>
              <a:t>lee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bruin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haar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 </a:t>
            </a:r>
            <a:r>
              <a:rPr b="0" lang="en-US" sz="2800" spc="-1" strike="noStrike">
                <a:solidFill>
                  <a:srgbClr val="ffcc00"/>
                </a:solidFill>
                <a:latin typeface="Verdana"/>
              </a:rPr>
              <a:t>leg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mm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adjectief en adverbium</a:t>
            </a:r>
            <a:endParaRPr b="1" lang="en-US" sz="4400" spc="-1" strike="noStrike">
              <a:solidFill>
                <a:srgbClr val="e5e5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verba NEVER chang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djectives get an –e in most cases. (BUT ONLY WHEN PLACED BEFORE A NOUN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lways –e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indefinite article: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only –e with HET-wor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8:23:30Z</dcterms:created>
  <dc:creator>B. van Eerd</dc:creator>
  <dc:description/>
  <dc:language>en-US</dc:language>
  <cp:lastModifiedBy>B. van Eerd</cp:lastModifiedBy>
  <dcterms:modified xsi:type="dcterms:W3CDTF">2006-10-23T07:11:35Z</dcterms:modified>
  <cp:revision>4</cp:revision>
  <dc:subject/>
  <dc:title>Welkom</dc:title>
</cp:coreProperties>
</file>