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9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5.wmf" ContentType="image/x-wmf"/>
  <Override PartName="/ppt/media/image1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E5A7-5AAA-4CF5-B158-937AC27E6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F0DA-CFC2-4FA0-A709-9D8B6AFFC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D318-BFC8-4444-9EED-54C1974F4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2456-4EEC-4A1F-BE47-E538064D2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6C168-95D3-4902-B210-64EEDDFAD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AEE20-0DF7-4EFD-9058-EFC20DF02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B9954-84F8-482D-BC33-DF23B41BA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E45D8-ABEF-4C18-A207-2F8AACB52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34352-8433-40DF-9072-4015A508A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13363-F37B-4DF3-8E6B-F34FD48A5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32711-0FC7-4F42-A54E-6CB21547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F631-B187-4E7C-A03D-CE3EED549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01D71-CF6F-4591-BEB6-72A9F574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DF057-9CA4-47AF-BB04-86882F1E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79F09-913A-414F-BAB9-D2351E90D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A7259-6598-4823-A36C-A7D001FDC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5EB62-78B0-4D16-83D3-3A86512D0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2DA81-D324-4E12-9633-7E9DE810F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309DD-3579-4000-8FEF-394AC6A19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8405C-02C6-48D4-ACE4-6B6B552B3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74916-C254-4EA8-A8C7-913902DB1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C9439-307A-4196-8FAB-4D89045B0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6CBA-1093-4300-A881-819524DE3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003D9-284D-40CC-8E5E-3B9C5B676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05B7D-79B0-475C-BC51-21C38263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DD662-E44D-429C-A447-C5D49B09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C2176-4621-4240-B1C9-1FD72560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FF75C-E0B8-4BE6-91F1-5208DD39C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90E59-7B02-4256-BF2B-B4819CDA7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A3BB8-3204-4E58-B7D7-14D9F9010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73783-48C7-42C6-BAAE-79E1C8D5E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A5882-D914-4720-B61D-CA1EFB248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DE028-9D06-4B3B-9637-80CB53642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AAAB-FCC3-4618-9B1F-C31856AED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4F66E-145F-409A-BC9F-A82C828E4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C9EAF-0342-4DCF-B614-AB4B0D75E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03E5F-3757-4C5B-BBDF-EDE824607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B2683-7E31-432F-940E-5EC8D76A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548FB-09F8-4A14-B593-8E25876F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8B6AA-5D54-45A6-AC2B-4E88549C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2DE35-330D-4B6F-9DE7-C1D5A48DC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AB229-B0C3-43E7-9379-92C5145DF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B5B73-207D-423D-9C98-12575AE0B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6F30-8E14-4921-AE68-83B213A5A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C1CC-1BAE-41DA-927B-4A85DFE98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80BD-8481-4ABC-B4F0-4FC51C8F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82D3-D5EA-4BA6-8B33-036A0C7E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DC5B-378D-4300-8C05-6AC15AB6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F39DF-AD84-4616-8D55-C19F8B7397E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21BDE-FB7A-4C63-A1DB-653F180A0FF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7ECAA-8F6C-4C33-8D2D-2AC0C401102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68BA6-7B44-4AB5-AE11-E2FE6CFF055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4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package" Target="../embeddings/oleObject1.pptx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4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Strategic Marketing Pla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ern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tern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External enviro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STEP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ustry Analysis (competi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etitor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sumer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Strategic Marketing Pla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ern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tern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WOT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746520" y="2162160"/>
            <a:ext cx="342720" cy="914400"/>
          </a:xfrm>
          <a:custGeom>
            <a:avLst/>
            <a:gdLst>
              <a:gd name="textAreaLeft" fmla="*/ 0 w 342720"/>
              <a:gd name="textAreaRight" fmla="*/ 123840 w 3427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860640" y="4043520"/>
            <a:ext cx="266760" cy="914400"/>
          </a:xfrm>
          <a:custGeom>
            <a:avLst/>
            <a:gdLst>
              <a:gd name="textAreaLeft" fmla="*/ 0 w 266760"/>
              <a:gd name="textAreaRight" fmla="*/ 96120 w 2667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395360" y="618840"/>
            <a:ext cx="2009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008000"/>
                </a:solidFill>
                <a:latin typeface="Arial"/>
                <a:ea typeface="Times New Roman"/>
              </a:rPr>
              <a:t>SWO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68360" y="1898640"/>
            <a:ext cx="6407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Arial"/>
                <a:ea typeface="Times New Roman"/>
              </a:rPr>
              <a:t>.....Stren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Arial"/>
                <a:ea typeface="Times New Roman"/>
              </a:rPr>
              <a:t>                                             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In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Arial"/>
                <a:ea typeface="Times New Roman"/>
              </a:rPr>
              <a:t>                                             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About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8000"/>
                </a:solidFill>
                <a:latin typeface="Arial"/>
                <a:ea typeface="Times New Roman"/>
              </a:rPr>
              <a:t>.....Weakn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367280" y="3687480"/>
            <a:ext cx="6241680" cy="24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.....Opport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                                           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About market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.....Thre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     </a:t>
            </a:r>
            <a:r>
              <a:rPr b="1" lang="en-GB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SWOT = summary of in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Arial"/>
                <a:ea typeface="Times New Roman"/>
              </a:rPr>
              <a:t>            </a:t>
            </a:r>
            <a:r>
              <a:rPr b="1" lang="en-GB" sz="2400" spc="-1" strike="noStrike">
                <a:solidFill>
                  <a:srgbClr val="008000"/>
                </a:solidFill>
                <a:latin typeface="Arial"/>
                <a:ea typeface="Times New Roman"/>
              </a:rPr>
              <a:t>and external ana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124080" y="2286000"/>
            <a:ext cx="236232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3300"/>
                </a:solidFill>
                <a:latin typeface="Arial"/>
              </a:rPr>
              <a:t>Offensive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3300"/>
                </a:solidFill>
                <a:latin typeface="Arial"/>
              </a:rPr>
              <a:t>(Expan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167652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Strenghts          Weakn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61760" y="2971800"/>
            <a:ext cx="21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Opport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124080" y="4114800"/>
            <a:ext cx="236232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374120" y="480060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Thre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86400" y="2286000"/>
            <a:ext cx="236232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486400" y="4114800"/>
            <a:ext cx="236232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3300"/>
                </a:solidFill>
                <a:latin typeface="Arial"/>
              </a:rPr>
              <a:t>Defensive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124440" y="380880"/>
            <a:ext cx="27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3300"/>
                </a:solidFill>
                <a:latin typeface="Arial"/>
              </a:rPr>
              <a:t>SWO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Strategic Marketing Pla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nal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rnal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WOT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 rot="2121600">
            <a:off x="3047760" y="0"/>
            <a:ext cx="2778120" cy="2706840"/>
          </a:xfrm>
          <a:prstGeom prst="irregularSeal2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 rot="20403000">
            <a:off x="3504960" y="838080"/>
            <a:ext cx="1828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99"/>
                    </a:gs>
                    <a:gs pos="100000">
                      <a:srgbClr val="00999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WOT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99"/>
                  </a:gs>
                  <a:gs pos="100000">
                    <a:srgbClr val="00999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5" name=""/>
          <p:cNvSpPr/>
          <p:nvPr/>
        </p:nvSpPr>
        <p:spPr>
          <a:xfrm>
            <a:off x="4038480" y="2286000"/>
            <a:ext cx="914400" cy="6714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828800" y="3124080"/>
            <a:ext cx="5257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ccc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Basic Believes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ccc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752480" y="4876920"/>
            <a:ext cx="54104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trategic Choices</a:t>
            </a:r>
            <a:endParaRPr b="0" lang="en-US" sz="1800" spc="1" strike="noStrike">
              <a:ln w="324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8" name=""/>
          <p:cNvSpPr/>
          <p:nvPr/>
        </p:nvSpPr>
        <p:spPr>
          <a:xfrm>
            <a:off x="4038480" y="3962520"/>
            <a:ext cx="914400" cy="6714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038480" y="5791320"/>
            <a:ext cx="914400" cy="6714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 rot="5400000">
            <a:off x="2992320" y="1807920"/>
            <a:ext cx="1136520" cy="3463920"/>
          </a:xfrm>
          <a:prstGeom prst="cube">
            <a:avLst>
              <a:gd name="adj" fmla="val 18212"/>
            </a:avLst>
          </a:prstGeom>
          <a:gradFill rotWithShape="0">
            <a:gsLst>
              <a:gs pos="0">
                <a:srgbClr val="b760f9"/>
              </a:gs>
              <a:gs pos="100000">
                <a:srgbClr val="c47ff9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905120" y="3048120"/>
            <a:ext cx="3170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e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rot="5400000">
            <a:off x="2992320" y="3027240"/>
            <a:ext cx="1136520" cy="3463920"/>
          </a:xfrm>
          <a:prstGeom prst="cube">
            <a:avLst>
              <a:gd name="adj" fmla="val 18212"/>
            </a:avLst>
          </a:prstGeom>
          <a:gradFill rotWithShape="0">
            <a:gsLst>
              <a:gs pos="0">
                <a:srgbClr val="a2c1fe"/>
              </a:gs>
              <a:gs pos="100000">
                <a:srgbClr val="b3ccfd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828800" y="4267080"/>
            <a:ext cx="31701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5400000">
            <a:off x="6295680" y="1856880"/>
            <a:ext cx="1136520" cy="3365640"/>
          </a:xfrm>
          <a:prstGeom prst="cube">
            <a:avLst>
              <a:gd name="adj" fmla="val 18212"/>
            </a:avLst>
          </a:prstGeom>
          <a:gradFill rotWithShape="0">
            <a:gsLst>
              <a:gs pos="0">
                <a:srgbClr val="b760f9"/>
              </a:gs>
              <a:gs pos="100000">
                <a:srgbClr val="bd6ff8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105520" y="3048120"/>
            <a:ext cx="3070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rot="5400000">
            <a:off x="6314760" y="3057480"/>
            <a:ext cx="1136520" cy="3403800"/>
          </a:xfrm>
          <a:prstGeom prst="cube">
            <a:avLst>
              <a:gd name="adj" fmla="val 18212"/>
            </a:avLst>
          </a:prstGeom>
          <a:gradFill rotWithShape="0">
            <a:gsLst>
              <a:gs pos="0">
                <a:srgbClr val="a2c1fe"/>
              </a:gs>
              <a:gs pos="100000">
                <a:srgbClr val="b3ccfd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181480" y="4191120"/>
            <a:ext cx="3108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. Diver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50200" y="2971800"/>
            <a:ext cx="1326960" cy="7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i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0200" y="4267080"/>
            <a:ext cx="1326960" cy="7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685960" y="2133720"/>
            <a:ext cx="1436760" cy="7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i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734080" y="2133720"/>
            <a:ext cx="1436760" cy="7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Ansoff’s Growth Strateg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Segmentation &amp; Positio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2280" y="1143000"/>
            <a:ext cx="876312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80880" y="1219320"/>
            <a:ext cx="838224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rget market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ies market segments that are bite sized chunks that organisations can man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ket segment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ies markets with common tra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ket target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 of evaluation of the selected segments and then deciding which market segments to operate with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ket position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 whereby marketers position the product to occupy a clear and distinctive position relative to other competing produc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Strategic Marketing Pla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ern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tern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WOT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rate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ives / Go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990720" y="762120"/>
            <a:ext cx="7391160" cy="48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trategic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lanning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Objectives and Go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609480" y="2133720"/>
            <a:ext cx="807732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1400">
                  <a:solidFill>
                    <a:srgbClr val="3366ff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ff3300"/>
                    </a:gs>
                  </a:gsLst>
                  <a:lin ang="8100000"/>
                </a:gradFill>
                <a:latin typeface="Arial Black"/>
              </a:rPr>
              <a:t>Measurable !!</a:t>
            </a:r>
            <a:endParaRPr b="0" lang="en-US" sz="1800" spc="1" strike="noStrike">
              <a:ln w="41400">
                <a:solidFill>
                  <a:srgbClr val="3366ff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ff3300"/>
                  </a:gs>
                </a:gsLst>
                <a:lin ang="8100000"/>
              </a:gradFill>
              <a:latin typeface="Arial Black"/>
              <a:ea typeface="Arial Black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198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1" dur="2132" fill="hold"/>
                                        <p:tgtEl>
                                          <p:spTgt spid="2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Strategic Marketing Pla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ern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tern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WOT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rate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ives / Go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rketing M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ancial para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lementation plan and contr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111240" y="2741760"/>
            <a:ext cx="1763640" cy="2997000"/>
            <a:chOff x="111240" y="2741760"/>
            <a:chExt cx="1763640" cy="2997000"/>
          </a:xfrm>
        </p:grpSpPr>
        <p:pic>
          <p:nvPicPr>
            <p:cNvPr id="274" name="" descr=""/>
            <p:cNvPicPr/>
            <p:nvPr/>
          </p:nvPicPr>
          <p:blipFill>
            <a:blip r:embed="rId2"/>
            <a:stretch/>
          </p:blipFill>
          <p:spPr>
            <a:xfrm>
              <a:off x="111240" y="2741760"/>
              <a:ext cx="1763640" cy="299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312840" y="2789280"/>
              <a:ext cx="1425600" cy="27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760" rIns="7776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2320920" y="2741760"/>
            <a:ext cx="1998720" cy="2997000"/>
            <a:chOff x="2320920" y="2741760"/>
            <a:chExt cx="1998720" cy="2997000"/>
          </a:xfrm>
        </p:grpSpPr>
        <p:pic>
          <p:nvPicPr>
            <p:cNvPr id="277" name="" descr=""/>
            <p:cNvPicPr/>
            <p:nvPr/>
          </p:nvPicPr>
          <p:blipFill>
            <a:blip r:embed="rId3"/>
            <a:stretch/>
          </p:blipFill>
          <p:spPr>
            <a:xfrm>
              <a:off x="2320920" y="2741760"/>
              <a:ext cx="1998720" cy="299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2522520" y="2789280"/>
              <a:ext cx="1660680" cy="27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760" rIns="7776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4780080" y="2741760"/>
            <a:ext cx="1901880" cy="2997000"/>
            <a:chOff x="4780080" y="2741760"/>
            <a:chExt cx="1901880" cy="2997000"/>
          </a:xfrm>
        </p:grpSpPr>
        <p:pic>
          <p:nvPicPr>
            <p:cNvPr id="280" name="" descr=""/>
            <p:cNvPicPr/>
            <p:nvPr/>
          </p:nvPicPr>
          <p:blipFill>
            <a:blip r:embed="rId4"/>
            <a:stretch/>
          </p:blipFill>
          <p:spPr>
            <a:xfrm>
              <a:off x="4780080" y="2741760"/>
              <a:ext cx="1901880" cy="299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4981680" y="2789280"/>
              <a:ext cx="1563480" cy="27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760" rIns="7776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7045200" y="2741760"/>
            <a:ext cx="1758960" cy="2997000"/>
            <a:chOff x="7045200" y="2741760"/>
            <a:chExt cx="1758960" cy="2997000"/>
          </a:xfrm>
        </p:grpSpPr>
        <p:pic>
          <p:nvPicPr>
            <p:cNvPr id="283" name="" descr=""/>
            <p:cNvPicPr/>
            <p:nvPr/>
          </p:nvPicPr>
          <p:blipFill>
            <a:blip r:embed="rId5"/>
            <a:stretch/>
          </p:blipFill>
          <p:spPr>
            <a:xfrm>
              <a:off x="7045200" y="2741760"/>
              <a:ext cx="1758960" cy="299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7246800" y="2789280"/>
              <a:ext cx="1420920" cy="27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760" rIns="7776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944640" y="5603760"/>
            <a:ext cx="7037280" cy="873360"/>
          </a:xfrm>
          <a:custGeom>
            <a:avLst/>
            <a:gdLst/>
            <a:ahLst/>
            <a:rect l="l" t="t" r="r" b="b"/>
            <a:pathLst>
              <a:path w="4433" h="550">
                <a:moveTo>
                  <a:pt x="4432" y="0"/>
                </a:moveTo>
                <a:lnTo>
                  <a:pt x="4432" y="549"/>
                </a:lnTo>
                <a:lnTo>
                  <a:pt x="0" y="549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6"/>
          <a:stretch/>
        </p:blipFill>
        <p:spPr>
          <a:xfrm>
            <a:off x="1635120" y="3503520"/>
            <a:ext cx="888840" cy="60804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7"/>
          <a:stretch/>
        </p:blipFill>
        <p:spPr>
          <a:xfrm>
            <a:off x="4073400" y="3503520"/>
            <a:ext cx="917640" cy="57780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8"/>
          <a:stretch/>
        </p:blipFill>
        <p:spPr>
          <a:xfrm>
            <a:off x="6435720" y="3503520"/>
            <a:ext cx="917640" cy="59364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 flipV="1">
            <a:off x="3276720" y="5717880"/>
            <a:ext cx="0" cy="755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Marketing Control Proces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" y="358128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3505320"/>
            <a:ext cx="19814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800600" y="3505320"/>
            <a:ext cx="1981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luate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086600" y="3505320"/>
            <a:ext cx="18288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Corrective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 rot="5400000">
            <a:off x="36360" y="3425760"/>
            <a:ext cx="2923920" cy="2540160"/>
          </a:xfrm>
          <a:prstGeom prst="cube">
            <a:avLst>
              <a:gd name="adj" fmla="val 8157"/>
            </a:avLst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Marke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velop Strate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ve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rot="5400000">
            <a:off x="3180960" y="3514680"/>
            <a:ext cx="2923920" cy="2361960"/>
          </a:xfrm>
          <a:prstGeom prst="cube">
            <a:avLst>
              <a:gd name="adj" fmla="val 8157"/>
            </a:avLst>
          </a:prstGeom>
          <a:gradFill rotWithShape="0">
            <a:gsLst>
              <a:gs pos="0">
                <a:srgbClr val="feff72"/>
              </a:gs>
              <a:gs pos="100000">
                <a:srgbClr val="fdfea9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arr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rot="5400000">
            <a:off x="6181920" y="3584520"/>
            <a:ext cx="2923920" cy="2222640"/>
          </a:xfrm>
          <a:prstGeom prst="cube">
            <a:avLst>
              <a:gd name="adj" fmla="val 8157"/>
            </a:avLst>
          </a:prstGeom>
          <a:gradFill rotWithShape="0">
            <a:gsLst>
              <a:gs pos="0">
                <a:srgbClr val="fe6e6e"/>
              </a:gs>
              <a:gs pos="100000">
                <a:srgbClr val="ff5f5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11240" rIns="111240" tIns="55440" bIns="554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08080"/>
                <a:tab algn="l" pos="2216160"/>
                <a:tab algn="l" pos="3324240"/>
                <a:tab algn="l" pos="4432320"/>
                <a:tab algn="l" pos="5540400"/>
                <a:tab algn="l" pos="6648480"/>
                <a:tab algn="l" pos="7756560"/>
                <a:tab algn="l" pos="8864640"/>
                <a:tab algn="l" pos="9972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566120" y="4910040"/>
            <a:ext cx="0" cy="36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rot="5400000">
            <a:off x="4449600" y="-1822320"/>
            <a:ext cx="431640" cy="8191440"/>
          </a:xfrm>
          <a:prstGeom prst="cube">
            <a:avLst>
              <a:gd name="adj" fmla="val 16037"/>
            </a:avLst>
          </a:prstGeom>
          <a:solidFill>
            <a:srgbClr val="feff72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7760" rIns="77760" tIns="39600" bIns="396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ting Analysis of Company’s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581200" y="3430440"/>
            <a:ext cx="844560" cy="2203560"/>
          </a:xfrm>
          <a:custGeom>
            <a:avLst/>
            <a:gdLst/>
            <a:ahLst/>
            <a:rect l="l" t="t" r="r" b="b"/>
            <a:pathLst>
              <a:path w="532" h="1388">
                <a:moveTo>
                  <a:pt x="0" y="1387"/>
                </a:moveTo>
                <a:lnTo>
                  <a:pt x="236" y="1387"/>
                </a:lnTo>
                <a:lnTo>
                  <a:pt x="236" y="0"/>
                </a:lnTo>
                <a:lnTo>
                  <a:pt x="531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659560" y="3463920"/>
            <a:ext cx="846000" cy="2203560"/>
          </a:xfrm>
          <a:custGeom>
            <a:avLst/>
            <a:gdLst/>
            <a:ahLst/>
            <a:rect l="l" t="t" r="r" b="b"/>
            <a:pathLst>
              <a:path w="533" h="1388">
                <a:moveTo>
                  <a:pt x="0" y="1387"/>
                </a:moveTo>
                <a:lnTo>
                  <a:pt x="237" y="1387"/>
                </a:lnTo>
                <a:lnTo>
                  <a:pt x="237" y="0"/>
                </a:lnTo>
                <a:lnTo>
                  <a:pt x="532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471680" y="6059520"/>
            <a:ext cx="6056280" cy="569880"/>
          </a:xfrm>
          <a:custGeom>
            <a:avLst/>
            <a:gdLst/>
            <a:ahLst/>
            <a:rect l="l" t="t" r="r" b="b"/>
            <a:pathLst>
              <a:path w="3815" h="359">
                <a:moveTo>
                  <a:pt x="3814" y="0"/>
                </a:moveTo>
                <a:lnTo>
                  <a:pt x="3814" y="358"/>
                </a:lnTo>
                <a:lnTo>
                  <a:pt x="0" y="358"/>
                </a:lnTo>
                <a:lnTo>
                  <a:pt x="0" y="7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4549680" y="6071760"/>
            <a:ext cx="0" cy="55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64280" y="3273480"/>
            <a:ext cx="1089000" cy="3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987240" y="3659040"/>
            <a:ext cx="1156320" cy="5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ea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010280" y="4419720"/>
            <a:ext cx="1154160" cy="5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valu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56200" y="5105520"/>
            <a:ext cx="134532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orr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487520" y="2430360"/>
            <a:ext cx="0" cy="789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565520" y="2440080"/>
            <a:ext cx="0" cy="787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597800" y="2440080"/>
            <a:ext cx="0" cy="787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aging the Marketing Eff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371600" y="4578480"/>
            <a:ext cx="0" cy="36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543800" y="4197240"/>
            <a:ext cx="0" cy="222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03120" y="2055960"/>
            <a:ext cx="3355920" cy="19047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351000" y="2144880"/>
            <a:ext cx="3105000" cy="14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rn About 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ck 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Databas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3"/>
          <a:stretch/>
        </p:blipFill>
        <p:spPr>
          <a:xfrm>
            <a:off x="303120" y="4765680"/>
            <a:ext cx="3355920" cy="19051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351000" y="4854600"/>
            <a:ext cx="3105000" cy="14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ctr">
            <a:noAutofit/>
          </a:bodyPr>
          <a:p>
            <a:pPr algn="ctr"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e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stomers in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 One-on-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4"/>
          <a:stretch/>
        </p:blipFill>
        <p:spPr>
          <a:xfrm>
            <a:off x="5408640" y="2055960"/>
            <a:ext cx="3449520" cy="190476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5456160" y="2144880"/>
            <a:ext cx="3198960" cy="14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Products 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 Tailor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et Customer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5"/>
          <a:stretch/>
        </p:blipFill>
        <p:spPr>
          <a:xfrm>
            <a:off x="5332320" y="4765680"/>
            <a:ext cx="3525840" cy="190512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5380200" y="4854600"/>
            <a:ext cx="3274920" cy="14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 Produ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ly &am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6"/>
          <a:stretch/>
        </p:blipFill>
        <p:spPr>
          <a:xfrm>
            <a:off x="2513160" y="3274920"/>
            <a:ext cx="3813120" cy="19479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2560680" y="3362400"/>
            <a:ext cx="3562200" cy="15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ing Technologies 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ecommunication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formation, &amp; Transpor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lp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90480" y="274320"/>
            <a:ext cx="7996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Technologies for Connec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3581280" y="5334120"/>
          <a:ext cx="1689120" cy="130788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81280" y="5334120"/>
                    <a:ext cx="1689120" cy="13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Strategic Marketing Pla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09480" y="338760"/>
            <a:ext cx="8077320" cy="61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028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3300"/>
                </a:solidFill>
                <a:latin typeface="Arial"/>
              </a:rPr>
              <a:t>Mission Stat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028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28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at business are we i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28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at do our customers valu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28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at are we in business fo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28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at sort of business are w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028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at makes us special 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2028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Inclu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2028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2028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2028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2028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ehavior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77120" y="228600"/>
            <a:ext cx="2666880" cy="2286000"/>
          </a:xfrm>
          <a:custGeom>
            <a:avLst/>
            <a:gdLst>
              <a:gd name="textAreaLeft" fmla="*/ 608760 w 2666880"/>
              <a:gd name="textAreaRight" fmla="*/ 2058120 w 2666880"/>
              <a:gd name="textAreaTop" fmla="*/ 521640 h 2286000"/>
              <a:gd name="textAreaBottom" fmla="*/ 1764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629400" y="838080"/>
            <a:ext cx="25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is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380880" y="3276720"/>
            <a:ext cx="2210040" cy="32493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1447920" y="3200400"/>
            <a:ext cx="2209680" cy="32497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1600200" y="2819520"/>
            <a:ext cx="2209680" cy="32493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>
            <a:off x="-914400" y="2819520"/>
            <a:ext cx="2927520" cy="40384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6"/>
          <a:stretch/>
        </p:blipFill>
        <p:spPr>
          <a:xfrm>
            <a:off x="2743200" y="2819520"/>
            <a:ext cx="1989000" cy="27432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7"/>
          <a:stretch/>
        </p:blipFill>
        <p:spPr>
          <a:xfrm>
            <a:off x="4495680" y="2895480"/>
            <a:ext cx="1657440" cy="22860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8"/>
          <a:stretch/>
        </p:blipFill>
        <p:spPr>
          <a:xfrm>
            <a:off x="6019920" y="2819520"/>
            <a:ext cx="1050840" cy="14475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9"/>
          <a:stretch/>
        </p:blipFill>
        <p:spPr>
          <a:xfrm>
            <a:off x="4114800" y="3124080"/>
            <a:ext cx="1657440" cy="22860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10"/>
          <a:stretch/>
        </p:blipFill>
        <p:spPr>
          <a:xfrm>
            <a:off x="3505320" y="3276720"/>
            <a:ext cx="1492200" cy="2057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11"/>
          <a:stretch/>
        </p:blipFill>
        <p:spPr>
          <a:xfrm>
            <a:off x="5562720" y="3200400"/>
            <a:ext cx="1216080" cy="16765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12"/>
          <a:stretch/>
        </p:blipFill>
        <p:spPr>
          <a:xfrm>
            <a:off x="5334120" y="3581280"/>
            <a:ext cx="10508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228240" y="2743200"/>
            <a:ext cx="7696440" cy="3733920"/>
            <a:chOff x="228240" y="2743200"/>
            <a:chExt cx="7696440" cy="3733920"/>
          </a:xfrm>
        </p:grpSpPr>
        <p:sp>
          <p:nvSpPr>
            <p:cNvPr id="186" name=""/>
            <p:cNvSpPr/>
            <p:nvPr/>
          </p:nvSpPr>
          <p:spPr>
            <a:xfrm rot="5400000">
              <a:off x="1571040" y="1400040"/>
              <a:ext cx="488880" cy="3174840"/>
            </a:xfrm>
            <a:prstGeom prst="cube">
              <a:avLst>
                <a:gd name="adj" fmla="val 13592"/>
              </a:avLst>
            </a:prstGeom>
            <a:solidFill>
              <a:srgbClr val="ff9900"/>
            </a:solidFill>
            <a:ln w="12600">
              <a:solidFill>
                <a:srgbClr val="790015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t" anchorCtr="1" vert="eaVert" rot="10800000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143000"/>
                  <a:tab algn="l" pos="2286000"/>
                  <a:tab algn="l" pos="3429000"/>
                  <a:tab algn="l" pos="4572000"/>
                  <a:tab algn="l" pos="5715000"/>
                  <a:tab algn="l" pos="6858000"/>
                  <a:tab algn="l" pos="8001000"/>
                  <a:tab algn="l" pos="914400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arket Orient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2136600" y="3216240"/>
              <a:ext cx="743040" cy="273240"/>
            </a:xfrm>
            <a:prstGeom prst="downArrow">
              <a:avLst>
                <a:gd name="adj1" fmla="val 50000"/>
                <a:gd name="adj2" fmla="val 50042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5400000">
              <a:off x="2236680" y="2116080"/>
              <a:ext cx="444600" cy="3178080"/>
            </a:xfrm>
            <a:prstGeom prst="cube">
              <a:avLst>
                <a:gd name="adj" fmla="val 13592"/>
              </a:avLst>
            </a:prstGeom>
            <a:solidFill>
              <a:srgbClr val="ff9900"/>
            </a:solidFill>
            <a:ln w="12600">
              <a:solidFill>
                <a:srgbClr val="790015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t" anchorCtr="1" vert="eaVert" rot="10800000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143000"/>
                  <a:tab algn="l" pos="2286000"/>
                  <a:tab algn="l" pos="3429000"/>
                  <a:tab algn="l" pos="4572000"/>
                  <a:tab algn="l" pos="5715000"/>
                  <a:tab algn="l" pos="6858000"/>
                  <a:tab algn="l" pos="8001000"/>
                  <a:tab algn="l" pos="914400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ealis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3031560" y="3909960"/>
              <a:ext cx="742680" cy="273240"/>
            </a:xfrm>
            <a:prstGeom prst="downArrow">
              <a:avLst>
                <a:gd name="adj1" fmla="val 50000"/>
                <a:gd name="adj2" fmla="val 50042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3830040" y="4618080"/>
              <a:ext cx="742680" cy="274680"/>
            </a:xfrm>
            <a:prstGeom prst="downArrow">
              <a:avLst>
                <a:gd name="adj1" fmla="val 50000"/>
                <a:gd name="adj2" fmla="val 50042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5400000">
              <a:off x="3758760" y="3479760"/>
              <a:ext cx="380880" cy="3174840"/>
            </a:xfrm>
            <a:prstGeom prst="cube">
              <a:avLst>
                <a:gd name="adj" fmla="val 13592"/>
              </a:avLst>
            </a:prstGeom>
            <a:solidFill>
              <a:srgbClr val="ff9900"/>
            </a:solidFill>
            <a:ln w="12600">
              <a:solidFill>
                <a:srgbClr val="790015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t" anchorCtr="1" vert="eaVert" rot="10800000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143000"/>
                  <a:tab algn="l" pos="2286000"/>
                  <a:tab algn="l" pos="3429000"/>
                  <a:tab algn="l" pos="4572000"/>
                  <a:tab algn="l" pos="5715000"/>
                  <a:tab algn="l" pos="6858000"/>
                  <a:tab algn="l" pos="8001000"/>
                  <a:tab algn="l" pos="9144000"/>
                  <a:tab algn="l" pos="10287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1143000"/>
                  <a:tab algn="l" pos="2286000"/>
                  <a:tab algn="l" pos="3429000"/>
                  <a:tab algn="l" pos="4572000"/>
                  <a:tab algn="l" pos="5715000"/>
                  <a:tab algn="l" pos="6858000"/>
                  <a:tab algn="l" pos="8001000"/>
                  <a:tab algn="l" pos="914400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it Market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1143000"/>
                  <a:tab algn="l" pos="2286000"/>
                  <a:tab algn="l" pos="3429000"/>
                  <a:tab algn="l" pos="4572000"/>
                  <a:tab algn="l" pos="5715000"/>
                  <a:tab algn="l" pos="6858000"/>
                  <a:tab algn="l" pos="8001000"/>
                  <a:tab algn="l" pos="9144000"/>
                  <a:tab algn="l" pos="10287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4894200" y="5232240"/>
              <a:ext cx="743040" cy="273240"/>
            </a:xfrm>
            <a:prstGeom prst="downArrow">
              <a:avLst>
                <a:gd name="adj1" fmla="val 50000"/>
                <a:gd name="adj2" fmla="val 50042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5400000">
              <a:off x="5027400" y="4083120"/>
              <a:ext cx="378000" cy="3178080"/>
            </a:xfrm>
            <a:prstGeom prst="cube">
              <a:avLst>
                <a:gd name="adj" fmla="val 13592"/>
              </a:avLst>
            </a:prstGeom>
            <a:solidFill>
              <a:srgbClr val="ff9900"/>
            </a:solidFill>
            <a:ln w="12600">
              <a:solidFill>
                <a:srgbClr val="790015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t" anchorCtr="1" vert="eaVert" rot="10800000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143000"/>
                  <a:tab algn="l" pos="2286000"/>
                  <a:tab algn="l" pos="3429000"/>
                  <a:tab algn="l" pos="4572000"/>
                  <a:tab algn="l" pos="5715000"/>
                  <a:tab algn="l" pos="6858000"/>
                  <a:tab algn="l" pos="8001000"/>
                  <a:tab algn="l" pos="914400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stinctive Competenc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5965200" y="5846760"/>
              <a:ext cx="742680" cy="272880"/>
            </a:xfrm>
            <a:prstGeom prst="downArrow">
              <a:avLst>
                <a:gd name="adj1" fmla="val 50000"/>
                <a:gd name="adj2" fmla="val 50042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5400000">
              <a:off x="6144840" y="4697280"/>
              <a:ext cx="381240" cy="3178080"/>
            </a:xfrm>
            <a:prstGeom prst="cube">
              <a:avLst>
                <a:gd name="adj" fmla="val 13592"/>
              </a:avLst>
            </a:prstGeom>
            <a:solidFill>
              <a:srgbClr val="ff9900"/>
            </a:solidFill>
            <a:ln w="12600">
              <a:solidFill>
                <a:srgbClr val="790015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t" anchorCtr="1" vert="eaVert" rot="10800000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143000"/>
                  <a:tab algn="l" pos="2286000"/>
                  <a:tab algn="l" pos="3429000"/>
                  <a:tab algn="l" pos="4572000"/>
                  <a:tab algn="l" pos="5715000"/>
                  <a:tab algn="l" pos="6858000"/>
                  <a:tab algn="l" pos="8001000"/>
                  <a:tab algn="l" pos="9144000"/>
                  <a:tab algn="l" pos="10287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otiva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5400000">
              <a:off x="3150720" y="2712960"/>
              <a:ext cx="434880" cy="3384360"/>
            </a:xfrm>
            <a:prstGeom prst="cube">
              <a:avLst>
                <a:gd name="adj" fmla="val 13592"/>
              </a:avLst>
            </a:prstGeom>
            <a:solidFill>
              <a:srgbClr val="ff9900"/>
            </a:solidFill>
            <a:ln w="12600">
              <a:solidFill>
                <a:srgbClr val="790015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t" anchorCtr="1" vert="eaVert" rot="10800000">
              <a:no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1143000"/>
                  <a:tab algn="l" pos="2286000"/>
                  <a:tab algn="l" pos="3429000"/>
                  <a:tab algn="l" pos="4572000"/>
                  <a:tab algn="l" pos="5715000"/>
                  <a:tab algn="l" pos="6858000"/>
                  <a:tab algn="l" pos="8001000"/>
                  <a:tab algn="l" pos="9144000"/>
                  <a:tab algn="l" pos="10287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513160" y="4191120"/>
              <a:ext cx="1160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pecif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4432320" y="2438280"/>
            <a:ext cx="4711680" cy="2662560"/>
            <a:chOff x="4432320" y="2438280"/>
            <a:chExt cx="4711680" cy="2662560"/>
          </a:xfrm>
        </p:grpSpPr>
        <p:pic>
          <p:nvPicPr>
            <p:cNvPr id="199" name="" descr=""/>
            <p:cNvPicPr/>
            <p:nvPr/>
          </p:nvPicPr>
          <p:blipFill>
            <a:blip r:embed="rId2"/>
            <a:stretch/>
          </p:blipFill>
          <p:spPr>
            <a:xfrm>
              <a:off x="4432320" y="2438280"/>
              <a:ext cx="4711680" cy="231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6034320" y="2623320"/>
              <a:ext cx="2743200" cy="247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1" lang="en-US" sz="2400" spc="-1" strike="noStrike">
                  <a:solidFill>
                    <a:srgbClr val="ffff00"/>
                  </a:solidFill>
                  <a:latin typeface="Arial"/>
                </a:rPr>
                <a:t>Characteristics of a Good Mission Statemen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0" y="914400"/>
            <a:ext cx="914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A </a:t>
            </a:r>
            <a:r>
              <a:rPr b="1" i="1" lang="en-US" sz="3200" spc="-1" strike="noStrike">
                <a:solidFill>
                  <a:srgbClr val="ff3300"/>
                </a:solidFill>
                <a:latin typeface="Tahoma"/>
              </a:rPr>
              <a:t>Mission Statement</a:t>
            </a: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 is a Statement of the Organization’s Purpo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Strategic Marketing Pla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ern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038480" y="2498760"/>
            <a:ext cx="37846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380520" y="1980360"/>
            <a:ext cx="8007480" cy="449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191120" y="2678040"/>
            <a:ext cx="3352680" cy="1741680"/>
          </a:xfrm>
          <a:prstGeom prst="rect">
            <a:avLst/>
          </a:prstGeom>
          <a:gradFill rotWithShape="0">
            <a:gsLst>
              <a:gs pos="0">
                <a:srgbClr val="c1ceff"/>
              </a:gs>
              <a:gs pos="100000">
                <a:srgbClr val="c6d2fe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Question Mar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igh growth, low shar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ild into Stars or phase ou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quire cash to hol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 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rket sh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 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182600" y="2678040"/>
            <a:ext cx="3008520" cy="1736640"/>
          </a:xfrm>
          <a:prstGeom prst="rect">
            <a:avLst/>
          </a:prstGeom>
          <a:gradFill rotWithShape="0">
            <a:gsLst>
              <a:gs pos="0">
                <a:srgbClr val="00b7a5"/>
              </a:gs>
              <a:gs pos="100000">
                <a:srgbClr val="19bdad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Sta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igh growth &amp; sh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fit potential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y need heav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 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vestment to g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66760" y="4392720"/>
            <a:ext cx="3024360" cy="170316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100000">
                <a:srgbClr val="f86abd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Cash Cow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 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w growth, high sh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stablished, success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 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BU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duce c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 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 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191120" y="4375080"/>
            <a:ext cx="3352680" cy="170352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bd6ff8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Do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w growth &amp; sh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w profit pot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88960" y="2117880"/>
            <a:ext cx="562932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Relative Market Sha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igh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 rot="16200000">
            <a:off x="-855720" y="3977640"/>
            <a:ext cx="3218040" cy="57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Market Growth Rat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w                    Hig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7772400" cy="137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zing Current SBU’s: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oston Consulting Group Approa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2909880" y="2709720"/>
          <a:ext cx="1163520" cy="592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09880" y="2709720"/>
                    <a:ext cx="116352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6858000" y="2666880"/>
            <a:ext cx="685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6093000" y="4398840"/>
          <a:ext cx="1085760" cy="567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93000" y="4398840"/>
                    <a:ext cx="1085760" cy="5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3048120" y="4411800"/>
          <a:ext cx="1041120" cy="579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8120" y="4411800"/>
                    <a:ext cx="104112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In Internal analysi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urrent Marketing M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ganis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ancial Sit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g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cur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 so 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9T12:35:06Z</dcterms:created>
  <dc:creator>HAN</dc:creator>
  <dc:description/>
  <dc:language>en-US</dc:language>
  <cp:lastModifiedBy>christine natalia</cp:lastModifiedBy>
  <dcterms:modified xsi:type="dcterms:W3CDTF">2006-12-26T19:44:52Z</dcterms:modified>
  <cp:revision>3</cp:revision>
  <dc:subject/>
  <dc:title>Dia 1</dc:title>
</cp:coreProperties>
</file>