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CD9-2390-4CE6-A151-B29C806B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C5A-CAFB-4637-A4BE-434629C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8E1-2E71-4C43-BB43-11E75198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926-4B20-4466-9E75-D01BF09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778-9E8E-4FE3-9DE4-28CB3EE3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70B6-96B8-435C-90D0-81FDDC5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A3F8-117F-43FE-8FCD-02E648F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D41-12E8-4130-B4DA-081E44F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0840-8DC4-4A92-9198-79104D0E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275-3D1E-4AE1-BA90-B0C0DB6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D778-30C6-40D4-BEB1-3813030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1CB-6088-450B-9811-9154960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89E0-62A3-4061-9CCB-F8FE468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37FC-CD01-4358-B36F-D48D15D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4D0-AA80-4921-A2ED-06ECDC4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31A-45DB-420C-8E1E-80280001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ACE-7F06-4BA9-9CF0-F15B6F38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2B92-9769-4140-8394-47183B26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D00C-6F8D-4FC6-B8C1-962F5FE2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9F53-C8E8-48E3-91E6-0FF20F2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36F0-1453-4F72-AC9F-2479E2D5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8A99-256D-4E84-BCDC-55E26AA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07D-F04A-4E81-B1A3-3800C82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0737-80FB-4509-AE54-BE3BF0D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F802-34B5-46B9-B49A-97ACA5D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B195-E382-4DB5-8DF3-320E4B0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C8D3-DC6E-4144-96A6-FAE366B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E769-0713-4E0C-AB0D-798D6C1B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F991-5579-44F6-9C5F-21D75488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67D8-7EB3-45CF-ADC2-F4B377EB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FE6C-5FB6-4720-BB8D-D04D61BE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D0AD-041E-4DAD-81A6-F0B0BC4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8698-01A7-46CE-ADC7-792CDEA9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4AA-B138-4835-A129-A0FB3A46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075C-BA2A-4B02-A0B0-279F2B74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E9C5-2D7C-4B0E-A1EB-0F386CC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D5B6-9C78-4FBC-8C4A-1F7F8CF9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F2C5-54D1-44A3-BEA3-12822F5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1AB8-E67F-484C-A955-8022EF2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73D0-75EA-4C35-903E-864703B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9EA2-C7BE-496F-A8AC-889D79E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176C-E8B4-4AC9-A341-1D81F07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87DC-88D0-4AEA-B172-5665DF60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54D-C2C8-474D-8E6B-C627B8A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4E7-CF0F-4529-98A5-86ABD37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89B-2FA9-46E0-8CE9-E304D84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BE9-CEF9-49D2-8AAB-A4E7F90E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49C-D160-4EDE-BBAF-4B00C180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D7C-46D0-40C2-BD81-D4DA1B3F77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C63D-4031-47DA-B629-63B2F8E6DA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321-0EB8-4BB2-9BE7-12E43AAE65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09CE-C23E-4E9E-97B3-097E754EF0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package" Target="../embeddings/oleObject1.ppt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xternal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TE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y Analysis (compet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etit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746520" y="2162160"/>
            <a:ext cx="342720" cy="914400"/>
          </a:xfrm>
          <a:custGeom>
            <a:avLst/>
            <a:gdLst>
              <a:gd name="textAreaLeft" fmla="*/ 0 w 342720"/>
              <a:gd name="textAreaRight" fmla="*/ 123840 w 342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60640" y="4043520"/>
            <a:ext cx="266760" cy="914400"/>
          </a:xfrm>
          <a:custGeom>
            <a:avLst/>
            <a:gdLst>
              <a:gd name="textAreaLeft" fmla="*/ 0 w 266760"/>
              <a:gd name="textAreaRight" fmla="*/ 96120 w 266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95360" y="61884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8000"/>
                </a:solidFill>
                <a:latin typeface="Arial"/>
                <a:ea typeface="Times New Roman"/>
              </a:rPr>
              <a:t>SW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68360" y="1898640"/>
            <a:ext cx="64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Stren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67280" y="3687480"/>
            <a:ext cx="62416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marke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WOT = summary of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</a:t>
            </a: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and extern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2408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Of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(Expan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1676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trenghts         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760" y="29718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4120" y="4800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De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440" y="38088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2121600">
            <a:off x="3047760" y="0"/>
            <a:ext cx="2778120" cy="27068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20403000">
            <a:off x="3504960" y="8380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WO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228600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828800" y="31240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c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ic Believ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c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8769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rategic Choices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9625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57913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5400000">
            <a:off x="2992320" y="180792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048120"/>
            <a:ext cx="317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2992320" y="302724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4267080"/>
            <a:ext cx="317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6295680" y="1856880"/>
            <a:ext cx="1136520" cy="336564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048120"/>
            <a:ext cx="307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6314760" y="3057480"/>
            <a:ext cx="1136520" cy="340380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4191120"/>
            <a:ext cx="3108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200" y="297180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200" y="426708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8596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3408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nsoff’s Growt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egmentation &amp;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get mark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 segments that are bite sized chunks that organisations can man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seg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s with common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targ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evaluation of the selected segments and then deciding which market segments to operate wi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positio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whereby marketers position the product to occupy a clear and distinctive position relative to other competing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762120"/>
            <a:ext cx="73911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ic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ning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Objectives and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21337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Measurable !!</a:t>
            </a:r>
            <a:endParaRPr b="0" lang="en-US" sz="1800" spc="1" strike="noStrike">
              <a:ln w="414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13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plan and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11240" y="2741760"/>
            <a:ext cx="1763640" cy="2997000"/>
            <a:chOff x="111240" y="2741760"/>
            <a:chExt cx="1763640" cy="29970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11240" y="2741760"/>
              <a:ext cx="176364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12840" y="2789280"/>
              <a:ext cx="142560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20920" y="2741760"/>
            <a:ext cx="1998720" cy="2997000"/>
            <a:chOff x="2320920" y="2741760"/>
            <a:chExt cx="1998720" cy="299700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320920" y="2741760"/>
              <a:ext cx="199872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22520" y="2789280"/>
              <a:ext cx="16606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780080" y="2741760"/>
            <a:ext cx="1901880" cy="2997000"/>
            <a:chOff x="4780080" y="2741760"/>
            <a:chExt cx="1901880" cy="299700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4780080" y="2741760"/>
              <a:ext cx="190188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981680" y="2789280"/>
              <a:ext cx="15634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045200" y="2741760"/>
            <a:ext cx="1758960" cy="2997000"/>
            <a:chOff x="7045200" y="2741760"/>
            <a:chExt cx="1758960" cy="2997000"/>
          </a:xfrm>
        </p:grpSpPr>
        <p:pic>
          <p:nvPicPr>
            <p:cNvPr id="283" name="" descr=""/>
            <p:cNvPicPr/>
            <p:nvPr/>
          </p:nvPicPr>
          <p:blipFill>
            <a:blip r:embed="rId5"/>
            <a:stretch/>
          </p:blipFill>
          <p:spPr>
            <a:xfrm>
              <a:off x="7045200" y="2741760"/>
              <a:ext cx="175896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46800" y="2789280"/>
              <a:ext cx="142092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44640" y="5603760"/>
            <a:ext cx="7037280" cy="873360"/>
          </a:xfrm>
          <a:custGeom>
            <a:avLst/>
            <a:gdLst/>
            <a:ahLst/>
            <a:rect l="l" t="t" r="r" b="b"/>
            <a:pathLst>
              <a:path w="4433" h="550">
                <a:moveTo>
                  <a:pt x="4432" y="0"/>
                </a:moveTo>
                <a:lnTo>
                  <a:pt x="4432" y="549"/>
                </a:lnTo>
                <a:lnTo>
                  <a:pt x="0" y="54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1635120" y="3503520"/>
            <a:ext cx="888840" cy="608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4073400" y="3503520"/>
            <a:ext cx="917640" cy="577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6435720" y="3503520"/>
            <a:ext cx="917640" cy="593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V="1">
            <a:off x="3276720" y="571788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arketing Control Proce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35812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1981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505320"/>
            <a:ext cx="1981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505320"/>
            <a:ext cx="1828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Correctiv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rot="5400000">
            <a:off x="36360" y="3425760"/>
            <a:ext cx="2923920" cy="2540160"/>
          </a:xfrm>
          <a:prstGeom prst="cube">
            <a:avLst>
              <a:gd name="adj" fmla="val 81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 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180960" y="3514680"/>
            <a:ext cx="2923920" cy="236196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ff72"/>
              </a:gs>
              <a:gs pos="100000">
                <a:srgbClr val="fdfea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6181920" y="3584520"/>
            <a:ext cx="2923920" cy="222264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6e6e"/>
              </a:gs>
              <a:gs pos="100000">
                <a:srgbClr val="f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66120" y="49100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4449600" y="-1822320"/>
            <a:ext cx="431640" cy="8191440"/>
          </a:xfrm>
          <a:prstGeom prst="cube">
            <a:avLst>
              <a:gd name="adj" fmla="val 16037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Analysis of Company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81200" y="3430440"/>
            <a:ext cx="844560" cy="2203560"/>
          </a:xfrm>
          <a:custGeom>
            <a:avLst/>
            <a:gdLst/>
            <a:ahLst/>
            <a:rect l="l" t="t" r="r" b="b"/>
            <a:pathLst>
              <a:path w="532" h="1388">
                <a:moveTo>
                  <a:pt x="0" y="1387"/>
                </a:moveTo>
                <a:lnTo>
                  <a:pt x="236" y="1387"/>
                </a:lnTo>
                <a:lnTo>
                  <a:pt x="236" y="0"/>
                </a:lnTo>
                <a:lnTo>
                  <a:pt x="53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9560" y="3463920"/>
            <a:ext cx="846000" cy="2203560"/>
          </a:xfrm>
          <a:custGeom>
            <a:avLst/>
            <a:gdLst/>
            <a:ahLst/>
            <a:rect l="l" t="t" r="r" b="b"/>
            <a:pathLst>
              <a:path w="533" h="1388">
                <a:moveTo>
                  <a:pt x="0" y="1387"/>
                </a:moveTo>
                <a:lnTo>
                  <a:pt x="237" y="1387"/>
                </a:lnTo>
                <a:lnTo>
                  <a:pt x="237" y="0"/>
                </a:lnTo>
                <a:lnTo>
                  <a:pt x="53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1680" y="6059520"/>
            <a:ext cx="6056280" cy="569880"/>
          </a:xfrm>
          <a:custGeom>
            <a:avLst/>
            <a:gdLst/>
            <a:ahLst/>
            <a:rect l="l" t="t" r="r" b="b"/>
            <a:pathLst>
              <a:path w="3815" h="359">
                <a:moveTo>
                  <a:pt x="3814" y="0"/>
                </a:moveTo>
                <a:lnTo>
                  <a:pt x="3814" y="358"/>
                </a:lnTo>
                <a:lnTo>
                  <a:pt x="0" y="358"/>
                </a:lnTo>
                <a:lnTo>
                  <a:pt x="0" y="7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49680" y="6071760"/>
            <a:ext cx="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64280" y="3273480"/>
            <a:ext cx="108900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87240" y="3659040"/>
            <a:ext cx="11563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4419720"/>
            <a:ext cx="11541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6200" y="5105520"/>
            <a:ext cx="13453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2430360"/>
            <a:ext cx="0" cy="78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6552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9780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Marketing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45784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4197240"/>
            <a:ext cx="0" cy="22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3120" y="2055960"/>
            <a:ext cx="3355920" cy="1904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1000" y="214488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ata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03120" y="4765680"/>
            <a:ext cx="3355920" cy="1905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51000" y="485460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One-on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408640" y="2055960"/>
            <a:ext cx="3449520" cy="1904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56160" y="2144880"/>
            <a:ext cx="31989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roduct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 Tailor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et Custom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332320" y="4765680"/>
            <a:ext cx="3525840" cy="1905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80200" y="4854600"/>
            <a:ext cx="3274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l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513160" y="3274920"/>
            <a:ext cx="3813120" cy="194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560680" y="3362400"/>
            <a:ext cx="35622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ng Technologi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communic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, &amp;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0480" y="27432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echnologies for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581280" y="5334120"/>
          <a:ext cx="1689120" cy="13078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334120"/>
                    <a:ext cx="16891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38760"/>
            <a:ext cx="80773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Missio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business are we 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our customers valu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we in business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sort of business are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us special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havio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"/>
            <a:ext cx="2666880" cy="22860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210040" cy="324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7920" y="3200400"/>
            <a:ext cx="2209680" cy="3249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00200" y="2819520"/>
            <a:ext cx="2209680" cy="32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-914400" y="2819520"/>
            <a:ext cx="2927520" cy="403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743200" y="2819520"/>
            <a:ext cx="19890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495680" y="28954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019920" y="2819520"/>
            <a:ext cx="1050840" cy="1447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4114800" y="31240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3505320" y="3276720"/>
            <a:ext cx="14922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5562720" y="320040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5334120" y="3581280"/>
            <a:ext cx="1050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28240" y="2743200"/>
            <a:ext cx="7696440" cy="3733920"/>
            <a:chOff x="228240" y="2743200"/>
            <a:chExt cx="7696440" cy="3733920"/>
          </a:xfrm>
        </p:grpSpPr>
        <p:sp>
          <p:nvSpPr>
            <p:cNvPr id="186" name=""/>
            <p:cNvSpPr/>
            <p:nvPr/>
          </p:nvSpPr>
          <p:spPr>
            <a:xfrm rot="5400000">
              <a:off x="1571040" y="1400040"/>
              <a:ext cx="488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 Orien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6600" y="3216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2236680" y="2116080"/>
              <a:ext cx="4446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li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31560" y="3909960"/>
              <a:ext cx="74268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30040" y="4618080"/>
              <a:ext cx="742680" cy="2746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3758760" y="3479760"/>
              <a:ext cx="380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t Market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894200" y="5232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027400" y="4083120"/>
              <a:ext cx="3780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inctiv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965200" y="5846760"/>
              <a:ext cx="742680" cy="2728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6144840" y="4697280"/>
              <a:ext cx="38124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iv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3150720" y="2712960"/>
              <a:ext cx="434880" cy="338436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3160" y="419112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432320" y="2438280"/>
            <a:ext cx="4711680" cy="2662560"/>
            <a:chOff x="4432320" y="2438280"/>
            <a:chExt cx="4711680" cy="266256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32320" y="2438280"/>
              <a:ext cx="4711680" cy="23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034320" y="2623320"/>
              <a:ext cx="2743200" cy="24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aracteristics of a Good Mission Stateme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Mission Statement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is a Statement of the Organization’s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038480" y="2498760"/>
            <a:ext cx="378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80520" y="1980360"/>
            <a:ext cx="80074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2678040"/>
            <a:ext cx="3352680" cy="174168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c6d2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Question 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, low sh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ild into Stars or phase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 cash to h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678040"/>
            <a:ext cx="3008520" cy="17366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19bda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t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 &amp;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it potent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need he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ment to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66760" y="4392720"/>
            <a:ext cx="3024360" cy="170316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86ab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Cash C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, high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,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BU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e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375080"/>
            <a:ext cx="3352680" cy="1703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 &amp; 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profi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88960" y="2117880"/>
            <a:ext cx="5629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lative Market Sh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-855720" y="3977640"/>
            <a:ext cx="32180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rket Growth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                  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zing Current SBU’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ston Consulting Group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909880" y="2709720"/>
          <a:ext cx="116352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2709720"/>
                    <a:ext cx="1163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58000" y="26668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3000" y="4398840"/>
          <a:ext cx="1085760" cy="5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3000" y="4398840"/>
                    <a:ext cx="10857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048120" y="4411800"/>
          <a:ext cx="104112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411800"/>
                    <a:ext cx="10411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n Internal analys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2:35:06Z</dcterms:created>
  <dc:creator>HAN</dc:creator>
  <dc:description/>
  <dc:language>en-US</dc:language>
  <cp:lastModifiedBy>christine natalia</cp:lastModifiedBy>
  <dcterms:modified xsi:type="dcterms:W3CDTF">2006-12-26T19:44:52Z</dcterms:modified>
  <cp:revision>3</cp:revision>
  <dc:subject/>
  <dc:title>Dia 1</dc:title>
</cp:coreProperties>
</file>