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E7A-C2B0-49CA-9A8B-187DAC57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2EB-B1E0-4E91-9382-C376558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EF2-6D62-4AE6-9E25-8626473D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19B-369C-41EA-9227-7C8E1979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AE06-2EF0-4937-951B-518471C1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7E74-208E-4721-9898-124C248E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D7EB-B91A-4C05-A9F6-8DB5481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FCEA-B77F-4429-8BCF-8774464F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B1D9-5524-48A0-A7CB-917BA0B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A1DA-FA8C-4CCD-8FD1-F16DF0EE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D53E-06FE-4158-8A45-5E76756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5A0-E3BE-4DE0-9F24-093AE954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FEA6-E89E-4C18-B766-B160D62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ED0B-32C4-4C03-87BD-5ECA994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B6FA-223C-4C16-ACF3-391E1198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0087-0C37-4C76-B323-F26D1329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B794-CAC0-447D-9538-E843B858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3069-A70F-4050-B9E8-40001C3D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0344-0AB7-4400-8C12-13C88B3D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22F9-424D-4C59-B544-ECA8C50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049F-BCA6-4993-B79D-ABAAA93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68DDE-7A37-422B-B18D-2A7953CD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033-D6DE-4936-B434-C7AFE7A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55C4-CD0A-4823-963D-C8BAE4A3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78D9-FB4A-4794-96B3-5E463F79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8CE2-4CFB-4F5B-9038-6B8A7BF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85ED-A9D0-48D2-9A6D-D8EC8B4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6534-DA9C-4643-806E-D445A043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EA5E-9DF7-45D0-8288-3889B07B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5608-115F-4C0A-A479-707225BD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04B85-384B-4778-A02E-C71B4AD3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8978-C11D-486B-8F2C-010D29C7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0B91-C1E3-4A1D-B8DC-D615563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411-1658-43C8-BEF5-55980574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6A55-128D-4856-BC61-412636F2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A596-8695-453B-88F9-508AB40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2790-5320-4F22-AA25-281EBC9D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628E-1708-4723-B66D-CC703FA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E2E47-22DC-46B9-8976-42CCC06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7328-EC77-493F-A489-84E605D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4EE5-A666-4E47-8A09-E81C5896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5760C-BDAB-4105-A076-7A862037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02FB-072F-4933-8831-7979B8E7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33E-CB7B-4DC8-BFDD-047676E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75E-13D9-4706-A8BC-C34883D2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463-119F-43F1-ADE1-73DAC5D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5A9-87FB-442B-9C39-B084B17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7AB-D54E-4EE9-829A-8D23C6C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3C97-0A6D-4BFC-A783-46A9711C54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643E-601A-4168-940D-A479B9BED1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0EB5-73AA-49B3-8606-54A6E765FA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9382-7057-4275-9DC7-7FE697AFA9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package" Target="../embeddings/oleObject1.ppt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xternal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TE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stry Analysis (compet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etit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746520" y="2162160"/>
            <a:ext cx="342720" cy="914400"/>
          </a:xfrm>
          <a:custGeom>
            <a:avLst/>
            <a:gdLst>
              <a:gd name="textAreaLeft" fmla="*/ 0 w 342720"/>
              <a:gd name="textAreaRight" fmla="*/ 123840 w 342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60640" y="4043520"/>
            <a:ext cx="266760" cy="914400"/>
          </a:xfrm>
          <a:custGeom>
            <a:avLst/>
            <a:gdLst>
              <a:gd name="textAreaLeft" fmla="*/ 0 w 266760"/>
              <a:gd name="textAreaRight" fmla="*/ 96120 w 266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95360" y="618840"/>
            <a:ext cx="200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8000"/>
                </a:solidFill>
                <a:latin typeface="Arial"/>
                <a:ea typeface="Times New Roman"/>
              </a:rPr>
              <a:t>SW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68360" y="1898640"/>
            <a:ext cx="640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.....Stren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bou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.....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67280" y="3687480"/>
            <a:ext cx="62416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..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bout marke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..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WOT = summary of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</a:t>
            </a: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and external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124080" y="22860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Offens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(Expan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1676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trenghts         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1760" y="29718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41148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4120" y="48006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22860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1148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Defens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440" y="38088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Arial"/>
              </a:rPr>
              <a:t>SWO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rot="2121600">
            <a:off x="3047760" y="0"/>
            <a:ext cx="2778120" cy="27068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 rot="20403000">
            <a:off x="3504960" y="8380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WO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228600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828800" y="31240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c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ic Believ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c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48769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rategic Choices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396252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579132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5400000">
            <a:off x="2992320" y="1807920"/>
            <a:ext cx="1136520" cy="346392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048120"/>
            <a:ext cx="317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e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2992320" y="3027240"/>
            <a:ext cx="1136520" cy="346392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a2c1fe"/>
              </a:gs>
              <a:gs pos="100000">
                <a:srgbClr val="b3cc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4267080"/>
            <a:ext cx="3170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6295680" y="1856880"/>
            <a:ext cx="1136520" cy="336564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b760f9"/>
              </a:gs>
              <a:gs pos="100000">
                <a:srgbClr val="bd6ff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3048120"/>
            <a:ext cx="307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6314760" y="3057480"/>
            <a:ext cx="1136520" cy="340380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a2c1fe"/>
              </a:gs>
              <a:gs pos="100000">
                <a:srgbClr val="b3cc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4191120"/>
            <a:ext cx="3108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200" y="2971800"/>
            <a:ext cx="13269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200" y="4267080"/>
            <a:ext cx="13269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85960" y="2133720"/>
            <a:ext cx="1436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34080" y="2133720"/>
            <a:ext cx="1436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nsoff’s Growt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egmentation &amp;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get mark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market segments that are bite sized chunks that organisations can man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seg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markets with common 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targ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f evaluation of the selected segments and then deciding which market segments to operate wi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positio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whereby marketers position the product to occupy a clear and distinctive position relative to other competing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/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90720" y="762120"/>
            <a:ext cx="73911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ic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nning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Objectives and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2133720"/>
            <a:ext cx="80773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Arial Black"/>
              </a:rPr>
              <a:t>Measurable !!</a:t>
            </a:r>
            <a:endParaRPr b="0" lang="en-US" sz="1800" spc="1" strike="noStrike">
              <a:ln w="414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33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132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/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plan and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11240" y="2741760"/>
            <a:ext cx="1763640" cy="2997000"/>
            <a:chOff x="111240" y="2741760"/>
            <a:chExt cx="1763640" cy="299700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111240" y="2741760"/>
              <a:ext cx="176364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12840" y="2789280"/>
              <a:ext cx="142560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320920" y="2741760"/>
            <a:ext cx="1998720" cy="2997000"/>
            <a:chOff x="2320920" y="2741760"/>
            <a:chExt cx="1998720" cy="2997000"/>
          </a:xfrm>
        </p:grpSpPr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2320920" y="2741760"/>
              <a:ext cx="199872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522520" y="2789280"/>
              <a:ext cx="16606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780080" y="2741760"/>
            <a:ext cx="1901880" cy="2997000"/>
            <a:chOff x="4780080" y="2741760"/>
            <a:chExt cx="1901880" cy="299700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4780080" y="2741760"/>
              <a:ext cx="190188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981680" y="2789280"/>
              <a:ext cx="15634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045200" y="2741760"/>
            <a:ext cx="1758960" cy="2997000"/>
            <a:chOff x="7045200" y="2741760"/>
            <a:chExt cx="1758960" cy="2997000"/>
          </a:xfrm>
        </p:grpSpPr>
        <p:pic>
          <p:nvPicPr>
            <p:cNvPr id="283" name="" descr=""/>
            <p:cNvPicPr/>
            <p:nvPr/>
          </p:nvPicPr>
          <p:blipFill>
            <a:blip r:embed="rId5"/>
            <a:stretch/>
          </p:blipFill>
          <p:spPr>
            <a:xfrm>
              <a:off x="7045200" y="2741760"/>
              <a:ext cx="175896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46800" y="2789280"/>
              <a:ext cx="142092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44640" y="5603760"/>
            <a:ext cx="7037280" cy="873360"/>
          </a:xfrm>
          <a:custGeom>
            <a:avLst/>
            <a:gdLst/>
            <a:ahLst/>
            <a:rect l="l" t="t" r="r" b="b"/>
            <a:pathLst>
              <a:path w="4433" h="550">
                <a:moveTo>
                  <a:pt x="4432" y="0"/>
                </a:moveTo>
                <a:lnTo>
                  <a:pt x="4432" y="549"/>
                </a:lnTo>
                <a:lnTo>
                  <a:pt x="0" y="54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1635120" y="3503520"/>
            <a:ext cx="888840" cy="6080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4073400" y="3503520"/>
            <a:ext cx="917640" cy="577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6435720" y="3503520"/>
            <a:ext cx="917640" cy="593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V="1">
            <a:off x="3276720" y="571788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arketing Control Proce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35812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05320"/>
            <a:ext cx="1981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3505320"/>
            <a:ext cx="1981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505320"/>
            <a:ext cx="1828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Correctiv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rot="5400000">
            <a:off x="36360" y="3425760"/>
            <a:ext cx="2923920" cy="2540160"/>
          </a:xfrm>
          <a:prstGeom prst="cube">
            <a:avLst>
              <a:gd name="adj" fmla="val 81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 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180960" y="3514680"/>
            <a:ext cx="2923920" cy="2361960"/>
          </a:xfrm>
          <a:prstGeom prst="cube">
            <a:avLst>
              <a:gd name="adj" fmla="val 8157"/>
            </a:avLst>
          </a:prstGeom>
          <a:gradFill rotWithShape="0">
            <a:gsLst>
              <a:gs pos="0">
                <a:srgbClr val="feff72"/>
              </a:gs>
              <a:gs pos="100000">
                <a:srgbClr val="fdfea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6181920" y="3584520"/>
            <a:ext cx="2923920" cy="2222640"/>
          </a:xfrm>
          <a:prstGeom prst="cube">
            <a:avLst>
              <a:gd name="adj" fmla="val 8157"/>
            </a:avLst>
          </a:prstGeom>
          <a:gradFill rotWithShape="0">
            <a:gsLst>
              <a:gs pos="0">
                <a:srgbClr val="fe6e6e"/>
              </a:gs>
              <a:gs pos="100000">
                <a:srgbClr val="ff5f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66120" y="49100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4449600" y="-1822320"/>
            <a:ext cx="431640" cy="8191440"/>
          </a:xfrm>
          <a:prstGeom prst="cube">
            <a:avLst>
              <a:gd name="adj" fmla="val 16037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Analysis of Company’s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81200" y="3430440"/>
            <a:ext cx="844560" cy="2203560"/>
          </a:xfrm>
          <a:custGeom>
            <a:avLst/>
            <a:gdLst/>
            <a:ahLst/>
            <a:rect l="l" t="t" r="r" b="b"/>
            <a:pathLst>
              <a:path w="532" h="1388">
                <a:moveTo>
                  <a:pt x="0" y="1387"/>
                </a:moveTo>
                <a:lnTo>
                  <a:pt x="236" y="1387"/>
                </a:lnTo>
                <a:lnTo>
                  <a:pt x="236" y="0"/>
                </a:lnTo>
                <a:lnTo>
                  <a:pt x="53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9560" y="3463920"/>
            <a:ext cx="846000" cy="2203560"/>
          </a:xfrm>
          <a:custGeom>
            <a:avLst/>
            <a:gdLst/>
            <a:ahLst/>
            <a:rect l="l" t="t" r="r" b="b"/>
            <a:pathLst>
              <a:path w="533" h="1388">
                <a:moveTo>
                  <a:pt x="0" y="1387"/>
                </a:moveTo>
                <a:lnTo>
                  <a:pt x="237" y="1387"/>
                </a:lnTo>
                <a:lnTo>
                  <a:pt x="237" y="0"/>
                </a:lnTo>
                <a:lnTo>
                  <a:pt x="53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1680" y="6059520"/>
            <a:ext cx="6056280" cy="569880"/>
          </a:xfrm>
          <a:custGeom>
            <a:avLst/>
            <a:gdLst/>
            <a:ahLst/>
            <a:rect l="l" t="t" r="r" b="b"/>
            <a:pathLst>
              <a:path w="3815" h="359">
                <a:moveTo>
                  <a:pt x="3814" y="0"/>
                </a:moveTo>
                <a:lnTo>
                  <a:pt x="3814" y="358"/>
                </a:lnTo>
                <a:lnTo>
                  <a:pt x="0" y="358"/>
                </a:lnTo>
                <a:lnTo>
                  <a:pt x="0" y="7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549680" y="6071760"/>
            <a:ext cx="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64280" y="3273480"/>
            <a:ext cx="108900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87240" y="3659040"/>
            <a:ext cx="115632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4419720"/>
            <a:ext cx="11541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6200" y="5105520"/>
            <a:ext cx="13453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87520" y="2430360"/>
            <a:ext cx="0" cy="78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65520" y="244008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97800" y="244008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the Marketing 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45784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4197240"/>
            <a:ext cx="0" cy="22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3120" y="2055960"/>
            <a:ext cx="3355920" cy="1904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51000" y="2144880"/>
            <a:ext cx="3105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Data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303120" y="4765680"/>
            <a:ext cx="3355920" cy="1905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51000" y="4854600"/>
            <a:ext cx="3105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s 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One-on-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5408640" y="2055960"/>
            <a:ext cx="3449520" cy="1904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456160" y="2144880"/>
            <a:ext cx="31989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roduct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 Tailor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et Custom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332320" y="4765680"/>
            <a:ext cx="3525840" cy="1905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80200" y="4854600"/>
            <a:ext cx="32749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ly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2513160" y="3274920"/>
            <a:ext cx="3813120" cy="194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560680" y="3362400"/>
            <a:ext cx="35622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ing Technologi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ecommunic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, &amp;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90480" y="27432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echnologies for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581280" y="5334120"/>
          <a:ext cx="1689120" cy="13078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334120"/>
                    <a:ext cx="16891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38760"/>
            <a:ext cx="80773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Mission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business are we 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 our customers valu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we in business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sort of business are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us special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havio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"/>
            <a:ext cx="2666880" cy="22860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8380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210040" cy="3249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47920" y="3200400"/>
            <a:ext cx="2209680" cy="3249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600200" y="2819520"/>
            <a:ext cx="2209680" cy="3249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-914400" y="2819520"/>
            <a:ext cx="2927520" cy="4038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743200" y="2819520"/>
            <a:ext cx="198900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495680" y="2895480"/>
            <a:ext cx="165744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019920" y="2819520"/>
            <a:ext cx="1050840" cy="1447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4114800" y="3124080"/>
            <a:ext cx="165744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3505320" y="3276720"/>
            <a:ext cx="14922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5562720" y="320040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5334120" y="3581280"/>
            <a:ext cx="1050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28240" y="2743200"/>
            <a:ext cx="7696440" cy="3733920"/>
            <a:chOff x="228240" y="2743200"/>
            <a:chExt cx="7696440" cy="3733920"/>
          </a:xfrm>
        </p:grpSpPr>
        <p:sp>
          <p:nvSpPr>
            <p:cNvPr id="186" name=""/>
            <p:cNvSpPr/>
            <p:nvPr/>
          </p:nvSpPr>
          <p:spPr>
            <a:xfrm rot="5400000">
              <a:off x="1571040" y="1400040"/>
              <a:ext cx="488880" cy="317484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 Orien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36600" y="3216240"/>
              <a:ext cx="74304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2236680" y="2116080"/>
              <a:ext cx="44460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lis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31560" y="3909960"/>
              <a:ext cx="74268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830040" y="4618080"/>
              <a:ext cx="742680" cy="27468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3758760" y="3479760"/>
              <a:ext cx="380880" cy="317484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t Market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894200" y="5232240"/>
              <a:ext cx="74304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5027400" y="4083120"/>
              <a:ext cx="37800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inctiv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965200" y="5846760"/>
              <a:ext cx="742680" cy="27288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6144840" y="4697280"/>
              <a:ext cx="38124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iva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3150720" y="2712960"/>
              <a:ext cx="434880" cy="338436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3160" y="419112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432320" y="2438280"/>
            <a:ext cx="4711680" cy="2662560"/>
            <a:chOff x="4432320" y="2438280"/>
            <a:chExt cx="4711680" cy="266256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32320" y="2438280"/>
              <a:ext cx="4711680" cy="23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034320" y="2623320"/>
              <a:ext cx="2743200" cy="24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aracteristics of a Good Mission Stateme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0" y="914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Mission Statement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is a Statement of the Organization’s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038480" y="2498760"/>
            <a:ext cx="3784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80520" y="1980360"/>
            <a:ext cx="800748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2678040"/>
            <a:ext cx="3352680" cy="174168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c6d2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Question 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growth, low sh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ild into Stars or phase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 cash to h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678040"/>
            <a:ext cx="3008520" cy="17366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19bda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St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growth &amp;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fit potent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need hea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ment to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66760" y="4392720"/>
            <a:ext cx="3024360" cy="170316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86ab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Cash C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growth, high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ed,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BU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e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4375080"/>
            <a:ext cx="3352680" cy="1703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bd6ff8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D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growth &amp; s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profi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88960" y="2117880"/>
            <a:ext cx="5629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lative Market Sh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-855720" y="3977640"/>
            <a:ext cx="32180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rket Growth 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                   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zing Current SBU’s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ston Consulting Group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909880" y="2709720"/>
          <a:ext cx="116352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9880" y="2709720"/>
                    <a:ext cx="11635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58000" y="26668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3000" y="4398840"/>
          <a:ext cx="1085760" cy="56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3000" y="4398840"/>
                    <a:ext cx="10857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048120" y="4411800"/>
          <a:ext cx="104112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4411800"/>
                    <a:ext cx="10411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n Internal analysi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o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2:35:06Z</dcterms:created>
  <dc:creator>HAN</dc:creator>
  <dc:description/>
  <dc:language>en-US</dc:language>
  <cp:lastModifiedBy>christine natalia</cp:lastModifiedBy>
  <dcterms:modified xsi:type="dcterms:W3CDTF">2006-12-26T19:44:52Z</dcterms:modified>
  <cp:revision>3</cp:revision>
  <dc:subject/>
  <dc:title>Dia 1</dc:title>
</cp:coreProperties>
</file>