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8A6-CE59-4295-951F-48215936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CAA-6E2E-4C7A-9584-E551A2C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B6B-C653-4AD0-BD50-2318CF0E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9C6-43A2-499E-8A02-4852A0B4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883-2F3A-48E6-B2C1-F49ED07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CE8-A1B6-4B13-9776-4F57F3C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9B0-5721-4028-B04B-248E52CE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AF0-148C-4B4C-912F-B9832BF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BBD-537C-4383-A120-A5FA520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B88-9B82-48E6-A6B0-506C3F6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321-1CC6-4085-B114-2C16597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7EB-BC38-4E37-A6D4-EBB088B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B034-A1A3-4684-BFAA-AB2AC15AE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ppealingcoffee.com/cgibin/price.cgi?click-1250201-5463405?url=http%3A%2F%2Fwww.coffeeam.com%2Fcofofmonclub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hallmark.com/webapp/wcs/stores/servlet/home%7C10001%7C10051%7C-1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Global Marketplace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2286000"/>
            <a:ext cx="91440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2819520"/>
            <a:ext cx="53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try Strategi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28600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Joint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562720"/>
            <a:ext cx="7848720" cy="485640"/>
          </a:xfrm>
          <a:prstGeom prst="rightArrow">
            <a:avLst>
              <a:gd name="adj1" fmla="val 76472"/>
              <a:gd name="adj2" fmla="val 394163"/>
            </a:avLst>
          </a:prstGeom>
          <a:gradFill rotWithShape="0">
            <a:gsLst>
              <a:gs pos="0">
                <a:srgbClr val="ff0000"/>
              </a:gs>
              <a:gs pos="100000">
                <a:srgbClr val="00cc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0160" y="15238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Joint  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22860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bout me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75248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you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Peter van der Meijden"/>
          <p:cNvPicPr/>
          <p:nvPr/>
        </p:nvPicPr>
        <p:blipFill>
          <a:blip r:embed="rId1"/>
          <a:stretch/>
        </p:blipFill>
        <p:spPr>
          <a:xfrm>
            <a:off x="1219320" y="1828800"/>
            <a:ext cx="177624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1280" y="3276720"/>
            <a:ext cx="190512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202800">
            <a:off x="2286000" y="1828800"/>
            <a:ext cx="1295280" cy="1447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rot="17301000">
            <a:off x="4647960" y="1142640"/>
            <a:ext cx="1295280" cy="144792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447400">
            <a:off x="3552840" y="1091880"/>
            <a:ext cx="790560" cy="1357200"/>
          </a:xfrm>
          <a:prstGeom prst="downArrow">
            <a:avLst>
              <a:gd name="adj1" fmla="val 50000"/>
              <a:gd name="adj2" fmla="val 4291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847000">
            <a:off x="3885840" y="50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73600">
            <a:off x="5105160" y="4723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847000">
            <a:off x="4495320" y="48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57913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pons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ide the Black 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1847880"/>
            <a:ext cx="6629400" cy="501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033600">
            <a:off x="304560" y="21333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5e76"/>
                    </a:gs>
                  </a:gsLst>
                  <a:lin ang="866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5e76"/>
                  </a:gs>
                </a:gsLst>
                <a:lin ang="866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 rot="19379400">
            <a:off x="152280" y="51051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5e76"/>
                    </a:gs>
                  </a:gsLst>
                  <a:lin ang="1032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ci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5e76"/>
                  </a:gs>
                </a:gsLst>
                <a:lin ang="1032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 rot="757800">
            <a:off x="5790960" y="243792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5e76"/>
                    </a:gs>
                  </a:gsLst>
                  <a:lin ang="734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on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5e76"/>
                  </a:gs>
                </a:gsLst>
                <a:lin ang="734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91320" y="556272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5e7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sycholog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5e7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5427600">
            <a:off x="2928240" y="267840"/>
            <a:ext cx="3814920" cy="7085160"/>
          </a:xfrm>
          <a:prstGeom prst="triangle">
            <a:avLst>
              <a:gd name="adj" fmla="val 45866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12952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752480"/>
            <a:ext cx="18288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1752480"/>
            <a:ext cx="11430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3200" y="2190600"/>
            <a:ext cx="1552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otivat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elief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tt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5760" y="34574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981080"/>
            <a:ext cx="1600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Occu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Ec. Circum-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festyl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s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133720"/>
            <a:ext cx="175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ference  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l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1295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ub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ocial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er behavi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ing r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3275280" y="1828800"/>
            <a:ext cx="22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iti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flu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Dec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 Eurotypes from RIS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757520"/>
          <a:ext cx="86868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7520"/>
                    <a:ext cx="86868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Exporting can be a reaction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ve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mall/saturated domestic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Overproduction/excess cap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143000"/>
            <a:ext cx="7696080" cy="5181480"/>
          </a:xfrm>
          <a:prstGeom prst="triangle">
            <a:avLst>
              <a:gd name="adj" fmla="val 50000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6760" y="1752480"/>
            <a:ext cx="35211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tua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stheti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order, beau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gnitiv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omprehension, understa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teem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lf-esteem, recognition, sta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ci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nse of belonging, l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fety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ysiological ne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7242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334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ying decision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ty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differences 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nanc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1371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14600" y="2514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7339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oked S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49528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chase Deci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 rot="19744800">
            <a:off x="304920" y="1294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744800">
            <a:off x="1295280" y="2437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744800">
            <a:off x="2438280" y="3580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744800">
            <a:off x="3428640" y="48002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858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4800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05320" y="2362320"/>
            <a:ext cx="4647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gniti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o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95480" y="30492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 Pro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5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29200" y="160020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war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7432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and h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105520" y="2743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809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oks 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5520" y="37339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48006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t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29200" y="47242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579132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bu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105520" y="57913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ifferences in innova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49467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r categorisation on the basis of relative time of adoption of 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1828800"/>
            <a:ext cx="94489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luences on time span of 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60020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tive advan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51460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at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50532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lex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is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556272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Or it can be an action trigger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fit and growth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egerial u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eign marke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whe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o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8769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de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02920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066680"/>
            <a:ext cx="1600200" cy="5257800"/>
          </a:xfrm>
          <a:prstGeom prst="rect">
            <a:avLst/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319200" y="14043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319200" y="34617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319200" y="536688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452920" y="14047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452920" y="34621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452920" y="536724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600200" y="236232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60020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7162560" y="2362320"/>
            <a:ext cx="53316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723888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737440" y="3205800"/>
            <a:ext cx="38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decisions in internationa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de Barrier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1524240" y="2209680"/>
            <a:ext cx="255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RCO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EM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2743200"/>
            <a:ext cx="64818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TEP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ree Coffee Ma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photo of snow plow"/>
          <p:cNvPicPr/>
          <p:nvPr/>
        </p:nvPicPr>
        <p:blipFill>
          <a:blip r:embed="rId3"/>
          <a:stretch/>
        </p:blipFill>
        <p:spPr>
          <a:xfrm>
            <a:off x="609480" y="317520"/>
            <a:ext cx="4191120" cy="296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304920"/>
            <a:ext cx="4343400" cy="75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066680"/>
            <a:ext cx="2324160" cy="84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Jon-Wood®"/>
          <p:cNvPicPr/>
          <p:nvPr/>
        </p:nvPicPr>
        <p:blipFill>
          <a:blip r:embed="rId6"/>
          <a:stretch/>
        </p:blipFill>
        <p:spPr>
          <a:xfrm>
            <a:off x="68580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2286000"/>
            <a:ext cx="76212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53:28Z</dcterms:created>
  <dc:creator>HAN</dc:creator>
  <dc:description/>
  <dc:language>en-US</dc:language>
  <cp:lastModifiedBy>christine natalia</cp:lastModifiedBy>
  <dcterms:modified xsi:type="dcterms:W3CDTF">2006-12-26T19:48:06Z</dcterms:modified>
  <cp:revision>12</cp:revision>
  <dc:subject/>
  <dc:title>Dia 1</dc:title>
</cp:coreProperties>
</file>