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wmf" ContentType="image/x-wmf"/>
  <Override PartName="/ppt/media/image8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62A1-3CBA-488C-B4B9-F8EFC4E3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9AD2-D8E0-40BD-9DBC-98BBFF79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EDC-2341-469D-96B6-AD413B21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0AF5-9825-437E-B701-FCDEBE9C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F08F-D29E-4ABF-A9C6-1ACADDD7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0E8-21C9-4619-A5C3-0CF38FA6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A4F-8BE4-44EC-8B7F-C62521C3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1B8-6502-4732-96E0-15AF5B29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7B4-FDD2-4069-B7B0-D3394590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88C-0E58-455E-864B-BC1FD9EF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FECE-F7A0-428E-8E43-E046D86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253-31A6-4D64-95E3-DC681F2A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D1C7-CD7A-48B0-8625-2BD48E2472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ppealingcoffee.com/cgibin/price.cgi?click-1250201-5463405?url=http%3A%2F%2Fwww.coffeeam.com%2Fcofofmonclub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hyperlink" Target="http://www.hallmark.com/webapp/wcs/stores/servlet/home%7C10001%7C10051%7C-1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5781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Global Marketplace 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96080" y="2286000"/>
            <a:ext cx="91440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038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Du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396252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Communication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23623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40384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Dual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848720" y="2819520"/>
            <a:ext cx="53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try Strategie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228600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In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ex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Ex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2133720"/>
            <a:ext cx="22096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Licen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Contr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Manufact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 Black"/>
              </a:rPr>
              <a:t>Joint ow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2133720"/>
            <a:ext cx="2209680" cy="2895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Assemb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 Black"/>
              </a:rPr>
              <a:t>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5562720"/>
            <a:ext cx="7848720" cy="485640"/>
          </a:xfrm>
          <a:prstGeom prst="rightArrow">
            <a:avLst>
              <a:gd name="adj1" fmla="val 76472"/>
              <a:gd name="adj2" fmla="val 394163"/>
            </a:avLst>
          </a:prstGeom>
          <a:gradFill rotWithShape="0">
            <a:gsLst>
              <a:gs pos="0">
                <a:srgbClr val="ff0000"/>
              </a:gs>
              <a:gs pos="100000">
                <a:srgbClr val="00cc00"/>
              </a:gs>
            </a:gsLst>
            <a:lin ang="108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638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 Black"/>
              </a:rPr>
              <a:t>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0160" y="1523880"/>
            <a:ext cx="127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Black"/>
              </a:rPr>
              <a:t>Ex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Joint  Ven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943600" y="1523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 Black"/>
              </a:rPr>
              <a:t>Direct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04920" y="228600"/>
            <a:ext cx="37335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bout me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876920" y="1752480"/>
            <a:ext cx="37335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nd you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Peter van der Meijden"/>
          <p:cNvPicPr/>
          <p:nvPr/>
        </p:nvPicPr>
        <p:blipFill>
          <a:blip r:embed="rId1"/>
          <a:stretch/>
        </p:blipFill>
        <p:spPr>
          <a:xfrm>
            <a:off x="1219320" y="1828800"/>
            <a:ext cx="1776240" cy="274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181480" y="34290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81280" y="3276720"/>
            <a:ext cx="1905120" cy="144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3202800">
            <a:off x="2286000" y="1828800"/>
            <a:ext cx="1295280" cy="144792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rot="17301000">
            <a:off x="4647960" y="1142640"/>
            <a:ext cx="1295280" cy="1447920"/>
          </a:xfrm>
          <a:custGeom>
            <a:avLst/>
            <a:gdLst>
              <a:gd name="textAreaLeft" fmla="*/ 360 w 1295280"/>
              <a:gd name="textAreaRight" fmla="*/ 1296000 w 12952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20447400">
            <a:off x="3552840" y="1091880"/>
            <a:ext cx="790560" cy="1357200"/>
          </a:xfrm>
          <a:prstGeom prst="downArrow">
            <a:avLst>
              <a:gd name="adj1" fmla="val 50000"/>
              <a:gd name="adj2" fmla="val 4291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20847000">
            <a:off x="3885840" y="50292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20673600">
            <a:off x="5105160" y="47239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20847000">
            <a:off x="4495320" y="48765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447920" y="3049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imuli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4120" y="57913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spons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3657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 Black"/>
              </a:rPr>
              <a:t>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447920" y="304920"/>
            <a:ext cx="2819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imuli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side the Black Bo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1219320" y="1847880"/>
            <a:ext cx="6629400" cy="5010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 rot="21033600">
            <a:off x="304560" y="213336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005e76"/>
                    </a:gs>
                  </a:gsLst>
                  <a:lin ang="866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ul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005e76"/>
                  </a:gs>
                </a:gsLst>
                <a:lin ang="866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"/>
          <p:cNvSpPr txBox="1"/>
          <p:nvPr/>
        </p:nvSpPr>
        <p:spPr>
          <a:xfrm rot="19379400">
            <a:off x="152280" y="510516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005e76"/>
                    </a:gs>
                  </a:gsLst>
                  <a:lin ang="1032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ocial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005e76"/>
                  </a:gs>
                </a:gsLst>
                <a:lin ang="1032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 txBox="1"/>
          <p:nvPr/>
        </p:nvSpPr>
        <p:spPr>
          <a:xfrm rot="757800">
            <a:off x="5790960" y="2437920"/>
            <a:ext cx="2971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5e76"/>
                    </a:gs>
                  </a:gsLst>
                  <a:lin ang="7344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ersonal Fact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5e76"/>
                  </a:gs>
                </a:gsLst>
                <a:lin ang="7344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791320" y="5562720"/>
            <a:ext cx="2971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5e76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sycholog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ff"/>
                  </a:gs>
                  <a:gs pos="100000">
                    <a:srgbClr val="005e76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 rot="5427600">
            <a:off x="2928240" y="267840"/>
            <a:ext cx="3814920" cy="7085160"/>
          </a:xfrm>
          <a:prstGeom prst="triangle">
            <a:avLst>
              <a:gd name="adj" fmla="val 45866"/>
            </a:avLst>
          </a:prstGeom>
          <a:solidFill>
            <a:srgbClr val="ffed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1752480"/>
            <a:ext cx="12952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1752480"/>
            <a:ext cx="15238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1752480"/>
            <a:ext cx="152388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1752480"/>
            <a:ext cx="182880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1752480"/>
            <a:ext cx="1143000" cy="396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03200" y="2190600"/>
            <a:ext cx="15523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Psycholog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Motivation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er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Beliefs a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ttitu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925760" y="3457440"/>
            <a:ext cx="7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Bu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1981080"/>
            <a:ext cx="16002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Pers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Occup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Ec. Circum-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Lifestyl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Black"/>
              </a:rPr>
              <a:t>Pers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133720"/>
            <a:ext cx="175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eference  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Role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828800"/>
            <a:ext cx="12952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ub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Black"/>
              </a:rPr>
              <a:t>Social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sumer buyer behavi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304920"/>
            <a:ext cx="7315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sumer buying rol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3275280" y="1828800"/>
            <a:ext cx="2296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Initi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Influe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Deci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Bu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 Black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x Eurotypes from RIS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28600" y="1757520"/>
          <a:ext cx="8686800" cy="458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7520"/>
                    <a:ext cx="8686800" cy="458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Exporting can be a reaction t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Competitive press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Small/saturated domestic mar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Overproduction/excess capi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low’s hierarchy of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1143000"/>
            <a:ext cx="7696080" cy="5181480"/>
          </a:xfrm>
          <a:prstGeom prst="triangle">
            <a:avLst>
              <a:gd name="adj" fmla="val 50000"/>
            </a:avLst>
          </a:prstGeom>
          <a:solidFill>
            <a:srgbClr val="ffed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86760" y="1752480"/>
            <a:ext cx="352116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ctualis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esthetic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order, beau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gnitive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comprehension, understand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steem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self-esteem, recognition, stat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cial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(sense of belonging, lo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afety ne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hysiological nee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2438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1240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8862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724280"/>
            <a:ext cx="5333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533412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5791320"/>
            <a:ext cx="693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buying decision behavi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 invol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involv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</a:tr>
              <a:tr h="15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c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br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riety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k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</a:tr>
              <a:tr h="150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w differences between bra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d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sonance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t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ying behav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dc4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295280" y="13716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form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514600" y="251460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alu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733920"/>
            <a:ext cx="2971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oked Se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648320" y="4952880"/>
            <a:ext cx="4267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urchase Deci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 rot="19744800">
            <a:off x="304920" y="129492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9744800">
            <a:off x="1295280" y="24379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19744800">
            <a:off x="2438280" y="358092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9744800">
            <a:off x="3428640" y="480024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6858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atisf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4800600"/>
            <a:ext cx="4343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satisfac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505320" y="2362320"/>
            <a:ext cx="464796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gnitiv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00ff00"/>
                  </a:gs>
                  <a:gs pos="100000">
                    <a:srgbClr val="ff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00ff00"/>
                    </a:gs>
                    <a:gs pos="100000">
                      <a:srgbClr val="ff00ff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ssonan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50000">
                    <a:srgbClr val="00ff00"/>
                  </a:gs>
                  <a:gs pos="100000">
                    <a:srgbClr val="ff00ff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77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6" dur="770" fill="hold"/>
                                        <p:tgtEl>
                                          <p:spTgt spid="1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8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0" dur="77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895480" y="30492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ew Produc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1676520"/>
            <a:ext cx="2209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O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29200" y="1600200"/>
            <a:ext cx="2819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waren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274320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hat and how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105520" y="274320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teres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8098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ooks goo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105520" y="3733920"/>
            <a:ext cx="2666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valu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480060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's t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029200" y="472428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579132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et's bu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105520" y="5791320"/>
            <a:ext cx="24382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da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ividual differences in innovat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79360" y="49467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pter categorisation on the basis of relative time of adoption of inno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-304920" y="1828800"/>
            <a:ext cx="9448920" cy="46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30492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fluences on time span of adap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160020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Relative advant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51460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ati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3505320"/>
            <a:ext cx="3733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plex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4572000"/>
            <a:ext cx="3505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ivisi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5562720"/>
            <a:ext cx="5410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mmunicabilit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Arial"/>
              </a:rPr>
              <a:t>Or it can be an action triggered b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fit and growth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egerial u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Foreign marke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09480" y="1066680"/>
            <a:ext cx="2514600" cy="129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30481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whe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go ab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8769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ide wh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ket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 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1066680"/>
            <a:ext cx="2514600" cy="1295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er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304812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5029200"/>
            <a:ext cx="251460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d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6200" y="1066680"/>
            <a:ext cx="1600200" cy="5257800"/>
          </a:xfrm>
          <a:prstGeom prst="rect">
            <a:avLst/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3319200" y="140436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6200000">
            <a:off x="3319200" y="346176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3319200" y="5366880"/>
            <a:ext cx="600120" cy="53352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5452920" y="140472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5452920" y="346212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452920" y="5367240"/>
            <a:ext cx="600120" cy="533520"/>
          </a:xfrm>
          <a:prstGeom prst="triangle">
            <a:avLst>
              <a:gd name="adj" fmla="val 52380"/>
            </a:avLst>
          </a:prstGeom>
          <a:solidFill>
            <a:srgbClr val="0066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600200" y="236232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1600200" y="434340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7162560" y="2362320"/>
            <a:ext cx="53316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7238880" y="4343400"/>
            <a:ext cx="533520" cy="457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00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737440" y="3205800"/>
            <a:ext cx="388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jor decisions in international 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41560" y="227160"/>
            <a:ext cx="648144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rade Barriers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1524240" y="2209680"/>
            <a:ext cx="2555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A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RCO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F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EM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P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295280" y="2743200"/>
            <a:ext cx="6481800" cy="106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ESTEP</a:t>
            </a:r>
            <a:endParaRPr b="0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Free Coffee Mak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3581280"/>
            <a:ext cx="1905120" cy="2381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photo of snow plow"/>
          <p:cNvPicPr/>
          <p:nvPr/>
        </p:nvPicPr>
        <p:blipFill>
          <a:blip r:embed="rId3"/>
          <a:stretch/>
        </p:blipFill>
        <p:spPr>
          <a:xfrm>
            <a:off x="609480" y="317520"/>
            <a:ext cx="4191120" cy="2968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304920"/>
            <a:ext cx="4343400" cy="759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1066680"/>
            <a:ext cx="2324160" cy="846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Jon-Wood®"/>
          <p:cNvPicPr/>
          <p:nvPr/>
        </p:nvPicPr>
        <p:blipFill>
          <a:blip r:embed="rId6"/>
          <a:stretch/>
        </p:blipFill>
        <p:spPr>
          <a:xfrm>
            <a:off x="685800" y="3657600"/>
            <a:ext cx="17002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2286000"/>
            <a:ext cx="83844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267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22860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352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00"/>
                </a:solidFill>
                <a:latin typeface="Times New Roman"/>
              </a:rPr>
              <a:t>International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2286000"/>
            <a:ext cx="762120" cy="3048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438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Straight  ex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24382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0000"/>
                </a:solidFill>
                <a:latin typeface="Times New Roman"/>
              </a:rPr>
              <a:t>Product adap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2438280"/>
            <a:ext cx="533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67080" y="3886200"/>
            <a:ext cx="327672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90720" y="16002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1" lang="nl-NL" sz="3200" spc="-1" strike="noStrike">
                <a:solidFill>
                  <a:srgbClr val="333399"/>
                </a:solidFill>
                <a:latin typeface="Times New Roman"/>
              </a:rPr>
              <a:t>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2:53:28Z</dcterms:created>
  <dc:creator>HAN</dc:creator>
  <dc:description/>
  <dc:language>en-US</dc:language>
  <cp:lastModifiedBy>christine natalia</cp:lastModifiedBy>
  <dcterms:modified xsi:type="dcterms:W3CDTF">2006-12-26T19:48:06Z</dcterms:modified>
  <cp:revision>12</cp:revision>
  <dc:subject/>
  <dc:title>Dia 1</dc:title>
</cp:coreProperties>
</file>