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1E4-8526-43D1-A0B3-A9F3794F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2DC-CC8E-4855-89C3-91A84F65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DC2-5F94-4DA9-8C50-89E79405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45B-4D70-49A7-84D9-A88E45E8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482-C529-4EB5-86D0-99C30155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192-590B-48D3-B9CF-C918AB10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E5E-CCD0-4B7F-9319-FD82B427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3FB-2D3F-48EC-ABFC-66A7103E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C42-35FE-4CBE-8594-02907EED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6A39-160C-447A-9B0C-6D39B0DA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828-DE02-49B5-80DD-71B250D8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C3B-A809-4896-B57A-0EF645F5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D491-FBD1-40C8-9067-A22608F1E7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is a Produ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nything that can be offered to a market for attention, acquisition, use, or consumption and that might satisfy a want or n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ations of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12920" y="1828800"/>
            <a:ext cx="8318160" cy="4800600"/>
          </a:xfrm>
          <a:prstGeom prst="ellipse">
            <a:avLst/>
          </a:prstGeom>
          <a:solidFill>
            <a:srgbClr val="fafca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78720" y="4229280"/>
            <a:ext cx="206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280" y="4229280"/>
            <a:ext cx="206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95520" y="3032280"/>
            <a:ext cx="4152960" cy="2393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and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016400" y="3663720"/>
            <a:ext cx="839520" cy="265284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3365fb"/>
              </a:gs>
              <a:gs pos="100000">
                <a:srgbClr val="98b1fc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ong Br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309680" y="2755800"/>
            <a:ext cx="1698480" cy="62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371240" y="2149200"/>
            <a:ext cx="722160" cy="265284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a2c1fe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6009120" y="1005480"/>
            <a:ext cx="723960" cy="264924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a2c1fe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ality &amp;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448720" y="986400"/>
            <a:ext cx="722160" cy="265104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a2c1fe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51600" y="2842920"/>
            <a:ext cx="1881000" cy="53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7020000" y="2150640"/>
            <a:ext cx="722160" cy="264960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a2c1fe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72000" y="1841400"/>
            <a:ext cx="0" cy="11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54360" y="5432400"/>
            <a:ext cx="0" cy="11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479240" y="5095800"/>
            <a:ext cx="1663560" cy="72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32440" y="5133960"/>
            <a:ext cx="171468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5964840" y="4666320"/>
            <a:ext cx="723960" cy="264960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3365fb"/>
              </a:gs>
              <a:gs pos="100000">
                <a:srgbClr val="98b1fc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ceive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2402280" y="4685760"/>
            <a:ext cx="723960" cy="264924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3365fb"/>
              </a:gs>
              <a:gs pos="100000">
                <a:srgbClr val="acc0fc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 Awar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313640" y="3582360"/>
            <a:ext cx="851040" cy="265248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3365fb"/>
              </a:gs>
              <a:gs pos="100000">
                <a:srgbClr val="acc0fc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Br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yal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41840" y="3218040"/>
            <a:ext cx="395280" cy="253800"/>
          </a:xfrm>
          <a:prstGeom prst="rightArrow">
            <a:avLst>
              <a:gd name="adj1" fmla="val 50000"/>
              <a:gd name="adj2" fmla="val 7787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065400" y="3195720"/>
            <a:ext cx="395280" cy="253800"/>
          </a:xfrm>
          <a:prstGeom prst="rightArrow">
            <a:avLst>
              <a:gd name="adj1" fmla="val 50000"/>
              <a:gd name="adj2" fmla="val 7787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rot="3000000">
            <a:off x="3777120" y="2824200"/>
            <a:ext cx="379080" cy="264960"/>
          </a:xfrm>
          <a:prstGeom prst="rightArrow">
            <a:avLst>
              <a:gd name="adj1" fmla="val 50000"/>
              <a:gd name="adj2" fmla="val 715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600000">
            <a:off x="4867200" y="2854440"/>
            <a:ext cx="380880" cy="263520"/>
          </a:xfrm>
          <a:prstGeom prst="rightArrow">
            <a:avLst>
              <a:gd name="adj1" fmla="val 50000"/>
              <a:gd name="adj2" fmla="val 7227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68840" y="4857840"/>
            <a:ext cx="395280" cy="252360"/>
          </a:xfrm>
          <a:prstGeom prst="rightArrow">
            <a:avLst>
              <a:gd name="adj1" fmla="val 50000"/>
              <a:gd name="adj2" fmla="val 7832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092400" y="4879800"/>
            <a:ext cx="395280" cy="254160"/>
          </a:xfrm>
          <a:prstGeom prst="rightArrow">
            <a:avLst>
              <a:gd name="adj1" fmla="val 50000"/>
              <a:gd name="adj2" fmla="val 7776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7800000">
            <a:off x="3806280" y="5241600"/>
            <a:ext cx="379440" cy="265320"/>
          </a:xfrm>
          <a:prstGeom prst="rightArrow">
            <a:avLst>
              <a:gd name="adj1" fmla="val 50000"/>
              <a:gd name="adj2" fmla="val 7151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3800000">
            <a:off x="4912920" y="5230440"/>
            <a:ext cx="379080" cy="264960"/>
          </a:xfrm>
          <a:prstGeom prst="rightArrow">
            <a:avLst>
              <a:gd name="adj1" fmla="val 50000"/>
              <a:gd name="adj2" fmla="val 715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Bra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 rot="5400000">
            <a:off x="3605400" y="2946960"/>
            <a:ext cx="1828800" cy="5383080"/>
          </a:xfrm>
          <a:prstGeom prst="cube">
            <a:avLst>
              <a:gd name="adj" fmla="val 11666"/>
            </a:avLst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ran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e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rand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ultib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 B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3519720" y="975240"/>
            <a:ext cx="1828800" cy="5364360"/>
          </a:xfrm>
          <a:prstGeom prst="cube">
            <a:avLst>
              <a:gd name="adj" fmla="val 11666"/>
            </a:avLst>
          </a:prstGeom>
          <a:solidFill>
            <a:srgbClr val="ffe05b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Brand Spon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’s B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vate B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censed B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-br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3871080" y="-670680"/>
            <a:ext cx="1101600" cy="5338800"/>
          </a:xfrm>
          <a:prstGeom prst="cube">
            <a:avLst>
              <a:gd name="adj" fmla="val 11666"/>
            </a:avLst>
          </a:prstGeom>
          <a:solidFill>
            <a:srgbClr val="00c28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Brand Name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jor Branding Deci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1905120"/>
            <a:ext cx="8838360" cy="4419360"/>
            <a:chOff x="0" y="1905120"/>
            <a:chExt cx="8838360" cy="4419360"/>
          </a:xfrm>
        </p:grpSpPr>
        <p:sp>
          <p:nvSpPr>
            <p:cNvPr id="149" name=""/>
            <p:cNvSpPr/>
            <p:nvPr/>
          </p:nvSpPr>
          <p:spPr>
            <a:xfrm rot="5400000">
              <a:off x="2757960" y="2026800"/>
              <a:ext cx="1630440" cy="3808440"/>
            </a:xfrm>
            <a:prstGeom prst="cube">
              <a:avLst>
                <a:gd name="adj" fmla="val 18250"/>
              </a:avLst>
            </a:prstGeom>
            <a:solidFill>
              <a:srgbClr val="ff63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e Exten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non Yogurt Flav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757960" y="3578040"/>
              <a:ext cx="1630080" cy="3808440"/>
            </a:xfrm>
            <a:prstGeom prst="cube">
              <a:avLst>
                <a:gd name="adj" fmla="val 18250"/>
              </a:avLst>
            </a:prstGeom>
            <a:solidFill>
              <a:srgbClr val="ffe05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ultibra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iko Lasalle &amp; Puls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233760" y="2181240"/>
              <a:ext cx="1630440" cy="3499560"/>
            </a:xfrm>
            <a:prstGeom prst="cube">
              <a:avLst>
                <a:gd name="adj" fmla="val 18250"/>
              </a:avLst>
            </a:prstGeom>
            <a:solidFill>
              <a:srgbClr val="ff63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rand Exten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rbie Electron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6258960" y="3745080"/>
              <a:ext cx="1619280" cy="3539160"/>
            </a:xfrm>
            <a:prstGeom prst="cube">
              <a:avLst>
                <a:gd name="adj" fmla="val 18250"/>
              </a:avLst>
            </a:prstGeom>
            <a:solidFill>
              <a:srgbClr val="ffe05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w Bra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ex (by acquisi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-781920" y="4545720"/>
              <a:ext cx="197388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rand 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52360" y="2498760"/>
              <a:ext cx="1285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i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0560" y="2498760"/>
              <a:ext cx="8064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79280" y="1905120"/>
              <a:ext cx="26690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duct Categ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6280" y="3433680"/>
              <a:ext cx="12679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i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4280" y="5108400"/>
              <a:ext cx="8064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Brand Strateg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ig. 8.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ne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brand names extended to new forms, sizes, and flavors of an existing product categ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rand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brand names extended to new or modified product categ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b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rand names introduced in the same product categ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 B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rand names in new product categ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8480" y="27432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as many specific examples as you can find of each of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d licens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brand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extensions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d exten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a single brand that has done all of the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nd describe a familiar brand that has been widely extended.  What are the benefits and dangers for this specific br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33920" y="182880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y of designing and producing the container or wrapper for a produ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ckaging used to just contain and protect the produ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cking now has promotional value and marketers shou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a packaging concep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specific elements of the packag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 together elements to support the positioning and marketing strateg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88620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6934320" y="0"/>
          <a:ext cx="2209680" cy="16606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0"/>
                    <a:ext cx="220968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ed information appearing on or with the pa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several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ntif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t or 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crib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veral things about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mo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oduct through attractive graph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88080" y="1600200"/>
            <a:ext cx="3563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- Suppor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905120"/>
            <a:ext cx="853416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nies should design its support services to profitably meet the needs of target customers and gain competitive advan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Papyrus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Survey customers to assess the value  of current services and to obtain ideas for new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Papyrus"/>
              </a:rPr>
              <a:t>Step 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Assess costs of providing desired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Papyrus"/>
              </a:rPr>
              <a:t>Step 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Develop a package of services to delight customers and yield profits to the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146240" y="2836800"/>
            <a:ext cx="2712960" cy="2067480"/>
            <a:chOff x="1146240" y="2836800"/>
            <a:chExt cx="2712960" cy="2067480"/>
          </a:xfrm>
        </p:grpSpPr>
        <p:sp>
          <p:nvSpPr>
            <p:cNvPr id="175" name=""/>
            <p:cNvSpPr/>
            <p:nvPr/>
          </p:nvSpPr>
          <p:spPr>
            <a:xfrm flipH="1" rot="16200000">
              <a:off x="2237400" y="2542320"/>
              <a:ext cx="352440" cy="9410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676767"/>
                </a:gs>
                <a:gs pos="100000">
                  <a:srgbClr val="848484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1875960" y="2733120"/>
              <a:ext cx="1233720" cy="231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6240" y="3354480"/>
              <a:ext cx="271296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etch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ngthen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beyo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current ran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33520" y="1905120"/>
            <a:ext cx="8001000" cy="903240"/>
          </a:xfrm>
          <a:prstGeom prst="cube">
            <a:avLst>
              <a:gd name="adj" fmla="val 10837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Lin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Items in th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733920" y="4572000"/>
            <a:ext cx="2057400" cy="2057400"/>
            <a:chOff x="3733920" y="4572000"/>
            <a:chExt cx="2057400" cy="2057400"/>
          </a:xfrm>
        </p:grpSpPr>
        <p:sp>
          <p:nvSpPr>
            <p:cNvPr id="180" name=""/>
            <p:cNvSpPr/>
            <p:nvPr/>
          </p:nvSpPr>
          <p:spPr>
            <a:xfrm>
              <a:off x="3733920" y="4572000"/>
              <a:ext cx="2057400" cy="205740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86560" y="533376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wo-W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371600" y="4800600"/>
            <a:ext cx="2309760" cy="861840"/>
            <a:chOff x="1371600" y="4800600"/>
            <a:chExt cx="2309760" cy="861840"/>
          </a:xfrm>
        </p:grpSpPr>
        <p:sp>
          <p:nvSpPr>
            <p:cNvPr id="183" name=""/>
            <p:cNvSpPr/>
            <p:nvPr/>
          </p:nvSpPr>
          <p:spPr>
            <a:xfrm rot="5400000">
              <a:off x="2095560" y="4076640"/>
              <a:ext cx="861840" cy="2309760"/>
            </a:xfrm>
            <a:custGeom>
              <a:avLst/>
              <a:gdLst>
                <a:gd name="textAreaLeft" fmla="*/ 0 w 861840"/>
                <a:gd name="textAreaRight" fmla="*/ 862200 w 861840"/>
                <a:gd name="textAreaTop" fmla="*/ 0 h 2309760"/>
                <a:gd name="textAreaBottom" fmla="*/ 2309760 h 23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52480" y="4803840"/>
              <a:ext cx="18288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ownw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371600" y="5715000"/>
            <a:ext cx="2309760" cy="930240"/>
            <a:chOff x="1371600" y="5715000"/>
            <a:chExt cx="2309760" cy="930240"/>
          </a:xfrm>
        </p:grpSpPr>
        <p:sp>
          <p:nvSpPr>
            <p:cNvPr id="186" name=""/>
            <p:cNvSpPr/>
            <p:nvPr/>
          </p:nvSpPr>
          <p:spPr>
            <a:xfrm rot="16200000">
              <a:off x="2061360" y="5025240"/>
              <a:ext cx="930240" cy="230976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2309760"/>
                <a:gd name="textAreaBottom" fmla="*/ 2309760 h 23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46360" y="6095880"/>
              <a:ext cx="14954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pw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797440" y="2867040"/>
            <a:ext cx="2314800" cy="2081520"/>
            <a:chOff x="5797440" y="2867040"/>
            <a:chExt cx="2314800" cy="2081520"/>
          </a:xfrm>
        </p:grpSpPr>
        <p:sp>
          <p:nvSpPr>
            <p:cNvPr id="189" name=""/>
            <p:cNvSpPr/>
            <p:nvPr/>
          </p:nvSpPr>
          <p:spPr>
            <a:xfrm flipH="1" rot="16200000">
              <a:off x="6644160" y="2572560"/>
              <a:ext cx="351000" cy="93960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676767"/>
                </a:gs>
                <a:gs pos="100000">
                  <a:srgbClr val="848484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6312600" y="2784960"/>
              <a:ext cx="1279440" cy="230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7280" y="3398760"/>
              <a:ext cx="224496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l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ngthen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within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rrent ran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Line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 rot="5400000">
            <a:off x="2367360" y="1216440"/>
            <a:ext cx="1320840" cy="269748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fecfcf"/>
              </a:gs>
              <a:gs pos="50000">
                <a:srgbClr val="ff6363"/>
              </a:gs>
              <a:gs pos="100000">
                <a:srgbClr val="fecfc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880" rIns="83880" tIns="41400" bIns="41400" anchor="t" anchorCtr="1" vert="eaVert" rot="10800000">
            <a:noAutofit/>
          </a:bodyPr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umber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t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2386440" y="2821320"/>
            <a:ext cx="1282680" cy="269748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c0cffe"/>
              </a:gs>
              <a:gs pos="50000">
                <a:srgbClr val="3366ff"/>
              </a:gs>
              <a:gs pos="100000">
                <a:srgbClr val="c0cf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880" rIns="83880" tIns="41400" bIns="41400" anchor="t" anchorCtr="1" vert="eaVert" rot="10800000">
            <a:noAutofit/>
          </a:bodyPr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otal number of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oduct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2388960" y="4419720"/>
            <a:ext cx="1268280" cy="269388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fef1bc"/>
              </a:gs>
              <a:gs pos="50000">
                <a:srgbClr val="ffe05b"/>
              </a:gs>
              <a:gs pos="100000">
                <a:srgbClr val="fef1b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880" rIns="83880" tIns="41400" bIns="41400" anchor="t" anchorCtr="1" vert="eaVert" rot="10800000">
            <a:noAutofit/>
          </a:bodyPr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umber of versions of each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99120" y="2459160"/>
            <a:ext cx="1601640" cy="3398760"/>
          </a:xfrm>
          <a:custGeom>
            <a:avLst/>
            <a:gdLst/>
            <a:ahLst/>
            <a:rect l="l" t="t" r="r" b="b"/>
            <a:pathLst>
              <a:path w="1084" h="2579">
                <a:moveTo>
                  <a:pt x="0" y="0"/>
                </a:moveTo>
                <a:lnTo>
                  <a:pt x="580" y="0"/>
                </a:lnTo>
                <a:lnTo>
                  <a:pt x="580" y="1247"/>
                </a:lnTo>
                <a:lnTo>
                  <a:pt x="878" y="1247"/>
                </a:lnTo>
                <a:lnTo>
                  <a:pt x="878" y="1172"/>
                </a:lnTo>
                <a:lnTo>
                  <a:pt x="1083" y="1323"/>
                </a:lnTo>
                <a:lnTo>
                  <a:pt x="878" y="1474"/>
                </a:lnTo>
                <a:lnTo>
                  <a:pt x="878" y="1399"/>
                </a:lnTo>
                <a:lnTo>
                  <a:pt x="580" y="1399"/>
                </a:lnTo>
                <a:lnTo>
                  <a:pt x="580" y="2578"/>
                </a:lnTo>
                <a:lnTo>
                  <a:pt x="9" y="2578"/>
                </a:lnTo>
                <a:lnTo>
                  <a:pt x="9" y="2427"/>
                </a:lnTo>
                <a:lnTo>
                  <a:pt x="435" y="2427"/>
                </a:lnTo>
                <a:lnTo>
                  <a:pt x="435" y="1399"/>
                </a:lnTo>
                <a:lnTo>
                  <a:pt x="9" y="1399"/>
                </a:lnTo>
                <a:lnTo>
                  <a:pt x="9" y="1247"/>
                </a:lnTo>
                <a:lnTo>
                  <a:pt x="426" y="1247"/>
                </a:lnTo>
                <a:lnTo>
                  <a:pt x="426" y="151"/>
                </a:lnTo>
                <a:lnTo>
                  <a:pt x="0" y="15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6379560" y="2950920"/>
            <a:ext cx="1828800" cy="278460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bbe0e3"/>
              </a:gs>
              <a:gs pos="100000">
                <a:srgbClr val="d5ebe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ix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produ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 &amp; i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04920" y="2285640"/>
            <a:ext cx="955440" cy="3613320"/>
            <a:chOff x="304920" y="2285640"/>
            <a:chExt cx="955440" cy="3613320"/>
          </a:xfrm>
        </p:grpSpPr>
        <p:sp>
          <p:nvSpPr>
            <p:cNvPr id="199" name=""/>
            <p:cNvSpPr/>
            <p:nvPr/>
          </p:nvSpPr>
          <p:spPr>
            <a:xfrm rot="16200000">
              <a:off x="-78480" y="2671920"/>
              <a:ext cx="1725480" cy="952560"/>
            </a:xfrm>
            <a:prstGeom prst="rightArrow">
              <a:avLst>
                <a:gd name="adj1" fmla="val 50000"/>
                <a:gd name="adj2" fmla="val 3438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7edad1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rot="16200000">
              <a:off x="-179640" y="4466520"/>
              <a:ext cx="1917360" cy="947520"/>
            </a:xfrm>
            <a:prstGeom prst="rightArrow">
              <a:avLst>
                <a:gd name="adj1" fmla="val 50000"/>
                <a:gd name="adj2" fmla="val 38410"/>
              </a:avLst>
            </a:prstGeom>
            <a:gradFill rotWithShape="0">
              <a:gsLst>
                <a:gs pos="0">
                  <a:srgbClr val="7edad1"/>
                </a:gs>
                <a:gs pos="100000">
                  <a:srgbClr val="00b7a5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-370800" y="3687120"/>
              <a:ext cx="24289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sisten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Mix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a Serv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form of product that consist of activities, benefits, or satisfactions offered for sale that are essentially intangible and do not result in the ownership of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x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Repai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rot="5400000">
            <a:off x="2054520" y="738720"/>
            <a:ext cx="738000" cy="3521160"/>
          </a:xfrm>
          <a:prstGeom prst="cube">
            <a:avLst>
              <a:gd name="adj" fmla="val 11666"/>
            </a:avLst>
          </a:prstGeom>
          <a:solidFill>
            <a:srgbClr val="ff6363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ang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2054520" y="1781640"/>
            <a:ext cx="736560" cy="3551400"/>
          </a:xfrm>
          <a:prstGeom prst="cube">
            <a:avLst>
              <a:gd name="adj" fmla="val 11666"/>
            </a:avLst>
          </a:prstGeom>
          <a:solidFill>
            <a:srgbClr val="ff6363"/>
          </a:solidFill>
          <a:ln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epar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2068200" y="2790360"/>
            <a:ext cx="717480" cy="3597480"/>
          </a:xfrm>
          <a:prstGeom prst="cube">
            <a:avLst>
              <a:gd name="adj" fmla="val 11666"/>
            </a:avLst>
          </a:prstGeom>
          <a:solidFill>
            <a:srgbClr val="ff6363"/>
          </a:solidFill>
          <a:ln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2085840" y="3914640"/>
            <a:ext cx="717840" cy="3562560"/>
          </a:xfrm>
          <a:prstGeom prst="cube">
            <a:avLst>
              <a:gd name="adj" fmla="val 11666"/>
            </a:avLst>
          </a:prstGeom>
          <a:solidFill>
            <a:srgbClr val="ff6363"/>
          </a:solidFill>
          <a:ln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sh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84520" y="1905120"/>
            <a:ext cx="4292640" cy="434340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50000">
                <a:srgbClr val="969696"/>
              </a:gs>
              <a:gs pos="100000">
                <a:srgbClr val="f3f3f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21000" y="2165400"/>
            <a:ext cx="330480" cy="5302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80808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81400" y="3297240"/>
            <a:ext cx="331920" cy="5284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62626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79960" y="4346640"/>
            <a:ext cx="331560" cy="52704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62626"/>
              </a:gs>
              <a:gs pos="50000">
                <a:srgbClr val="80808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79960" y="5448240"/>
            <a:ext cx="331560" cy="52704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62626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78200" y="2079720"/>
            <a:ext cx="4105440" cy="46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’t be seen, tasted, felt, heard, or smelled before purc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’t be separated from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 depends on who provides them and when, where and h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’t be stored for later sale or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and Characteristic of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3716280"/>
            <a:ext cx="3016080" cy="1744560"/>
          </a:xfrm>
          <a:prstGeom prst="ellipse">
            <a:avLst/>
          </a:prstGeom>
          <a:gradFill rotWithShape="0">
            <a:gsLst>
              <a:gs pos="0">
                <a:srgbClr val="7ecbcb"/>
              </a:gs>
              <a:gs pos="100000">
                <a:srgbClr val="0099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6320" rIns="7632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tisfied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y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4878360"/>
            <a:ext cx="3016080" cy="1638360"/>
          </a:xfrm>
          <a:prstGeom prst="ellipse">
            <a:avLst/>
          </a:prstGeom>
          <a:gradFill rotWithShape="0">
            <a:gsLst>
              <a:gs pos="0">
                <a:srgbClr val="9898cb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6320" rIns="7632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eater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825560"/>
            <a:ext cx="2827440" cy="14479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6320" rIns="76320" tIns="39600" bIns="39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ealth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vice Profi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Grow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60640"/>
            <a:ext cx="2630520" cy="1389240"/>
          </a:xfrm>
          <a:prstGeom prst="ellipse">
            <a:avLst/>
          </a:prstGeom>
          <a:gradFill rotWithShape="0">
            <a:gsLst>
              <a:gs pos="0">
                <a:srgbClr val="65c1c1"/>
              </a:gs>
              <a:gs pos="100000">
                <a:srgbClr val="0099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6320" rIns="76320" tIns="39600" bIns="39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tisfied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tive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1752480"/>
            <a:ext cx="2678040" cy="1598760"/>
          </a:xfrm>
          <a:prstGeom prst="ellipse">
            <a:avLst/>
          </a:prstGeom>
          <a:gradFill rotWithShape="0">
            <a:gsLst>
              <a:gs pos="0">
                <a:srgbClr val="bfbfbf"/>
              </a:gs>
              <a:gs pos="100000">
                <a:srgbClr val="808080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6320" rIns="7632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vice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22400" y="2606760"/>
            <a:ext cx="1530360" cy="920520"/>
          </a:xfrm>
          <a:custGeom>
            <a:avLst/>
            <a:gdLst/>
            <a:ahLst/>
            <a:rect l="l" t="t" r="r" b="b"/>
            <a:pathLst>
              <a:path w="964" h="520">
                <a:moveTo>
                  <a:pt x="0" y="411"/>
                </a:moveTo>
                <a:lnTo>
                  <a:pt x="10" y="401"/>
                </a:lnTo>
                <a:lnTo>
                  <a:pt x="19" y="392"/>
                </a:lnTo>
                <a:lnTo>
                  <a:pt x="27" y="383"/>
                </a:lnTo>
                <a:lnTo>
                  <a:pt x="36" y="374"/>
                </a:lnTo>
                <a:lnTo>
                  <a:pt x="46" y="365"/>
                </a:lnTo>
                <a:lnTo>
                  <a:pt x="57" y="355"/>
                </a:lnTo>
                <a:lnTo>
                  <a:pt x="67" y="346"/>
                </a:lnTo>
                <a:lnTo>
                  <a:pt x="77" y="337"/>
                </a:lnTo>
                <a:lnTo>
                  <a:pt x="90" y="327"/>
                </a:lnTo>
                <a:lnTo>
                  <a:pt x="105" y="315"/>
                </a:lnTo>
                <a:lnTo>
                  <a:pt x="116" y="306"/>
                </a:lnTo>
                <a:lnTo>
                  <a:pt x="130" y="298"/>
                </a:lnTo>
                <a:lnTo>
                  <a:pt x="144" y="288"/>
                </a:lnTo>
                <a:lnTo>
                  <a:pt x="159" y="277"/>
                </a:lnTo>
                <a:lnTo>
                  <a:pt x="173" y="268"/>
                </a:lnTo>
                <a:lnTo>
                  <a:pt x="189" y="258"/>
                </a:lnTo>
                <a:lnTo>
                  <a:pt x="204" y="250"/>
                </a:lnTo>
                <a:lnTo>
                  <a:pt x="223" y="238"/>
                </a:lnTo>
                <a:lnTo>
                  <a:pt x="239" y="229"/>
                </a:lnTo>
                <a:lnTo>
                  <a:pt x="255" y="221"/>
                </a:lnTo>
                <a:lnTo>
                  <a:pt x="274" y="212"/>
                </a:lnTo>
                <a:lnTo>
                  <a:pt x="287" y="205"/>
                </a:lnTo>
                <a:lnTo>
                  <a:pt x="304" y="197"/>
                </a:lnTo>
                <a:lnTo>
                  <a:pt x="321" y="189"/>
                </a:lnTo>
                <a:lnTo>
                  <a:pt x="343" y="180"/>
                </a:lnTo>
                <a:lnTo>
                  <a:pt x="360" y="173"/>
                </a:lnTo>
                <a:lnTo>
                  <a:pt x="379" y="164"/>
                </a:lnTo>
                <a:lnTo>
                  <a:pt x="403" y="156"/>
                </a:lnTo>
                <a:lnTo>
                  <a:pt x="425" y="147"/>
                </a:lnTo>
                <a:lnTo>
                  <a:pt x="449" y="138"/>
                </a:lnTo>
                <a:lnTo>
                  <a:pt x="472" y="130"/>
                </a:lnTo>
                <a:lnTo>
                  <a:pt x="497" y="123"/>
                </a:lnTo>
                <a:lnTo>
                  <a:pt x="523" y="115"/>
                </a:lnTo>
                <a:lnTo>
                  <a:pt x="545" y="110"/>
                </a:lnTo>
                <a:lnTo>
                  <a:pt x="566" y="103"/>
                </a:lnTo>
                <a:lnTo>
                  <a:pt x="591" y="98"/>
                </a:lnTo>
                <a:lnTo>
                  <a:pt x="608" y="94"/>
                </a:lnTo>
                <a:lnTo>
                  <a:pt x="534" y="0"/>
                </a:lnTo>
                <a:lnTo>
                  <a:pt x="963" y="133"/>
                </a:lnTo>
                <a:lnTo>
                  <a:pt x="851" y="408"/>
                </a:lnTo>
                <a:lnTo>
                  <a:pt x="781" y="327"/>
                </a:lnTo>
                <a:lnTo>
                  <a:pt x="753" y="334"/>
                </a:lnTo>
                <a:lnTo>
                  <a:pt x="726" y="342"/>
                </a:lnTo>
                <a:lnTo>
                  <a:pt x="696" y="352"/>
                </a:lnTo>
                <a:lnTo>
                  <a:pt x="664" y="363"/>
                </a:lnTo>
                <a:lnTo>
                  <a:pt x="639" y="373"/>
                </a:lnTo>
                <a:lnTo>
                  <a:pt x="614" y="385"/>
                </a:lnTo>
                <a:lnTo>
                  <a:pt x="590" y="395"/>
                </a:lnTo>
                <a:lnTo>
                  <a:pt x="569" y="407"/>
                </a:lnTo>
                <a:lnTo>
                  <a:pt x="549" y="419"/>
                </a:lnTo>
                <a:lnTo>
                  <a:pt x="527" y="432"/>
                </a:lnTo>
                <a:lnTo>
                  <a:pt x="508" y="444"/>
                </a:lnTo>
                <a:lnTo>
                  <a:pt x="490" y="457"/>
                </a:lnTo>
                <a:lnTo>
                  <a:pt x="473" y="468"/>
                </a:lnTo>
                <a:lnTo>
                  <a:pt x="456" y="483"/>
                </a:lnTo>
                <a:lnTo>
                  <a:pt x="440" y="497"/>
                </a:lnTo>
                <a:lnTo>
                  <a:pt x="432" y="508"/>
                </a:lnTo>
                <a:lnTo>
                  <a:pt x="420" y="519"/>
                </a:lnTo>
                <a:lnTo>
                  <a:pt x="0" y="411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43320" y="3257640"/>
            <a:ext cx="1349280" cy="1020600"/>
          </a:xfrm>
          <a:custGeom>
            <a:avLst/>
            <a:gdLst/>
            <a:ahLst/>
            <a:rect l="l" t="t" r="r" b="b"/>
            <a:pathLst>
              <a:path w="850" h="577">
                <a:moveTo>
                  <a:pt x="849" y="239"/>
                </a:moveTo>
                <a:lnTo>
                  <a:pt x="632" y="191"/>
                </a:lnTo>
                <a:lnTo>
                  <a:pt x="624" y="202"/>
                </a:lnTo>
                <a:lnTo>
                  <a:pt x="618" y="212"/>
                </a:lnTo>
                <a:lnTo>
                  <a:pt x="612" y="224"/>
                </a:lnTo>
                <a:lnTo>
                  <a:pt x="607" y="236"/>
                </a:lnTo>
                <a:lnTo>
                  <a:pt x="601" y="251"/>
                </a:lnTo>
                <a:lnTo>
                  <a:pt x="597" y="264"/>
                </a:lnTo>
                <a:lnTo>
                  <a:pt x="594" y="278"/>
                </a:lnTo>
                <a:lnTo>
                  <a:pt x="591" y="293"/>
                </a:lnTo>
                <a:lnTo>
                  <a:pt x="589" y="309"/>
                </a:lnTo>
                <a:lnTo>
                  <a:pt x="589" y="338"/>
                </a:lnTo>
                <a:lnTo>
                  <a:pt x="590" y="352"/>
                </a:lnTo>
                <a:lnTo>
                  <a:pt x="591" y="366"/>
                </a:lnTo>
                <a:lnTo>
                  <a:pt x="595" y="380"/>
                </a:lnTo>
                <a:lnTo>
                  <a:pt x="600" y="394"/>
                </a:lnTo>
                <a:lnTo>
                  <a:pt x="605" y="408"/>
                </a:lnTo>
                <a:lnTo>
                  <a:pt x="611" y="424"/>
                </a:lnTo>
                <a:lnTo>
                  <a:pt x="620" y="438"/>
                </a:lnTo>
                <a:lnTo>
                  <a:pt x="215" y="576"/>
                </a:lnTo>
                <a:lnTo>
                  <a:pt x="205" y="562"/>
                </a:lnTo>
                <a:lnTo>
                  <a:pt x="197" y="550"/>
                </a:lnTo>
                <a:lnTo>
                  <a:pt x="189" y="539"/>
                </a:lnTo>
                <a:lnTo>
                  <a:pt x="182" y="526"/>
                </a:lnTo>
                <a:lnTo>
                  <a:pt x="176" y="516"/>
                </a:lnTo>
                <a:lnTo>
                  <a:pt x="168" y="503"/>
                </a:lnTo>
                <a:lnTo>
                  <a:pt x="163" y="492"/>
                </a:lnTo>
                <a:lnTo>
                  <a:pt x="158" y="482"/>
                </a:lnTo>
                <a:lnTo>
                  <a:pt x="154" y="470"/>
                </a:lnTo>
                <a:lnTo>
                  <a:pt x="147" y="457"/>
                </a:lnTo>
                <a:lnTo>
                  <a:pt x="143" y="443"/>
                </a:lnTo>
                <a:lnTo>
                  <a:pt x="139" y="429"/>
                </a:lnTo>
                <a:lnTo>
                  <a:pt x="133" y="417"/>
                </a:lnTo>
                <a:lnTo>
                  <a:pt x="131" y="402"/>
                </a:lnTo>
                <a:lnTo>
                  <a:pt x="129" y="388"/>
                </a:lnTo>
                <a:lnTo>
                  <a:pt x="126" y="372"/>
                </a:lnTo>
                <a:lnTo>
                  <a:pt x="124" y="357"/>
                </a:lnTo>
                <a:lnTo>
                  <a:pt x="124" y="342"/>
                </a:lnTo>
                <a:lnTo>
                  <a:pt x="124" y="326"/>
                </a:lnTo>
                <a:lnTo>
                  <a:pt x="124" y="306"/>
                </a:lnTo>
                <a:lnTo>
                  <a:pt x="125" y="288"/>
                </a:lnTo>
                <a:lnTo>
                  <a:pt x="126" y="276"/>
                </a:lnTo>
                <a:lnTo>
                  <a:pt x="129" y="261"/>
                </a:lnTo>
                <a:lnTo>
                  <a:pt x="131" y="247"/>
                </a:lnTo>
                <a:lnTo>
                  <a:pt x="135" y="230"/>
                </a:lnTo>
                <a:lnTo>
                  <a:pt x="140" y="216"/>
                </a:lnTo>
                <a:lnTo>
                  <a:pt x="144" y="202"/>
                </a:lnTo>
                <a:lnTo>
                  <a:pt x="151" y="185"/>
                </a:lnTo>
                <a:lnTo>
                  <a:pt x="157" y="172"/>
                </a:lnTo>
                <a:lnTo>
                  <a:pt x="163" y="156"/>
                </a:lnTo>
                <a:lnTo>
                  <a:pt x="171" y="142"/>
                </a:lnTo>
                <a:lnTo>
                  <a:pt x="179" y="128"/>
                </a:lnTo>
                <a:lnTo>
                  <a:pt x="188" y="113"/>
                </a:lnTo>
                <a:lnTo>
                  <a:pt x="201" y="95"/>
                </a:lnTo>
                <a:lnTo>
                  <a:pt x="0" y="50"/>
                </a:lnTo>
                <a:lnTo>
                  <a:pt x="528" y="0"/>
                </a:lnTo>
                <a:lnTo>
                  <a:pt x="849" y="239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5240" y="3990960"/>
            <a:ext cx="1530360" cy="876240"/>
          </a:xfrm>
          <a:custGeom>
            <a:avLst/>
            <a:gdLst/>
            <a:ahLst/>
            <a:rect l="l" t="t" r="r" b="b"/>
            <a:pathLst>
              <a:path w="964" h="495">
                <a:moveTo>
                  <a:pt x="765" y="494"/>
                </a:moveTo>
                <a:lnTo>
                  <a:pt x="745" y="489"/>
                </a:lnTo>
                <a:lnTo>
                  <a:pt x="729" y="484"/>
                </a:lnTo>
                <a:lnTo>
                  <a:pt x="712" y="479"/>
                </a:lnTo>
                <a:lnTo>
                  <a:pt x="696" y="475"/>
                </a:lnTo>
                <a:lnTo>
                  <a:pt x="679" y="469"/>
                </a:lnTo>
                <a:lnTo>
                  <a:pt x="661" y="464"/>
                </a:lnTo>
                <a:lnTo>
                  <a:pt x="645" y="458"/>
                </a:lnTo>
                <a:lnTo>
                  <a:pt x="628" y="453"/>
                </a:lnTo>
                <a:lnTo>
                  <a:pt x="608" y="446"/>
                </a:lnTo>
                <a:lnTo>
                  <a:pt x="587" y="438"/>
                </a:lnTo>
                <a:lnTo>
                  <a:pt x="571" y="432"/>
                </a:lnTo>
                <a:lnTo>
                  <a:pt x="555" y="424"/>
                </a:lnTo>
                <a:lnTo>
                  <a:pt x="536" y="417"/>
                </a:lnTo>
                <a:lnTo>
                  <a:pt x="517" y="409"/>
                </a:lnTo>
                <a:lnTo>
                  <a:pt x="499" y="401"/>
                </a:lnTo>
                <a:lnTo>
                  <a:pt x="481" y="392"/>
                </a:lnTo>
                <a:lnTo>
                  <a:pt x="466" y="385"/>
                </a:lnTo>
                <a:lnTo>
                  <a:pt x="445" y="374"/>
                </a:lnTo>
                <a:lnTo>
                  <a:pt x="428" y="365"/>
                </a:lnTo>
                <a:lnTo>
                  <a:pt x="413" y="357"/>
                </a:lnTo>
                <a:lnTo>
                  <a:pt x="395" y="347"/>
                </a:lnTo>
                <a:lnTo>
                  <a:pt x="383" y="339"/>
                </a:lnTo>
                <a:lnTo>
                  <a:pt x="368" y="330"/>
                </a:lnTo>
                <a:lnTo>
                  <a:pt x="353" y="321"/>
                </a:lnTo>
                <a:lnTo>
                  <a:pt x="337" y="309"/>
                </a:lnTo>
                <a:lnTo>
                  <a:pt x="323" y="300"/>
                </a:lnTo>
                <a:lnTo>
                  <a:pt x="308" y="289"/>
                </a:lnTo>
                <a:lnTo>
                  <a:pt x="290" y="277"/>
                </a:lnTo>
                <a:lnTo>
                  <a:pt x="276" y="265"/>
                </a:lnTo>
                <a:lnTo>
                  <a:pt x="259" y="252"/>
                </a:lnTo>
                <a:lnTo>
                  <a:pt x="244" y="239"/>
                </a:lnTo>
                <a:lnTo>
                  <a:pt x="231" y="226"/>
                </a:lnTo>
                <a:lnTo>
                  <a:pt x="216" y="212"/>
                </a:lnTo>
                <a:lnTo>
                  <a:pt x="206" y="200"/>
                </a:lnTo>
                <a:lnTo>
                  <a:pt x="194" y="189"/>
                </a:lnTo>
                <a:lnTo>
                  <a:pt x="184" y="176"/>
                </a:lnTo>
                <a:lnTo>
                  <a:pt x="0" y="223"/>
                </a:lnTo>
                <a:lnTo>
                  <a:pt x="302" y="0"/>
                </a:lnTo>
                <a:lnTo>
                  <a:pt x="815" y="24"/>
                </a:lnTo>
                <a:lnTo>
                  <a:pt x="608" y="74"/>
                </a:lnTo>
                <a:lnTo>
                  <a:pt x="622" y="88"/>
                </a:lnTo>
                <a:lnTo>
                  <a:pt x="637" y="103"/>
                </a:lnTo>
                <a:lnTo>
                  <a:pt x="655" y="119"/>
                </a:lnTo>
                <a:lnTo>
                  <a:pt x="676" y="136"/>
                </a:lnTo>
                <a:lnTo>
                  <a:pt x="694" y="149"/>
                </a:lnTo>
                <a:lnTo>
                  <a:pt x="716" y="163"/>
                </a:lnTo>
                <a:lnTo>
                  <a:pt x="736" y="176"/>
                </a:lnTo>
                <a:lnTo>
                  <a:pt x="757" y="187"/>
                </a:lnTo>
                <a:lnTo>
                  <a:pt x="779" y="198"/>
                </a:lnTo>
                <a:lnTo>
                  <a:pt x="802" y="210"/>
                </a:lnTo>
                <a:lnTo>
                  <a:pt x="826" y="220"/>
                </a:lnTo>
                <a:lnTo>
                  <a:pt x="848" y="230"/>
                </a:lnTo>
                <a:lnTo>
                  <a:pt x="870" y="239"/>
                </a:lnTo>
                <a:lnTo>
                  <a:pt x="898" y="248"/>
                </a:lnTo>
                <a:lnTo>
                  <a:pt x="925" y="257"/>
                </a:lnTo>
                <a:lnTo>
                  <a:pt x="945" y="261"/>
                </a:lnTo>
                <a:lnTo>
                  <a:pt x="963" y="267"/>
                </a:lnTo>
                <a:lnTo>
                  <a:pt x="765" y="494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56160" y="4299120"/>
            <a:ext cx="1665000" cy="798480"/>
          </a:xfrm>
          <a:custGeom>
            <a:avLst/>
            <a:gdLst/>
            <a:ahLst/>
            <a:rect l="l" t="t" r="r" b="b"/>
            <a:pathLst>
              <a:path w="1049" h="451">
                <a:moveTo>
                  <a:pt x="420" y="0"/>
                </a:moveTo>
                <a:lnTo>
                  <a:pt x="332" y="116"/>
                </a:lnTo>
                <a:lnTo>
                  <a:pt x="353" y="121"/>
                </a:lnTo>
                <a:lnTo>
                  <a:pt x="372" y="124"/>
                </a:lnTo>
                <a:lnTo>
                  <a:pt x="393" y="127"/>
                </a:lnTo>
                <a:lnTo>
                  <a:pt x="416" y="130"/>
                </a:lnTo>
                <a:lnTo>
                  <a:pt x="444" y="133"/>
                </a:lnTo>
                <a:lnTo>
                  <a:pt x="468" y="135"/>
                </a:lnTo>
                <a:lnTo>
                  <a:pt x="493" y="137"/>
                </a:lnTo>
                <a:lnTo>
                  <a:pt x="522" y="139"/>
                </a:lnTo>
                <a:lnTo>
                  <a:pt x="551" y="140"/>
                </a:lnTo>
                <a:lnTo>
                  <a:pt x="605" y="140"/>
                </a:lnTo>
                <a:lnTo>
                  <a:pt x="633" y="140"/>
                </a:lnTo>
                <a:lnTo>
                  <a:pt x="658" y="138"/>
                </a:lnTo>
                <a:lnTo>
                  <a:pt x="684" y="136"/>
                </a:lnTo>
                <a:lnTo>
                  <a:pt x="712" y="134"/>
                </a:lnTo>
                <a:lnTo>
                  <a:pt x="734" y="132"/>
                </a:lnTo>
                <a:lnTo>
                  <a:pt x="765" y="128"/>
                </a:lnTo>
                <a:lnTo>
                  <a:pt x="793" y="123"/>
                </a:lnTo>
                <a:lnTo>
                  <a:pt x="1048" y="340"/>
                </a:lnTo>
                <a:lnTo>
                  <a:pt x="1024" y="346"/>
                </a:lnTo>
                <a:lnTo>
                  <a:pt x="1000" y="350"/>
                </a:lnTo>
                <a:lnTo>
                  <a:pt x="979" y="354"/>
                </a:lnTo>
                <a:lnTo>
                  <a:pt x="956" y="359"/>
                </a:lnTo>
                <a:lnTo>
                  <a:pt x="935" y="362"/>
                </a:lnTo>
                <a:lnTo>
                  <a:pt x="913" y="366"/>
                </a:lnTo>
                <a:lnTo>
                  <a:pt x="894" y="368"/>
                </a:lnTo>
                <a:lnTo>
                  <a:pt x="873" y="371"/>
                </a:lnTo>
                <a:lnTo>
                  <a:pt x="851" y="374"/>
                </a:lnTo>
                <a:lnTo>
                  <a:pt x="827" y="377"/>
                </a:lnTo>
                <a:lnTo>
                  <a:pt x="801" y="379"/>
                </a:lnTo>
                <a:lnTo>
                  <a:pt x="777" y="382"/>
                </a:lnTo>
                <a:lnTo>
                  <a:pt x="752" y="384"/>
                </a:lnTo>
                <a:lnTo>
                  <a:pt x="726" y="386"/>
                </a:lnTo>
                <a:lnTo>
                  <a:pt x="699" y="388"/>
                </a:lnTo>
                <a:lnTo>
                  <a:pt x="669" y="388"/>
                </a:lnTo>
                <a:lnTo>
                  <a:pt x="641" y="389"/>
                </a:lnTo>
                <a:lnTo>
                  <a:pt x="613" y="389"/>
                </a:lnTo>
                <a:lnTo>
                  <a:pt x="584" y="389"/>
                </a:lnTo>
                <a:lnTo>
                  <a:pt x="547" y="389"/>
                </a:lnTo>
                <a:lnTo>
                  <a:pt x="513" y="389"/>
                </a:lnTo>
                <a:lnTo>
                  <a:pt x="490" y="388"/>
                </a:lnTo>
                <a:lnTo>
                  <a:pt x="463" y="388"/>
                </a:lnTo>
                <a:lnTo>
                  <a:pt x="436" y="386"/>
                </a:lnTo>
                <a:lnTo>
                  <a:pt x="405" y="384"/>
                </a:lnTo>
                <a:lnTo>
                  <a:pt x="379" y="381"/>
                </a:lnTo>
                <a:lnTo>
                  <a:pt x="353" y="379"/>
                </a:lnTo>
                <a:lnTo>
                  <a:pt x="321" y="375"/>
                </a:lnTo>
                <a:lnTo>
                  <a:pt x="297" y="372"/>
                </a:lnTo>
                <a:lnTo>
                  <a:pt x="268" y="368"/>
                </a:lnTo>
                <a:lnTo>
                  <a:pt x="242" y="364"/>
                </a:lnTo>
                <a:lnTo>
                  <a:pt x="215" y="360"/>
                </a:lnTo>
                <a:lnTo>
                  <a:pt x="189" y="355"/>
                </a:lnTo>
                <a:lnTo>
                  <a:pt x="154" y="348"/>
                </a:lnTo>
                <a:lnTo>
                  <a:pt x="75" y="450"/>
                </a:lnTo>
                <a:lnTo>
                  <a:pt x="0" y="162"/>
                </a:lnTo>
                <a:lnTo>
                  <a:pt x="420" y="0"/>
                </a:lnTo>
              </a:path>
            </a:pathLst>
          </a:custGeom>
          <a:solidFill>
            <a:srgbClr val="00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4138560"/>
            <a:ext cx="1443240" cy="873000"/>
          </a:xfrm>
          <a:custGeom>
            <a:avLst/>
            <a:gdLst/>
            <a:ahLst/>
            <a:rect l="l" t="t" r="r" b="b"/>
            <a:pathLst>
              <a:path w="909" h="493">
                <a:moveTo>
                  <a:pt x="908" y="108"/>
                </a:moveTo>
                <a:lnTo>
                  <a:pt x="897" y="118"/>
                </a:lnTo>
                <a:lnTo>
                  <a:pt x="890" y="127"/>
                </a:lnTo>
                <a:lnTo>
                  <a:pt x="880" y="136"/>
                </a:lnTo>
                <a:lnTo>
                  <a:pt x="872" y="145"/>
                </a:lnTo>
                <a:lnTo>
                  <a:pt x="862" y="155"/>
                </a:lnTo>
                <a:lnTo>
                  <a:pt x="851" y="164"/>
                </a:lnTo>
                <a:lnTo>
                  <a:pt x="841" y="173"/>
                </a:lnTo>
                <a:lnTo>
                  <a:pt x="830" y="182"/>
                </a:lnTo>
                <a:lnTo>
                  <a:pt x="817" y="193"/>
                </a:lnTo>
                <a:lnTo>
                  <a:pt x="803" y="204"/>
                </a:lnTo>
                <a:lnTo>
                  <a:pt x="792" y="212"/>
                </a:lnTo>
                <a:lnTo>
                  <a:pt x="778" y="221"/>
                </a:lnTo>
                <a:lnTo>
                  <a:pt x="764" y="232"/>
                </a:lnTo>
                <a:lnTo>
                  <a:pt x="749" y="242"/>
                </a:lnTo>
                <a:lnTo>
                  <a:pt x="734" y="251"/>
                </a:lnTo>
                <a:lnTo>
                  <a:pt x="718" y="262"/>
                </a:lnTo>
                <a:lnTo>
                  <a:pt x="704" y="270"/>
                </a:lnTo>
                <a:lnTo>
                  <a:pt x="684" y="281"/>
                </a:lnTo>
                <a:lnTo>
                  <a:pt x="668" y="291"/>
                </a:lnTo>
                <a:lnTo>
                  <a:pt x="652" y="298"/>
                </a:lnTo>
                <a:lnTo>
                  <a:pt x="634" y="308"/>
                </a:lnTo>
                <a:lnTo>
                  <a:pt x="620" y="315"/>
                </a:lnTo>
                <a:lnTo>
                  <a:pt x="603" y="322"/>
                </a:lnTo>
                <a:lnTo>
                  <a:pt x="586" y="331"/>
                </a:lnTo>
                <a:lnTo>
                  <a:pt x="566" y="339"/>
                </a:lnTo>
                <a:lnTo>
                  <a:pt x="548" y="347"/>
                </a:lnTo>
                <a:lnTo>
                  <a:pt x="529" y="355"/>
                </a:lnTo>
                <a:lnTo>
                  <a:pt x="504" y="364"/>
                </a:lnTo>
                <a:lnTo>
                  <a:pt x="483" y="372"/>
                </a:lnTo>
                <a:lnTo>
                  <a:pt x="460" y="381"/>
                </a:lnTo>
                <a:lnTo>
                  <a:pt x="436" y="390"/>
                </a:lnTo>
                <a:lnTo>
                  <a:pt x="411" y="397"/>
                </a:lnTo>
                <a:lnTo>
                  <a:pt x="537" y="492"/>
                </a:lnTo>
                <a:lnTo>
                  <a:pt x="38" y="370"/>
                </a:lnTo>
                <a:lnTo>
                  <a:pt x="0" y="130"/>
                </a:lnTo>
                <a:lnTo>
                  <a:pt x="105" y="198"/>
                </a:lnTo>
                <a:lnTo>
                  <a:pt x="129" y="192"/>
                </a:lnTo>
                <a:lnTo>
                  <a:pt x="152" y="185"/>
                </a:lnTo>
                <a:lnTo>
                  <a:pt x="183" y="176"/>
                </a:lnTo>
                <a:lnTo>
                  <a:pt x="212" y="167"/>
                </a:lnTo>
                <a:lnTo>
                  <a:pt x="243" y="156"/>
                </a:lnTo>
                <a:lnTo>
                  <a:pt x="269" y="146"/>
                </a:lnTo>
                <a:lnTo>
                  <a:pt x="294" y="134"/>
                </a:lnTo>
                <a:lnTo>
                  <a:pt x="319" y="123"/>
                </a:lnTo>
                <a:lnTo>
                  <a:pt x="338" y="112"/>
                </a:lnTo>
                <a:lnTo>
                  <a:pt x="360" y="100"/>
                </a:lnTo>
                <a:lnTo>
                  <a:pt x="382" y="87"/>
                </a:lnTo>
                <a:lnTo>
                  <a:pt x="400" y="75"/>
                </a:lnTo>
                <a:lnTo>
                  <a:pt x="418" y="62"/>
                </a:lnTo>
                <a:lnTo>
                  <a:pt x="435" y="51"/>
                </a:lnTo>
                <a:lnTo>
                  <a:pt x="452" y="35"/>
                </a:lnTo>
                <a:lnTo>
                  <a:pt x="468" y="21"/>
                </a:lnTo>
                <a:lnTo>
                  <a:pt x="477" y="11"/>
                </a:lnTo>
                <a:lnTo>
                  <a:pt x="487" y="0"/>
                </a:lnTo>
                <a:lnTo>
                  <a:pt x="908" y="108"/>
                </a:lnTo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7f7f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7000" y="3363840"/>
            <a:ext cx="1335240" cy="1015920"/>
          </a:xfrm>
          <a:custGeom>
            <a:avLst/>
            <a:gdLst/>
            <a:ahLst/>
            <a:rect l="l" t="t" r="r" b="b"/>
            <a:pathLst>
              <a:path w="841" h="573">
                <a:moveTo>
                  <a:pt x="0" y="363"/>
                </a:moveTo>
                <a:lnTo>
                  <a:pt x="209" y="406"/>
                </a:lnTo>
                <a:lnTo>
                  <a:pt x="220" y="392"/>
                </a:lnTo>
                <a:lnTo>
                  <a:pt x="230" y="378"/>
                </a:lnTo>
                <a:lnTo>
                  <a:pt x="236" y="365"/>
                </a:lnTo>
                <a:lnTo>
                  <a:pt x="242" y="354"/>
                </a:lnTo>
                <a:lnTo>
                  <a:pt x="248" y="341"/>
                </a:lnTo>
                <a:lnTo>
                  <a:pt x="253" y="326"/>
                </a:lnTo>
                <a:lnTo>
                  <a:pt x="256" y="313"/>
                </a:lnTo>
                <a:lnTo>
                  <a:pt x="260" y="300"/>
                </a:lnTo>
                <a:lnTo>
                  <a:pt x="264" y="284"/>
                </a:lnTo>
                <a:lnTo>
                  <a:pt x="266" y="268"/>
                </a:lnTo>
                <a:lnTo>
                  <a:pt x="266" y="239"/>
                </a:lnTo>
                <a:lnTo>
                  <a:pt x="264" y="224"/>
                </a:lnTo>
                <a:lnTo>
                  <a:pt x="263" y="211"/>
                </a:lnTo>
                <a:lnTo>
                  <a:pt x="259" y="197"/>
                </a:lnTo>
                <a:lnTo>
                  <a:pt x="254" y="182"/>
                </a:lnTo>
                <a:lnTo>
                  <a:pt x="249" y="169"/>
                </a:lnTo>
                <a:lnTo>
                  <a:pt x="243" y="153"/>
                </a:lnTo>
                <a:lnTo>
                  <a:pt x="234" y="138"/>
                </a:lnTo>
                <a:lnTo>
                  <a:pt x="639" y="0"/>
                </a:lnTo>
                <a:lnTo>
                  <a:pt x="649" y="13"/>
                </a:lnTo>
                <a:lnTo>
                  <a:pt x="658" y="26"/>
                </a:lnTo>
                <a:lnTo>
                  <a:pt x="665" y="37"/>
                </a:lnTo>
                <a:lnTo>
                  <a:pt x="673" y="49"/>
                </a:lnTo>
                <a:lnTo>
                  <a:pt x="679" y="61"/>
                </a:lnTo>
                <a:lnTo>
                  <a:pt x="686" y="73"/>
                </a:lnTo>
                <a:lnTo>
                  <a:pt x="691" y="84"/>
                </a:lnTo>
                <a:lnTo>
                  <a:pt x="696" y="95"/>
                </a:lnTo>
                <a:lnTo>
                  <a:pt x="701" y="106"/>
                </a:lnTo>
                <a:lnTo>
                  <a:pt x="707" y="119"/>
                </a:lnTo>
                <a:lnTo>
                  <a:pt x="711" y="134"/>
                </a:lnTo>
                <a:lnTo>
                  <a:pt x="716" y="147"/>
                </a:lnTo>
                <a:lnTo>
                  <a:pt x="721" y="160"/>
                </a:lnTo>
                <a:lnTo>
                  <a:pt x="725" y="174"/>
                </a:lnTo>
                <a:lnTo>
                  <a:pt x="726" y="189"/>
                </a:lnTo>
                <a:lnTo>
                  <a:pt x="729" y="205"/>
                </a:lnTo>
                <a:lnTo>
                  <a:pt x="731" y="220"/>
                </a:lnTo>
                <a:lnTo>
                  <a:pt x="731" y="235"/>
                </a:lnTo>
                <a:lnTo>
                  <a:pt x="731" y="251"/>
                </a:lnTo>
                <a:lnTo>
                  <a:pt x="731" y="271"/>
                </a:lnTo>
                <a:lnTo>
                  <a:pt x="729" y="289"/>
                </a:lnTo>
                <a:lnTo>
                  <a:pt x="729" y="302"/>
                </a:lnTo>
                <a:lnTo>
                  <a:pt x="726" y="316"/>
                </a:lnTo>
                <a:lnTo>
                  <a:pt x="725" y="331"/>
                </a:lnTo>
                <a:lnTo>
                  <a:pt x="720" y="347"/>
                </a:lnTo>
                <a:lnTo>
                  <a:pt x="715" y="361"/>
                </a:lnTo>
                <a:lnTo>
                  <a:pt x="710" y="375"/>
                </a:lnTo>
                <a:lnTo>
                  <a:pt x="704" y="393"/>
                </a:lnTo>
                <a:lnTo>
                  <a:pt x="697" y="406"/>
                </a:lnTo>
                <a:lnTo>
                  <a:pt x="691" y="422"/>
                </a:lnTo>
                <a:lnTo>
                  <a:pt x="684" y="436"/>
                </a:lnTo>
                <a:lnTo>
                  <a:pt x="675" y="450"/>
                </a:lnTo>
                <a:lnTo>
                  <a:pt x="667" y="464"/>
                </a:lnTo>
                <a:lnTo>
                  <a:pt x="656" y="483"/>
                </a:lnTo>
                <a:lnTo>
                  <a:pt x="643" y="500"/>
                </a:lnTo>
                <a:lnTo>
                  <a:pt x="840" y="544"/>
                </a:lnTo>
                <a:lnTo>
                  <a:pt x="345" y="572"/>
                </a:lnTo>
                <a:lnTo>
                  <a:pt x="0" y="363"/>
                </a:lnTo>
              </a:path>
            </a:pathLst>
          </a:custGeom>
          <a:solidFill>
            <a:srgbClr val="5e60a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95800" y="2781360"/>
            <a:ext cx="1559160" cy="893880"/>
          </a:xfrm>
          <a:custGeom>
            <a:avLst/>
            <a:gdLst/>
            <a:ahLst/>
            <a:rect l="l" t="t" r="r" b="b"/>
            <a:pathLst>
              <a:path w="982" h="505">
                <a:moveTo>
                  <a:pt x="199" y="0"/>
                </a:moveTo>
                <a:lnTo>
                  <a:pt x="219" y="5"/>
                </a:lnTo>
                <a:lnTo>
                  <a:pt x="235" y="10"/>
                </a:lnTo>
                <a:lnTo>
                  <a:pt x="252" y="15"/>
                </a:lnTo>
                <a:lnTo>
                  <a:pt x="268" y="19"/>
                </a:lnTo>
                <a:lnTo>
                  <a:pt x="286" y="25"/>
                </a:lnTo>
                <a:lnTo>
                  <a:pt x="302" y="30"/>
                </a:lnTo>
                <a:lnTo>
                  <a:pt x="318" y="36"/>
                </a:lnTo>
                <a:lnTo>
                  <a:pt x="335" y="41"/>
                </a:lnTo>
                <a:lnTo>
                  <a:pt x="355" y="49"/>
                </a:lnTo>
                <a:lnTo>
                  <a:pt x="376" y="57"/>
                </a:lnTo>
                <a:lnTo>
                  <a:pt x="392" y="63"/>
                </a:lnTo>
                <a:lnTo>
                  <a:pt x="408" y="70"/>
                </a:lnTo>
                <a:lnTo>
                  <a:pt x="428" y="77"/>
                </a:lnTo>
                <a:lnTo>
                  <a:pt x="448" y="85"/>
                </a:lnTo>
                <a:lnTo>
                  <a:pt x="465" y="93"/>
                </a:lnTo>
                <a:lnTo>
                  <a:pt x="482" y="102"/>
                </a:lnTo>
                <a:lnTo>
                  <a:pt x="499" y="110"/>
                </a:lnTo>
                <a:lnTo>
                  <a:pt x="518" y="120"/>
                </a:lnTo>
                <a:lnTo>
                  <a:pt x="535" y="129"/>
                </a:lnTo>
                <a:lnTo>
                  <a:pt x="550" y="137"/>
                </a:lnTo>
                <a:lnTo>
                  <a:pt x="568" y="147"/>
                </a:lnTo>
                <a:lnTo>
                  <a:pt x="581" y="155"/>
                </a:lnTo>
                <a:lnTo>
                  <a:pt x="596" y="164"/>
                </a:lnTo>
                <a:lnTo>
                  <a:pt x="611" y="174"/>
                </a:lnTo>
                <a:lnTo>
                  <a:pt x="627" y="185"/>
                </a:lnTo>
                <a:lnTo>
                  <a:pt x="640" y="194"/>
                </a:lnTo>
                <a:lnTo>
                  <a:pt x="656" y="205"/>
                </a:lnTo>
                <a:lnTo>
                  <a:pt x="673" y="218"/>
                </a:lnTo>
                <a:lnTo>
                  <a:pt x="688" y="230"/>
                </a:lnTo>
                <a:lnTo>
                  <a:pt x="704" y="242"/>
                </a:lnTo>
                <a:lnTo>
                  <a:pt x="719" y="255"/>
                </a:lnTo>
                <a:lnTo>
                  <a:pt x="732" y="268"/>
                </a:lnTo>
                <a:lnTo>
                  <a:pt x="747" y="282"/>
                </a:lnTo>
                <a:lnTo>
                  <a:pt x="758" y="294"/>
                </a:lnTo>
                <a:lnTo>
                  <a:pt x="769" y="306"/>
                </a:lnTo>
                <a:lnTo>
                  <a:pt x="779" y="319"/>
                </a:lnTo>
                <a:lnTo>
                  <a:pt x="787" y="328"/>
                </a:lnTo>
                <a:lnTo>
                  <a:pt x="981" y="287"/>
                </a:lnTo>
                <a:lnTo>
                  <a:pt x="678" y="504"/>
                </a:lnTo>
                <a:lnTo>
                  <a:pt x="142" y="468"/>
                </a:lnTo>
                <a:lnTo>
                  <a:pt x="355" y="422"/>
                </a:lnTo>
                <a:lnTo>
                  <a:pt x="341" y="407"/>
                </a:lnTo>
                <a:lnTo>
                  <a:pt x="326" y="392"/>
                </a:lnTo>
                <a:lnTo>
                  <a:pt x="308" y="376"/>
                </a:lnTo>
                <a:lnTo>
                  <a:pt x="287" y="359"/>
                </a:lnTo>
                <a:lnTo>
                  <a:pt x="268" y="345"/>
                </a:lnTo>
                <a:lnTo>
                  <a:pt x="248" y="332"/>
                </a:lnTo>
                <a:lnTo>
                  <a:pt x="227" y="318"/>
                </a:lnTo>
                <a:lnTo>
                  <a:pt x="207" y="307"/>
                </a:lnTo>
                <a:lnTo>
                  <a:pt x="186" y="296"/>
                </a:lnTo>
                <a:lnTo>
                  <a:pt x="161" y="284"/>
                </a:lnTo>
                <a:lnTo>
                  <a:pt x="137" y="274"/>
                </a:lnTo>
                <a:lnTo>
                  <a:pt x="115" y="264"/>
                </a:lnTo>
                <a:lnTo>
                  <a:pt x="93" y="256"/>
                </a:lnTo>
                <a:lnTo>
                  <a:pt x="65" y="246"/>
                </a:lnTo>
                <a:lnTo>
                  <a:pt x="38" y="237"/>
                </a:lnTo>
                <a:lnTo>
                  <a:pt x="20" y="233"/>
                </a:lnTo>
                <a:lnTo>
                  <a:pt x="0" y="227"/>
                </a:lnTo>
                <a:lnTo>
                  <a:pt x="199" y="0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00680" y="2552760"/>
            <a:ext cx="1511280" cy="731880"/>
          </a:xfrm>
          <a:custGeom>
            <a:avLst/>
            <a:gdLst/>
            <a:ahLst/>
            <a:rect l="l" t="t" r="r" b="b"/>
            <a:pathLst>
              <a:path w="952" h="413">
                <a:moveTo>
                  <a:pt x="507" y="412"/>
                </a:moveTo>
                <a:lnTo>
                  <a:pt x="569" y="332"/>
                </a:lnTo>
                <a:lnTo>
                  <a:pt x="550" y="328"/>
                </a:lnTo>
                <a:lnTo>
                  <a:pt x="527" y="326"/>
                </a:lnTo>
                <a:lnTo>
                  <a:pt x="498" y="322"/>
                </a:lnTo>
                <a:lnTo>
                  <a:pt x="475" y="320"/>
                </a:lnTo>
                <a:lnTo>
                  <a:pt x="449" y="318"/>
                </a:lnTo>
                <a:lnTo>
                  <a:pt x="420" y="317"/>
                </a:lnTo>
                <a:lnTo>
                  <a:pt x="390" y="316"/>
                </a:lnTo>
                <a:lnTo>
                  <a:pt x="337" y="316"/>
                </a:lnTo>
                <a:lnTo>
                  <a:pt x="310" y="316"/>
                </a:lnTo>
                <a:lnTo>
                  <a:pt x="284" y="318"/>
                </a:lnTo>
                <a:lnTo>
                  <a:pt x="258" y="319"/>
                </a:lnTo>
                <a:lnTo>
                  <a:pt x="232" y="321"/>
                </a:lnTo>
                <a:lnTo>
                  <a:pt x="207" y="324"/>
                </a:lnTo>
                <a:lnTo>
                  <a:pt x="177" y="328"/>
                </a:lnTo>
                <a:lnTo>
                  <a:pt x="151" y="332"/>
                </a:lnTo>
                <a:lnTo>
                  <a:pt x="219" y="163"/>
                </a:lnTo>
                <a:lnTo>
                  <a:pt x="0" y="95"/>
                </a:lnTo>
                <a:lnTo>
                  <a:pt x="11" y="93"/>
                </a:lnTo>
                <a:lnTo>
                  <a:pt x="33" y="89"/>
                </a:lnTo>
                <a:lnTo>
                  <a:pt x="51" y="87"/>
                </a:lnTo>
                <a:lnTo>
                  <a:pt x="71" y="83"/>
                </a:lnTo>
                <a:lnTo>
                  <a:pt x="94" y="81"/>
                </a:lnTo>
                <a:lnTo>
                  <a:pt x="114" y="78"/>
                </a:lnTo>
                <a:lnTo>
                  <a:pt x="141" y="75"/>
                </a:lnTo>
                <a:lnTo>
                  <a:pt x="164" y="73"/>
                </a:lnTo>
                <a:lnTo>
                  <a:pt x="190" y="71"/>
                </a:lnTo>
                <a:lnTo>
                  <a:pt x="217" y="69"/>
                </a:lnTo>
                <a:lnTo>
                  <a:pt x="243" y="67"/>
                </a:lnTo>
                <a:lnTo>
                  <a:pt x="273" y="67"/>
                </a:lnTo>
                <a:lnTo>
                  <a:pt x="301" y="65"/>
                </a:lnTo>
                <a:lnTo>
                  <a:pt x="330" y="65"/>
                </a:lnTo>
                <a:lnTo>
                  <a:pt x="360" y="65"/>
                </a:lnTo>
                <a:lnTo>
                  <a:pt x="397" y="65"/>
                </a:lnTo>
                <a:lnTo>
                  <a:pt x="430" y="66"/>
                </a:lnTo>
                <a:lnTo>
                  <a:pt x="453" y="67"/>
                </a:lnTo>
                <a:lnTo>
                  <a:pt x="480" y="68"/>
                </a:lnTo>
                <a:lnTo>
                  <a:pt x="506" y="69"/>
                </a:lnTo>
                <a:lnTo>
                  <a:pt x="537" y="72"/>
                </a:lnTo>
                <a:lnTo>
                  <a:pt x="563" y="74"/>
                </a:lnTo>
                <a:lnTo>
                  <a:pt x="589" y="77"/>
                </a:lnTo>
                <a:lnTo>
                  <a:pt x="622" y="80"/>
                </a:lnTo>
                <a:lnTo>
                  <a:pt x="646" y="83"/>
                </a:lnTo>
                <a:lnTo>
                  <a:pt x="676" y="87"/>
                </a:lnTo>
                <a:lnTo>
                  <a:pt x="701" y="91"/>
                </a:lnTo>
                <a:lnTo>
                  <a:pt x="728" y="95"/>
                </a:lnTo>
                <a:lnTo>
                  <a:pt x="755" y="100"/>
                </a:lnTo>
                <a:lnTo>
                  <a:pt x="836" y="0"/>
                </a:lnTo>
                <a:lnTo>
                  <a:pt x="951" y="279"/>
                </a:lnTo>
                <a:lnTo>
                  <a:pt x="507" y="41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rvice-Profi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Strategies for Service Fi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50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Service Differen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differentiated offer, delivery and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Servic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ower front-line employ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“Customer obsessed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high service quality standar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service performance clos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Service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current or new employees bett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quality as well as quant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034160" y="-1215000"/>
            <a:ext cx="582480" cy="758484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000000"/>
              </a:gs>
              <a:gs pos="100000">
                <a:srgbClr val="4b4b4b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de Which Products &amp; Services to Int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rot="16200000">
            <a:off x="4022640" y="2476440"/>
            <a:ext cx="291960" cy="10252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b3224"/>
              </a:gs>
              <a:gs pos="50000">
                <a:srgbClr val="dbffb8"/>
              </a:gs>
              <a:gs pos="100000">
                <a:srgbClr val="2b3224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089240" y="-382680"/>
            <a:ext cx="539640" cy="765180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808080"/>
              </a:gs>
              <a:gs pos="100000">
                <a:srgbClr val="b1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de How Much to Standardize or Ada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rot="16200000">
            <a:off x="4014360" y="3302640"/>
            <a:ext cx="357120" cy="107604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b3224"/>
              </a:gs>
              <a:gs pos="50000">
                <a:srgbClr val="dbffb8"/>
              </a:gs>
              <a:gs pos="100000">
                <a:srgbClr val="2b3224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4077000" y="529200"/>
            <a:ext cx="563760" cy="765180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bbe0e3"/>
              </a:gs>
              <a:gs pos="100000">
                <a:srgbClr val="cee8e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ing Presents New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rot="16200000">
            <a:off x="4013640" y="4286880"/>
            <a:ext cx="381240" cy="97632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b3224"/>
              </a:gs>
              <a:gs pos="50000">
                <a:srgbClr val="dbffb8"/>
              </a:gs>
              <a:gs pos="100000">
                <a:srgbClr val="2b3224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4177080" y="1424520"/>
            <a:ext cx="500040" cy="765180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333399"/>
              </a:gs>
              <a:gs pos="100000">
                <a:srgbClr val="9898cb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Marketers Face Specia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70800" y="3492360"/>
            <a:ext cx="207936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rot="16200000">
            <a:off x="4144680" y="5147640"/>
            <a:ext cx="322200" cy="97452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b3224"/>
              </a:gs>
              <a:gs pos="50000">
                <a:srgbClr val="dbffb8"/>
              </a:gs>
              <a:gs pos="100000">
                <a:srgbClr val="2b3224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4215240" y="2186640"/>
            <a:ext cx="506160" cy="776916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99cc00"/>
              </a:gs>
              <a:gs pos="100000">
                <a:srgbClr val="c1df65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nd Toward Global Service Companies Will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Product and Services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Concept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product and the major classifications of products and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roles of product and service branding, packaging, labeling, and product support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decisions companies make when developing product lines and mi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four characteristics that affect the marketing of a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additional marketing considerations for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ducts, Services, and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581280"/>
            <a:ext cx="8763120" cy="228600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d6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096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e Tangibl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2209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e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52480" y="6095880"/>
            <a:ext cx="5838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he Product-Service Continuum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905120"/>
            <a:ext cx="2133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ngible Good With Accompany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8862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 With Accompanying Repai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2096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brid 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2670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1828800"/>
            <a:ext cx="2133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   With Accompanying Minor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38862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rline Trip With Accompanying Sn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4343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’s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-360" y="1752480"/>
            <a:ext cx="8908560" cy="4876560"/>
            <a:chOff x="-360" y="1752480"/>
            <a:chExt cx="8908560" cy="4876560"/>
          </a:xfrm>
        </p:grpSpPr>
        <p:sp>
          <p:nvSpPr>
            <p:cNvPr id="59" name=""/>
            <p:cNvSpPr/>
            <p:nvPr/>
          </p:nvSpPr>
          <p:spPr>
            <a:xfrm>
              <a:off x="95040" y="2245680"/>
              <a:ext cx="8751600" cy="3929040"/>
            </a:xfrm>
            <a:prstGeom prst="ellipse">
              <a:avLst/>
            </a:prstGeom>
            <a:gradFill rotWithShape="0">
              <a:gsLst>
                <a:gs pos="0">
                  <a:srgbClr val="f6bf69"/>
                </a:gs>
                <a:gs pos="100000">
                  <a:srgbClr val="f6cb8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06320" y="2941200"/>
              <a:ext cx="5684400" cy="2549520"/>
            </a:xfrm>
            <a:prstGeom prst="ellipse">
              <a:avLst/>
            </a:prstGeom>
            <a:solidFill>
              <a:srgbClr val="ef9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87120" y="3051720"/>
              <a:ext cx="5167080" cy="2317320"/>
            </a:xfrm>
            <a:prstGeom prst="ellipse">
              <a:avLst/>
            </a:prstGeom>
            <a:gradFill rotWithShape="0">
              <a:gsLst>
                <a:gs pos="0">
                  <a:srgbClr val="fefe70"/>
                </a:gs>
                <a:gs pos="100000">
                  <a:srgbClr val="fdfd9a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80960" y="3632760"/>
              <a:ext cx="2579400" cy="1154160"/>
            </a:xfrm>
            <a:prstGeom prst="ellipse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2681640" y="2797560"/>
              <a:ext cx="408240" cy="191268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5400000">
              <a:off x="2633760" y="3729600"/>
              <a:ext cx="393480" cy="188100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Qu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4261680" y="2266920"/>
              <a:ext cx="332280" cy="204912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ckag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6088680" y="3729600"/>
              <a:ext cx="361440" cy="188064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5824440" y="2761560"/>
              <a:ext cx="376200" cy="188244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eatu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691560" y="3313440"/>
              <a:ext cx="497160" cy="188100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elive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&amp; Cred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4282920" y="1716480"/>
              <a:ext cx="362520" cy="198216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stal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4266720" y="4747320"/>
              <a:ext cx="316080" cy="201744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Warran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400000">
              <a:off x="7719120" y="3314520"/>
              <a:ext cx="497160" cy="188100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ft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04800" y="3687840"/>
              <a:ext cx="2319120" cy="1038600"/>
            </a:xfrm>
            <a:prstGeom prst="ellipse">
              <a:avLst/>
            </a:prstGeom>
            <a:solidFill>
              <a:srgbClr val="66ff66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618ff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Co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enefit 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Servi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5400000">
              <a:off x="1497960" y="5065200"/>
              <a:ext cx="497160" cy="2630160"/>
            </a:xfrm>
            <a:prstGeom prst="cube">
              <a:avLst>
                <a:gd name="adj" fmla="val 16074"/>
              </a:avLst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ctual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6388560" y="5049720"/>
              <a:ext cx="466200" cy="2630160"/>
            </a:xfrm>
            <a:prstGeom prst="cube">
              <a:avLst>
                <a:gd name="adj" fmla="val 16074"/>
              </a:avLst>
            </a:prstGeom>
            <a:solidFill>
              <a:srgbClr val="66ff66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re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6169320" y="670320"/>
              <a:ext cx="465120" cy="2628720"/>
            </a:xfrm>
            <a:prstGeom prst="cube">
              <a:avLst>
                <a:gd name="adj" fmla="val 16074"/>
              </a:avLst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ugmented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03600" y="2139840"/>
              <a:ext cx="0" cy="62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731680" y="4881600"/>
              <a:ext cx="6120" cy="124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405040" y="4360680"/>
              <a:ext cx="6120" cy="176580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evels of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4648320" y="4267080"/>
            <a:ext cx="4724280" cy="3371040"/>
            <a:chOff x="4648320" y="4267080"/>
            <a:chExt cx="4724280" cy="3371040"/>
          </a:xfrm>
        </p:grpSpPr>
        <p:sp>
          <p:nvSpPr>
            <p:cNvPr id="81" name=""/>
            <p:cNvSpPr/>
            <p:nvPr/>
          </p:nvSpPr>
          <p:spPr>
            <a:xfrm>
              <a:off x="4648320" y="4267080"/>
              <a:ext cx="4190760" cy="22968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73520" y="4267080"/>
              <a:ext cx="4699080" cy="33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Unsought Produ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w innov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ducts consumers don’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want to think about these produ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quire much advertising &amp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ersonal sel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.e Life insurance, blood do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duct Classification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sumer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04920" y="4267080"/>
            <a:ext cx="4241520" cy="2688840"/>
            <a:chOff x="304920" y="4267080"/>
            <a:chExt cx="4241520" cy="2688840"/>
          </a:xfrm>
        </p:grpSpPr>
        <p:sp>
          <p:nvSpPr>
            <p:cNvPr id="85" name=""/>
            <p:cNvSpPr/>
            <p:nvPr/>
          </p:nvSpPr>
          <p:spPr>
            <a:xfrm>
              <a:off x="304920" y="4267080"/>
              <a:ext cx="4241520" cy="22734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5680" y="4279680"/>
              <a:ext cx="327060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Specialty Produ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pecial purchase effor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igh pr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Unique characteri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rand iden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ew purchase lo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.e Lamborghini, Role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648320" y="1981080"/>
            <a:ext cx="4243320" cy="2133720"/>
            <a:chOff x="4648320" y="1981080"/>
            <a:chExt cx="4243320" cy="2133720"/>
          </a:xfrm>
        </p:grpSpPr>
        <p:sp>
          <p:nvSpPr>
            <p:cNvPr id="88" name=""/>
            <p:cNvSpPr/>
            <p:nvPr/>
          </p:nvSpPr>
          <p:spPr>
            <a:xfrm>
              <a:off x="4648320" y="1981080"/>
              <a:ext cx="4243320" cy="2133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84680" y="2081520"/>
              <a:ext cx="3830760" cy="19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Shopping Produ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uy less frequent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igher pr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ewer purchase lo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mparison sho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.e Clothing, cars, appli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8600" y="1981080"/>
            <a:ext cx="4594320" cy="2403720"/>
            <a:chOff x="228600" y="1981080"/>
            <a:chExt cx="4594320" cy="2403720"/>
          </a:xfrm>
        </p:grpSpPr>
        <p:sp>
          <p:nvSpPr>
            <p:cNvPr id="91" name=""/>
            <p:cNvSpPr/>
            <p:nvPr/>
          </p:nvSpPr>
          <p:spPr>
            <a:xfrm>
              <a:off x="228600" y="1981080"/>
              <a:ext cx="4241880" cy="21070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1800" y="2110680"/>
              <a:ext cx="4461120" cy="22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Convenience Produ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uy frequently &amp; immediat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ow pric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ass adverti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any purchase lo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.e Candy, newspap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51040" y="2495520"/>
            <a:ext cx="7502400" cy="3237120"/>
          </a:xfrm>
          <a:custGeom>
            <a:avLst/>
            <a:gdLst>
              <a:gd name="textAreaLeft" fmla="*/ 1712520 w 7502400"/>
              <a:gd name="textAreaRight" fmla="*/ 5789880 w 7502400"/>
              <a:gd name="textAreaTop" fmla="*/ 738720 h 3237120"/>
              <a:gd name="textAreaBottom" fmla="*/ 2498400 h 323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dfea9"/>
              </a:gs>
              <a:gs pos="100000">
                <a:srgbClr val="feff72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4876920"/>
            <a:ext cx="4290840" cy="150012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99cc00"/>
              </a:gs>
              <a:gs pos="100000">
                <a:srgbClr val="d5e99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680" y="1905120"/>
            <a:ext cx="4290840" cy="142848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bbe0e3"/>
              </a:gs>
              <a:gs pos="100000">
                <a:srgbClr val="dceef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6040" y="3384720"/>
            <a:ext cx="4292640" cy="144432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009999"/>
              </a:gs>
              <a:gs pos="100000">
                <a:srgbClr val="b2dfd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duct Classification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dustrial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duct Classification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ther Marketable Ent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vities undertaken to create, maintain, or change the attitudes and behavior toward the follow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iza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Profit (businesses) and nonprofit    (schools and church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oliticians, entertainers, sports figures, doctors and law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a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Business sites and tour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social ideas marketing) – public health campaigns, environmental campaigns, and others such as family planning, or human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dividual Product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0"/>
            <a:ext cx="4419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duct Attrib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048120"/>
            <a:ext cx="40388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Br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4647600"/>
            <a:ext cx="44956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ee2"/>
                </a:solidFill>
                <a:latin typeface="Tahoma"/>
              </a:rPr>
              <a:t>Pack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3809880"/>
            <a:ext cx="40388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Lab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486400"/>
            <a:ext cx="5410440" cy="11912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Product Support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3124080"/>
            <a:ext cx="2708280" cy="103824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Qu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282920"/>
            <a:ext cx="2708280" cy="104328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445000"/>
            <a:ext cx="2708280" cy="104148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Sty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10080" y="3124080"/>
            <a:ext cx="5084640" cy="1038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a Product to Perform Its Functions; Includes Level &amp;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10080" y="4282920"/>
            <a:ext cx="5084640" cy="1043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p to Differentiate the Product from Those of th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10080" y="5445000"/>
            <a:ext cx="5084640" cy="1041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of Designing a Product’s Style &amp;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70080" y="4408560"/>
            <a:ext cx="573120" cy="1000080"/>
          </a:xfrm>
          <a:prstGeom prst="rightArrow">
            <a:avLst>
              <a:gd name="adj1" fmla="val 50000"/>
              <a:gd name="adj2" fmla="val 50005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714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5400" y="5553000"/>
            <a:ext cx="554040" cy="1000080"/>
          </a:xfrm>
          <a:prstGeom prst="rightArrow">
            <a:avLst>
              <a:gd name="adj1" fmla="val 50000"/>
              <a:gd name="adj2" fmla="val 50005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714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70080" y="3252960"/>
            <a:ext cx="554040" cy="1000080"/>
          </a:xfrm>
          <a:prstGeom prst="rightArrow">
            <a:avLst>
              <a:gd name="adj1" fmla="val 50000"/>
              <a:gd name="adj2" fmla="val 50005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714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9810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veloping a Product or Service Involves Defining the Benefits that it Will Offer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duct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3:58:00Z</dcterms:created>
  <dc:creator>HAN</dc:creator>
  <dc:description/>
  <dc:language>en-US</dc:language>
  <cp:lastModifiedBy>christine natalia</cp:lastModifiedBy>
  <dcterms:modified xsi:type="dcterms:W3CDTF">2006-12-26T19:51:52Z</dcterms:modified>
  <cp:revision>2</cp:revision>
  <dc:subject/>
  <dc:title>Dia 1</dc:title>
</cp:coreProperties>
</file>