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6F5-160C-4AEA-A314-5E6B0949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9E0-172C-45F9-AC56-D329318C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738-C039-4D2F-B0B7-E6F361EF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F4AF-58F1-464F-AC96-9681C033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488-AE75-4649-BEE4-DD2B978C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BD4-C53F-4368-923E-E0CF70C8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116-B0E4-4021-BBE4-CFA451A5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AE67-5597-472B-AA0B-57352B9E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65F-8BCD-4F3D-8CDF-752D2341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94A-EA68-443F-B5CD-3D4AEE72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F61-7303-4182-AD14-6BFB3312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F2D-8AD0-4FAA-8A20-84ACF974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B18D-69AB-499E-8038-30F1A6EF2E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lunarlegacies.com/images/Books/nasa-university.jpg" TargetMode="External"/><Relationship Id="rId3" Type="http://schemas.openxmlformats.org/officeDocument/2006/relationships/hyperlink" Target="http://www.lunarlegacies.com/images/Books/nasa-university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nl/imgres?imgurl=www.newcolony.org/images/prison.gif&amp;imgrefurl=http://www.newcolony.org/pages/ministries/prison.htm&amp;h=234&amp;w=363&amp;sz=12&amp;tbnid=3Zl1HXvWVFIJ:&amp;tbnh=75&amp;tbnw=116&amp;prev=/images%3Fq%3Dprison%26hl%3Dnl%26lr%3D%26ie%3DU%20" TargetMode="External"/><Relationship Id="rId6" Type="http://schemas.openxmlformats.org/officeDocument/2006/relationships/hyperlink" Target="http://images.google.nl/imgres?imgurl=www.newcolony.org/images/prison.gif&amp;imgrefurl=http://www.newcolony.org/pages/ministries/prison.htm&amp;h=234&amp;w=363&amp;sz=12&amp;tbnid=3Zl1HXvWVFIJ:&amp;tbnh=75&amp;tbnw=116&amp;prev=/images%3Fq%3Dprison%26hl%3Dnl%26lr%3D%26ie%3DU%20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nl/imgres?imgurl=www.landenweb.com/images%255Cimgfrankrijk%255Cmitterand.jpg&amp;imgrefurl=http://www.landenweb.com/geschiedenis.cfm%3FLandID%3D149%26FRANKRIJK&amp;h=189&amp;w=250&amp;sz=12&amp;tbnid=NWKVctxG0zYJ:&amp;tbnh=80&amp;tbnw=105&amp;prev=/images%20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nl/imgres?imgurl=http://www.fertin.com/fileadmin/user_upload/production/receiving_raw_materials_2.jpg&amp;imgrefurl=http://www.fertin.com/index.php%3Fid%3D77&amp;h=665&amp;w=1000&amp;sz=60&amp;hl=nl&amp;start=29&amp;tbnid=uFLdHzLamKjMPM:&amp;tbnh=99&amp;tbnw=149&amp;prev=/images%3Fq%3Draw%2Bmaterials%26start%3D18%26ndsp%3D18%26svnum%3D10%26hl%3Dnl%26lr%3D%26sa%3D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86040" y="476280"/>
            <a:ext cx="689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cc"/>
                </a:solidFill>
                <a:latin typeface="Verdana"/>
                <a:ea typeface="Arial"/>
              </a:rPr>
              <a:t>How do companies bu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362320"/>
            <a:ext cx="858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New Task  =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xtensive 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Judgemental new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trategic new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traight Rebuy =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routine 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ausal pur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Routine low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Modified rebuy=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limited problem solving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imple mod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omplex mod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54040" y="187560"/>
            <a:ext cx="81039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Verdana"/>
                <a:ea typeface="Arial"/>
              </a:rPr>
              <a:t>Buying stages in organisational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Problem recogni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Determination of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and quant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Description of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and quant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Search for and qual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of supplier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3086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5120" y="1431000"/>
            <a:ext cx="7678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Acquisition and analysis of proposa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Evaluation of proposal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election of suppli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Selection of an order rout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Performanc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616572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0000"/>
                </a:solidFill>
                <a:latin typeface="Arial"/>
              </a:rPr>
              <a:t>Intended Custom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OEM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Dea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Distrib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Retai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U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0000"/>
                </a:solidFill>
                <a:latin typeface="Arial"/>
              </a:rPr>
              <a:t>Us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Compa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In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Gover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1981440" cy="1628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3880" y="26668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Times New Roman"/>
                <a:ea typeface="Arial"/>
              </a:rPr>
              <a:t>Hosp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0520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"/>
          </p:cNvPr>
          <p:cNvSpPr/>
          <p:nvPr/>
        </p:nvSpPr>
        <p:spPr>
          <a:xfrm>
            <a:off x="425772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3581280"/>
            <a:ext cx="1812960" cy="2362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81280" y="6019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5"/>
          </p:cNvPr>
          <p:cNvSpPr/>
          <p:nvPr/>
        </p:nvSpPr>
        <p:spPr>
          <a:xfrm>
            <a:off x="4019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81480" y="609480"/>
            <a:ext cx="2934000" cy="189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62720" y="28195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P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ff0000"/>
                </a:solidFill>
                <a:latin typeface="Arial"/>
              </a:rPr>
              <a:t>Characteristics Institu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99"/>
                </a:solidFill>
                <a:latin typeface="Arial"/>
              </a:rPr>
              <a:t>Bu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99"/>
                </a:solidFill>
                <a:latin typeface="Arial"/>
              </a:rPr>
              <a:t>Captive pa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99"/>
                </a:solidFill>
                <a:latin typeface="Arial"/>
              </a:rPr>
              <a:t>Multiple buying infl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99"/>
                </a:solidFill>
                <a:latin typeface="Arial"/>
              </a:rPr>
              <a:t>Group purcha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ff0000"/>
                </a:solidFill>
                <a:latin typeface="Arial"/>
              </a:rPr>
              <a:t>Government characteris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All decisions are srutinised by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the public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politicians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pressure groups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lobby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This results in 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slow decision making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bureau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9576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blair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2306520" cy="231912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/>
          </p:cNvPr>
          <p:cNvSpPr/>
          <p:nvPr/>
        </p:nvSpPr>
        <p:spPr>
          <a:xfrm>
            <a:off x="40719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9108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bush" descr=""/>
          <p:cNvPicPr/>
          <p:nvPr/>
        </p:nvPicPr>
        <p:blipFill>
          <a:blip r:embed="rId3"/>
          <a:stretch/>
        </p:blipFill>
        <p:spPr>
          <a:xfrm>
            <a:off x="4660920" y="2362320"/>
            <a:ext cx="2130480" cy="2590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0544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280" y="304920"/>
            <a:ext cx="8763120" cy="65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933095"/>
                <a:gd name="adj2" fmla="val 67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REFUL DECISION MAKING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348000" y="4437000"/>
            <a:ext cx="1523880" cy="1790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6300720" y="4437000"/>
            <a:ext cx="2087640" cy="1540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076720" y="5157720"/>
            <a:ext cx="1028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ff0000"/>
                </a:solidFill>
                <a:latin typeface="Arial"/>
              </a:rPr>
              <a:t>Extra aggriv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Frequent personell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Obscure regulations</a:t>
            </a: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Cost over va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979640" y="907920"/>
            <a:ext cx="5113440" cy="280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2B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797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99ff"/>
                </a:solidFill>
                <a:latin typeface="Verdana"/>
                <a:ea typeface="Arial"/>
              </a:rPr>
              <a:t>Business to Business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52480" y="7621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Biggest Advant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431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banzai_8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562360" cy="4171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19520" y="6019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Huge customer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ff0000"/>
                </a:solidFill>
                <a:latin typeface="Arial"/>
              </a:rPr>
              <a:t>De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Negociated contr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T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European t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38160" y="672120"/>
            <a:ext cx="72702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Verdana"/>
                <a:ea typeface="Arial"/>
              </a:rPr>
              <a:t>Members of the buying centre or D.M.U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Gatekee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Influe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Dec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Bu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91440" y="265680"/>
            <a:ext cx="547344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Verdana"/>
                <a:ea typeface="Arial"/>
              </a:rPr>
              <a:t>How to handl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ind personal stake h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ollow the informatio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he exp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race the connection to the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nderstand purchasing’s ro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977040"/>
            <a:ext cx="70405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Verdana"/>
                <a:ea typeface="Arial"/>
              </a:rPr>
              <a:t>Relationship mark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The process of creating , maintain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enhancing strong, value laden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with customers and other stake hold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55240" y="477720"/>
            <a:ext cx="66258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ff"/>
                </a:solidFill>
                <a:latin typeface="Verdana"/>
                <a:ea typeface="Arial"/>
              </a:rPr>
              <a:t>Levels of relationshi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Basic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n&gt;%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Reactiv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n&gt;%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ccountabl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n=%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Proactiv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n=%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&gt; Partnership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n&lt;%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54360" y="1131840"/>
            <a:ext cx="72367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ff"/>
                </a:solidFill>
                <a:latin typeface="Verdana"/>
                <a:ea typeface="Arial"/>
              </a:rPr>
              <a:t>Relationship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Consistent application of up to d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knowledge of individual customer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product and service design which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communicated interactively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to develop a continuous and long 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relationship that is mutual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( Cr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880920"/>
            <a:ext cx="84978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Verdana"/>
                <a:ea typeface="Arial"/>
              </a:rPr>
              <a:t>CRM (Customer Relation Management</a:t>
            </a:r>
            <a:r>
              <a:rPr b="1" lang="en-GB" sz="2800" spc="-1" strike="noStrike">
                <a:solidFill>
                  <a:srgbClr val="3399ff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is no longer a way if selling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 strategy for achieving profitable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 competitive differenti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 core business compe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 critical enabler for improving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cquisition and pene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of custome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62160" y="879120"/>
            <a:ext cx="64335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Verdana"/>
                <a:ea typeface="Arial"/>
              </a:rPr>
              <a:t>Goal of CRM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Increase the lifetime valu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 company’s relationship with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target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Optimize the effectivenes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marketing, selling and serv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Maximize the value of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expenditure to mutual 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475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cc"/>
                </a:solidFill>
                <a:latin typeface="Verdana"/>
              </a:rPr>
              <a:t>Differences B2B &lt;-&gt; B2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Deals with derived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Fewer bu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Buyers geographically concent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Fewer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Inelastic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High value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High volume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Dealing with professional bu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04920" y="3124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2743200"/>
            <a:ext cx="3505320" cy="1428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 the Research Problem/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48200" y="1592280"/>
            <a:ext cx="2845080" cy="1428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the Research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94360" y="3546360"/>
            <a:ext cx="2844720" cy="142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Data Collectio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54520" y="5049720"/>
            <a:ext cx="2844720" cy="142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Data Collection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0560" y="5049720"/>
            <a:ext cx="2845080" cy="142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Sample and Collec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8000" y="3471840"/>
            <a:ext cx="2844720" cy="142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893960"/>
            <a:ext cx="2844720" cy="142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ing and Presenting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30400" y="1066680"/>
            <a:ext cx="2845080" cy="142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6440" y="2781000"/>
            <a:ext cx="438120" cy="33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00960" y="2870280"/>
            <a:ext cx="0" cy="601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745400" y="4973760"/>
            <a:ext cx="582480" cy="601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389120" y="6326280"/>
            <a:ext cx="438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888480" y="4973760"/>
            <a:ext cx="582840" cy="676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544760" y="1366920"/>
            <a:ext cx="1385640" cy="30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286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rketing Resear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ondary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al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38160"/>
            <a:ext cx="8229600" cy="23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ny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Reports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k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ail data - loyalty cards, till data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ternal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96720"/>
            <a:ext cx="7772400" cy="43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overnment Statistics (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 - Euro 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de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ercial Data - Gallup, Minte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usehold Expenditure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azine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firms’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 documents – publications, journal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2296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Sampling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Random Sampl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equal chance of anyone being pi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select those not in the target group –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mple sizes may need to be large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be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 be very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Stratified or Segment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mples on the basis of a representative strata or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ill random but more fo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give more relev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be more cost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Quota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gain – by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t randomly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fic number on each segment are interviewe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not be fully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eape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569a"/>
                </a:solidFill>
                <a:latin typeface="Arial"/>
              </a:rPr>
              <a:t>Cluster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based on geographical areas or ‘clusters’ that can be seen as being representative of the who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569a"/>
                </a:solidFill>
                <a:latin typeface="Arial"/>
              </a:rPr>
              <a:t>Multi-Stage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elected from multi-s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569a"/>
                </a:solidFill>
                <a:latin typeface="Arial"/>
              </a:rPr>
              <a:t>Snowball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s developed from conta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existing customers – ‘word of mouth’ type approa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cc"/>
                </a:solidFill>
                <a:latin typeface="Verdana"/>
              </a:rPr>
              <a:t>Differences B2B &lt;-&gt; B2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Interdep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Recipr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More relation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More formalized buy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More people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Long term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Turn ke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mary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Arial"/>
              </a:rPr>
              <a:t>Primary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rst h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nsive to collect, analyse and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be highly focussed and rele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e needs to be taken with the approach and methodology to ensur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s of question – closed – limited information gained; open – useful information but difficult to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Quantitative and Qualitative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Quantitati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based on numbers – 56% of 18 year olds drink alcohol at least four times a week - doesn’t tell you why, when, 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Qualitati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more detail – tells you why, when and h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Arial"/>
              </a:rPr>
              <a:t>Advantages of Market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lps focus attention on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ids forecasting, planning and strateg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y help to reduce risk of new produc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unicates image, vision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isation makes market information valuable (HSBC adverts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Arial"/>
              </a:rPr>
              <a:t>Disadvantages of Market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ormation only as goo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 the methodolog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be inaccurate or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lts may not be what the business wants to h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y stifle initiative and ‘gut feel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ways a problem that we may never know enough to be s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28480" y="611280"/>
            <a:ext cx="815364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at is more importan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82880" y="3271680"/>
            <a:ext cx="5256000" cy="308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2B or B2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3399ff"/>
                </a:solidFill>
                <a:latin typeface="Verdana"/>
              </a:rPr>
              <a:t>Important</a:t>
            </a:r>
            <a:r>
              <a:rPr b="1" lang="nl-NL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5400" spc="-1" strike="noStrike">
                <a:solidFill>
                  <a:srgbClr val="3399ff"/>
                </a:solidFill>
                <a:latin typeface="Verdana"/>
              </a:rPr>
              <a:t>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Number of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Contribution to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Number of people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Percieved importance of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Initial or derived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Amount of money spent on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Number of people employed in market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33cc"/>
                </a:solidFill>
                <a:latin typeface="Verdana"/>
              </a:rPr>
              <a:t>What do companies buy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4653000"/>
            <a:ext cx="756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Raw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Manufactured Materials an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413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Entering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mtls01.jpg (48040 bytes)"/>
          <p:cNvPicPr/>
          <p:nvPr/>
        </p:nvPicPr>
        <p:blipFill>
          <a:blip r:embed="rId1"/>
          <a:stretch/>
        </p:blipFill>
        <p:spPr>
          <a:xfrm>
            <a:off x="324000" y="2276640"/>
            <a:ext cx="2606400" cy="2065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2276640"/>
            <a:ext cx="3166920" cy="2103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689880" y="2246400"/>
            <a:ext cx="210024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476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Foundation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08360" y="1341360"/>
            <a:ext cx="2376360" cy="235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00720" y="1341360"/>
            <a:ext cx="2341800" cy="2376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44480" y="3860640"/>
            <a:ext cx="4515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Instal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Buildings,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Fixed equ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Accessory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76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Facilitating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5157720"/>
            <a:ext cx="756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Operating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9:18:42Z</dcterms:created>
  <dc:creator>HAN</dc:creator>
  <dc:description/>
  <dc:language>en-US</dc:language>
  <cp:lastModifiedBy>christine natalia</cp:lastModifiedBy>
  <dcterms:modified xsi:type="dcterms:W3CDTF">2006-12-26T20:02:58Z</dcterms:modified>
  <cp:revision>3</cp:revision>
  <dc:subject/>
  <dc:title>Dia 1</dc:title>
</cp:coreProperties>
</file>