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11.jpeg" ContentType="image/jpeg"/>
  <Override PartName="/ppt/media/image6.jpeg" ContentType="image/jpeg"/>
  <Override PartName="/ppt/media/image9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11F0-C4F7-4B35-913D-06012AE6C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5A13-3416-438F-88EB-0A6A95ADA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6618-EA9F-4F26-A222-7C2C0C290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890E-E28A-4792-A9D2-18BD6794D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8ED6-F7FF-4EAC-AC66-CE52226F3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CC05-E893-47A7-B93F-8903CD410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3022-9B50-4172-82C3-AEC2F1D3E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B0E4-3135-47DF-BEAB-2355F5822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01E5-871B-4793-A7FC-C12198373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7B53-7F0B-4A53-8FC4-1134C35D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4092-FF4C-4BC7-BE9E-6282ADE0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D420-2F16-4FAA-A502-3D91707E3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F63FC-90A0-4089-B20A-D0EDFEAAA52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http://www.lunarlegacies.com/images/Books/nasa-university.jpg" TargetMode="External"/><Relationship Id="rId3" Type="http://schemas.openxmlformats.org/officeDocument/2006/relationships/hyperlink" Target="http://www.lunarlegacies.com/images/Books/nasa-university.jpg" TargetMode="External"/><Relationship Id="rId4" Type="http://schemas.openxmlformats.org/officeDocument/2006/relationships/image" Target="../media/image10.jpeg"/><Relationship Id="rId5" Type="http://schemas.openxmlformats.org/officeDocument/2006/relationships/hyperlink" Target="http://images.google.nl/imgres?imgurl=www.newcolony.org/images/prison.gif&amp;imgrefurl=http://www.newcolony.org/pages/ministries/prison.htm&amp;h=234&amp;w=363&amp;sz=12&amp;tbnid=3Zl1HXvWVFIJ:&amp;tbnh=75&amp;tbnw=116&amp;prev=/images%3Fq%3Dprison%26hl%3Dnl%26lr%3D%26ie%3DU%20" TargetMode="External"/><Relationship Id="rId6" Type="http://schemas.openxmlformats.org/officeDocument/2006/relationships/hyperlink" Target="http://images.google.nl/imgres?imgurl=www.newcolony.org/images/prison.gif&amp;imgrefurl=http://www.newcolony.org/pages/ministries/prison.htm&amp;h=234&amp;w=363&amp;sz=12&amp;tbnid=3Zl1HXvWVFIJ:&amp;tbnh=75&amp;tbnw=116&amp;prev=/images%3Fq%3Dprison%26hl%3Dnl%26lr%3D%26ie%3DU%20" TargetMode="External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images.google.nl/imgres?imgurl=www.landenweb.com/images%255Cimgfrankrijk%255Cmitterand.jpg&amp;imgrefurl=http://www.landenweb.com/geschiedenis.cfm%3FLandID%3D149%26FRANKRIJK&amp;h=189&amp;w=250&amp;sz=12&amp;tbnid=NWKVctxG0zYJ:&amp;tbnh=80&amp;tbnw=105&amp;prev=/images%20" TargetMode="External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nl/imgres?imgurl=http://www.fertin.com/fileadmin/user_upload/production/receiving_raw_materials_2.jpg&amp;imgrefurl=http://www.fertin.com/index.php%3Fid%3D77&amp;h=665&amp;w=1000&amp;sz=60&amp;hl=nl&amp;start=29&amp;tbnid=uFLdHzLamKjMPM:&amp;tbnh=99&amp;tbnw=149&amp;prev=/images%3Fq%3Draw%2Bmaterials%26start%3D18%26ndsp%3D18%26svnum%3D10%26hl%3Dnl%26lr%3D%26sa%3DN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986040" y="476280"/>
            <a:ext cx="689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33cc"/>
                </a:solidFill>
                <a:latin typeface="Verdana"/>
                <a:ea typeface="Arial"/>
              </a:rPr>
              <a:t>How do companies bu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2362320"/>
            <a:ext cx="85820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924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New Task  =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extensive problem sol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24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Judgemental new ta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24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Strategic new ta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24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24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Straight Rebuy =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routine problem sol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24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Causal purc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24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Routine low pri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24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24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Modified rebuy=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limited problem solving behavi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24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simple modi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24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complex modi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54040" y="187560"/>
            <a:ext cx="810396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99ff"/>
                </a:solidFill>
                <a:latin typeface="Verdana"/>
                <a:ea typeface="Arial"/>
              </a:rPr>
              <a:t>Buying stages in organisational bu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  <a:ea typeface="Arial"/>
              </a:rPr>
              <a:t>Problem recognitio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  <a:ea typeface="Arial"/>
              </a:rPr>
              <a:t>Determination of character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  <a:ea typeface="Arial"/>
              </a:rPr>
              <a:t>and quantit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  <a:ea typeface="Arial"/>
              </a:rPr>
              <a:t>Description of character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  <a:ea typeface="Arial"/>
              </a:rPr>
              <a:t>and quantit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  <a:ea typeface="Arial"/>
              </a:rPr>
              <a:t>Search for and qualific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  <a:ea typeface="Arial"/>
              </a:rPr>
              <a:t>of suppliers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630864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35120" y="1431000"/>
            <a:ext cx="7678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  <a:ea typeface="Arial"/>
              </a:rPr>
              <a:t>Acquisition and analysis of proposal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  <a:ea typeface="Arial"/>
              </a:rPr>
              <a:t>Evaluation of proposals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  <a:ea typeface="Arial"/>
              </a:rPr>
              <a:t>election of supplier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  <a:ea typeface="Arial"/>
              </a:rPr>
              <a:t>Selection of an order routin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  <a:ea typeface="Arial"/>
              </a:rPr>
              <a:t>Performance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6165720"/>
            <a:ext cx="2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0000"/>
                </a:solidFill>
                <a:latin typeface="Arial"/>
              </a:rPr>
              <a:t>Intended Custom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600" spc="-1" strike="noStrike">
                <a:solidFill>
                  <a:srgbClr val="0000cc"/>
                </a:solidFill>
                <a:latin typeface="Arial"/>
              </a:rPr>
              <a:t>OEM’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600" spc="-1" strike="noStrike">
                <a:solidFill>
                  <a:srgbClr val="0000cc"/>
                </a:solidFill>
                <a:latin typeface="Arial"/>
              </a:rPr>
              <a:t>Dea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600" spc="-1" strike="noStrike">
                <a:solidFill>
                  <a:srgbClr val="0000cc"/>
                </a:solidFill>
                <a:latin typeface="Arial"/>
              </a:rPr>
              <a:t>Distribu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600" spc="-1" strike="noStrike">
                <a:solidFill>
                  <a:srgbClr val="0000cc"/>
                </a:solidFill>
                <a:latin typeface="Arial"/>
              </a:rPr>
              <a:t>Retail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600" spc="-1" strike="noStrike">
                <a:solidFill>
                  <a:srgbClr val="0000cc"/>
                </a:solidFill>
                <a:latin typeface="Arial"/>
              </a:rPr>
              <a:t>Us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0000"/>
                </a:solidFill>
                <a:latin typeface="Arial"/>
              </a:rPr>
              <a:t>Us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600" spc="-1" strike="noStrike">
                <a:solidFill>
                  <a:srgbClr val="0000cc"/>
                </a:solidFill>
                <a:latin typeface="Arial"/>
              </a:rPr>
              <a:t>Compan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600" spc="-1" strike="noStrike">
                <a:solidFill>
                  <a:srgbClr val="0000cc"/>
                </a:solidFill>
                <a:latin typeface="Arial"/>
              </a:rPr>
              <a:t>In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600" spc="-1" strike="noStrike">
                <a:solidFill>
                  <a:srgbClr val="0000cc"/>
                </a:solidFill>
                <a:latin typeface="Arial"/>
              </a:rPr>
              <a:t>Govern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295280" y="990720"/>
            <a:ext cx="1981440" cy="16286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523880" y="266688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cc"/>
                </a:solidFill>
                <a:latin typeface="Times New Roman"/>
                <a:ea typeface="Arial"/>
              </a:rPr>
              <a:t>Hospit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905200" y="13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rId2"/>
          </p:cNvPr>
          <p:cNvSpPr/>
          <p:nvPr/>
        </p:nvSpPr>
        <p:spPr>
          <a:xfrm>
            <a:off x="425772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images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52680" y="3581280"/>
            <a:ext cx="1812960" cy="23623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581280" y="601992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cc"/>
                </a:solidFill>
                <a:latin typeface="Times New Roman"/>
                <a:ea typeface="Arial"/>
              </a:rPr>
              <a:t>Sch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rId5"/>
          </p:cNvPr>
          <p:cNvSpPr/>
          <p:nvPr/>
        </p:nvSpPr>
        <p:spPr>
          <a:xfrm>
            <a:off x="401940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images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181480" y="609480"/>
            <a:ext cx="2934000" cy="18972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62720" y="28195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cc"/>
                </a:solidFill>
                <a:latin typeface="Times New Roman"/>
                <a:ea typeface="Arial"/>
              </a:rPr>
              <a:t>Pri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5400" spc="-1" strike="noStrike">
                <a:solidFill>
                  <a:srgbClr val="ff0000"/>
                </a:solidFill>
                <a:latin typeface="Arial"/>
              </a:rPr>
              <a:t>Characteristics Institut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333399"/>
                </a:solidFill>
                <a:latin typeface="Arial"/>
              </a:rPr>
              <a:t>Bu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333399"/>
                </a:solidFill>
                <a:latin typeface="Arial"/>
              </a:rPr>
              <a:t>Captive patr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333399"/>
                </a:solidFill>
                <a:latin typeface="Arial"/>
              </a:rPr>
              <a:t>Multiple buying influ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333399"/>
                </a:solidFill>
                <a:latin typeface="Arial"/>
              </a:rPr>
              <a:t>Group purcha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4800" spc="-1" strike="noStrike">
                <a:solidFill>
                  <a:srgbClr val="ff0000"/>
                </a:solidFill>
                <a:latin typeface="Arial"/>
              </a:rPr>
              <a:t>Government characterist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cc"/>
                </a:solidFill>
                <a:latin typeface="Arial"/>
              </a:rPr>
              <a:t>All decisions are srutinised by</a:t>
            </a:r>
            <a:br>
              <a:rPr sz="3200"/>
            </a:br>
            <a:r>
              <a:rPr b="1" lang="nl-NL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cc"/>
                </a:solidFill>
                <a:latin typeface="Arial"/>
              </a:rPr>
              <a:t>the public</a:t>
            </a:r>
            <a:br>
              <a:rPr sz="3200"/>
            </a:br>
            <a:r>
              <a:rPr b="1" lang="nl-NL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cc"/>
                </a:solidFill>
                <a:latin typeface="Arial"/>
              </a:rPr>
              <a:t>politicians</a:t>
            </a:r>
            <a:br>
              <a:rPr sz="3200"/>
            </a:br>
            <a:r>
              <a:rPr b="1" lang="nl-NL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cc"/>
                </a:solidFill>
                <a:latin typeface="Arial"/>
              </a:rPr>
              <a:t>pressure groups</a:t>
            </a:r>
            <a:br>
              <a:rPr sz="3200"/>
            </a:br>
            <a:r>
              <a:rPr b="1" lang="nl-NL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cc"/>
                </a:solidFill>
                <a:latin typeface="Arial"/>
              </a:rPr>
              <a:t>lobby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cc"/>
                </a:solidFill>
                <a:latin typeface="Arial"/>
              </a:rPr>
              <a:t>This results in </a:t>
            </a:r>
            <a:br>
              <a:rPr sz="3200"/>
            </a:br>
            <a:r>
              <a:rPr b="1" lang="nl-NL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cc"/>
                </a:solidFill>
                <a:latin typeface="Arial"/>
              </a:rPr>
              <a:t>slow decision making</a:t>
            </a:r>
            <a:br>
              <a:rPr sz="3200"/>
            </a:br>
            <a:r>
              <a:rPr b="1" lang="nl-NL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cc"/>
                </a:solidFill>
                <a:latin typeface="Arial"/>
              </a:rPr>
              <a:t>bureauc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795760" y="16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blair" descr=""/>
          <p:cNvPicPr/>
          <p:nvPr/>
        </p:nvPicPr>
        <p:blipFill>
          <a:blip r:embed="rId1"/>
          <a:stretch/>
        </p:blipFill>
        <p:spPr>
          <a:xfrm>
            <a:off x="1676520" y="2819520"/>
            <a:ext cx="2306520" cy="2319120"/>
          </a:xfrm>
          <a:prstGeom prst="rect">
            <a:avLst/>
          </a:prstGeom>
          <a:ln w="0">
            <a:noFill/>
          </a:ln>
        </p:spPr>
      </p:pic>
      <p:sp>
        <p:nvSpPr>
          <p:cNvPr id="93" name="">
            <a:hlinkClick r:id="rId2"/>
          </p:cNvPr>
          <p:cNvSpPr/>
          <p:nvPr/>
        </p:nvSpPr>
        <p:spPr>
          <a:xfrm>
            <a:off x="407196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691080" y="23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bush" descr=""/>
          <p:cNvPicPr/>
          <p:nvPr/>
        </p:nvPicPr>
        <p:blipFill>
          <a:blip r:embed="rId3"/>
          <a:stretch/>
        </p:blipFill>
        <p:spPr>
          <a:xfrm>
            <a:off x="4660920" y="2362320"/>
            <a:ext cx="2130480" cy="25905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10544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52280" y="304920"/>
            <a:ext cx="8763120" cy="655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10933095"/>
                <a:gd name="adj2" fmla="val 676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AREFUL DECISION MAKING</a:t>
            </a:r>
            <a:endParaRPr b="0" lang="en-US" sz="1800" spc="1" strike="noStrike">
              <a:ln w="324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3348000" y="4437000"/>
            <a:ext cx="1523880" cy="1790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6300720" y="4437000"/>
            <a:ext cx="2087640" cy="15400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5076720" y="5157720"/>
            <a:ext cx="10288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4800" spc="-1" strike="noStrike">
                <a:solidFill>
                  <a:srgbClr val="ff0000"/>
                </a:solidFill>
                <a:latin typeface="Arial"/>
              </a:rPr>
              <a:t>Extra aggriv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cc"/>
                </a:solidFill>
                <a:latin typeface="Arial"/>
              </a:rPr>
              <a:t>Frequent personell cha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cc"/>
                </a:solidFill>
                <a:latin typeface="Arial"/>
              </a:rPr>
              <a:t>Obscure regulations</a:t>
            </a:r>
            <a:r>
              <a:rPr b="1" lang="nl-NL" sz="3600" spc="-1" strike="noStrike">
                <a:solidFill>
                  <a:srgbClr val="0000cc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cc"/>
                </a:solidFill>
                <a:latin typeface="Arial"/>
              </a:rPr>
              <a:t>Cost over val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979640" y="907920"/>
            <a:ext cx="5113440" cy="280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2B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479736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3399ff"/>
                </a:solidFill>
                <a:latin typeface="Verdana"/>
                <a:ea typeface="Arial"/>
              </a:rPr>
              <a:t>Business to Business Marke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752480" y="762120"/>
            <a:ext cx="525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4800" spc="-1" strike="noStrike">
                <a:solidFill>
                  <a:srgbClr val="ff0000"/>
                </a:solidFill>
                <a:latin typeface="Times New Roman"/>
                <a:ea typeface="Arial"/>
              </a:rPr>
              <a:t>Biggest Advanta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43160" y="23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banzai_8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5562360" cy="41716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819520" y="601992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cc"/>
                </a:solidFill>
                <a:latin typeface="Times New Roman"/>
                <a:ea typeface="Arial"/>
              </a:rPr>
              <a:t>Huge customer 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4800" spc="-1" strike="noStrike">
                <a:solidFill>
                  <a:srgbClr val="ff0000"/>
                </a:solidFill>
                <a:latin typeface="Arial"/>
              </a:rPr>
              <a:t>Dea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cc"/>
                </a:solidFill>
                <a:latin typeface="Arial"/>
              </a:rPr>
              <a:t>Negociated contra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cc"/>
                </a:solidFill>
                <a:latin typeface="Arial"/>
              </a:rPr>
              <a:t>Te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cc"/>
                </a:solidFill>
                <a:latin typeface="Arial"/>
              </a:rPr>
              <a:t>European te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38160" y="672120"/>
            <a:ext cx="727020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99ff"/>
                </a:solidFill>
                <a:latin typeface="Verdana"/>
                <a:ea typeface="Arial"/>
              </a:rPr>
              <a:t>Members of the buying centre or D.M.U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Gatekee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Influen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Deci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Bu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891440" y="265680"/>
            <a:ext cx="5473440" cy="53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99ff"/>
                </a:solidFill>
                <a:latin typeface="Verdana"/>
                <a:ea typeface="Arial"/>
              </a:rPr>
              <a:t>How to handle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Find personal stake ho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Follow the information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Identify the exp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Trace the connection to the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Understand purchasing’s ro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71640" y="977040"/>
            <a:ext cx="7040520" cy="50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99ff"/>
                </a:solidFill>
                <a:latin typeface="Verdana"/>
                <a:ea typeface="Arial"/>
              </a:rPr>
              <a:t>Relationship marke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The process of creating , maintaining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enhancing strong, value laden 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with customers and other stake holde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155240" y="477720"/>
            <a:ext cx="662580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99ff"/>
                </a:solidFill>
                <a:latin typeface="Verdana"/>
                <a:ea typeface="Arial"/>
              </a:rPr>
              <a:t>Levels of relationshi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Basic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n&gt;%&l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Reactiv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n&gt;%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Accountabl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n=%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Proactiv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n=%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&gt; Partnership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n&lt;%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954360" y="1131840"/>
            <a:ext cx="723672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99ff"/>
                </a:solidFill>
                <a:latin typeface="Verdana"/>
                <a:ea typeface="Arial"/>
              </a:rPr>
              <a:t>Relationship marke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Consistent application of up to d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knowledge of individual customers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product and service design which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communicated interactively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to develop a continuous and long ter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relationship that is mutually benefi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( Cra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95280" y="880920"/>
            <a:ext cx="849780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99ff"/>
                </a:solidFill>
                <a:latin typeface="Verdana"/>
                <a:ea typeface="Arial"/>
              </a:rPr>
              <a:t>CRM (Customer Relation Management</a:t>
            </a:r>
            <a:r>
              <a:rPr b="1" lang="en-GB" sz="2800" spc="-1" strike="noStrike">
                <a:solidFill>
                  <a:srgbClr val="3399ff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is no longer a way if selling b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a strategy for achieving profitable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a competitive differenti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a core business compet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a critical enabler for improving custo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acquisition and pene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of customer 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262160" y="879120"/>
            <a:ext cx="643356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99ff"/>
                </a:solidFill>
                <a:latin typeface="Verdana"/>
                <a:ea typeface="Arial"/>
              </a:rPr>
              <a:t>Goal of CRM Sys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Increase the lifetime value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a company’s relationship with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target custo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Optimize the effectiveness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marketing, selling and servi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Maximize the value of custo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expenditure to mutual g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475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Market 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33cc"/>
                </a:solidFill>
                <a:latin typeface="Verdana"/>
              </a:rPr>
              <a:t>Differences B2B &lt;-&gt; B2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Verdana"/>
              </a:rPr>
              <a:t>Deals with derived de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Verdana"/>
              </a:rPr>
              <a:t>Fewer buy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Verdana"/>
              </a:rPr>
              <a:t>Buyers geographically concentr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Verdana"/>
              </a:rPr>
              <a:t>Fewer trans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Verdana"/>
              </a:rPr>
              <a:t>Inelastic de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Verdana"/>
              </a:rPr>
              <a:t>High value trans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Verdana"/>
              </a:rPr>
              <a:t>High volume trans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Verdana"/>
              </a:rPr>
              <a:t>Dealing with professional buy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66ff33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04920" y="31240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95480" y="2743200"/>
            <a:ext cx="3505320" cy="1428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432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 the Research Problem/Opport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848200" y="1592280"/>
            <a:ext cx="2845080" cy="1428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432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termine the Research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994360" y="3546360"/>
            <a:ext cx="2844720" cy="1427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432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termine Data Collection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54520" y="5049720"/>
            <a:ext cx="2844720" cy="1427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432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sign Data Collection 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690560" y="5049720"/>
            <a:ext cx="2845080" cy="1427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432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sign Sample and Collect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78000" y="3471840"/>
            <a:ext cx="2844720" cy="14270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432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alyzing  th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1893960"/>
            <a:ext cx="2844720" cy="14270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432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eparing and Presenting the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930400" y="1066680"/>
            <a:ext cx="2845080" cy="1427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432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ollow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6440" y="2781000"/>
            <a:ext cx="438120" cy="3380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400960" y="2870280"/>
            <a:ext cx="0" cy="601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7745400" y="4973760"/>
            <a:ext cx="582480" cy="601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4389120" y="6326280"/>
            <a:ext cx="438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888480" y="4973760"/>
            <a:ext cx="582840" cy="676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1544760" y="1366920"/>
            <a:ext cx="1385640" cy="301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" y="228600"/>
            <a:ext cx="87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arketing Research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500"/>
                            </p:stCondLst>
                            <p:childTnLst>
                              <p:par>
                                <p:cTn id="6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500"/>
                            </p:stCondLst>
                            <p:childTnLst>
                              <p:par>
                                <p:cTn id="6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500"/>
                            </p:stCondLst>
                            <p:childTnLst>
                              <p:par>
                                <p:cTn id="6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500"/>
                            </p:stCondLst>
                            <p:childTnLst>
                              <p:par>
                                <p:cTn id="6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500"/>
                            </p:stCondLst>
                            <p:childTnLst>
                              <p:par>
                                <p:cTn id="6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500"/>
                            </p:stCondLst>
                            <p:childTnLst>
                              <p:par>
                                <p:cTn id="6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63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Market 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63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condary 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63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ternal 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838160"/>
            <a:ext cx="8229600" cy="23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any Accou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nal Reports and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ock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tail data - loyalty cards, till data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63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ternal 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2196720"/>
            <a:ext cx="7772400" cy="43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overnment Statistics (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U - Euro St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rade pub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mmercial Data - Gallup, Mintel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usehold Expenditure Surv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gazine surv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ther firms’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search documents – publications, journal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82296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ing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Market 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e56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e569a"/>
                </a:solidFill>
                <a:latin typeface="Arial"/>
              </a:rPr>
              <a:t>Sampling Metho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e56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e569a"/>
                </a:solidFill>
                <a:latin typeface="Arial"/>
              </a:rPr>
              <a:t>Random Samples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– equal chance of anyone being pic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ay select those not in the target group – indiscrimi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ample sizes may need to be large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 be represent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an be very expe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Market 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e56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e569a"/>
                </a:solidFill>
                <a:latin typeface="Arial"/>
              </a:rPr>
              <a:t>Stratified or Segment Random Samp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amples on the basis of a representative strata or se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till random but more focu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ay give more relevant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ay be more cost eff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Market 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e56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e569a"/>
                </a:solidFill>
                <a:latin typeface="Arial"/>
              </a:rPr>
              <a:t>Quota Samp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gain – by se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ot randomly sel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pecific number on each segment are interviewe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ay not be fully represent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heaper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arket 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e56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569a"/>
                </a:solidFill>
                <a:latin typeface="Arial"/>
              </a:rPr>
              <a:t>Cluster Samp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ily based on geographical areas or ‘clusters’ that can be seen as being representative of the whole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e56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569a"/>
                </a:solidFill>
                <a:latin typeface="Arial"/>
              </a:rPr>
              <a:t>Multi-Stage Samp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selected from multi-stag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-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e56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569a"/>
                </a:solidFill>
                <a:latin typeface="Arial"/>
              </a:rPr>
              <a:t>Snowball Samp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s developed from contact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existing customers – ‘word of mouth’ type approach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33cc"/>
                </a:solidFill>
                <a:latin typeface="Verdana"/>
              </a:rPr>
              <a:t>Differences B2B &lt;-&gt; B2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Verdana"/>
              </a:rPr>
              <a:t>Interdep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Verdana"/>
              </a:rPr>
              <a:t>Recipro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Verdana"/>
              </a:rPr>
              <a:t>More relation b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Verdana"/>
              </a:rPr>
              <a:t>More formalized buying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Verdana"/>
              </a:rPr>
              <a:t>More people inv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Verdana"/>
              </a:rPr>
              <a:t>Long term contr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Verdana"/>
              </a:rPr>
              <a:t>Turn key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63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imary 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Market 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e56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e569a"/>
                </a:solidFill>
                <a:latin typeface="Arial"/>
              </a:rPr>
              <a:t>Primary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irst hand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pensive to collect, analyse and evalu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an be highly focussed and relev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are needs to be taken with the approach and methodology to ensure accu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ypes of question – closed – limited information gained; open – useful information but difficult to 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arket 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e56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e569a"/>
                </a:solidFill>
                <a:latin typeface="Arial"/>
              </a:rPr>
              <a:t>Quantitative and Qualitative Inform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e56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e569a"/>
                </a:solidFill>
                <a:latin typeface="Arial"/>
              </a:rPr>
              <a:t>Quantitativ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– based on numbers – 56% of 18 year olds drink alcohol at least four times a week - doesn’t tell you why, when, h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e56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e569a"/>
                </a:solidFill>
                <a:latin typeface="Arial"/>
              </a:rPr>
              <a:t>Qualitativ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– more detail – tells you why, when and how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63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Market 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e56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e569a"/>
                </a:solidFill>
                <a:latin typeface="Arial"/>
              </a:rPr>
              <a:t>Advantages of Market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elps focus attention on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ids forecasting, planning and strategic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y help to reduce risk of new product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mmunicates image, vision, et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lobalisation makes market information valuable (HSBC adverts!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Market 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e56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e569a"/>
                </a:solidFill>
                <a:latin typeface="Arial"/>
              </a:rPr>
              <a:t>Disadvantages of Market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formation only as good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s the methodolog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an be inaccurate or unrel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sults may not be what the business wants to hea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y stifle initiative and ‘gut feeling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lways a problem that we may never know enough to be su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528480" y="611280"/>
            <a:ext cx="8153640" cy="22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0033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What is more important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99ff"/>
                  </a:gs>
                  <a:gs pos="100000">
                    <a:srgbClr val="0033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982880" y="3271680"/>
            <a:ext cx="5256000" cy="308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3399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2B or B2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33cc"/>
                  </a:gs>
                  <a:gs pos="100000">
                    <a:srgbClr val="3399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400" spc="-1" strike="noStrike">
                <a:solidFill>
                  <a:srgbClr val="3399ff"/>
                </a:solidFill>
                <a:latin typeface="Verdana"/>
              </a:rPr>
              <a:t>Important</a:t>
            </a:r>
            <a:r>
              <a:rPr b="1" lang="nl-NL" sz="5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nl-NL" sz="5400" spc="-1" strike="noStrike">
                <a:solidFill>
                  <a:srgbClr val="3399ff"/>
                </a:solidFill>
                <a:latin typeface="Verdana"/>
              </a:rPr>
              <a:t>?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Verdana"/>
              </a:rPr>
              <a:t>Number of trans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Verdana"/>
              </a:rPr>
              <a:t>Contribution to G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Verdana"/>
              </a:rPr>
              <a:t>Number of people emplo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Verdana"/>
              </a:rPr>
              <a:t>Percieved importance of br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Verdana"/>
              </a:rPr>
              <a:t>Initial or derived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Verdana"/>
              </a:rPr>
              <a:t>Amount of money spent on promo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Verdana"/>
              </a:rPr>
              <a:t>Number of people employed in marketing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33cc"/>
                </a:solidFill>
                <a:latin typeface="Verdana"/>
              </a:rPr>
              <a:t>What do companies buy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4653000"/>
            <a:ext cx="7561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Verdana"/>
                <a:ea typeface="Arial"/>
              </a:rPr>
              <a:t>Raw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Verdana"/>
                <a:ea typeface="Arial"/>
              </a:rPr>
              <a:t>Manufactured Materials and 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26920" y="141300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Verdana"/>
                <a:ea typeface="Arial"/>
              </a:rPr>
              <a:t>Entering G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mtls01.jpg (48040 bytes)"/>
          <p:cNvPicPr/>
          <p:nvPr/>
        </p:nvPicPr>
        <p:blipFill>
          <a:blip r:embed="rId1"/>
          <a:stretch/>
        </p:blipFill>
        <p:spPr>
          <a:xfrm>
            <a:off x="324000" y="2276640"/>
            <a:ext cx="2606400" cy="2065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03640" y="2276640"/>
            <a:ext cx="3166920" cy="2103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6689880" y="2246400"/>
            <a:ext cx="2100240" cy="21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24000" y="476280"/>
            <a:ext cx="75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Verdana"/>
                <a:ea typeface="Arial"/>
              </a:rPr>
              <a:t>Foundation g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168720" cy="2374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708360" y="1341360"/>
            <a:ext cx="2376360" cy="2354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6300720" y="1341360"/>
            <a:ext cx="2341800" cy="23767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744480" y="3860640"/>
            <a:ext cx="45151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Verdana"/>
                <a:ea typeface="Arial"/>
              </a:rPr>
              <a:t>Instal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Verdana"/>
                <a:ea typeface="Arial"/>
              </a:rPr>
              <a:t>Buildings,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Verdana"/>
                <a:ea typeface="Arial"/>
              </a:rPr>
              <a:t>Fixed equ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Verdana"/>
                <a:ea typeface="Arial"/>
              </a:rPr>
              <a:t>Accessory Equi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24000" y="476280"/>
            <a:ext cx="75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Verdana"/>
                <a:ea typeface="Arial"/>
              </a:rPr>
              <a:t>Facilitating g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211640" y="1628640"/>
            <a:ext cx="4032360" cy="30243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95280" y="5157720"/>
            <a:ext cx="7561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Verdana"/>
                <a:ea typeface="Arial"/>
              </a:rPr>
              <a:t>Operating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Verdana"/>
                <a:ea typeface="Arial"/>
              </a:rPr>
              <a:t>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7T09:18:42Z</dcterms:created>
  <dc:creator>HAN</dc:creator>
  <dc:description/>
  <dc:language>en-US</dc:language>
  <cp:lastModifiedBy>christine natalia</cp:lastModifiedBy>
  <dcterms:modified xsi:type="dcterms:W3CDTF">2006-12-26T20:02:58Z</dcterms:modified>
  <cp:revision>3</cp:revision>
  <dc:subject/>
  <dc:title>Dia 1</dc:title>
</cp:coreProperties>
</file>