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6.jpeg" ContentType="image/jpeg"/>
  <Override PartName="/ppt/media/image9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0F43-F1C1-423F-9A56-3B186A050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A52C-2470-4D8D-AF6C-D7477F0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96F-4DA1-4B35-A494-845413D17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CF03-F2DA-43E2-832B-41F494F1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FFB2-A531-42C7-9948-90F2F8BF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9A2-B27B-4E20-8332-8E01F6B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5CD-9269-4C29-8649-A7F16C60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40CE-9C02-46D3-A2B3-51F1340B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C3A-1DDB-4D61-913D-5A270336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D28F-FCF0-43B7-96A6-F4431E3F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48A-A62E-4601-BDC1-7F501F7D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171-4DF5-4F06-95C4-4D7764AF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594C-1E6C-4DB0-8463-AF516CA601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http://www.lunarlegacies.com/images/Books/nasa-university.jpg" TargetMode="External"/><Relationship Id="rId3" Type="http://schemas.openxmlformats.org/officeDocument/2006/relationships/hyperlink" Target="http://www.lunarlegacies.com/images/Books/nasa-university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6" Type="http://schemas.openxmlformats.org/officeDocument/2006/relationships/hyperlink" Target="http://images.google.nl/imgres?imgurl=www.newcolony.org/images/prison.gif&amp;imgrefurl=http://www.newcolony.org/pages/ministries/prison.htm&amp;h=234&amp;w=363&amp;sz=12&amp;tbnid=3Zl1HXvWVFIJ:&amp;tbnh=75&amp;tbnw=116&amp;prev=/images%3Fq%3Dprison%26hl%3Dnl%26lr%3D%26ie%3DU%20" TargetMode="Externa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nl/imgres?imgurl=www.landenweb.com/images%255Cimgfrankrijk%255Cmitterand.jpg&amp;imgrefurl=http://www.landenweb.com/geschiedenis.cfm%3FLandID%3D149%26FRANKRIJK&amp;h=189&amp;w=250&amp;sz=12&amp;tbnid=NWKVctxG0zYJ:&amp;tbnh=80&amp;tbnw=105&amp;prev=/images%20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nl/imgres?imgurl=http://www.fertin.com/fileadmin/user_upload/production/receiving_raw_materials_2.jpg&amp;imgrefurl=http://www.fertin.com/index.php%3Fid%3D77&amp;h=665&amp;w=1000&amp;sz=60&amp;hl=nl&amp;start=29&amp;tbnid=uFLdHzLamKjMPM:&amp;tbnh=99&amp;tbnw=149&amp;prev=/images%3Fq%3Draw%2Bmaterials%26start%3D18%26ndsp%3D18%26svnum%3D10%26hl%3Dnl%26lr%3D%26sa%3DN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86040" y="476280"/>
            <a:ext cx="689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  <a:ea typeface="Arial"/>
              </a:rPr>
              <a:t>How do companies bu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2362320"/>
            <a:ext cx="8582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New Task 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extensiv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Judgemental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tegic new t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traight Rebuy 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problem s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ausal purc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Routine low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Modified rebuy=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limited problem solving 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simple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924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mplex mod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54040" y="187560"/>
            <a:ext cx="810396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Buying stages in organisational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roblem recogniti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termina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Description of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nd quantit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arch for and qual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of supplier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308640"/>
            <a:ext cx="4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5120" y="1431000"/>
            <a:ext cx="767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analysis of proposal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valuation of proposal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election of supplier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Selection of an order routin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4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  <a:ea typeface="Arial"/>
              </a:rPr>
              <a:t>Performance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165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Intended Custom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OEM’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ea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Distrib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Retai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Us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0000"/>
                </a:solidFill>
                <a:latin typeface="Arial"/>
              </a:rPr>
              <a:t>Us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Compan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In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0000cc"/>
                </a:solidFill>
                <a:latin typeface="Arial"/>
              </a:rPr>
              <a:t>Gover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1981440" cy="1628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2666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Times New Roman"/>
                <a:ea typeface="Arial"/>
              </a:rPr>
              <a:t>Hospit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0520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/>
          </p:cNvPr>
          <p:cNvSpPr/>
          <p:nvPr/>
        </p:nvSpPr>
        <p:spPr>
          <a:xfrm>
            <a:off x="4257720" y="30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52680" y="3581280"/>
            <a:ext cx="1812960" cy="236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581280" y="6019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/>
          </p:cNvPr>
          <p:cNvSpPr/>
          <p:nvPr/>
        </p:nvSpPr>
        <p:spPr>
          <a:xfrm>
            <a:off x="401940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s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181480" y="609480"/>
            <a:ext cx="2934000" cy="1897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62720" y="28195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P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ff0000"/>
                </a:solidFill>
                <a:latin typeface="Arial"/>
              </a:rPr>
              <a:t>Characteristics Institutio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Bu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Captive patr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Multiple buying infl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3399"/>
                </a:solidFill>
                <a:latin typeface="Arial"/>
              </a:rPr>
              <a:t>Group purcha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Government characteri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All decisions are srutinised by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e public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olitician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pressure groups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lobby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This results in 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slow decision making</a:t>
            </a:r>
            <a:br>
              <a:rPr sz="3200"/>
            </a:b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cc"/>
                </a:solidFill>
                <a:latin typeface="Arial"/>
              </a:rPr>
              <a:t>bureau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9576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blair" descr=""/>
          <p:cNvPicPr/>
          <p:nvPr/>
        </p:nvPicPr>
        <p:blipFill>
          <a:blip r:embed="rId1"/>
          <a:stretch/>
        </p:blipFill>
        <p:spPr>
          <a:xfrm>
            <a:off x="1676520" y="2819520"/>
            <a:ext cx="2306520" cy="231912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rId2"/>
          </p:cNvPr>
          <p:cNvSpPr/>
          <p:nvPr/>
        </p:nvSpPr>
        <p:spPr>
          <a:xfrm>
            <a:off x="407196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9108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bush" descr=""/>
          <p:cNvPicPr/>
          <p:nvPr/>
        </p:nvPicPr>
        <p:blipFill>
          <a:blip r:embed="rId3"/>
          <a:stretch/>
        </p:blipFill>
        <p:spPr>
          <a:xfrm>
            <a:off x="4660920" y="2362320"/>
            <a:ext cx="2130480" cy="2590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10544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52280" y="304920"/>
            <a:ext cx="87631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933095"/>
                <a:gd name="adj2" fmla="val 67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AREFUL DECISION MAKING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348000" y="4437000"/>
            <a:ext cx="1523880" cy="1790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6300720" y="4437000"/>
            <a:ext cx="2087640" cy="1540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076720" y="5157720"/>
            <a:ext cx="10288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Extra aggriv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Frequent personell cha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Obscure regulations</a:t>
            </a: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Cost over va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979640" y="907920"/>
            <a:ext cx="5113440" cy="280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4797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Verdana"/>
                <a:ea typeface="Arial"/>
              </a:rPr>
              <a:t>Business to Business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752480" y="7621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Times New Roman"/>
                <a:ea typeface="Arial"/>
              </a:rPr>
              <a:t>Biggest Advan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4316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anzai_8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562360" cy="4171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819520" y="6019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cc"/>
                </a:solidFill>
                <a:latin typeface="Times New Roman"/>
                <a:ea typeface="Arial"/>
              </a:rPr>
              <a:t>Huge customer 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4800" spc="-1" strike="noStrike">
                <a:solidFill>
                  <a:srgbClr val="ff0000"/>
                </a:solidFill>
                <a:latin typeface="Arial"/>
              </a:rPr>
              <a:t>De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Negociated contr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cc"/>
                </a:solidFill>
                <a:latin typeface="Arial"/>
              </a:rPr>
              <a:t>European t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38160" y="672120"/>
            <a:ext cx="72702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99ff"/>
                </a:solidFill>
                <a:latin typeface="Verdana"/>
                <a:ea typeface="Arial"/>
              </a:rPr>
              <a:t>Members of the buying centre or D.M.U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Gatekee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fluen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Dec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u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891440" y="265680"/>
            <a:ext cx="547344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How to handl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ind personal stake h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Follow the informatio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dentify the exp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race the connection to the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Understand purchasing’s rol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977040"/>
            <a:ext cx="704052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he process of creating , maintain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nhancing strong, value laden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with customers and other stake 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55240" y="477720"/>
            <a:ext cx="66258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Levels of relation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Basic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&l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gt;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countabl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activ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=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&gt; Partnership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n&lt;%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54360" y="1131840"/>
            <a:ext cx="7236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99ff"/>
                </a:solidFill>
                <a:latin typeface="Verdana"/>
                <a:ea typeface="Arial"/>
              </a:rPr>
              <a:t>Relationship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nsistent application of up to d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knowledge of individual customer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product and service design which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communicated interactively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o develop a continuous and long 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relationship that is mutually bene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( Cra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95280" y="880920"/>
            <a:ext cx="84978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CRM (Customer Relation Management</a:t>
            </a:r>
            <a:r>
              <a:rPr b="1" lang="en-GB" sz="2800" spc="-1" strike="noStrike">
                <a:solidFill>
                  <a:srgbClr val="3399ff"/>
                </a:solidFill>
                <a:latin typeface="Arial"/>
                <a:ea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s no longer a way if selling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strategy for achieving profitable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etitive differen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re business compe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ritical enabler for improving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cquisition and pene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f customer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62160" y="879120"/>
            <a:ext cx="6433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99ff"/>
                </a:solidFill>
                <a:latin typeface="Verdana"/>
                <a:ea typeface="Arial"/>
              </a:rPr>
              <a:t>Goal of CRM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Increase the lifetime valu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a company’s relationship with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target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Optimize the effectiveness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rketing, selling and serv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Maximize the value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  <a:ea typeface="Arial"/>
              </a:rPr>
              <a:t>expenditure to mutual g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475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s with derived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Buyers geographically concent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Fewer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elastic de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alu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High volume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Dealing with professional bu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66ff3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04920" y="31240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2743200"/>
            <a:ext cx="350532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ing  the Research Problem/Opport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48200" y="1592280"/>
            <a:ext cx="2845080" cy="1428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the Research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94360" y="354636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e Data Collection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54520" y="5049720"/>
            <a:ext cx="284472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Data Collection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0560" y="504972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ign Sample and Collec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8000" y="347184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1893960"/>
            <a:ext cx="2844720" cy="14270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ing and Presenting th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30400" y="1066680"/>
            <a:ext cx="2845080" cy="14274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432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6440" y="2781000"/>
            <a:ext cx="438120" cy="3380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00960" y="2870280"/>
            <a:ext cx="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745400" y="4973760"/>
            <a:ext cx="582480" cy="601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389120" y="6326280"/>
            <a:ext cx="438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888480" y="4973760"/>
            <a:ext cx="582840" cy="676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44760" y="1366920"/>
            <a:ext cx="1385640" cy="301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286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rketing Researc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38160"/>
            <a:ext cx="8229600" cy="23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ny Ac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Reports and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ock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ail data - loyalty cards, till data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196720"/>
            <a:ext cx="7772400" cy="43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overnment Statistics (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 - Euro 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de 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ercial Data - Gallup, Minte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usehold Expenditure Surv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gazine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ther firms’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earch documents – publications, journal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82296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ing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ampling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Random Sample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equal chance of anyone being pi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select those not in the target group – indiscri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 sizes may need to be large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be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Stratified or Segment Random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amples on the basis of a representative strata or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ill random but more focu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give more relevan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be more cost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ota Sam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gain – by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t randomly se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fic number on each segment are interview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y not be fully represent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eaper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Cluster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ily based on geographical areas or ‘clusters’ that can be seen as being representative of the who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Multi-Stage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selected from multi-stag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-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569a"/>
                </a:solidFill>
                <a:latin typeface="Arial"/>
              </a:rPr>
              <a:t>Snowball Samp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s developed from contac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xisting customers – ‘word of mouth’ type approa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33cc"/>
                </a:solidFill>
                <a:latin typeface="Verdana"/>
              </a:rPr>
              <a:t>Differences B2B &lt;-&gt; B2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Interdep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Recipro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relation 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formalized buy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More people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Long term contr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</a:rPr>
              <a:t>Turn key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ary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Primary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rst h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xpensive to collect, analyse and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highly focussed and relev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re needs to be taken with the approach and methodology to ensur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es of question – closed – limited information gained; open – useful information but difficult to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 and Qualitative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nt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based on numbers – 56% of 18 year olds drink alcohol at least four times a week - doesn’t tell you why, when,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e569a"/>
                </a:solidFill>
                <a:latin typeface="Arial"/>
              </a:rPr>
              <a:t>Qualitativ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more detail – tells you why, when and h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elps focus attention on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ids forecasting, planning and strategic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help to reduce risk of new 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municates image, vis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isation makes market information valuable (HSBC adverts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Market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e569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e569a"/>
                </a:solidFill>
                <a:latin typeface="Arial"/>
              </a:rPr>
              <a:t>Disadvantages of Market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formation only as goo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the methodolog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n be inaccurate or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ults may not be what the business wants to h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y stifle initiative and ‘gut feel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lways a problem that we may never know enough to be s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28480" y="611280"/>
            <a:ext cx="8153640" cy="22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is more important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ff"/>
                  </a:gs>
                  <a:gs pos="100000">
                    <a:srgbClr val="00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982880" y="3271680"/>
            <a:ext cx="5256000" cy="308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33cc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2B or B2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33cc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Important</a:t>
            </a:r>
            <a:r>
              <a:rPr b="1" lang="nl-NL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5400" spc="-1" strike="noStrike">
                <a:solidFill>
                  <a:srgbClr val="3399ff"/>
                </a:solidFill>
                <a:latin typeface="Verdana"/>
              </a:rPr>
              <a:t>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Contribution to GD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Percieved importance of br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Initial or derived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Amount of money spent on pr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Number of people employed in marketing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33cc"/>
                </a:solidFill>
                <a:latin typeface="Verdana"/>
              </a:rPr>
              <a:t>What do companies buy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4653000"/>
            <a:ext cx="7561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Raw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Manufactured Materials and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413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Enter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mtls01.jpg (48040 bytes)"/>
          <p:cNvPicPr/>
          <p:nvPr/>
        </p:nvPicPr>
        <p:blipFill>
          <a:blip r:embed="rId1"/>
          <a:stretch/>
        </p:blipFill>
        <p:spPr>
          <a:xfrm>
            <a:off x="324000" y="2276640"/>
            <a:ext cx="2606400" cy="206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2276640"/>
            <a:ext cx="3166920" cy="2103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689880" y="2246400"/>
            <a:ext cx="21002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oundation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168720" cy="237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708360" y="1341360"/>
            <a:ext cx="2376360" cy="2354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6300720" y="1341360"/>
            <a:ext cx="2341800" cy="2376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744480" y="3860640"/>
            <a:ext cx="45151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Instal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Buildings,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ixed equ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Accessory Equi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66ff33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47628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Facilitating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5157720"/>
            <a:ext cx="7561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Operating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Verdana"/>
                <a:ea typeface="Arial"/>
              </a:rPr>
              <a:t>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09:18:42Z</dcterms:created>
  <dc:creator>HAN</dc:creator>
  <dc:description/>
  <dc:language>en-US</dc:language>
  <cp:lastModifiedBy>christine natalia</cp:lastModifiedBy>
  <dcterms:modified xsi:type="dcterms:W3CDTF">2006-12-26T20:02:58Z</dcterms:modified>
  <cp:revision>3</cp:revision>
  <dc:subject/>
  <dc:title>Dia 1</dc:title>
</cp:coreProperties>
</file>