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E306-39D6-4187-8A0F-096471AF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089B-544C-4FD6-B657-0BAD6EE1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46BE-6E5A-45FE-8C9F-BA71A17D0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D0F9-A9AC-4A16-87A0-DAC83F75B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7969-DE27-49F0-8848-D69D38E2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8D1E-FF6A-4136-A7D0-A35A4131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7873-0EE5-48FD-89F0-F06A8153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2903-4674-4C4C-B8D9-33594640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C088-22AB-4C92-BD6B-9B56B4AB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F165-3CF4-494C-884C-B1D47B9F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3BF9-4AD3-4041-815E-5D1C514E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254A-F2DA-4547-80F8-58FD6F2C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67A9-42BE-4036-A2CF-369EAABFB4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j00749720000%5B1%5D.wav" TargetMode="External"/><Relationship Id="rId2" Type="http://schemas.microsoft.com/office/2007/relationships/media" Target="file:///tmp/home/.config/libreoffice/4/user/gallery/MSj00749720000%5B1%5D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01640" y="948240"/>
            <a:ext cx="7741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ff"/>
                </a:solidFill>
                <a:latin typeface="Arial"/>
              </a:rPr>
              <a:t>the promotion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ffordabl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ercentage-of-sales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urrent or fore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ompetitive parity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objective and task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23800" y="948240"/>
            <a:ext cx="62982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ff"/>
                </a:solidFill>
                <a:latin typeface="Arial"/>
              </a:rPr>
              <a:t>influences on the pomotion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onsumer or business mar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uyer readiness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oduct life cycle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ush or pull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410080" y="838080"/>
            <a:ext cx="1737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2895480"/>
            <a:ext cx="1737000" cy="82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tai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wholes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62720" y="5562720"/>
            <a:ext cx="17366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765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44197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914400"/>
            <a:ext cx="733320" cy="2651040"/>
          </a:xfrm>
          <a:custGeom>
            <a:avLst/>
            <a:gdLst>
              <a:gd name="textAreaLeft" fmla="*/ 98280 w 733320"/>
              <a:gd name="textAreaRight" fmla="*/ 635040 w 733320"/>
              <a:gd name="textAreaTop" fmla="*/ 463680 h 2651040"/>
              <a:gd name="textAreaBottom" fmla="*/ 1922040 h 265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3048120"/>
            <a:ext cx="733680" cy="3276360"/>
          </a:xfrm>
          <a:custGeom>
            <a:avLst/>
            <a:gdLst>
              <a:gd name="textAreaLeft" fmla="*/ 98280 w 733680"/>
              <a:gd name="textAreaRight" fmla="*/ 635400 w 733680"/>
              <a:gd name="textAreaTop" fmla="*/ 573120 h 3276360"/>
              <a:gd name="textAreaBottom" fmla="*/ 237528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72200" y="42670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9920" y="15238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01000" y="762120"/>
            <a:ext cx="733320" cy="5851440"/>
          </a:xfrm>
          <a:custGeom>
            <a:avLst/>
            <a:gdLst>
              <a:gd name="textAreaLeft" fmla="*/ 98280 w 733320"/>
              <a:gd name="textAreaRight" fmla="*/ 635040 w 733320"/>
              <a:gd name="textAreaTop" fmla="*/ 1110960 h 5851440"/>
              <a:gd name="textAreaBottom" fmla="*/ 4167000 h 585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203" stAng="-5400000" swAng="5400000"/>
                <a:lnTo>
                  <a:pt x="21600" y="11280"/>
                </a:lnTo>
                <a:arcTo wR="21600" hR="8203" stAng="0" swAng="2822842"/>
                <a:lnTo>
                  <a:pt x="7200" y="21131"/>
                </a:lnTo>
                <a:lnTo>
                  <a:pt x="0" y="17945"/>
                </a:lnTo>
                <a:lnTo>
                  <a:pt x="7200" y="13820"/>
                </a:lnTo>
                <a:lnTo>
                  <a:pt x="7200" y="15937"/>
                </a:lnTo>
                <a:arcTo wR="21600" hR="8203" stAng="2822842" swAng="-2573994"/>
                <a:lnTo>
                  <a:pt x="21217" y="9742"/>
                </a:lnTo>
                <a:arcTo wR="21600" hR="8203" stAng="-248848" swAng="-5151152"/>
                <a:close/>
              </a:path>
              <a:path fill="darkenLess" w="21600" h="21600">
                <a:moveTo>
                  <a:pt x="0" y="0"/>
                </a:moveTo>
                <a:arcTo wR="21600" hR="8203" stAng="-5400000" swAng="5400000"/>
                <a:lnTo>
                  <a:pt x="21600" y="11280"/>
                </a:lnTo>
                <a:arcTo wR="21600" hR="8203" stAng="0" swAng="-248848"/>
                <a:lnTo>
                  <a:pt x="21217" y="9742"/>
                </a:lnTo>
                <a:arcTo wR="21600" hR="8203" stAng="-248848" swAng="-5151152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840" y="-22680"/>
            <a:ext cx="7626960" cy="8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nl-NL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USH                                                       PU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080" y="86220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202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914400"/>
            <a:ext cx="1737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3048120"/>
            <a:ext cx="1737000" cy="82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tai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wholes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5562720"/>
            <a:ext cx="1737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91320" y="304200"/>
            <a:ext cx="499932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nl-NL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verti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 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39040" y="380520"/>
            <a:ext cx="4999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nl-NL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verti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3276720"/>
            <a:ext cx="244440" cy="1463400"/>
          </a:xfrm>
          <a:custGeom>
            <a:avLst/>
            <a:gdLst>
              <a:gd name="textAreaLeft" fmla="*/ 0 w 244440"/>
              <a:gd name="textAreaRight" fmla="*/ 88200 w 244440"/>
              <a:gd name="textAreaTop" fmla="*/ 38160 h 1463400"/>
              <a:gd name="textAreaBottom" fmla="*/ 1425240 h 146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2650680"/>
            <a:ext cx="2667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uasion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i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3520" y="3505320"/>
            <a:ext cx="383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gnitive disso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430920"/>
            <a:ext cx="48988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nl-NL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verti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058480"/>
            <a:ext cx="740736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the budget depends 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product life cycle s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competition and clu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product different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sales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23880" y="151560"/>
            <a:ext cx="48992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nl-NL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verti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960920" y="2011320"/>
            <a:ext cx="2220984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message must be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eaning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eleiv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istin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possible emphasis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rand posi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ap human drive to consume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ncourage (different)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laim benefits sou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eak points compet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14400" y="166680"/>
            <a:ext cx="489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nl-NL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verti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920" y="1646640"/>
            <a:ext cx="8721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he idea, the concept, must be transl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into a mess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xecution sty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lice of life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ersonality symb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lifestyle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echnical experti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fantasy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cientific evi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ood or image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estimonial evid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us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4191120"/>
            <a:ext cx="2438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4724280"/>
            <a:ext cx="24386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5181480"/>
            <a:ext cx="24386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5638680"/>
            <a:ext cx="31244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6172200"/>
            <a:ext cx="3124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95680" y="4191120"/>
            <a:ext cx="40388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4724280"/>
            <a:ext cx="40388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5181480"/>
            <a:ext cx="40388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5638680"/>
            <a:ext cx="42674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3520" y="1540800"/>
            <a:ext cx="69339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on is based 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requ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mp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edia types to selec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86200"/>
            <a:ext cx="91800" cy="731880"/>
          </a:xfrm>
          <a:custGeom>
            <a:avLst/>
            <a:gdLst>
              <a:gd name="textAreaLeft" fmla="*/ 0 w 91800"/>
              <a:gd name="textAreaRight" fmla="*/ 33120 w 91800"/>
              <a:gd name="textAreaTop" fmla="*/ 19080 h 731880"/>
              <a:gd name="textAreaBottom" fmla="*/ 712800 h 73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867600" y="3751200"/>
            <a:ext cx="81021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wspapers       pr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gaz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le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d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utdo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27880"/>
            <a:ext cx="48988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nl-NL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verti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 Media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-25560" y="1188720"/>
            <a:ext cx="919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ff"/>
                </a:solidFill>
                <a:latin typeface="Arial"/>
              </a:rPr>
              <a:t>centralization                   decentr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corporate objectives       locale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product different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cultural dif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18288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86600" y="18288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95280" y="1630440"/>
            <a:ext cx="647712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-9360" y="-15840"/>
            <a:ext cx="84164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nl-NL" sz="3200" spc="-1" strike="noStrike">
                <a:solidFill>
                  <a:srgbClr val="0000ff"/>
                </a:solidFill>
                <a:latin typeface="Times New Roman"/>
              </a:rPr>
              <a:t>sales pro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short term incen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objective “consumer relationship building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t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cou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cash refund o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price p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prem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advertising speci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patronage re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POP pro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9933"/>
                </a:solidFill>
                <a:latin typeface="Times New Roman"/>
              </a:rPr>
              <a:t>legislation may limit the use of promotion tools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67000" y="640440"/>
            <a:ext cx="8009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ff"/>
                </a:solidFill>
                <a:latin typeface="Times New Roman"/>
              </a:rPr>
              <a:t>B to B sales promo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tools like in consumer sales promotion 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straight disco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allow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free go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trade sh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sales conte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-5400" y="197280"/>
            <a:ext cx="889488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0000ff"/>
                </a:solidFill>
                <a:latin typeface="Arial"/>
              </a:rPr>
              <a:t>public re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reating a positive attitude towards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nd products with the various publ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y means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lanting ne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(free public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ess rel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pecial events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oduct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ublic aff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ponso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fund ra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12080" y="430200"/>
            <a:ext cx="39708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lobb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written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spee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VCR tapes/DVD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entertaining inve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inv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increasing vi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company tru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statio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identity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4640" y="1296360"/>
            <a:ext cx="9007920" cy="42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public relation activities must comply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the objectives and images used in advertising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"/>
              </a:rPr>
              <a:t>Whatever you do, don’t confuse 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066680" y="990720"/>
            <a:ext cx="70866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mmuni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roce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0"/>
            <a:ext cx="8534160" cy="70405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228600"/>
            <a:ext cx="1616040" cy="914400"/>
          </a:xfrm>
          <a:prstGeom prst="downArrowCallout">
            <a:avLst>
              <a:gd name="adj1" fmla="val 44187"/>
              <a:gd name="adj2" fmla="val 44183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1219320"/>
            <a:ext cx="1616040" cy="914400"/>
          </a:xfrm>
          <a:prstGeom prst="downArrowCallout">
            <a:avLst>
              <a:gd name="adj1" fmla="val 44187"/>
              <a:gd name="adj2" fmla="val 44183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2209680"/>
            <a:ext cx="3292560" cy="914400"/>
          </a:xfrm>
          <a:prstGeom prst="downArrowCallout">
            <a:avLst>
              <a:gd name="adj1" fmla="val 90028"/>
              <a:gd name="adj2" fmla="val 90020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3200400"/>
            <a:ext cx="1616040" cy="914400"/>
          </a:xfrm>
          <a:prstGeom prst="downArrowCallout">
            <a:avLst>
              <a:gd name="adj1" fmla="val 44187"/>
              <a:gd name="adj2" fmla="val 44183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o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4191120"/>
            <a:ext cx="1616040" cy="914400"/>
          </a:xfrm>
          <a:prstGeom prst="downArrowCallout">
            <a:avLst>
              <a:gd name="adj1" fmla="val 44187"/>
              <a:gd name="adj2" fmla="val 44183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5181480"/>
            <a:ext cx="1616040" cy="914400"/>
          </a:xfrm>
          <a:prstGeom prst="downArrowCallout">
            <a:avLst>
              <a:gd name="adj1" fmla="val 44187"/>
              <a:gd name="adj2" fmla="val 44183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143160" y="7878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7924680" y="114264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019560" y="1143000"/>
            <a:ext cx="19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001000" y="3886200"/>
            <a:ext cx="76212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143160" y="76053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2280" y="-12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2280" y="-12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724280" y="62485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8580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86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1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66680" y="91440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167652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3352680"/>
            <a:ext cx="182520" cy="365400"/>
          </a:xfrm>
          <a:custGeom>
            <a:avLst/>
            <a:gdLst>
              <a:gd name="textAreaLeft" fmla="*/ 116640 w 182520"/>
              <a:gd name="textAreaRight" fmla="*/ 182880 w 182520"/>
              <a:gd name="textAreaTop" fmla="*/ 9360 h 365400"/>
              <a:gd name="textAreaBottom" fmla="*/ 356040 h 36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4038480"/>
            <a:ext cx="182520" cy="365400"/>
          </a:xfrm>
          <a:custGeom>
            <a:avLst/>
            <a:gdLst>
              <a:gd name="textAreaLeft" fmla="*/ 116640 w 182520"/>
              <a:gd name="textAreaRight" fmla="*/ 182880 w 182520"/>
              <a:gd name="textAreaTop" fmla="*/ 9360 h 365400"/>
              <a:gd name="textAreaBottom" fmla="*/ 356040 h 36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4876920"/>
            <a:ext cx="182520" cy="1006200"/>
          </a:xfrm>
          <a:custGeom>
            <a:avLst/>
            <a:gdLst>
              <a:gd name="textAreaLeft" fmla="*/ 116640 w 182520"/>
              <a:gd name="textAreaRight" fmla="*/ 182880 w 182520"/>
              <a:gd name="textAreaTop" fmla="*/ 25920 h 1006200"/>
              <a:gd name="textAreaBottom" fmla="*/ 980280 h 100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6172200"/>
            <a:ext cx="182520" cy="365040"/>
          </a:xfrm>
          <a:custGeom>
            <a:avLst/>
            <a:gdLst>
              <a:gd name="textAreaLeft" fmla="*/ 116640 w 182520"/>
              <a:gd name="textAreaRight" fmla="*/ 182880 w 182520"/>
              <a:gd name="textAreaTop" fmla="*/ 9360 h 365040"/>
              <a:gd name="textAreaBottom" fmla="*/ 355680 h 36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33720" y="227880"/>
            <a:ext cx="474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ffectiv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24120" y="837360"/>
            <a:ext cx="50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s your target aud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35160" y="1446840"/>
            <a:ext cx="1115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y the right things to creat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ing </a:t>
            </a:r>
            <a:r>
              <a:rPr b="1" lang="nl-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uyer-readiness stages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0400" y="3199680"/>
            <a:ext cx="20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aren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3885480"/>
            <a:ext cx="20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4327200"/>
            <a:ext cx="2209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ing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ferenc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iction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00400" y="5775120"/>
            <a:ext cx="213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chase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6480" y="3275640"/>
            <a:ext cx="19652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Int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33560" y="3670920"/>
            <a:ext cx="3611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ognitive     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ffective       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ehavior      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342900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49528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257800" y="6095880"/>
            <a:ext cx="304920" cy="533520"/>
          </a:xfrm>
          <a:custGeom>
            <a:avLst/>
            <a:gdLst>
              <a:gd name="textAreaLeft" fmla="*/ 0 w 304920"/>
              <a:gd name="textAreaRight" fmla="*/ 110160 w 3049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19880"/>
            <a:ext cx="910908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nl-NL" sz="3600" spc="-1" strike="noStrike">
                <a:solidFill>
                  <a:srgbClr val="0000ff"/>
                </a:solidFill>
                <a:latin typeface="Arial"/>
              </a:rPr>
              <a:t>the promotion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sales promo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public re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personal se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direct 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sing these tools in any combination is ca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he promotion mix. When these tools are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n a integrated and co-ordinated way to deliver a cle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nsistent and compelling message about 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rganisation and its products, we call it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ntegrated marketing communications (IM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343400" y="4114800"/>
            <a:ext cx="639720" cy="303120"/>
          </a:xfrm>
          <a:prstGeom prst="leftRightArrow">
            <a:avLst>
              <a:gd name="adj1" fmla="val 50000"/>
              <a:gd name="adj2" fmla="val 420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43400" y="4800600"/>
            <a:ext cx="639720" cy="303120"/>
          </a:xfrm>
          <a:prstGeom prst="leftRightArrow">
            <a:avLst>
              <a:gd name="adj1" fmla="val 50000"/>
              <a:gd name="adj2" fmla="val 420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5486400"/>
            <a:ext cx="639720" cy="303120"/>
          </a:xfrm>
          <a:prstGeom prst="leftRightArrow">
            <a:avLst>
              <a:gd name="adj1" fmla="val 50000"/>
              <a:gd name="adj2" fmla="val 420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130680"/>
            <a:ext cx="544968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nl-NL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 mes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Symbol" charset="2"/>
              <a:buChar char="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emo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o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Symbol" charset="2"/>
              <a:buChar char="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05000" y="3885120"/>
            <a:ext cx="549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           no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1680" y="4570920"/>
            <a:ext cx="476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sided             two s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51640" y="5272560"/>
            <a:ext cx="53089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ng first           strong last</a:t>
            </a:r>
            <a:r>
              <a:rPr b="1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-1440"/>
            <a:ext cx="76201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ff"/>
                </a:solidFill>
                <a:latin typeface="Arial"/>
              </a:rPr>
              <a:t>the Format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practical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intresting to target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new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cognitive dissonance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impact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ff"/>
                </a:solidFill>
                <a:latin typeface="Arial"/>
              </a:rPr>
              <a:t>th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the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the b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sales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celeb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75200" y="460440"/>
            <a:ext cx="81939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3200" spc="-1" strike="noStrike">
                <a:solidFill>
                  <a:srgbClr val="0000ff"/>
                </a:solidFill>
                <a:latin typeface="Arial"/>
              </a:rPr>
              <a:t>the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ersonal communication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face to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person to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word of 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non-personal communication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The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atmosph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0:16:51Z</dcterms:created>
  <dc:creator>HAN</dc:creator>
  <dc:description/>
  <dc:language>en-US</dc:language>
  <cp:lastModifiedBy>christine natalia</cp:lastModifiedBy>
  <dcterms:modified xsi:type="dcterms:W3CDTF">2006-12-26T20:06:53Z</dcterms:modified>
  <cp:revision>4</cp:revision>
  <dc:subject/>
  <dc:title>Dia 1</dc:title>
</cp:coreProperties>
</file>