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4CA0-B7ED-48C3-9258-41AE2FB9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C35-A937-4680-A6E4-21EB6B71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2F9-3CAF-4E7C-A5B4-B5FE6070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06B1-9BAB-42A4-99FA-6B4443164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BEC-D39C-4D5B-81E2-4FB6E1CC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2959-4A85-472F-B3CA-74E281DF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A095-5EF4-4413-8CE6-04AEA428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1D9-D014-4C9C-9AFA-31E8509E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A7C-13BE-414F-8387-AB3917B5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2F9D-18C9-4272-8CBB-A9D8D9E7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8A5-1100-41B7-B2CE-E87716F3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3D0-5C78-4C54-AE5A-7835E2E7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A9E0-81D7-4C17-B00B-0815477B0B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9720000%5B1%5D.wav" TargetMode="External"/><Relationship Id="rId2" Type="http://schemas.microsoft.com/office/2007/relationships/media" Target="file:///tmp/home/.config/libreoffice/4/user/gallery/MSj00749720000%5B1%5D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01640" y="948240"/>
            <a:ext cx="7741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promotion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ffordabl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ercentage-of-sales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urrent or fore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mpetitive parity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bjective and task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3525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23800" y="948240"/>
            <a:ext cx="6298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influences on the pomotion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nsumer or business 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uyer readiness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duct life cycle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ush or pull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410080" y="838080"/>
            <a:ext cx="1737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895480"/>
            <a:ext cx="173700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ta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hole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562720"/>
            <a:ext cx="173664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765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5120" y="4419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914400"/>
            <a:ext cx="733320" cy="2651040"/>
          </a:xfrm>
          <a:custGeom>
            <a:avLst/>
            <a:gdLst>
              <a:gd name="textAreaLeft" fmla="*/ 98280 w 733320"/>
              <a:gd name="textAreaRight" fmla="*/ 635040 w 733320"/>
              <a:gd name="textAreaTop" fmla="*/ 463680 h 2651040"/>
              <a:gd name="textAreaBottom" fmla="*/ 1922040 h 2651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3048120"/>
            <a:ext cx="733680" cy="3276360"/>
          </a:xfrm>
          <a:custGeom>
            <a:avLst/>
            <a:gdLst>
              <a:gd name="textAreaLeft" fmla="*/ 98280 w 733680"/>
              <a:gd name="textAreaRight" fmla="*/ 635400 w 733680"/>
              <a:gd name="textAreaTop" fmla="*/ 573120 h 3276360"/>
              <a:gd name="textAreaBottom" fmla="*/ 237528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42670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15238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01000" y="762120"/>
            <a:ext cx="733320" cy="5851440"/>
          </a:xfrm>
          <a:custGeom>
            <a:avLst/>
            <a:gdLst>
              <a:gd name="textAreaLeft" fmla="*/ 98280 w 733320"/>
              <a:gd name="textAreaRight" fmla="*/ 635040 w 733320"/>
              <a:gd name="textAreaTop" fmla="*/ 1110960 h 5851440"/>
              <a:gd name="textAreaBottom" fmla="*/ 4167000 h 585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03" stAng="-5400000" swAng="5400000"/>
                <a:lnTo>
                  <a:pt x="21600" y="11280"/>
                </a:lnTo>
                <a:arcTo wR="21600" hR="8203" stAng="0" swAng="2822842"/>
                <a:lnTo>
                  <a:pt x="7200" y="21131"/>
                </a:lnTo>
                <a:lnTo>
                  <a:pt x="0" y="17945"/>
                </a:lnTo>
                <a:lnTo>
                  <a:pt x="7200" y="13820"/>
                </a:lnTo>
                <a:lnTo>
                  <a:pt x="7200" y="15937"/>
                </a:lnTo>
                <a:arcTo wR="21600" hR="8203" stAng="2822842" swAng="-2573994"/>
                <a:lnTo>
                  <a:pt x="21217" y="9742"/>
                </a:lnTo>
                <a:arcTo wR="21600" hR="8203" stAng="-248848" swAng="-5151152"/>
                <a:close/>
              </a:path>
              <a:path fill="darkenLess" w="21600" h="21600">
                <a:moveTo>
                  <a:pt x="0" y="0"/>
                </a:moveTo>
                <a:arcTo wR="21600" hR="8203" stAng="-5400000" swAng="5400000"/>
                <a:lnTo>
                  <a:pt x="21600" y="11280"/>
                </a:lnTo>
                <a:arcTo wR="21600" hR="8203" stAng="0" swAng="-248848"/>
                <a:lnTo>
                  <a:pt x="21217" y="9742"/>
                </a:lnTo>
                <a:arcTo wR="21600" hR="8203" stAng="-248848" swAng="-5151152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40" y="-22680"/>
            <a:ext cx="7626960" cy="8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nl-NL" sz="2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PUSH                                                       PU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080" y="8622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202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914400"/>
            <a:ext cx="17370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produ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3048120"/>
            <a:ext cx="1737000" cy="82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ta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hole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5562720"/>
            <a:ext cx="1737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91320" y="304200"/>
            <a:ext cx="49993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9040" y="380520"/>
            <a:ext cx="4999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276720"/>
            <a:ext cx="244440" cy="1463400"/>
          </a:xfrm>
          <a:custGeom>
            <a:avLst/>
            <a:gdLst>
              <a:gd name="textAreaLeft" fmla="*/ 0 w 244440"/>
              <a:gd name="textAreaRight" fmla="*/ 88200 w 244440"/>
              <a:gd name="textAreaTop" fmla="*/ 38160 h 1463400"/>
              <a:gd name="textAreaBottom" fmla="*/ 1425240 h 146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2650680"/>
            <a:ext cx="2667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suasion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ari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3520" y="3505320"/>
            <a:ext cx="383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gnitive disso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430920"/>
            <a:ext cx="4898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58480"/>
            <a:ext cx="740736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the budget depends 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roduct life cycle st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ompetition and cl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ales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523880" y="151560"/>
            <a:ext cx="48992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960920" y="2011320"/>
            <a:ext cx="22209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message must b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aning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leiv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istin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ossible emphasis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rand pos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ap human drive to consum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ncourage (different)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laim benefits sough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ak points compet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4400" y="166680"/>
            <a:ext cx="489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920" y="1646640"/>
            <a:ext cx="8721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he idea, the concept, must be trans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to a mess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xecution sty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ice of lif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ersonality symb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lifestyl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chnical expert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antasy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cientific evi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ood or image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stimonial evi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u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4191120"/>
            <a:ext cx="24386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4724280"/>
            <a:ext cx="2438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181480"/>
            <a:ext cx="24386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638680"/>
            <a:ext cx="31244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6172200"/>
            <a:ext cx="31244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95680" y="4191120"/>
            <a:ext cx="4038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4724280"/>
            <a:ext cx="4038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5181480"/>
            <a:ext cx="40388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5680" y="5638680"/>
            <a:ext cx="426744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3520" y="1540800"/>
            <a:ext cx="69339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 is based 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requen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mp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dia types to sel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86200"/>
            <a:ext cx="91800" cy="731880"/>
          </a:xfrm>
          <a:custGeom>
            <a:avLst/>
            <a:gdLst>
              <a:gd name="textAreaLeft" fmla="*/ 0 w 91800"/>
              <a:gd name="textAreaRight" fmla="*/ 33120 w 91800"/>
              <a:gd name="textAreaTop" fmla="*/ 19080 h 731880"/>
              <a:gd name="textAreaBottom" fmla="*/ 712800 h 73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867600" y="3751200"/>
            <a:ext cx="8102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ewspapers       pr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gaz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e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tdo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27880"/>
            <a:ext cx="4898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dverti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 Media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-25560" y="1188720"/>
            <a:ext cx="919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Arial"/>
              </a:rPr>
              <a:t>centralization                   decentra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orporate objectives       locale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roduct different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ultural dif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71600" y="1828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1828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5280" y="1630440"/>
            <a:ext cx="64771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-9360" y="-15840"/>
            <a:ext cx="841644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nl-NL" sz="3200" spc="-1" strike="noStrike">
                <a:solidFill>
                  <a:srgbClr val="0000ff"/>
                </a:solidFill>
                <a:latin typeface="Times New Roman"/>
              </a:rPr>
              <a:t>sales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hort term incen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bjective “consumer relationship building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tool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u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ash refund o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ice p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em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advertising specia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atronage rew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OP pro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9933"/>
                </a:solidFill>
                <a:latin typeface="Times New Roman"/>
              </a:rPr>
              <a:t>legislation may limit the use of promotion tools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67000" y="640440"/>
            <a:ext cx="8009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ff"/>
                </a:solidFill>
                <a:latin typeface="Times New Roman"/>
              </a:rPr>
              <a:t>B to B 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tools like in consumer sales promotion 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raight disco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allow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free g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trade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ales conte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-5400" y="197280"/>
            <a:ext cx="889488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ff"/>
                </a:solidFill>
                <a:latin typeface="Arial"/>
              </a:rPr>
              <a:t>public re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reating a positive attitude towards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nd products with the various publ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y means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lanting ne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(free publ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ecial events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duct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ublic affa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ons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57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und ra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12080" y="430200"/>
            <a:ext cx="39708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lobb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ritten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pee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CR tapes/DVD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entertaining inve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nvi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ncreasing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pany tru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ta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identity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4640" y="1296360"/>
            <a:ext cx="900792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ublic relation activities must comply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the objectives and images used in advertis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Arial"/>
              </a:rPr>
              <a:t>Whatever you do, don’t confuse 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66680" y="990720"/>
            <a:ext cx="70866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mun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oc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0"/>
            <a:ext cx="8534160" cy="704052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22860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121932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2209680"/>
            <a:ext cx="3292560" cy="914400"/>
          </a:xfrm>
          <a:prstGeom prst="downArrowCallout">
            <a:avLst>
              <a:gd name="adj1" fmla="val 90028"/>
              <a:gd name="adj2" fmla="val 90020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nl-NL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20040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o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419112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i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86200" y="5181480"/>
            <a:ext cx="1616040" cy="914400"/>
          </a:xfrm>
          <a:prstGeom prst="downArrowCallout">
            <a:avLst>
              <a:gd name="adj1" fmla="val 44187"/>
              <a:gd name="adj2" fmla="val 44183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143160" y="78786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7924680" y="114264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019560" y="1143000"/>
            <a:ext cx="19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3886200"/>
            <a:ext cx="76212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143160" y="760536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228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2280" y="-12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72428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685800" y="68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86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9144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167652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352680"/>
            <a:ext cx="182520" cy="365400"/>
          </a:xfrm>
          <a:custGeom>
            <a:avLst/>
            <a:gdLst>
              <a:gd name="textAreaLeft" fmla="*/ 116640 w 182520"/>
              <a:gd name="textAreaRight" fmla="*/ 182880 w 182520"/>
              <a:gd name="textAreaTop" fmla="*/ 9360 h 365400"/>
              <a:gd name="textAreaBottom" fmla="*/ 356040 h 36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43200" y="4038480"/>
            <a:ext cx="182520" cy="365400"/>
          </a:xfrm>
          <a:custGeom>
            <a:avLst/>
            <a:gdLst>
              <a:gd name="textAreaLeft" fmla="*/ 116640 w 182520"/>
              <a:gd name="textAreaRight" fmla="*/ 182880 w 182520"/>
              <a:gd name="textAreaTop" fmla="*/ 9360 h 365400"/>
              <a:gd name="textAreaBottom" fmla="*/ 356040 h 36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4876920"/>
            <a:ext cx="182520" cy="1006200"/>
          </a:xfrm>
          <a:custGeom>
            <a:avLst/>
            <a:gdLst>
              <a:gd name="textAreaLeft" fmla="*/ 116640 w 182520"/>
              <a:gd name="textAreaRight" fmla="*/ 182880 w 182520"/>
              <a:gd name="textAreaTop" fmla="*/ 25920 h 1006200"/>
              <a:gd name="textAreaBottom" fmla="*/ 980280 h 100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43200" y="6172200"/>
            <a:ext cx="182520" cy="365040"/>
          </a:xfrm>
          <a:custGeom>
            <a:avLst/>
            <a:gdLst>
              <a:gd name="textAreaLeft" fmla="*/ 116640 w 182520"/>
              <a:gd name="textAreaRight" fmla="*/ 182880 w 182520"/>
              <a:gd name="textAreaTop" fmla="*/ 9360 h 365040"/>
              <a:gd name="textAreaBottom" fmla="*/ 355680 h 365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227880"/>
            <a:ext cx="474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ffectiv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24120" y="837360"/>
            <a:ext cx="50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 your target aud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5160" y="1446840"/>
            <a:ext cx="11153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 the right things to creat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</a:t>
            </a:r>
            <a:r>
              <a:rPr b="1" lang="nl-NL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uyer-readiness stages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3199680"/>
            <a:ext cx="20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ware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0400" y="3885480"/>
            <a:ext cx="203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327200"/>
            <a:ext cx="2209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feren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iction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5775120"/>
            <a:ext cx="2133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chase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6480" y="3275640"/>
            <a:ext cx="19652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t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s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33560" y="3670920"/>
            <a:ext cx="3611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cognitive     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ffective      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ehavior      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52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34290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49528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57800" y="6095880"/>
            <a:ext cx="304920" cy="533520"/>
          </a:xfrm>
          <a:custGeom>
            <a:avLst/>
            <a:gdLst>
              <a:gd name="textAreaLeft" fmla="*/ 0 w 304920"/>
              <a:gd name="textAreaRight" fmla="*/ 110160 w 3049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119880"/>
            <a:ext cx="910908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nl-NL" sz="3600" spc="-1" strike="noStrike">
                <a:solidFill>
                  <a:srgbClr val="0000ff"/>
                </a:solidFill>
                <a:latin typeface="Arial"/>
              </a:rPr>
              <a:t>the promotion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advert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ales promo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ublic 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personal s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direct 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sing these tools in any combination is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e promotion mix. When these tools ar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 a integrated and co-ordinated way to deliver a cle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istent and compelling message about 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rganisation and its products, we call it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tegrated marketing communications (IM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343400" y="4114800"/>
            <a:ext cx="639720" cy="303120"/>
          </a:xfrm>
          <a:prstGeom prst="leftRightArrow">
            <a:avLst>
              <a:gd name="adj1" fmla="val 50000"/>
              <a:gd name="adj2" fmla="val 42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800600"/>
            <a:ext cx="639720" cy="303120"/>
          </a:xfrm>
          <a:prstGeom prst="leftRightArrow">
            <a:avLst>
              <a:gd name="adj1" fmla="val 50000"/>
              <a:gd name="adj2" fmla="val 42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343400" y="5486400"/>
            <a:ext cx="639720" cy="303120"/>
          </a:xfrm>
          <a:prstGeom prst="leftRightArrow">
            <a:avLst>
              <a:gd name="adj1" fmla="val 50000"/>
              <a:gd name="adj2" fmla="val 4201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130680"/>
            <a:ext cx="54496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lang="nl-NL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the me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emo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mo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Symbol" charset="2"/>
              <a:buChar char=""/>
              <a:tabLst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5000" y="3885120"/>
            <a:ext cx="549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           no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1680" y="4570920"/>
            <a:ext cx="476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ided             two s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1640" y="5272560"/>
            <a:ext cx="5308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first           strong last</a:t>
            </a:r>
            <a:r>
              <a:rPr b="1" lang="nl-NL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-1440"/>
            <a:ext cx="76201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Format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practical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intresting to targe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new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cognitive dissonance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impac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th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the b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sales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celeb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5200" y="460440"/>
            <a:ext cx="8193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nl-NL" sz="3200" spc="-1" strike="noStrike">
                <a:solidFill>
                  <a:srgbClr val="0000ff"/>
                </a:solidFill>
                <a:latin typeface="Arial"/>
              </a:rPr>
              <a:t>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ersonal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face to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person to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word of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non-personal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The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atmosph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-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16:51Z</dcterms:created>
  <dc:creator>HAN</dc:creator>
  <dc:description/>
  <dc:language>en-US</dc:language>
  <cp:lastModifiedBy>christine natalia</cp:lastModifiedBy>
  <dcterms:modified xsi:type="dcterms:W3CDTF">2006-12-26T20:06:53Z</dcterms:modified>
  <cp:revision>4</cp:revision>
  <dc:subject/>
  <dc:title>Dia 1</dc:title>
</cp:coreProperties>
</file>