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583-3A77-41B3-B1E5-EBA24EFC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BF9-3359-45AE-8A78-D36EA25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D22-266B-456D-B77A-7D956479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260-BEC6-46EC-8484-27EB2F3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443-CA4A-4D92-A159-3AEFFCC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4D7-3528-4FFA-85BC-4716F003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23F-58E2-4A5F-9774-20A6F581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AE4-4D7E-4686-8BA5-C49F894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EB5-B482-4CE1-9C05-DECC1972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2DA-5F94-4977-A1CE-5092728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D7E-F1A9-4DF8-B28A-9FE7202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E5E-5DA1-4369-B907-600526C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B25-F83E-4561-BFF9-76670A9FF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9720000%5B1%5D.wav" TargetMode="External"/><Relationship Id="rId2" Type="http://schemas.microsoft.com/office/2007/relationships/media" Target="file:///tmp/home/.config/libreoffice/4/user/gallery/MSj00749720000%5B1%5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1640" y="948240"/>
            <a:ext cx="774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promotio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ordab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centage-of-sale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rrent or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etitive parity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bjective and tas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23800" y="948240"/>
            <a:ext cx="629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influences on the pomotion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sumer or business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yer readiness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sh or pull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410080" y="83808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95480"/>
            <a:ext cx="173700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562720"/>
            <a:ext cx="1736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76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19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914400"/>
            <a:ext cx="733320" cy="2651040"/>
          </a:xfrm>
          <a:custGeom>
            <a:avLst/>
            <a:gdLst>
              <a:gd name="textAreaLeft" fmla="*/ 98280 w 733320"/>
              <a:gd name="textAreaRight" fmla="*/ 635040 w 733320"/>
              <a:gd name="textAreaTop" fmla="*/ 463680 h 2651040"/>
              <a:gd name="textAreaBottom" fmla="*/ 1922040 h 26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048120"/>
            <a:ext cx="733680" cy="3276360"/>
          </a:xfrm>
          <a:custGeom>
            <a:avLst/>
            <a:gdLst>
              <a:gd name="textAreaLeft" fmla="*/ 98280 w 733680"/>
              <a:gd name="textAreaRight" fmla="*/ 635400 w 733680"/>
              <a:gd name="textAreaTop" fmla="*/ 573120 h 3276360"/>
              <a:gd name="textAreaBottom" fmla="*/ 237528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42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5238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762120"/>
            <a:ext cx="733320" cy="5851440"/>
          </a:xfrm>
          <a:custGeom>
            <a:avLst/>
            <a:gdLst>
              <a:gd name="textAreaLeft" fmla="*/ 98280 w 733320"/>
              <a:gd name="textAreaRight" fmla="*/ 635040 w 733320"/>
              <a:gd name="textAreaTop" fmla="*/ 1110960 h 5851440"/>
              <a:gd name="textAreaBottom" fmla="*/ 4167000 h 585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2822842"/>
                <a:lnTo>
                  <a:pt x="7200" y="21131"/>
                </a:lnTo>
                <a:lnTo>
                  <a:pt x="0" y="17945"/>
                </a:lnTo>
                <a:lnTo>
                  <a:pt x="7200" y="13820"/>
                </a:lnTo>
                <a:lnTo>
                  <a:pt x="7200" y="15937"/>
                </a:lnTo>
                <a:arcTo wR="21600" hR="8203" stAng="2822842" swAng="-2573994"/>
                <a:lnTo>
                  <a:pt x="21217" y="9742"/>
                </a:lnTo>
                <a:arcTo wR="21600" hR="8203" stAng="-248848" swAng="-5151152"/>
                <a:close/>
              </a:path>
              <a:path fill="darkenLess"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-248848"/>
                <a:lnTo>
                  <a:pt x="21217" y="9742"/>
                </a:lnTo>
                <a:arcTo wR="21600" hR="8203" stAng="-248848" swAng="-515115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40" y="-22680"/>
            <a:ext cx="76269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nl-NL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SH                                                       P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0" y="862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02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91440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048120"/>
            <a:ext cx="17370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562720"/>
            <a:ext cx="1737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1320" y="304200"/>
            <a:ext cx="4999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9040" y="380520"/>
            <a:ext cx="499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276720"/>
            <a:ext cx="244440" cy="1463400"/>
          </a:xfrm>
          <a:custGeom>
            <a:avLst/>
            <a:gdLst>
              <a:gd name="textAreaLeft" fmla="*/ 0 w 244440"/>
              <a:gd name="textAreaRight" fmla="*/ 88200 w 244440"/>
              <a:gd name="textAreaTop" fmla="*/ 38160 h 1463400"/>
              <a:gd name="textAreaBottom" fmla="*/ 1425240 h 14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650680"/>
            <a:ext cx="26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uasion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3520" y="3505320"/>
            <a:ext cx="38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gnitive diss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43092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8480"/>
            <a:ext cx="7407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the budget depend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on and cl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151560"/>
            <a:ext cx="489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960920" y="2011320"/>
            <a:ext cx="2220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essage must b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l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stin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ossible emphasi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rand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ap human drive to consum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ncourage (different)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aim benefits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ak points compet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166680"/>
            <a:ext cx="489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920" y="1646640"/>
            <a:ext cx="872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idea, the concept, must be trans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o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xecution sty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ice of lif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ity 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ifestyl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chnical expert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antasy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ientific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ood or imag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stimonial evi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191120"/>
            <a:ext cx="2438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7242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1814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638680"/>
            <a:ext cx="3124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6172200"/>
            <a:ext cx="3124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4191120"/>
            <a:ext cx="4038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7242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51814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638680"/>
            <a:ext cx="4267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40800"/>
            <a:ext cx="693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is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types to sel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86200"/>
            <a:ext cx="91800" cy="731880"/>
          </a:xfrm>
          <a:custGeom>
            <a:avLst/>
            <a:gdLst>
              <a:gd name="textAreaLeft" fmla="*/ 0 w 91800"/>
              <a:gd name="textAreaRight" fmla="*/ 33120 w 9180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867600" y="3751200"/>
            <a:ext cx="8102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spapers       p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az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2788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 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5560" y="1188720"/>
            <a:ext cx="919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centralization                   decentr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rporate objectives       locale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630440"/>
            <a:ext cx="6477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9360" y="-15840"/>
            <a:ext cx="8416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</a:rPr>
              <a:t>sale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hort term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bjective “consumer relationship building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ash refund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ice p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dvertising speci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atronage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OP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33"/>
                </a:solidFill>
                <a:latin typeface="Times New Roman"/>
              </a:rPr>
              <a:t>legislation may limit the use of promotion tool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67000" y="640440"/>
            <a:ext cx="800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Times New Roman"/>
              </a:rPr>
              <a:t>B to B 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ools like in consumer sales promotion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raight dis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allow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ree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5400" y="197280"/>
            <a:ext cx="88948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public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reating a positive attitude towards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d products with the various publ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y mea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lanting n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free publ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ecial event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blic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ons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und 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2080" y="430200"/>
            <a:ext cx="3970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bb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te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CR tapes/DV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ntertaining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creasing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pany tru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dentit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4640" y="1296360"/>
            <a:ext cx="900792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ublic relation activities must comply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he objectives and images used in advertis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"/>
              </a:rPr>
              <a:t>Whatever you do, don’t confuse 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0866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0"/>
            <a:ext cx="8534160" cy="7040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286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2193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209680"/>
            <a:ext cx="3292560" cy="914400"/>
          </a:xfrm>
          <a:prstGeom prst="downArrowCallout">
            <a:avLst>
              <a:gd name="adj1" fmla="val 90028"/>
              <a:gd name="adj2" fmla="val 9002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2004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1911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18148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43160" y="7878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14264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19560" y="114300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3886200"/>
            <a:ext cx="7621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43160" y="7605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428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8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3526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0384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876920"/>
            <a:ext cx="182520" cy="1006200"/>
          </a:xfrm>
          <a:custGeom>
            <a:avLst/>
            <a:gdLst>
              <a:gd name="textAreaLeft" fmla="*/ 116640 w 182520"/>
              <a:gd name="textAreaRight" fmla="*/ 182880 w 18252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172200"/>
            <a:ext cx="182520" cy="36504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040"/>
              <a:gd name="textAreaBottom" fmla="*/ 355680 h 36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22788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4120" y="837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 your target aud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5160" y="1446840"/>
            <a:ext cx="1115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 the right things to creat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yer-readiness stage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19968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854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327200"/>
            <a:ext cx="22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e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iction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57751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6480" y="3275640"/>
            <a:ext cx="19652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33560" y="3670920"/>
            <a:ext cx="361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gnitive     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ective      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havior   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952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609588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9880"/>
            <a:ext cx="9109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the promo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ubli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direct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sing these tools in any combina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promotion mix. When these tools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 a integrated and co-ordinated way to deliver a cle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istent and compelling message about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ganisation and its products, we call it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grated marketing communications (I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43400" y="41148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8006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4864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30680"/>
            <a:ext cx="54496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5000" y="3885120"/>
            <a:ext cx="549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          no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1680" y="4570920"/>
            <a:ext cx="47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ided             two 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1640" y="5272560"/>
            <a:ext cx="5308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first           strong last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-1440"/>
            <a:ext cx="7620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Format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ract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ntresting to targe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ognitive dissonanc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mpa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sales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eleb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5200" y="460440"/>
            <a:ext cx="819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face to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erson to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word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on-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atmo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16:51Z</dcterms:created>
  <dc:creator>HAN</dc:creator>
  <dc:description/>
  <dc:language>en-US</dc:language>
  <cp:lastModifiedBy>christine natalia</cp:lastModifiedBy>
  <dcterms:modified xsi:type="dcterms:W3CDTF">2006-12-26T20:06:53Z</dcterms:modified>
  <cp:revision>4</cp:revision>
  <dc:subject/>
  <dc:title>Dia 1</dc:title>
</cp:coreProperties>
</file>