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D683-4042-44C2-BC88-922681C2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D903-28E6-4D7B-9491-4AD4C05E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4D7-B210-488D-9DFA-E233245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86B-2921-4030-ADC3-93BB7CCC1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51AC-E8EE-49ED-8C8B-1AEE662F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7B34-D4B2-4173-9FC4-17B3F74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8372-7FD5-4CCC-B212-3819A3F5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EE31-1B9C-477B-A9BF-363BCD26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F643-BC2E-4276-AFA7-93F51320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F4C4-94CE-4DE3-9B69-96D98246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300-B005-40E2-9E0D-A200393C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391E-4C44-4CC1-93E3-AFB849B4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27FD-C7E8-4F91-BBB5-C3E1200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7297-2CED-4D5A-9236-EA26E3B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9F05-300E-476C-9563-EFBA1CF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0BA2-BB71-4784-BDCF-3CFA0E72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114-075C-407A-A169-15DF8E214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55B7-7346-4691-8E0B-8EC6C95F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B04CA-FDDB-48BD-94F6-5A22C5BA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CEE7D-8FBA-49F5-A378-00809AF0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F77BF-300E-4AC5-990D-B67F0AE3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FAF3-D4A2-466D-8CAB-5407FE64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7F1C-2051-4993-A2A5-99406191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497E3-D081-4EED-8C8E-75BF828D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9AAE-26E6-458C-AE7B-D8C62698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8258-D189-4945-99E1-3EC03B80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89F1F-50FD-4FC7-BAB6-5D1D514B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6F15-F7D9-4930-A69A-45099AC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D5C8F-18AA-4D00-9472-40E24B63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FC3FD-8326-42B2-BCFA-69EC25DDE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BE0-3E54-4E00-97E8-D91822EE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B76-C114-46AE-A580-E42BB9DC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5401-91AA-4CA5-873E-6BC22985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B1A-AFF7-4344-A2C3-99ECD67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BE4F-11AC-4982-8E83-F1FC4458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C57-0F83-4050-8742-16E60051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C767-B353-4047-8D9C-2E24207C00A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AF88D-ACB3-450F-BE86-9993428C36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C4DB-87D1-4E6F-8CBB-861E2FDA1F28}" type="slidenum"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"/><Relationship Id="rId3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nter.scoutnet.org/units.html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nl/imgres?imgurl=http://www.viewmyart.com/ScaryForest.jpg&amp;imgrefurl=http://www.viewmyart.com/Landscapes.htm&amp;h=480&amp;w=640&amp;sz=138&amp;tbnid=Sp0ZHGAA7hEJ:&amp;tbnh=101&amp;tbnw=134&amp;start=3&amp;prev=/images%3Fq%3Dscary%2Bforest%26hl%3Dnl%26lr%3D%26sa%3DN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goodway.com/bm-images/-vacuum.jpg&amp;imgrefurl=http://www.goodway.com/vacums.htm&amp;h=248&amp;w=150&amp;sz=17&amp;tbnid=dIE9W9nO074J:&amp;tbnh=105&amp;tbnw=64&amp;start=5&amp;prev=/images%3Fq%3Dvacum%2Bcleaners%26hl%3Dnl%26lr%3D" TargetMode="External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hyperlink" Target="http://images.google.nl/imgres?imgurl=http://www.tiscali.co.uk/technology/images/comet_vacum_cleaners.gif&amp;imgrefurl=http://www.tiscali.co.uk/technology/guides/home/vacum.html&amp;h=200&amp;w=180&amp;sz=6&amp;tbnid=J9IQXxO9bksJ:&amp;tbnh=98&amp;tbnw=89&amp;start=3&amp;prev=/images%3Fq%3Dvacum%2Bcleaners%26hl%3Dnl%26lr%3D%26sa%3DG" TargetMode="External"/><Relationship Id="rId7" Type="http://schemas.openxmlformats.org/officeDocument/2006/relationships/image" Target="../media/image12.jpeg"/><Relationship Id="rId8" Type="http://schemas.openxmlformats.org/officeDocument/2006/relationships/hyperlink" Target="http://images.google.nl/imgres?imgurl=http://www.bgclean.co.uk/images/vacum.gif&amp;imgrefurl=http://www.bgclean.co.uk/vacum.htm&amp;h=315&amp;w=150&amp;sz=12&amp;tbnid=kFuuSUBuZTAJ:&amp;tbnh=111&amp;tbnw=53&amp;start=15&amp;prev=/images%3Fq%3Dvacum%2Bcleaners%26hl%3Dnl%26lr%3D%26sa%3DG" TargetMode="External"/><Relationship Id="rId9" Type="http://schemas.openxmlformats.org/officeDocument/2006/relationships/image" Target="../media/image13.jpeg"/><Relationship Id="rId10" Type="http://schemas.openxmlformats.org/officeDocument/2006/relationships/hyperlink" Target="http://images.google.nl/imgres?imgurl=http://www.asthmasa.org.au/images/pic/vacum_cleaner.jpg&amp;imgrefurl=http://www.asthmasa.org.au/AsthmaInfo/asthma_at_home.html&amp;h=135&amp;w=100&amp;sz=3&amp;tbnid=yng3If_Kx3EJ:&amp;tbnh=86&amp;tbnw=64&amp;start=27&amp;prev=/images%3Fq%3Dvacum%2Bcleaners%26start%3D20%26hl%3Dnl%26lr%3D%26sa%3DN" TargetMode="External"/><Relationship Id="rId11" Type="http://schemas.openxmlformats.org/officeDocument/2006/relationships/image" Target="../media/image14.jpeg"/><Relationship Id="rId12" Type="http://schemas.openxmlformats.org/officeDocument/2006/relationships/hyperlink" Target="http://images.google.nl/imgres?imgurl=http://home-improvement.discounts24-7.com/pics/vacum.gif&amp;imgrefurl=http://home-improvement.discounts24-7.com/vacuum.htm&amp;h=120&amp;w=120&amp;sz=9&amp;tbnid=aecjoGUh7tsJ:&amp;tbnh=83&amp;tbnw=83&amp;start=24&amp;prev=/images%3Fq%3Dvacum%2Bcleaners%26start%3D20%26hl%3Dnl%26lr%3D%26sa%3DN" TargetMode="External"/><Relationship Id="rId13" Type="http://schemas.openxmlformats.org/officeDocument/2006/relationships/image" Target="../media/image15.jpeg"/><Relationship Id="rId14" Type="http://schemas.openxmlformats.org/officeDocument/2006/relationships/hyperlink" Target="http://images.google.nl/imgres?imgurl=http://images.ciao.com/iuk/images/products/small/343/prod_small-5324343.jpg&amp;imgrefurl=http://www.ciao.co.uk/Vacuum_Cleaners_11158_5&amp;h=80&amp;w=42&amp;sz=2&amp;tbnid=ef6CGXf3QlgJ:&amp;tbnh=68&amp;tbnw=36&amp;start=23&amp;prev=/images%3Fq%3Dvacum%2Bcleaners%26start%3D20%26hl%3Dnl%26lr%3D%26sa%3DN" TargetMode="External"/><Relationship Id="rId15" Type="http://schemas.openxmlformats.org/officeDocument/2006/relationships/image" Target="../media/image16.jpeg"/><Relationship Id="rId16" Type="http://schemas.openxmlformats.org/officeDocument/2006/relationships/hyperlink" Target="http://images.google.nl/imgres?imgurl=http://www.stofzuigerhuis.nl/images%2520tennant/stofzuigers/3410.jpg&amp;imgrefurl=http://www.stofzuigerhuis.nl/tennant_stofzuigers.htm&amp;h=439&amp;w=292&amp;sz=10&amp;tbnid=BFkWBiJe8cAJ:&amp;tbnh=121&amp;tbnw=81&amp;start=13&amp;prev=/images%3Fq%3Dstofzuigers%26hl%3Dnl%26lr%3D" TargetMode="External"/><Relationship Id="rId17" Type="http://schemas.openxmlformats.org/officeDocument/2006/relationships/image" Target="../media/image17.jpeg"/><Relationship Id="rId18" Type="http://schemas.openxmlformats.org/officeDocument/2006/relationships/hyperlink" Target="http://images.google.nl/imgres?imgurl=http://www.stofzuigerhuis.nl/images%2520tennant/stofzuigers/3810-3840.jpg&amp;imgrefurl=http://www.stofzuigerhuis.nl/tennant_stofzuigers.htm&amp;h=444&amp;w=294&amp;sz=13&amp;tbnid=bUImnP4EIlsJ:&amp;tbnh=123&amp;tbnw=82&amp;start=14&amp;prev=/images%3Fq%3Dstofzuigers%26hl%3Dnl%26lr%3D" TargetMode="External"/><Relationship Id="rId19" Type="http://schemas.openxmlformats.org/officeDocument/2006/relationships/image" Target="../media/image18.jpeg"/><Relationship Id="rId20" Type="http://schemas.openxmlformats.org/officeDocument/2006/relationships/hyperlink" Target="http://images.google.nl/imgres?imgurl=http://www.hoover.nl/Stofzuigers/cilinder.jpg&amp;imgrefurl=http://www.hoover.nl/Stofzuigers/main.asp&amp;h=320&amp;w=200&amp;sz=32&amp;tbnid=Rg4ZDxStEFUJ:&amp;tbnh=112&amp;tbnw=70&amp;start=20&amp;prev=/images%3Fq%3Dstofzuigers%26hl%3Dnl%26lr%3D" TargetMode="External"/><Relationship Id="rId21" Type="http://schemas.openxmlformats.org/officeDocument/2006/relationships/image" Target="../media/image19.jpeg"/><Relationship Id="rId22" Type="http://schemas.openxmlformats.org/officeDocument/2006/relationships/hyperlink" Target="http://images.google.nl/imgres?imgurl=http://www.adocomputers.nl/stofzuigers/V-3900TV.gif&amp;imgrefurl=http://www.adocomputers.nl/stofzuigers/stofzuigers.htm&amp;h=150&amp;w=200&amp;sz=6&amp;tbnid=pph_bVHxT0wJ:&amp;tbnh=74&amp;tbnw=98&amp;start=16&amp;prev=/images%3Fq%3Dstofzuigers%26hl%3Dnl%26lr%3D" TargetMode="External"/><Relationship Id="rId23" Type="http://schemas.openxmlformats.org/officeDocument/2006/relationships/image" Target="../media/image20.jpeg"/><Relationship Id="rId24" Type="http://schemas.openxmlformats.org/officeDocument/2006/relationships/hyperlink" Target="http://images.google.nl/imgres?imgurl=http://www.itecmade.nl/images/images%2520stofzuigers/1503%2520Tele.jpg&amp;imgrefurl=http://www.itecmade.nl/stofzuigers.htm&amp;h=221&amp;w=140&amp;sz=7&amp;tbnid=H37BxSB_LjcJ:&amp;tbnh=101&amp;tbnw=64&amp;start=32&amp;prev=/images%3Fq%3Dstofzuigers%26start%3D20%26hl%3Dnl%26lr%3D%26sa%3DN" TargetMode="External"/><Relationship Id="rId25" Type="http://schemas.openxmlformats.org/officeDocument/2006/relationships/image" Target="../media/image21.jpeg"/><Relationship Id="rId26" Type="http://schemas.openxmlformats.org/officeDocument/2006/relationships/image" Target="../media/image22.jpeg"/><Relationship Id="rId27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240" y="-59040"/>
            <a:ext cx="91854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ersonal  sell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he salesperson is the first personal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tween company and customer </a:t>
            </a:r>
            <a:r>
              <a:rPr b="1" lang="nl-NL" sz="2800" spc="-1" strike="noStrike">
                <a:solidFill>
                  <a:srgbClr val="ff0066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oles of the salesper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t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derg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issionary s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presenting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o the compag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yes and ear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pany in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sales team is the central force in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-3240" y="-1080"/>
            <a:ext cx="927900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information comes from the sales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sales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ys of eval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aring salespeo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qualitativ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3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3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18560" y="2133720"/>
            <a:ext cx="387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 marketing is marketing through various advertising media that interact directly with consumers, generally calling for the consumer to make a direct response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ource: Kotler, Ch22, p.7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irect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Direct order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Intermediaries are removed from the equation: this may not cut costs, but will improve communic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Information giv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opens channels of communication by eliciting respons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Visit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Encouraging potential customers to visit stores, showrooms and so fort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Trial gener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Direct mail may encourage potential customers to request a demonst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product tri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Benefits  of direct mark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enient and eff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sy and priv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hoppers greater access and sele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is interactive, especially on-line market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is immediate when using on-lin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ful tool for customer relationship buil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ss to global 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ers sellers a low cost, fast and efficient alternative for reaching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test growing form of mark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direct marketing expenditure in Europe grew from Euro31,725 million in 1997 to Euro46,330 million by 2002 (WARC, 200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98424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99ff"/>
                </a:solidFill>
                <a:latin typeface="Arial"/>
              </a:rPr>
              <a:t>Customer databases and direct marketing</a:t>
            </a: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nies must distinguish between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ransaction-based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rpose of billing and getting money b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stom-buil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formation about customers that leads to the serving and satisfying of these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"/>
              </a:rPr>
              <a:t>Database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llow companies to locate good prospects and commercial opportun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velop customer profi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eepen customer loyalty through innovative personalis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Public policy and ethical issues in direct marke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tation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e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asion-of-priva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-457200" y="490320"/>
            <a:ext cx="10852200" cy="69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management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anagement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ales force objectiv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specting:  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find new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mmunic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ervicing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arranging 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8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ation gathering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908000" y="836640"/>
            <a:ext cx="5761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33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635280" y="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971640" y="476280"/>
            <a:ext cx="74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split up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graphic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odem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graph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havio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6360" y="2276640"/>
            <a:ext cx="682560" cy="61092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0920"/>
              <a:gd name="textAreaBottom" fmla="*/ 474480 h 610920"/>
            </a:gdLst>
            <a:ahLst/>
            <a:rect l="textAreaLeft" t="textAreaTop" r="textAreaRight" b="textAreaBottom"/>
            <a:pathLst>
              <a:path w="24131" h="21600">
                <a:moveTo>
                  <a:pt x="0" y="0"/>
                </a:moveTo>
                <a:lnTo>
                  <a:pt x="24131" y="0"/>
                </a:lnTo>
                <a:lnTo>
                  <a:pt x="24131" y="21600"/>
                </a:lnTo>
                <a:lnTo>
                  <a:pt x="0" y="21600"/>
                </a:lnTo>
                <a:close/>
              </a:path>
              <a:path fill="lightenLess" w="24131" h="21600">
                <a:moveTo>
                  <a:pt x="0" y="0"/>
                </a:moveTo>
                <a:lnTo>
                  <a:pt x="24131" y="0"/>
                </a:lnTo>
                <a:lnTo>
                  <a:pt x="19306" y="4825"/>
                </a:lnTo>
                <a:lnTo>
                  <a:pt x="4825" y="4825"/>
                </a:lnTo>
                <a:close/>
              </a:path>
              <a:path fill="darken" w="24131" h="21600">
                <a:moveTo>
                  <a:pt x="24131" y="0"/>
                </a:moveTo>
                <a:lnTo>
                  <a:pt x="24131" y="21600"/>
                </a:lnTo>
                <a:lnTo>
                  <a:pt x="19306" y="16775"/>
                </a:lnTo>
                <a:lnTo>
                  <a:pt x="19306" y="4825"/>
                </a:lnTo>
                <a:close/>
              </a:path>
              <a:path fill="darkenLess" w="24131" h="21600">
                <a:moveTo>
                  <a:pt x="24131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306" y="16775"/>
                </a:lnTo>
                <a:close/>
              </a:path>
              <a:path fill="lighten" w="24131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31" h="21600">
                <a:moveTo>
                  <a:pt x="12066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31" h="21600">
                <a:moveTo>
                  <a:pt x="12066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31" h="21600">
                <a:moveTo>
                  <a:pt x="10428" y="9162"/>
                </a:moveTo>
                <a:lnTo>
                  <a:pt x="12885" y="9162"/>
                </a:lnTo>
                <a:lnTo>
                  <a:pt x="12885" y="13610"/>
                </a:lnTo>
                <a:lnTo>
                  <a:pt x="13703" y="13610"/>
                </a:lnTo>
                <a:lnTo>
                  <a:pt x="13703" y="14197"/>
                </a:lnTo>
                <a:lnTo>
                  <a:pt x="10428" y="14197"/>
                </a:lnTo>
                <a:lnTo>
                  <a:pt x="10428" y="13610"/>
                </a:lnTo>
                <a:lnTo>
                  <a:pt x="11247" y="13610"/>
                </a:lnTo>
                <a:lnTo>
                  <a:pt x="11247" y="9738"/>
                </a:lnTo>
                <a:lnTo>
                  <a:pt x="10428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3068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56360" y="386064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56360" y="4653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56360" y="5445000"/>
            <a:ext cx="682560" cy="611280"/>
          </a:xfrm>
          <a:custGeom>
            <a:avLst/>
            <a:gdLst>
              <a:gd name="textAreaLeft" fmla="*/ 136440 w 682560"/>
              <a:gd name="textAreaRight" fmla="*/ 546120 w 682560"/>
              <a:gd name="textAreaTop" fmla="*/ 136440 h 611280"/>
              <a:gd name="textAreaBottom" fmla="*/ 474840 h 611280"/>
            </a:gdLst>
            <a:ahLst/>
            <a:rect l="textAreaLeft" t="textAreaTop" r="textAreaRight" b="textAreaBottom"/>
            <a:pathLst>
              <a:path w="24117" h="21600">
                <a:moveTo>
                  <a:pt x="0" y="0"/>
                </a:moveTo>
                <a:lnTo>
                  <a:pt x="24117" y="0"/>
                </a:lnTo>
                <a:lnTo>
                  <a:pt x="24117" y="21600"/>
                </a:lnTo>
                <a:lnTo>
                  <a:pt x="0" y="21600"/>
                </a:lnTo>
                <a:close/>
              </a:path>
              <a:path fill="lightenLess" w="24117" h="21600">
                <a:moveTo>
                  <a:pt x="0" y="0"/>
                </a:moveTo>
                <a:lnTo>
                  <a:pt x="24117" y="0"/>
                </a:lnTo>
                <a:lnTo>
                  <a:pt x="19292" y="4825"/>
                </a:lnTo>
                <a:lnTo>
                  <a:pt x="4825" y="4825"/>
                </a:lnTo>
                <a:close/>
              </a:path>
              <a:path fill="darken" w="24117" h="21600">
                <a:moveTo>
                  <a:pt x="24117" y="0"/>
                </a:moveTo>
                <a:lnTo>
                  <a:pt x="24117" y="21600"/>
                </a:lnTo>
                <a:lnTo>
                  <a:pt x="19292" y="16775"/>
                </a:lnTo>
                <a:lnTo>
                  <a:pt x="19292" y="4825"/>
                </a:lnTo>
                <a:close/>
              </a:path>
              <a:path fill="darkenLess" w="24117" h="21600">
                <a:moveTo>
                  <a:pt x="24117" y="21600"/>
                </a:moveTo>
                <a:lnTo>
                  <a:pt x="0" y="21600"/>
                </a:lnTo>
                <a:lnTo>
                  <a:pt x="4825" y="16775"/>
                </a:lnTo>
                <a:lnTo>
                  <a:pt x="19292" y="16775"/>
                </a:lnTo>
                <a:close/>
              </a:path>
              <a:path fill="lighten" w="24117" h="21600">
                <a:moveTo>
                  <a:pt x="0" y="21600"/>
                </a:moveTo>
                <a:lnTo>
                  <a:pt x="0" y="0"/>
                </a:lnTo>
                <a:lnTo>
                  <a:pt x="4825" y="4825"/>
                </a:lnTo>
                <a:lnTo>
                  <a:pt x="4825" y="16775"/>
                </a:lnTo>
                <a:close/>
              </a:path>
              <a:path fill="darken" w="24117" h="21600">
                <a:moveTo>
                  <a:pt x="12059" y="6346"/>
                </a:moveTo>
                <a:arcTo wR="4454" hR="4454" stAng="16200000" swAng="-5400000"/>
                <a:arcTo wR="4454" hR="4454" stAng="10800000" swAng="-5400000"/>
                <a:arcTo wR="4454" hR="4454" stAng="5400000" swAng="-5400000"/>
                <a:arcTo wR="4454" hR="4454" stAng="0" swAng="-5400000"/>
                <a:close/>
              </a:path>
              <a:path fill="lighten" w="24117" h="21600">
                <a:moveTo>
                  <a:pt x="12059" y="6584"/>
                </a:moveTo>
                <a:arcTo wR="1140" hR="1140" stAng="16200000" swAng="-5400000"/>
                <a:arcTo wR="1140" hR="1140" stAng="10800000" swAng="-5400000"/>
                <a:arcTo wR="1140" hR="1140" stAng="5400000" swAng="-5400000"/>
                <a:arcTo wR="1140" hR="1140" stAng="0" swAng="-5400000"/>
                <a:close/>
              </a:path>
              <a:path fill="lighten" w="24117" h="21600">
                <a:moveTo>
                  <a:pt x="10421" y="9162"/>
                </a:moveTo>
                <a:lnTo>
                  <a:pt x="12877" y="9162"/>
                </a:lnTo>
                <a:lnTo>
                  <a:pt x="12877" y="13610"/>
                </a:lnTo>
                <a:lnTo>
                  <a:pt x="13696" y="13610"/>
                </a:lnTo>
                <a:lnTo>
                  <a:pt x="13696" y="14197"/>
                </a:lnTo>
                <a:lnTo>
                  <a:pt x="10421" y="14197"/>
                </a:lnTo>
                <a:lnTo>
                  <a:pt x="10421" y="13610"/>
                </a:lnTo>
                <a:lnTo>
                  <a:pt x="11240" y="13610"/>
                </a:lnTo>
                <a:lnTo>
                  <a:pt x="11240" y="9738"/>
                </a:lnTo>
                <a:lnTo>
                  <a:pt x="10421" y="97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8317080" y="6021360"/>
            <a:ext cx="609480" cy="6112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11280"/>
              <a:gd name="textAreaBottom" fmla="*/ 572040 h 611280"/>
            </a:gdLst>
            <a:ahLst/>
            <a:rect l="textAreaLeft" t="textAreaTop" r="textAreaRight" b="textAreaBottom"/>
            <a:pathLst>
              <a:path w="21600" h="21664">
                <a:moveTo>
                  <a:pt x="0" y="0"/>
                </a:moveTo>
                <a:lnTo>
                  <a:pt x="21600" y="0"/>
                </a:lnTo>
                <a:lnTo>
                  <a:pt x="21600" y="21664"/>
                </a:lnTo>
                <a:lnTo>
                  <a:pt x="0" y="21664"/>
                </a:lnTo>
                <a:close/>
              </a:path>
              <a:path fill="lightenLess" w="21600" h="216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4">
                <a:moveTo>
                  <a:pt x="21600" y="0"/>
                </a:moveTo>
                <a:lnTo>
                  <a:pt x="21600" y="21664"/>
                </a:lnTo>
                <a:lnTo>
                  <a:pt x="20200" y="20264"/>
                </a:lnTo>
                <a:lnTo>
                  <a:pt x="20200" y="1400"/>
                </a:lnTo>
                <a:close/>
              </a:path>
              <a:path fill="darkenLess" w="21600" h="21664">
                <a:moveTo>
                  <a:pt x="21600" y="21664"/>
                </a:moveTo>
                <a:lnTo>
                  <a:pt x="0" y="21664"/>
                </a:lnTo>
                <a:lnTo>
                  <a:pt x="1400" y="20264"/>
                </a:lnTo>
                <a:lnTo>
                  <a:pt x="20200" y="20264"/>
                </a:lnTo>
                <a:close/>
              </a:path>
              <a:path fill="lighten" w="21600" h="21664">
                <a:moveTo>
                  <a:pt x="0" y="216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4"/>
                </a:lnTo>
                <a:close/>
              </a:path>
              <a:path fill="darken" w="21600" h="21664">
                <a:moveTo>
                  <a:pt x="3794" y="3825"/>
                </a:moveTo>
                <a:lnTo>
                  <a:pt x="17806" y="10832"/>
                </a:lnTo>
                <a:lnTo>
                  <a:pt x="3794" y="1783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>
            <a:hlinkClick r:id="" action="ppaction://hlinkshowjump?jump=previousslide"/>
          </p:cNvPr>
          <p:cNvSpPr/>
          <p:nvPr/>
        </p:nvSpPr>
        <p:spPr>
          <a:xfrm>
            <a:off x="860436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12945"/>
                </a:moveTo>
                <a:lnTo>
                  <a:pt x="17806" y="5938"/>
                </a:lnTo>
                <a:lnTo>
                  <a:pt x="17806" y="1995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Click a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549360"/>
            <a:ext cx="8642160" cy="53290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Reg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ountr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ity 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Population dens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Rounded MT Bold"/>
              </a:rPr>
              <a:t>Climat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Age/Gender Population Pyramid for Maryland - 2010"/>
          <p:cNvPicPr/>
          <p:nvPr/>
        </p:nvPicPr>
        <p:blipFill>
          <a:blip r:embed="rId2">
            <a:alphaModFix amt="36000"/>
          </a:blip>
          <a:stretch/>
        </p:blipFill>
        <p:spPr>
          <a:xfrm>
            <a:off x="611280" y="189000"/>
            <a:ext cx="8137440" cy="56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68360" y="549360"/>
            <a:ext cx="8064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 cycle stag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nco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Occup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Educ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0" lang="nl-NL" sz="48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lig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17080" y="6093000"/>
            <a:ext cx="610920" cy="539640"/>
          </a:xfrm>
          <a:custGeom>
            <a:avLst/>
            <a:gdLst>
              <a:gd name="textAreaLeft" fmla="*/ 34920 w 610920"/>
              <a:gd name="textAreaRight" fmla="*/ 576000 w 61092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24451" h="21600">
                <a:moveTo>
                  <a:pt x="0" y="0"/>
                </a:moveTo>
                <a:lnTo>
                  <a:pt x="24451" y="0"/>
                </a:lnTo>
                <a:lnTo>
                  <a:pt x="24451" y="21600"/>
                </a:lnTo>
                <a:lnTo>
                  <a:pt x="0" y="21600"/>
                </a:lnTo>
                <a:close/>
              </a:path>
              <a:path fill="lightenLess" w="24451" h="21600">
                <a:moveTo>
                  <a:pt x="0" y="0"/>
                </a:moveTo>
                <a:lnTo>
                  <a:pt x="24451" y="0"/>
                </a:lnTo>
                <a:lnTo>
                  <a:pt x="23051" y="1400"/>
                </a:lnTo>
                <a:lnTo>
                  <a:pt x="1400" y="1400"/>
                </a:lnTo>
                <a:close/>
              </a:path>
              <a:path fill="darken" w="24451" h="21600">
                <a:moveTo>
                  <a:pt x="24451" y="0"/>
                </a:moveTo>
                <a:lnTo>
                  <a:pt x="24451" y="21600"/>
                </a:lnTo>
                <a:lnTo>
                  <a:pt x="23051" y="20200"/>
                </a:lnTo>
                <a:lnTo>
                  <a:pt x="23051" y="1400"/>
                </a:lnTo>
                <a:close/>
              </a:path>
              <a:path fill="darkenLess" w="24451" h="21600">
                <a:moveTo>
                  <a:pt x="244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51" y="20200"/>
                </a:lnTo>
                <a:close/>
              </a:path>
              <a:path fill="lighten" w="244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51" h="21600">
                <a:moveTo>
                  <a:pt x="5219" y="10800"/>
                </a:moveTo>
                <a:lnTo>
                  <a:pt x="19232" y="3794"/>
                </a:lnTo>
                <a:lnTo>
                  <a:pt x="1923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6172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44000" y="6093000"/>
            <a:ext cx="792000" cy="72072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735" h="21600">
                <a:moveTo>
                  <a:pt x="0" y="0"/>
                </a:moveTo>
                <a:lnTo>
                  <a:pt x="23735" y="0"/>
                </a:lnTo>
                <a:lnTo>
                  <a:pt x="23735" y="21600"/>
                </a:lnTo>
                <a:lnTo>
                  <a:pt x="0" y="21600"/>
                </a:lnTo>
                <a:close/>
              </a:path>
              <a:path fill="lightenLess" w="23735" h="21600">
                <a:moveTo>
                  <a:pt x="0" y="0"/>
                </a:moveTo>
                <a:lnTo>
                  <a:pt x="23735" y="0"/>
                </a:lnTo>
                <a:lnTo>
                  <a:pt x="22335" y="1400"/>
                </a:lnTo>
                <a:lnTo>
                  <a:pt x="1400" y="1400"/>
                </a:lnTo>
                <a:close/>
              </a:path>
              <a:path fill="darken" w="23735" h="21600">
                <a:moveTo>
                  <a:pt x="23735" y="0"/>
                </a:moveTo>
                <a:lnTo>
                  <a:pt x="23735" y="21600"/>
                </a:lnTo>
                <a:lnTo>
                  <a:pt x="22335" y="20200"/>
                </a:lnTo>
                <a:lnTo>
                  <a:pt x="22335" y="1400"/>
                </a:lnTo>
                <a:close/>
              </a:path>
              <a:path fill="darkenLess" w="23735" h="21600">
                <a:moveTo>
                  <a:pt x="23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35" y="20200"/>
                </a:lnTo>
                <a:close/>
              </a:path>
              <a:path fill="lighten" w="23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35" h="21600">
                <a:moveTo>
                  <a:pt x="4861" y="10800"/>
                </a:moveTo>
                <a:lnTo>
                  <a:pt x="18874" y="3794"/>
                </a:lnTo>
                <a:lnTo>
                  <a:pt x="1887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115920"/>
            <a:ext cx="7201080" cy="55116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111640" y="3076560"/>
            <a:ext cx="1281240" cy="1433520"/>
          </a:xfrm>
          <a:custGeom>
            <a:avLst/>
            <a:gdLst/>
            <a:ahLst/>
            <a:rect l="l" t="t" r="r" b="b"/>
            <a:pathLst>
              <a:path w="807" h="903">
                <a:moveTo>
                  <a:pt x="213" y="187"/>
                </a:moveTo>
                <a:cubicBezTo>
                  <a:pt x="233" y="156"/>
                  <a:pt x="224" y="144"/>
                  <a:pt x="259" y="132"/>
                </a:cubicBezTo>
                <a:cubicBezTo>
                  <a:pt x="263" y="138"/>
                  <a:pt x="280" y="173"/>
                  <a:pt x="298" y="164"/>
                </a:cubicBezTo>
                <a:cubicBezTo>
                  <a:pt x="305" y="160"/>
                  <a:pt x="300" y="146"/>
                  <a:pt x="306" y="140"/>
                </a:cubicBezTo>
                <a:cubicBezTo>
                  <a:pt x="308" y="138"/>
                  <a:pt x="350" y="126"/>
                  <a:pt x="353" y="125"/>
                </a:cubicBezTo>
                <a:cubicBezTo>
                  <a:pt x="361" y="120"/>
                  <a:pt x="370" y="116"/>
                  <a:pt x="376" y="109"/>
                </a:cubicBezTo>
                <a:cubicBezTo>
                  <a:pt x="381" y="103"/>
                  <a:pt x="377" y="91"/>
                  <a:pt x="384" y="86"/>
                </a:cubicBezTo>
                <a:cubicBezTo>
                  <a:pt x="398" y="76"/>
                  <a:pt x="431" y="70"/>
                  <a:pt x="431" y="70"/>
                </a:cubicBezTo>
                <a:cubicBezTo>
                  <a:pt x="457" y="31"/>
                  <a:pt x="438" y="53"/>
                  <a:pt x="493" y="16"/>
                </a:cubicBezTo>
                <a:cubicBezTo>
                  <a:pt x="501" y="11"/>
                  <a:pt x="516" y="0"/>
                  <a:pt x="516" y="0"/>
                </a:cubicBezTo>
                <a:cubicBezTo>
                  <a:pt x="560" y="3"/>
                  <a:pt x="605" y="3"/>
                  <a:pt x="649" y="8"/>
                </a:cubicBezTo>
                <a:cubicBezTo>
                  <a:pt x="657" y="9"/>
                  <a:pt x="668" y="9"/>
                  <a:pt x="672" y="16"/>
                </a:cubicBezTo>
                <a:cubicBezTo>
                  <a:pt x="680" y="29"/>
                  <a:pt x="672" y="49"/>
                  <a:pt x="680" y="62"/>
                </a:cubicBezTo>
                <a:cubicBezTo>
                  <a:pt x="684" y="69"/>
                  <a:pt x="696" y="66"/>
                  <a:pt x="703" y="70"/>
                </a:cubicBezTo>
                <a:cubicBezTo>
                  <a:pt x="732" y="85"/>
                  <a:pt x="759" y="95"/>
                  <a:pt x="789" y="109"/>
                </a:cubicBezTo>
                <a:cubicBezTo>
                  <a:pt x="807" y="169"/>
                  <a:pt x="791" y="229"/>
                  <a:pt x="781" y="288"/>
                </a:cubicBezTo>
                <a:cubicBezTo>
                  <a:pt x="777" y="309"/>
                  <a:pt x="785" y="333"/>
                  <a:pt x="773" y="350"/>
                </a:cubicBezTo>
                <a:cubicBezTo>
                  <a:pt x="763" y="364"/>
                  <a:pt x="726" y="366"/>
                  <a:pt x="726" y="366"/>
                </a:cubicBezTo>
                <a:cubicBezTo>
                  <a:pt x="665" y="458"/>
                  <a:pt x="696" y="529"/>
                  <a:pt x="680" y="638"/>
                </a:cubicBezTo>
                <a:cubicBezTo>
                  <a:pt x="672" y="691"/>
                  <a:pt x="615" y="725"/>
                  <a:pt x="586" y="763"/>
                </a:cubicBezTo>
                <a:cubicBezTo>
                  <a:pt x="562" y="858"/>
                  <a:pt x="540" y="818"/>
                  <a:pt x="407" y="825"/>
                </a:cubicBezTo>
                <a:cubicBezTo>
                  <a:pt x="355" y="857"/>
                  <a:pt x="371" y="853"/>
                  <a:pt x="345" y="903"/>
                </a:cubicBezTo>
                <a:cubicBezTo>
                  <a:pt x="291" y="900"/>
                  <a:pt x="236" y="899"/>
                  <a:pt x="182" y="895"/>
                </a:cubicBezTo>
                <a:cubicBezTo>
                  <a:pt x="174" y="894"/>
                  <a:pt x="163" y="895"/>
                  <a:pt x="158" y="888"/>
                </a:cubicBezTo>
                <a:cubicBezTo>
                  <a:pt x="148" y="875"/>
                  <a:pt x="148" y="857"/>
                  <a:pt x="143" y="841"/>
                </a:cubicBezTo>
                <a:cubicBezTo>
                  <a:pt x="140" y="833"/>
                  <a:pt x="135" y="817"/>
                  <a:pt x="135" y="817"/>
                </a:cubicBezTo>
                <a:cubicBezTo>
                  <a:pt x="138" y="791"/>
                  <a:pt x="143" y="766"/>
                  <a:pt x="143" y="740"/>
                </a:cubicBezTo>
                <a:cubicBezTo>
                  <a:pt x="143" y="727"/>
                  <a:pt x="147" y="707"/>
                  <a:pt x="135" y="701"/>
                </a:cubicBezTo>
                <a:cubicBezTo>
                  <a:pt x="112" y="688"/>
                  <a:pt x="83" y="696"/>
                  <a:pt x="57" y="693"/>
                </a:cubicBezTo>
                <a:cubicBezTo>
                  <a:pt x="0" y="653"/>
                  <a:pt x="43" y="585"/>
                  <a:pt x="57" y="529"/>
                </a:cubicBezTo>
                <a:cubicBezTo>
                  <a:pt x="58" y="519"/>
                  <a:pt x="73" y="397"/>
                  <a:pt x="80" y="382"/>
                </a:cubicBezTo>
                <a:cubicBezTo>
                  <a:pt x="84" y="373"/>
                  <a:pt x="96" y="371"/>
                  <a:pt x="104" y="366"/>
                </a:cubicBezTo>
                <a:cubicBezTo>
                  <a:pt x="117" y="322"/>
                  <a:pt x="109" y="282"/>
                  <a:pt x="158" y="265"/>
                </a:cubicBezTo>
                <a:cubicBezTo>
                  <a:pt x="178" y="235"/>
                  <a:pt x="185" y="201"/>
                  <a:pt x="205" y="171"/>
                </a:cubicBezTo>
                <a:cubicBezTo>
                  <a:pt x="213" y="176"/>
                  <a:pt x="219" y="187"/>
                  <a:pt x="228" y="187"/>
                </a:cubicBezTo>
                <a:cubicBezTo>
                  <a:pt x="238" y="187"/>
                  <a:pt x="262" y="171"/>
                  <a:pt x="252" y="171"/>
                </a:cubicBezTo>
                <a:cubicBezTo>
                  <a:pt x="238" y="171"/>
                  <a:pt x="226" y="182"/>
                  <a:pt x="213" y="187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84280" y="1384200"/>
            <a:ext cx="1148040" cy="1155960"/>
          </a:xfrm>
          <a:custGeom>
            <a:avLst/>
            <a:gdLst/>
            <a:ahLst/>
            <a:rect l="l" t="t" r="r" b="b"/>
            <a:pathLst>
              <a:path w="723" h="728">
                <a:moveTo>
                  <a:pt x="273" y="257"/>
                </a:moveTo>
                <a:cubicBezTo>
                  <a:pt x="300" y="275"/>
                  <a:pt x="327" y="299"/>
                  <a:pt x="366" y="264"/>
                </a:cubicBezTo>
                <a:cubicBezTo>
                  <a:pt x="382" y="250"/>
                  <a:pt x="366" y="221"/>
                  <a:pt x="374" y="202"/>
                </a:cubicBezTo>
                <a:cubicBezTo>
                  <a:pt x="385" y="174"/>
                  <a:pt x="431" y="183"/>
                  <a:pt x="460" y="179"/>
                </a:cubicBezTo>
                <a:cubicBezTo>
                  <a:pt x="489" y="159"/>
                  <a:pt x="481" y="171"/>
                  <a:pt x="491" y="140"/>
                </a:cubicBezTo>
                <a:cubicBezTo>
                  <a:pt x="496" y="124"/>
                  <a:pt x="506" y="93"/>
                  <a:pt x="506" y="93"/>
                </a:cubicBezTo>
                <a:cubicBezTo>
                  <a:pt x="509" y="72"/>
                  <a:pt x="494" y="38"/>
                  <a:pt x="514" y="31"/>
                </a:cubicBezTo>
                <a:cubicBezTo>
                  <a:pt x="561" y="15"/>
                  <a:pt x="631" y="0"/>
                  <a:pt x="662" y="39"/>
                </a:cubicBezTo>
                <a:cubicBezTo>
                  <a:pt x="701" y="88"/>
                  <a:pt x="660" y="164"/>
                  <a:pt x="670" y="226"/>
                </a:cubicBezTo>
                <a:cubicBezTo>
                  <a:pt x="671" y="234"/>
                  <a:pt x="685" y="231"/>
                  <a:pt x="693" y="233"/>
                </a:cubicBezTo>
                <a:cubicBezTo>
                  <a:pt x="684" y="391"/>
                  <a:pt x="723" y="379"/>
                  <a:pt x="615" y="397"/>
                </a:cubicBezTo>
                <a:cubicBezTo>
                  <a:pt x="604" y="438"/>
                  <a:pt x="606" y="475"/>
                  <a:pt x="561" y="490"/>
                </a:cubicBezTo>
                <a:cubicBezTo>
                  <a:pt x="518" y="476"/>
                  <a:pt x="500" y="476"/>
                  <a:pt x="452" y="482"/>
                </a:cubicBezTo>
                <a:cubicBezTo>
                  <a:pt x="448" y="538"/>
                  <a:pt x="458" y="670"/>
                  <a:pt x="397" y="708"/>
                </a:cubicBezTo>
                <a:cubicBezTo>
                  <a:pt x="306" y="704"/>
                  <a:pt x="127" y="728"/>
                  <a:pt x="39" y="669"/>
                </a:cubicBezTo>
                <a:cubicBezTo>
                  <a:pt x="24" y="645"/>
                  <a:pt x="16" y="622"/>
                  <a:pt x="0" y="599"/>
                </a:cubicBezTo>
                <a:cubicBezTo>
                  <a:pt x="10" y="511"/>
                  <a:pt x="0" y="510"/>
                  <a:pt x="78" y="490"/>
                </a:cubicBezTo>
                <a:cubicBezTo>
                  <a:pt x="96" y="440"/>
                  <a:pt x="97" y="444"/>
                  <a:pt x="156" y="436"/>
                </a:cubicBezTo>
                <a:cubicBezTo>
                  <a:pt x="208" y="418"/>
                  <a:pt x="175" y="385"/>
                  <a:pt x="195" y="334"/>
                </a:cubicBezTo>
                <a:cubicBezTo>
                  <a:pt x="198" y="327"/>
                  <a:pt x="210" y="329"/>
                  <a:pt x="218" y="327"/>
                </a:cubicBezTo>
                <a:cubicBezTo>
                  <a:pt x="234" y="324"/>
                  <a:pt x="249" y="322"/>
                  <a:pt x="265" y="319"/>
                </a:cubicBezTo>
                <a:cubicBezTo>
                  <a:pt x="275" y="272"/>
                  <a:pt x="273" y="293"/>
                  <a:pt x="273" y="257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86520" y="549360"/>
            <a:ext cx="1006560" cy="1412640"/>
          </a:xfrm>
          <a:custGeom>
            <a:avLst/>
            <a:gdLst/>
            <a:ahLst/>
            <a:rect l="l" t="t" r="r" b="b"/>
            <a:pathLst>
              <a:path w="634" h="890">
                <a:moveTo>
                  <a:pt x="135" y="0"/>
                </a:moveTo>
                <a:cubicBezTo>
                  <a:pt x="194" y="10"/>
                  <a:pt x="256" y="1"/>
                  <a:pt x="315" y="12"/>
                </a:cubicBezTo>
                <a:cubicBezTo>
                  <a:pt x="324" y="14"/>
                  <a:pt x="323" y="29"/>
                  <a:pt x="330" y="35"/>
                </a:cubicBezTo>
                <a:cubicBezTo>
                  <a:pt x="335" y="39"/>
                  <a:pt x="383" y="50"/>
                  <a:pt x="385" y="51"/>
                </a:cubicBezTo>
                <a:cubicBezTo>
                  <a:pt x="434" y="85"/>
                  <a:pt x="378" y="51"/>
                  <a:pt x="470" y="74"/>
                </a:cubicBezTo>
                <a:cubicBezTo>
                  <a:pt x="482" y="77"/>
                  <a:pt x="491" y="86"/>
                  <a:pt x="502" y="90"/>
                </a:cubicBezTo>
                <a:cubicBezTo>
                  <a:pt x="541" y="105"/>
                  <a:pt x="602" y="103"/>
                  <a:pt x="634" y="105"/>
                </a:cubicBezTo>
                <a:cubicBezTo>
                  <a:pt x="631" y="155"/>
                  <a:pt x="625" y="309"/>
                  <a:pt x="618" y="370"/>
                </a:cubicBezTo>
                <a:cubicBezTo>
                  <a:pt x="614" y="404"/>
                  <a:pt x="608" y="437"/>
                  <a:pt x="603" y="471"/>
                </a:cubicBezTo>
                <a:cubicBezTo>
                  <a:pt x="601" y="482"/>
                  <a:pt x="603" y="494"/>
                  <a:pt x="595" y="502"/>
                </a:cubicBezTo>
                <a:cubicBezTo>
                  <a:pt x="587" y="510"/>
                  <a:pt x="574" y="507"/>
                  <a:pt x="564" y="510"/>
                </a:cubicBezTo>
                <a:cubicBezTo>
                  <a:pt x="556" y="515"/>
                  <a:pt x="546" y="518"/>
                  <a:pt x="540" y="526"/>
                </a:cubicBezTo>
                <a:cubicBezTo>
                  <a:pt x="518" y="553"/>
                  <a:pt x="539" y="564"/>
                  <a:pt x="494" y="580"/>
                </a:cubicBezTo>
                <a:cubicBezTo>
                  <a:pt x="462" y="629"/>
                  <a:pt x="435" y="665"/>
                  <a:pt x="416" y="720"/>
                </a:cubicBezTo>
                <a:cubicBezTo>
                  <a:pt x="410" y="738"/>
                  <a:pt x="404" y="765"/>
                  <a:pt x="385" y="767"/>
                </a:cubicBezTo>
                <a:cubicBezTo>
                  <a:pt x="362" y="770"/>
                  <a:pt x="338" y="772"/>
                  <a:pt x="315" y="775"/>
                </a:cubicBezTo>
                <a:cubicBezTo>
                  <a:pt x="287" y="784"/>
                  <a:pt x="290" y="778"/>
                  <a:pt x="276" y="806"/>
                </a:cubicBezTo>
                <a:cubicBezTo>
                  <a:pt x="272" y="813"/>
                  <a:pt x="275" y="825"/>
                  <a:pt x="268" y="829"/>
                </a:cubicBezTo>
                <a:cubicBezTo>
                  <a:pt x="254" y="837"/>
                  <a:pt x="237" y="834"/>
                  <a:pt x="221" y="837"/>
                </a:cubicBezTo>
                <a:cubicBezTo>
                  <a:pt x="211" y="853"/>
                  <a:pt x="208" y="890"/>
                  <a:pt x="190" y="884"/>
                </a:cubicBezTo>
                <a:cubicBezTo>
                  <a:pt x="135" y="865"/>
                  <a:pt x="158" y="877"/>
                  <a:pt x="120" y="853"/>
                </a:cubicBezTo>
                <a:cubicBezTo>
                  <a:pt x="75" y="712"/>
                  <a:pt x="123" y="877"/>
                  <a:pt x="97" y="541"/>
                </a:cubicBezTo>
                <a:cubicBezTo>
                  <a:pt x="94" y="503"/>
                  <a:pt x="66" y="450"/>
                  <a:pt x="50" y="417"/>
                </a:cubicBezTo>
                <a:cubicBezTo>
                  <a:pt x="39" y="394"/>
                  <a:pt x="19" y="347"/>
                  <a:pt x="19" y="347"/>
                </a:cubicBezTo>
                <a:cubicBezTo>
                  <a:pt x="22" y="318"/>
                  <a:pt x="25" y="290"/>
                  <a:pt x="27" y="261"/>
                </a:cubicBezTo>
                <a:cubicBezTo>
                  <a:pt x="34" y="158"/>
                  <a:pt x="0" y="108"/>
                  <a:pt x="89" y="90"/>
                </a:cubicBezTo>
                <a:cubicBezTo>
                  <a:pt x="116" y="52"/>
                  <a:pt x="93" y="37"/>
                  <a:pt x="136" y="51"/>
                </a:cubicBezTo>
                <a:cubicBezTo>
                  <a:pt x="139" y="46"/>
                  <a:pt x="168" y="14"/>
                  <a:pt x="144" y="4"/>
                </a:cubicBezTo>
                <a:cubicBezTo>
                  <a:pt x="134" y="0"/>
                  <a:pt x="123" y="9"/>
                  <a:pt x="112" y="12"/>
                </a:cubicBezTo>
                <a:cubicBezTo>
                  <a:pt x="128" y="72"/>
                  <a:pt x="125" y="29"/>
                  <a:pt x="135" y="0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587700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3300"/>
                </a:solidFill>
                <a:latin typeface="Arial Rounded MT Bold"/>
                <a:ea typeface="Arial"/>
              </a:rPr>
              <a:t>ACORN  and  P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62485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476360" y="115920"/>
            <a:ext cx="6624720" cy="553716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403280" y="587700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ocial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62064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festy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17080" y="6165720"/>
            <a:ext cx="718920" cy="64800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3963" h="21600">
                <a:moveTo>
                  <a:pt x="0" y="0"/>
                </a:moveTo>
                <a:lnTo>
                  <a:pt x="23963" y="0"/>
                </a:lnTo>
                <a:lnTo>
                  <a:pt x="23963" y="21600"/>
                </a:lnTo>
                <a:lnTo>
                  <a:pt x="0" y="21600"/>
                </a:lnTo>
                <a:close/>
              </a:path>
              <a:path fill="lightenLess" w="23963" h="21600">
                <a:moveTo>
                  <a:pt x="0" y="0"/>
                </a:moveTo>
                <a:lnTo>
                  <a:pt x="23963" y="0"/>
                </a:lnTo>
                <a:lnTo>
                  <a:pt x="22563" y="1400"/>
                </a:lnTo>
                <a:lnTo>
                  <a:pt x="1400" y="1400"/>
                </a:lnTo>
                <a:close/>
              </a:path>
              <a:path fill="darken" w="23963" h="21600">
                <a:moveTo>
                  <a:pt x="23963" y="0"/>
                </a:moveTo>
                <a:lnTo>
                  <a:pt x="23963" y="21600"/>
                </a:lnTo>
                <a:lnTo>
                  <a:pt x="22563" y="20200"/>
                </a:lnTo>
                <a:lnTo>
                  <a:pt x="22563" y="1400"/>
                </a:lnTo>
                <a:close/>
              </a:path>
              <a:path fill="darkenLess" w="23963" h="21600">
                <a:moveTo>
                  <a:pt x="239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63" y="20200"/>
                </a:lnTo>
                <a:close/>
              </a:path>
              <a:path fill="lighten" w="239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63" h="21600">
                <a:moveTo>
                  <a:pt x="4975" y="10800"/>
                </a:moveTo>
                <a:lnTo>
                  <a:pt x="18988" y="3794"/>
                </a:lnTo>
                <a:lnTo>
                  <a:pt x="18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67480" y="6248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280" y="404640"/>
            <a:ext cx="84978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ased 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Consumer knowle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t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respon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002200"/>
            <a:ext cx="85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Like: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Occasions, benifits sough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	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    </a:t>
            </a:r>
            <a:r>
              <a:rPr b="1" lang="nl-NL" sz="4000" spc="-1" strike="noStrike">
                <a:solidFill>
                  <a:srgbClr val="333399"/>
                </a:solidFill>
                <a:latin typeface="Arial Rounded MT Bold"/>
                <a:ea typeface="Arial"/>
              </a:rPr>
              <a:t>buyer-readiness st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460080" y="1126440"/>
            <a:ext cx="996624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ategy</a:t>
            </a: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rect or company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side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(outside) sale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152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tractual sales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635280" y="-27000"/>
            <a:ext cx="21600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181080" y="2421000"/>
            <a:ext cx="95774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24360" y="2637000"/>
            <a:ext cx="216000" cy="4221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rot="3061800">
            <a:off x="7416720" y="1736280"/>
            <a:ext cx="216000" cy="432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940360" y="2635920"/>
            <a:ext cx="2952720" cy="2376360"/>
          </a:xfrm>
          <a:prstGeom prst="rtTriangle">
            <a:avLst/>
          </a:prstGeom>
          <a:solidFill>
            <a:srgbClr val="ffff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835280" y="1700280"/>
            <a:ext cx="5532480" cy="25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ass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26920" y="692280"/>
            <a:ext cx="210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651640" y="76500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9528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796000" y="4581360"/>
            <a:ext cx="2104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  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76360" y="1700280"/>
            <a:ext cx="6775560" cy="31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egmented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763640" y="1916280"/>
            <a:ext cx="63374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Niche Market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1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2133720"/>
            <a:ext cx="8640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 Segmen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57080" y="22320"/>
            <a:ext cx="10190160" cy="68356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42764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5640" y="4437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2492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093080" y="486900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32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1052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924360" y="126828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2360" y="4076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5084640"/>
            <a:ext cx="914400" cy="914400"/>
          </a:xfrm>
          <a:prstGeom prst="donut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1476360" y="1268280"/>
            <a:ext cx="6624720" cy="39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Mark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ggreg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A segment should b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49680" y="5300640"/>
            <a:ext cx="460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Fit the compan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4000" y="4437000"/>
            <a:ext cx="558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tructural attr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36720" y="3573360"/>
            <a:ext cx="30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tion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6920" y="1989000"/>
            <a:ext cx="32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ubstant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21320" y="1197000"/>
            <a:ext cx="29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ccessi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20880" y="2781360"/>
            <a:ext cx="335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Measur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0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32000" y="2924280"/>
            <a:ext cx="6624720" cy="37465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58120" y="0"/>
            <a:ext cx="52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have a produc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17560" y="981000"/>
            <a:ext cx="572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found a segmen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 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r target group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23560" y="213372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but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2997360"/>
            <a:ext cx="455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You are not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alone !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fill="hold">
                      <p:stCondLst>
                        <p:cond delay="0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095720" y="333360"/>
            <a:ext cx="1505160" cy="45291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8960" y="692280"/>
            <a:ext cx="1800360" cy="29527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5"/>
          <a:stretch/>
        </p:blipFill>
        <p:spPr>
          <a:xfrm>
            <a:off x="5940360" y="765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43680" y="2781360"/>
            <a:ext cx="2157480" cy="237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403280" y="3933720"/>
            <a:ext cx="1273320" cy="2665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556000" y="1557360"/>
            <a:ext cx="1874880" cy="25210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4427640" y="4437000"/>
            <a:ext cx="2085840" cy="20862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163440" y="3860640"/>
            <a:ext cx="647640" cy="1224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372360" y="4508640"/>
            <a:ext cx="1573200" cy="23493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580000" y="2637000"/>
            <a:ext cx="1679760" cy="25192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0" y="4869000"/>
            <a:ext cx="1422360" cy="1989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5148360" y="0"/>
            <a:ext cx="1584360" cy="119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2484360" y="4005360"/>
            <a:ext cx="1386000" cy="218592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6"/>
          <a:stretch/>
        </p:blipFill>
        <p:spPr>
          <a:xfrm>
            <a:off x="1547640" y="0"/>
            <a:ext cx="2160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9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258920" y="765000"/>
            <a:ext cx="432108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...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920" y="3860640"/>
            <a:ext cx="8893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 to gain a competitive advantag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100094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3851280" y="4653000"/>
            <a:ext cx="3192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....be differ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26920" y="476280"/>
            <a:ext cx="7561440" cy="576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1700"/>
                    </a:gs>
                    <a:gs pos="100000">
                      <a:srgbClr val="ff33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How...?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1700"/>
                  </a:gs>
                  <a:gs pos="100000">
                    <a:srgbClr val="ff33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203640" y="414360"/>
            <a:ext cx="254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6760" y="1918080"/>
            <a:ext cx="8340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to one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group pre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seminar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le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team selling  ( large complex accou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&gt;   key account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41040" y="652320"/>
            <a:ext cx="568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66ff"/>
                </a:solidFill>
                <a:latin typeface="Arial Rounded MT Bold"/>
                <a:ea typeface="Arial"/>
              </a:rPr>
              <a:t>Differentiation along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28680" y="2163600"/>
            <a:ext cx="218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34800" y="2852640"/>
            <a:ext cx="224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969280" y="3500280"/>
            <a:ext cx="271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Perso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41560" y="4869000"/>
            <a:ext cx="18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Im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37600" y="4149720"/>
            <a:ext cx="359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 Rounded MT Bold"/>
                <a:ea typeface="Arial"/>
              </a:rPr>
              <a:t>Value offe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0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have a product,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target market</a:t>
            </a:r>
            <a:br>
              <a:rPr sz="4000"/>
            </a:br>
            <a:r>
              <a:rPr b="1" lang="nl-NL" sz="4000" spc="-1" strike="noStrike">
                <a:solidFill>
                  <a:srgbClr val="ff0000"/>
                </a:solidFill>
                <a:latin typeface="Arial Rounded MT Bold"/>
              </a:rPr>
              <a:t>you have a dif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692360" y="2852640"/>
            <a:ext cx="5878440" cy="234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now..??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fill="hold">
                      <p:stCondLst>
                        <p:cond delay="0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340000" y="2997360"/>
            <a:ext cx="961920" cy="914400"/>
          </a:xfrm>
          <a:prstGeom prst="star5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4360" y="1268280"/>
            <a:ext cx="7775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Magic is 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900000" y="3860640"/>
            <a:ext cx="7559640" cy="20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7517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7517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2924280"/>
            <a:ext cx="961920" cy="914400"/>
          </a:xfrm>
          <a:prstGeom prst="star5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40360" y="2997360"/>
            <a:ext cx="96192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2924280"/>
            <a:ext cx="962280" cy="914400"/>
          </a:xfrm>
          <a:prstGeom prst="star5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2997360"/>
            <a:ext cx="961920" cy="914400"/>
          </a:xfrm>
          <a:prstGeom prst="star5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3068640"/>
            <a:ext cx="962280" cy="914400"/>
          </a:xfrm>
          <a:prstGeom prst="star5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43280" y="263700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0360" y="2997360"/>
            <a:ext cx="961920" cy="914400"/>
          </a:xfrm>
          <a:prstGeom prst="star5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xit" presetID="52" repeatCount="5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6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16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169" dur="8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25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47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3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0" nodeType="withEffect" fill="hold" presetClass="exit" presetID="48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xit" presetID="2" presetSubtype="4" repeatCount="4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9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2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29" repeatCount="5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2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0" y="-38736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032120" y="1628640"/>
            <a:ext cx="6973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Positioning is not abou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the product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2600" y="3933720"/>
            <a:ext cx="8267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t is about what people th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of th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539640" y="5013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2781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51640" y="549360"/>
            <a:ext cx="3095640" cy="17064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00000" y="5373720"/>
            <a:ext cx="240984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egmen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492360" y="3141720"/>
            <a:ext cx="231624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arget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40360" y="981000"/>
            <a:ext cx="251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osition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2" name=""/>
          <p:cNvSpPr/>
          <p:nvPr/>
        </p:nvSpPr>
        <p:spPr>
          <a:xfrm rot="19404600">
            <a:off x="1547280" y="3933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9404600">
            <a:off x="4067280" y="1699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8196600">
            <a:off x="6442920" y="2923920"/>
            <a:ext cx="1266840" cy="485640"/>
          </a:xfrm>
          <a:prstGeom prst="rightArrow">
            <a:avLst>
              <a:gd name="adj1" fmla="val 50000"/>
              <a:gd name="adj2" fmla="val 65215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8196600">
            <a:off x="3924000" y="5157720"/>
            <a:ext cx="1266840" cy="486000"/>
          </a:xfrm>
          <a:prstGeom prst="rightArrow">
            <a:avLst>
              <a:gd name="adj1" fmla="val 50000"/>
              <a:gd name="adj2" fmla="val 65167"/>
            </a:avLst>
          </a:prstGeom>
          <a:gradFill rotWithShape="0">
            <a:gsLst>
              <a:gs pos="0">
                <a:srgbClr val="ff0000"/>
              </a:gs>
              <a:gs pos="100000">
                <a:srgbClr val="75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0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2040" y="396360"/>
            <a:ext cx="860076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ales force structure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rritorial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in a geographical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 all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for one product (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stome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ne person customer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account management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-492120" y="154440"/>
            <a:ext cx="1032696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paying the sales fo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sal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no discr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traight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 strong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  high pressure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b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+  non selling tasks become mo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r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  could seen as unf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salary plus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619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bines 1 and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8040" y="-1080"/>
            <a:ext cx="791208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recruting sales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able traits in a sales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alespeople trainings co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principals of s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chief sales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iel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im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paring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5480" y="532440"/>
            <a:ext cx="8172720" cy="63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99ff"/>
                </a:solidFill>
                <a:latin typeface="Arial"/>
              </a:rPr>
              <a:t>          </a:t>
            </a:r>
            <a:r>
              <a:rPr b="1" lang="nl-NL" sz="4000" spc="-1" strike="noStrike">
                <a:solidFill>
                  <a:srgbClr val="3399ff"/>
                </a:solidFill>
                <a:latin typeface="Arial"/>
              </a:rPr>
              <a:t>steps in selling proc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specting and qualif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entation and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ndling obj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osing the s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¤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think of cultural differences when sell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66"/>
                </a:solidFill>
                <a:latin typeface="Arial"/>
              </a:rPr>
              <a:t>in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2440" y="-107640"/>
            <a:ext cx="888444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supervi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directing, motivating and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veloping customer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l n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lping with time-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zat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ing of sales qu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ve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8:53:26Z</dcterms:created>
  <dc:creator>HAN</dc:creator>
  <dc:description/>
  <dc:language>en-US</dc:language>
  <cp:lastModifiedBy>christine natalia</cp:lastModifiedBy>
  <dcterms:modified xsi:type="dcterms:W3CDTF">2006-12-26T20:09:56Z</dcterms:modified>
  <cp:revision>2</cp:revision>
  <dc:subject/>
  <dc:title>Dia 1</dc:title>
</cp:coreProperties>
</file>