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7.png" ContentType="image/png"/>
  <Override PartName="/ppt/media/image22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3.jpeg" ContentType="image/jpeg"/>
  <Override PartName="/ppt/media/image4.png" ContentType="image/png"/>
  <Override PartName="/ppt/media/image27.png" ContentType="image/png"/>
  <Override PartName="/ppt/media/image2.png" ContentType="image/png"/>
  <Override PartName="/ppt/media/image25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26.png" ContentType="image/png"/>
  <Override PartName="/ppt/media/image17.jpeg" ContentType="image/jpeg"/>
  <Override PartName="/ppt/media/image14.jpeg" ContentType="image/jpeg"/>
  <Override PartName="/ppt/media/image24.png" ContentType="image/png"/>
  <Override PartName="/ppt/media/image1.png" ContentType="image/png"/>
  <Override PartName="/ppt/media/image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EDFA-1086-4FBC-8F46-435168141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081F-8F39-453A-A5E4-98B486A6C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F7E5-1A9F-4A78-B36A-F639770B0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B486-26B1-4736-834A-AEED150FA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6FB92-3228-4714-A5C3-F70421CBD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0799A-9FF8-4279-A0BB-790ECFA88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E2B3F-73AC-4FFB-B2AB-B27E69DAB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7D69C-B246-4075-B35D-01681479D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A0EFB-7EA7-464B-8D4E-D6B3FF40B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E5BB6-1ED6-43D6-B18A-7D5A656CE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5908C-9076-42FA-B583-37455827E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C8E7-4EAB-4C58-BF3C-5B8ABD2D5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64B28-F323-4515-8F5A-810142E08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55D62-36E0-4DD7-83CF-46E91F4F6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A48AC-A254-4650-A269-D95E52C24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D29C3-32CA-461D-889A-287D73D70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F0CA7-499E-4534-8718-3CF2538B9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51F207-F1D6-4E64-89E6-97A8F5BFD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E4C746-23B2-4D3B-858B-9FDD31AB2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A28BC0-4275-4587-AC1D-0AFEB6647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81CA98-3B16-46E1-B0D1-7B2F71C5F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2EDC75-0590-49A3-AD10-2A2AA3DD9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9A05-6B2E-4BD1-B478-579CC5179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A56941-6649-4A6E-9662-CA5C6E183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117627-FDAB-4CD7-AF17-C02B93F82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16FB72-DB88-4D34-9899-BF5F4545A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70E5F4-4DDB-4FB1-9934-6097C460D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8C2382-E4C1-4247-A119-CEB8D7A85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F5A1DC-CCCA-46B7-B915-AF57040A5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2018E3-3622-4BB5-BE30-2F562C610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B1BE-6206-4805-AD18-78E2CE684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E2BC-AAD8-495E-A20D-0E6CD77C3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366C-1C24-4570-8B77-663CBB4FC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E67F-00F2-477A-A11C-B929A23A9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5F7B-C5B3-48E9-939A-C6D602E7E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D709-87C8-4C6D-800D-2DE473216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99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090F5-7567-4062-9166-83A2FE76CD9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99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8EC0A-58CF-4BC8-95B8-BE516214B06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D51A1-474C-49AD-A65C-E01EB422F502}" type="slidenum">
              <a:rPr b="0" lang="nl-NL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"/><Relationship Id="rId3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inter.scoutnet.org/units.html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images.google.nl/imgres?imgurl=http://www.viewmyart.com/ScaryForest.jpg&amp;imgrefurl=http://www.viewmyart.com/Landscapes.htm&amp;h=480&amp;w=640&amp;sz=138&amp;tbnid=Sp0ZHGAA7hEJ:&amp;tbnh=101&amp;tbnw=134&amp;start=3&amp;prev=/images%3Fq%3Dscary%2Bforest%26hl%3Dnl%26lr%3D%26sa%3DN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hyperlink" Target="http://images.google.nl/imgres?imgurl=http://www.goodway.com/bm-images/-vacuum.jpg&amp;imgrefurl=http://www.goodway.com/vacums.htm&amp;h=248&amp;w=150&amp;sz=17&amp;tbnid=dIE9W9nO074J:&amp;tbnh=105&amp;tbnw=64&amp;start=5&amp;prev=/images%3Fq%3Dvacum%2Bcleaners%26hl%3Dnl%26lr%3D" TargetMode="External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hyperlink" Target="http://images.google.nl/imgres?imgurl=http://www.tiscali.co.uk/technology/images/comet_vacum_cleaners.gif&amp;imgrefurl=http://www.tiscali.co.uk/technology/guides/home/vacum.html&amp;h=200&amp;w=180&amp;sz=6&amp;tbnid=J9IQXxO9bksJ:&amp;tbnh=98&amp;tbnw=89&amp;start=3&amp;prev=/images%3Fq%3Dvacum%2Bcleaners%26hl%3Dnl%26lr%3D%26sa%3DG" TargetMode="External"/><Relationship Id="rId7" Type="http://schemas.openxmlformats.org/officeDocument/2006/relationships/image" Target="../media/image12.jpeg"/><Relationship Id="rId8" Type="http://schemas.openxmlformats.org/officeDocument/2006/relationships/hyperlink" Target="http://images.google.nl/imgres?imgurl=http://www.bgclean.co.uk/images/vacum.gif&amp;imgrefurl=http://www.bgclean.co.uk/vacum.htm&amp;h=315&amp;w=150&amp;sz=12&amp;tbnid=kFuuSUBuZTAJ:&amp;tbnh=111&amp;tbnw=53&amp;start=15&amp;prev=/images%3Fq%3Dvacum%2Bcleaners%26hl%3Dnl%26lr%3D%26sa%3DG" TargetMode="External"/><Relationship Id="rId9" Type="http://schemas.openxmlformats.org/officeDocument/2006/relationships/image" Target="../media/image13.jpeg"/><Relationship Id="rId10" Type="http://schemas.openxmlformats.org/officeDocument/2006/relationships/hyperlink" Target="http://images.google.nl/imgres?imgurl=http://www.asthmasa.org.au/images/pic/vacum_cleaner.jpg&amp;imgrefurl=http://www.asthmasa.org.au/AsthmaInfo/asthma_at_home.html&amp;h=135&amp;w=100&amp;sz=3&amp;tbnid=yng3If_Kx3EJ:&amp;tbnh=86&amp;tbnw=64&amp;start=27&amp;prev=/images%3Fq%3Dvacum%2Bcleaners%26start%3D20%26hl%3Dnl%26lr%3D%26sa%3DN" TargetMode="External"/><Relationship Id="rId11" Type="http://schemas.openxmlformats.org/officeDocument/2006/relationships/image" Target="../media/image14.jpeg"/><Relationship Id="rId12" Type="http://schemas.openxmlformats.org/officeDocument/2006/relationships/hyperlink" Target="http://images.google.nl/imgres?imgurl=http://home-improvement.discounts24-7.com/pics/vacum.gif&amp;imgrefurl=http://home-improvement.discounts24-7.com/vacuum.htm&amp;h=120&amp;w=120&amp;sz=9&amp;tbnid=aecjoGUh7tsJ:&amp;tbnh=83&amp;tbnw=83&amp;start=24&amp;prev=/images%3Fq%3Dvacum%2Bcleaners%26start%3D20%26hl%3Dnl%26lr%3D%26sa%3DN" TargetMode="External"/><Relationship Id="rId13" Type="http://schemas.openxmlformats.org/officeDocument/2006/relationships/image" Target="../media/image15.jpeg"/><Relationship Id="rId14" Type="http://schemas.openxmlformats.org/officeDocument/2006/relationships/hyperlink" Target="http://images.google.nl/imgres?imgurl=http://images.ciao.com/iuk/images/products/small/343/prod_small-5324343.jpg&amp;imgrefurl=http://www.ciao.co.uk/Vacuum_Cleaners_11158_5&amp;h=80&amp;w=42&amp;sz=2&amp;tbnid=ef6CGXf3QlgJ:&amp;tbnh=68&amp;tbnw=36&amp;start=23&amp;prev=/images%3Fq%3Dvacum%2Bcleaners%26start%3D20%26hl%3Dnl%26lr%3D%26sa%3DN" TargetMode="External"/><Relationship Id="rId15" Type="http://schemas.openxmlformats.org/officeDocument/2006/relationships/image" Target="../media/image16.jpeg"/><Relationship Id="rId16" Type="http://schemas.openxmlformats.org/officeDocument/2006/relationships/hyperlink" Target="http://images.google.nl/imgres?imgurl=http://www.stofzuigerhuis.nl/images%2520tennant/stofzuigers/3410.jpg&amp;imgrefurl=http://www.stofzuigerhuis.nl/tennant_stofzuigers.htm&amp;h=439&amp;w=292&amp;sz=10&amp;tbnid=BFkWBiJe8cAJ:&amp;tbnh=121&amp;tbnw=81&amp;start=13&amp;prev=/images%3Fq%3Dstofzuigers%26hl%3Dnl%26lr%3D" TargetMode="External"/><Relationship Id="rId17" Type="http://schemas.openxmlformats.org/officeDocument/2006/relationships/image" Target="../media/image17.jpeg"/><Relationship Id="rId18" Type="http://schemas.openxmlformats.org/officeDocument/2006/relationships/hyperlink" Target="http://images.google.nl/imgres?imgurl=http://www.stofzuigerhuis.nl/images%2520tennant/stofzuigers/3810-3840.jpg&amp;imgrefurl=http://www.stofzuigerhuis.nl/tennant_stofzuigers.htm&amp;h=444&amp;w=294&amp;sz=13&amp;tbnid=bUImnP4EIlsJ:&amp;tbnh=123&amp;tbnw=82&amp;start=14&amp;prev=/images%3Fq%3Dstofzuigers%26hl%3Dnl%26lr%3D" TargetMode="External"/><Relationship Id="rId19" Type="http://schemas.openxmlformats.org/officeDocument/2006/relationships/image" Target="../media/image18.jpeg"/><Relationship Id="rId20" Type="http://schemas.openxmlformats.org/officeDocument/2006/relationships/hyperlink" Target="http://images.google.nl/imgres?imgurl=http://www.hoover.nl/Stofzuigers/cilinder.jpg&amp;imgrefurl=http://www.hoover.nl/Stofzuigers/main.asp&amp;h=320&amp;w=200&amp;sz=32&amp;tbnid=Rg4ZDxStEFUJ:&amp;tbnh=112&amp;tbnw=70&amp;start=20&amp;prev=/images%3Fq%3Dstofzuigers%26hl%3Dnl%26lr%3D" TargetMode="External"/><Relationship Id="rId21" Type="http://schemas.openxmlformats.org/officeDocument/2006/relationships/image" Target="../media/image19.jpeg"/><Relationship Id="rId22" Type="http://schemas.openxmlformats.org/officeDocument/2006/relationships/hyperlink" Target="http://images.google.nl/imgres?imgurl=http://www.adocomputers.nl/stofzuigers/V-3900TV.gif&amp;imgrefurl=http://www.adocomputers.nl/stofzuigers/stofzuigers.htm&amp;h=150&amp;w=200&amp;sz=6&amp;tbnid=pph_bVHxT0wJ:&amp;tbnh=74&amp;tbnw=98&amp;start=16&amp;prev=/images%3Fq%3Dstofzuigers%26hl%3Dnl%26lr%3D" TargetMode="External"/><Relationship Id="rId23" Type="http://schemas.openxmlformats.org/officeDocument/2006/relationships/image" Target="../media/image20.jpeg"/><Relationship Id="rId24" Type="http://schemas.openxmlformats.org/officeDocument/2006/relationships/hyperlink" Target="http://images.google.nl/imgres?imgurl=http://www.itecmade.nl/images/images%2520stofzuigers/1503%2520Tele.jpg&amp;imgrefurl=http://www.itecmade.nl/stofzuigers.htm&amp;h=221&amp;w=140&amp;sz=7&amp;tbnid=H37BxSB_LjcJ:&amp;tbnh=101&amp;tbnw=64&amp;start=32&amp;prev=/images%3Fq%3Dstofzuigers%26start%3D20%26hl%3Dnl%26lr%3D%26sa%3DN" TargetMode="External"/><Relationship Id="rId25" Type="http://schemas.openxmlformats.org/officeDocument/2006/relationships/image" Target="../media/image21.jpeg"/><Relationship Id="rId26" Type="http://schemas.openxmlformats.org/officeDocument/2006/relationships/image" Target="../media/image22.jpeg"/><Relationship Id="rId27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99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-3240" y="-59040"/>
            <a:ext cx="9185400" cy="69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57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nl-NL" sz="3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nl-NL" sz="3600" spc="-1" strike="noStrike">
                <a:solidFill>
                  <a:srgbClr val="3399ff"/>
                </a:solidFill>
                <a:latin typeface="Arial"/>
              </a:rPr>
              <a:t>      </a:t>
            </a:r>
            <a:r>
              <a:rPr b="1" lang="nl-NL" sz="4000" spc="-1" strike="noStrike">
                <a:solidFill>
                  <a:srgbClr val="3399ff"/>
                </a:solidFill>
                <a:latin typeface="Arial"/>
              </a:rPr>
              <a:t>personal  sell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57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57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the salesperson is the first personal contac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57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between company and customer </a:t>
            </a:r>
            <a:r>
              <a:rPr b="1" lang="nl-NL" sz="2800" spc="-1" strike="noStrike">
                <a:solidFill>
                  <a:srgbClr val="ff0066"/>
                </a:solidFill>
                <a:latin typeface="Arial"/>
              </a:rPr>
              <a:t>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57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57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roles of the salespers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257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orderta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257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orderge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257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missionary sel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257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representing the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257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to the custo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257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representing the custo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257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to the compag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257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eyes and ears of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257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company in the mar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257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the sales team is the central force in relation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57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mark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57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2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2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2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2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2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2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2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2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2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2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99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-3240" y="-1080"/>
            <a:ext cx="9279000" cy="66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3399ff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3399ff"/>
                </a:solidFill>
                <a:latin typeface="Arial"/>
              </a:rPr>
              <a:t>evalu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st information comes from the sales rep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ther sourc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usto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bser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ther sales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ys of evalu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aring salespeop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qualitative eval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3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3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3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3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99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2518560" y="2133720"/>
            <a:ext cx="387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99ff"/>
                </a:solidFill>
                <a:latin typeface="Arial"/>
              </a:rPr>
              <a:t>Direct Marke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99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ff"/>
                </a:solidFill>
                <a:latin typeface="Arial"/>
              </a:rPr>
              <a:t>Direct marke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rect marketing is marketing through various advertising media that interact directly with consumers, generally calling for the consumer to make a direct response.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ource: Kotler, Ch22, p.78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99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ff"/>
                </a:solidFill>
                <a:latin typeface="Arial"/>
              </a:rPr>
              <a:t>Direct marke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Direct order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 Intermediaries are removed from the equation: this may not cut costs, but will improve communicat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Information giv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 Direct mail opens channels of communication by eliciting respons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Visit generati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 Encouraging potential customers to visit stores, showrooms and so forth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Trial generati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 Direct mail may encourage potential customers to request a demonstr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product tria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99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ff"/>
                </a:solidFill>
                <a:latin typeface="Arial"/>
              </a:rPr>
              <a:t>Benefits  of direct marke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enient and effecti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asy and priv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ffers shoppers greater access and sele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cess is interactive, especially on-line marketin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formation is immediate when using on-line market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werful tool for customer relationship build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cess to global mark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ffers sellers a low cost, fast and efficient alternative for reaching marke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99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ff"/>
                </a:solidFill>
                <a:latin typeface="Arial"/>
              </a:rPr>
              <a:t>Grow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astest growing form of marke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tal direct marketing expenditure in Europe grew from Euro31,725 million in 1997 to Euro46,330 million by 2002 (WARC, 2004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99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880" y="984240"/>
            <a:ext cx="8382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3399ff"/>
                </a:solidFill>
                <a:latin typeface="Arial"/>
              </a:rPr>
              <a:t>Customer databases and direct marketing</a:t>
            </a:r>
            <a:br>
              <a:rPr sz="4500"/>
            </a:b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880" y="213336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nies must distinguish between: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ransaction-based data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urpose of billing and getting money bac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stom-built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data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formation about customers that leads to the serving and satisfying of these custom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99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ff"/>
                </a:solidFill>
                <a:latin typeface="Arial"/>
              </a:rPr>
              <a:t>Database u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 allow companies to locate good prospects and commercial opportun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 develop customer profi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 deepen customer loyalty through innovative personalised communic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99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ff"/>
                </a:solidFill>
                <a:latin typeface="Arial"/>
              </a:rPr>
              <a:t>Public policy and ethical issues in direct market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808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rritation fa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fai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cep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ra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asion-of-privacy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99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99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-457200" y="490320"/>
            <a:ext cx="10852200" cy="69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nl-NL" sz="4000" spc="-1" strike="noStrike">
                <a:solidFill>
                  <a:srgbClr val="3399ff"/>
                </a:solidFill>
                <a:latin typeface="Arial"/>
              </a:rPr>
              <a:t>         </a:t>
            </a:r>
            <a:r>
              <a:rPr b="1" lang="nl-NL" sz="4000" spc="-1" strike="noStrike">
                <a:solidFill>
                  <a:srgbClr val="3399ff"/>
                </a:solidFill>
                <a:latin typeface="Arial"/>
              </a:rPr>
              <a:t>sales force management</a:t>
            </a:r>
            <a:r>
              <a:rPr b="1" lang="nl-NL" sz="36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management: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pla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sales force objectives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prospecting:  </a:t>
            </a:r>
            <a:r>
              <a:rPr b="1" i="1" lang="nl-NL" sz="2800" spc="-1" strike="noStrike">
                <a:solidFill>
                  <a:srgbClr val="000000"/>
                </a:solidFill>
                <a:latin typeface="Arial"/>
              </a:rPr>
              <a:t>find new custom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communic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sel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servicing: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nl-NL" sz="2800" spc="-1" strike="noStrike">
                <a:solidFill>
                  <a:srgbClr val="000000"/>
                </a:solidFill>
                <a:latin typeface="Arial"/>
              </a:rPr>
              <a:t>technical assi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nl-NL" sz="2800" spc="-1" strike="noStrike">
                <a:solidFill>
                  <a:srgbClr val="000000"/>
                </a:solidFill>
                <a:latin typeface="Arial"/>
              </a:rPr>
              <a:t>arranging fi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nl-NL" sz="2800" spc="-1" strike="noStrike">
                <a:solidFill>
                  <a:srgbClr val="000000"/>
                </a:solidFill>
                <a:latin typeface="Arial"/>
              </a:rPr>
              <a:t>problem sol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information gathering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2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2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2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2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2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2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908000" y="836640"/>
            <a:ext cx="5761080" cy="475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segmentat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9933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9933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targetin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9933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9933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positionin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9933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-757080" y="22320"/>
            <a:ext cx="10190160" cy="68356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635280" y="0"/>
            <a:ext cx="216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-181080" y="2421000"/>
            <a:ext cx="9577440" cy="216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724360" y="2637000"/>
            <a:ext cx="216000" cy="4221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rot="3061800">
            <a:off x="7416720" y="1736280"/>
            <a:ext cx="216000" cy="4321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940360" y="2635920"/>
            <a:ext cx="2952720" cy="2376360"/>
          </a:xfrm>
          <a:prstGeom prst="rtTriangle">
            <a:avLst/>
          </a:prstGeom>
          <a:solidFill>
            <a:srgbClr val="ffff00">
              <a:alpha val="2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971640" y="476280"/>
            <a:ext cx="7416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9933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How to split up 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9933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eographic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emograph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eodemograph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sychograph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ehaviou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156360" y="2276640"/>
            <a:ext cx="682560" cy="610920"/>
          </a:xfrm>
          <a:custGeom>
            <a:avLst/>
            <a:gdLst>
              <a:gd name="textAreaLeft" fmla="*/ 136440 w 682560"/>
              <a:gd name="textAreaRight" fmla="*/ 546120 w 682560"/>
              <a:gd name="textAreaTop" fmla="*/ 136440 h 610920"/>
              <a:gd name="textAreaBottom" fmla="*/ 474480 h 610920"/>
            </a:gdLst>
            <a:ahLst/>
            <a:rect l="textAreaLeft" t="textAreaTop" r="textAreaRight" b="textAreaBottom"/>
            <a:pathLst>
              <a:path w="24131" h="21600">
                <a:moveTo>
                  <a:pt x="0" y="0"/>
                </a:moveTo>
                <a:lnTo>
                  <a:pt x="24131" y="0"/>
                </a:lnTo>
                <a:lnTo>
                  <a:pt x="24131" y="21600"/>
                </a:lnTo>
                <a:lnTo>
                  <a:pt x="0" y="21600"/>
                </a:lnTo>
                <a:close/>
              </a:path>
              <a:path fill="lightenLess" w="24131" h="21600">
                <a:moveTo>
                  <a:pt x="0" y="0"/>
                </a:moveTo>
                <a:lnTo>
                  <a:pt x="24131" y="0"/>
                </a:lnTo>
                <a:lnTo>
                  <a:pt x="19306" y="4825"/>
                </a:lnTo>
                <a:lnTo>
                  <a:pt x="4825" y="4825"/>
                </a:lnTo>
                <a:close/>
              </a:path>
              <a:path fill="darken" w="24131" h="21600">
                <a:moveTo>
                  <a:pt x="24131" y="0"/>
                </a:moveTo>
                <a:lnTo>
                  <a:pt x="24131" y="21600"/>
                </a:lnTo>
                <a:lnTo>
                  <a:pt x="19306" y="16775"/>
                </a:lnTo>
                <a:lnTo>
                  <a:pt x="19306" y="4825"/>
                </a:lnTo>
                <a:close/>
              </a:path>
              <a:path fill="darkenLess" w="24131" h="21600">
                <a:moveTo>
                  <a:pt x="24131" y="21600"/>
                </a:moveTo>
                <a:lnTo>
                  <a:pt x="0" y="21600"/>
                </a:lnTo>
                <a:lnTo>
                  <a:pt x="4825" y="16775"/>
                </a:lnTo>
                <a:lnTo>
                  <a:pt x="19306" y="16775"/>
                </a:lnTo>
                <a:close/>
              </a:path>
              <a:path fill="lighten" w="24131" h="21600">
                <a:moveTo>
                  <a:pt x="0" y="21600"/>
                </a:moveTo>
                <a:lnTo>
                  <a:pt x="0" y="0"/>
                </a:lnTo>
                <a:lnTo>
                  <a:pt x="4825" y="4825"/>
                </a:lnTo>
                <a:lnTo>
                  <a:pt x="4825" y="16775"/>
                </a:lnTo>
                <a:close/>
              </a:path>
              <a:path fill="darken" w="24131" h="21600">
                <a:moveTo>
                  <a:pt x="12066" y="6346"/>
                </a:moveTo>
                <a:arcTo wR="4454" hR="4454" stAng="16200000" swAng="-5400000"/>
                <a:arcTo wR="4454" hR="4454" stAng="10800000" swAng="-5400000"/>
                <a:arcTo wR="4454" hR="4454" stAng="5400000" swAng="-5400000"/>
                <a:arcTo wR="4454" hR="4454" stAng="0" swAng="-5400000"/>
                <a:close/>
              </a:path>
              <a:path fill="lighten" w="24131" h="21600">
                <a:moveTo>
                  <a:pt x="12066" y="6584"/>
                </a:moveTo>
                <a:arcTo wR="1140" hR="1140" stAng="16200000" swAng="-5400000"/>
                <a:arcTo wR="1140" hR="1140" stAng="10800000" swAng="-5400000"/>
                <a:arcTo wR="1140" hR="1140" stAng="5400000" swAng="-5400000"/>
                <a:arcTo wR="1140" hR="1140" stAng="0" swAng="-5400000"/>
                <a:close/>
              </a:path>
              <a:path fill="lighten" w="24131" h="21600">
                <a:moveTo>
                  <a:pt x="10428" y="9162"/>
                </a:moveTo>
                <a:lnTo>
                  <a:pt x="12885" y="9162"/>
                </a:lnTo>
                <a:lnTo>
                  <a:pt x="12885" y="13610"/>
                </a:lnTo>
                <a:lnTo>
                  <a:pt x="13703" y="13610"/>
                </a:lnTo>
                <a:lnTo>
                  <a:pt x="13703" y="14197"/>
                </a:lnTo>
                <a:lnTo>
                  <a:pt x="10428" y="14197"/>
                </a:lnTo>
                <a:lnTo>
                  <a:pt x="10428" y="13610"/>
                </a:lnTo>
                <a:lnTo>
                  <a:pt x="11247" y="13610"/>
                </a:lnTo>
                <a:lnTo>
                  <a:pt x="11247" y="9738"/>
                </a:lnTo>
                <a:lnTo>
                  <a:pt x="10428" y="9738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156360" y="3068640"/>
            <a:ext cx="682560" cy="611280"/>
          </a:xfrm>
          <a:custGeom>
            <a:avLst/>
            <a:gdLst>
              <a:gd name="textAreaLeft" fmla="*/ 136440 w 682560"/>
              <a:gd name="textAreaRight" fmla="*/ 546120 w 682560"/>
              <a:gd name="textAreaTop" fmla="*/ 136440 h 611280"/>
              <a:gd name="textAreaBottom" fmla="*/ 474840 h 611280"/>
            </a:gdLst>
            <a:ahLst/>
            <a:rect l="textAreaLeft" t="textAreaTop" r="textAreaRight" b="textAreaBottom"/>
            <a:pathLst>
              <a:path w="24117" h="21600">
                <a:moveTo>
                  <a:pt x="0" y="0"/>
                </a:moveTo>
                <a:lnTo>
                  <a:pt x="24117" y="0"/>
                </a:lnTo>
                <a:lnTo>
                  <a:pt x="24117" y="21600"/>
                </a:lnTo>
                <a:lnTo>
                  <a:pt x="0" y="21600"/>
                </a:lnTo>
                <a:close/>
              </a:path>
              <a:path fill="lightenLess" w="24117" h="21600">
                <a:moveTo>
                  <a:pt x="0" y="0"/>
                </a:moveTo>
                <a:lnTo>
                  <a:pt x="24117" y="0"/>
                </a:lnTo>
                <a:lnTo>
                  <a:pt x="19292" y="4825"/>
                </a:lnTo>
                <a:lnTo>
                  <a:pt x="4825" y="4825"/>
                </a:lnTo>
                <a:close/>
              </a:path>
              <a:path fill="darken" w="24117" h="21600">
                <a:moveTo>
                  <a:pt x="24117" y="0"/>
                </a:moveTo>
                <a:lnTo>
                  <a:pt x="24117" y="21600"/>
                </a:lnTo>
                <a:lnTo>
                  <a:pt x="19292" y="16775"/>
                </a:lnTo>
                <a:lnTo>
                  <a:pt x="19292" y="4825"/>
                </a:lnTo>
                <a:close/>
              </a:path>
              <a:path fill="darkenLess" w="24117" h="21600">
                <a:moveTo>
                  <a:pt x="24117" y="21600"/>
                </a:moveTo>
                <a:lnTo>
                  <a:pt x="0" y="21600"/>
                </a:lnTo>
                <a:lnTo>
                  <a:pt x="4825" y="16775"/>
                </a:lnTo>
                <a:lnTo>
                  <a:pt x="19292" y="16775"/>
                </a:lnTo>
                <a:close/>
              </a:path>
              <a:path fill="lighten" w="24117" h="21600">
                <a:moveTo>
                  <a:pt x="0" y="21600"/>
                </a:moveTo>
                <a:lnTo>
                  <a:pt x="0" y="0"/>
                </a:lnTo>
                <a:lnTo>
                  <a:pt x="4825" y="4825"/>
                </a:lnTo>
                <a:lnTo>
                  <a:pt x="4825" y="16775"/>
                </a:lnTo>
                <a:close/>
              </a:path>
              <a:path fill="darken" w="24117" h="21600">
                <a:moveTo>
                  <a:pt x="12059" y="6346"/>
                </a:moveTo>
                <a:arcTo wR="4454" hR="4454" stAng="16200000" swAng="-5400000"/>
                <a:arcTo wR="4454" hR="4454" stAng="10800000" swAng="-5400000"/>
                <a:arcTo wR="4454" hR="4454" stAng="5400000" swAng="-5400000"/>
                <a:arcTo wR="4454" hR="4454" stAng="0" swAng="-5400000"/>
                <a:close/>
              </a:path>
              <a:path fill="lighten" w="24117" h="21600">
                <a:moveTo>
                  <a:pt x="12059" y="6584"/>
                </a:moveTo>
                <a:arcTo wR="1140" hR="1140" stAng="16200000" swAng="-5400000"/>
                <a:arcTo wR="1140" hR="1140" stAng="10800000" swAng="-5400000"/>
                <a:arcTo wR="1140" hR="1140" stAng="5400000" swAng="-5400000"/>
                <a:arcTo wR="1140" hR="1140" stAng="0" swAng="-5400000"/>
                <a:close/>
              </a:path>
              <a:path fill="lighten" w="24117" h="21600">
                <a:moveTo>
                  <a:pt x="10421" y="9162"/>
                </a:moveTo>
                <a:lnTo>
                  <a:pt x="12877" y="9162"/>
                </a:lnTo>
                <a:lnTo>
                  <a:pt x="12877" y="13610"/>
                </a:lnTo>
                <a:lnTo>
                  <a:pt x="13696" y="13610"/>
                </a:lnTo>
                <a:lnTo>
                  <a:pt x="13696" y="14197"/>
                </a:lnTo>
                <a:lnTo>
                  <a:pt x="10421" y="14197"/>
                </a:lnTo>
                <a:lnTo>
                  <a:pt x="10421" y="13610"/>
                </a:lnTo>
                <a:lnTo>
                  <a:pt x="11240" y="13610"/>
                </a:lnTo>
                <a:lnTo>
                  <a:pt x="11240" y="9738"/>
                </a:lnTo>
                <a:lnTo>
                  <a:pt x="10421" y="9738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156360" y="3860640"/>
            <a:ext cx="682560" cy="611280"/>
          </a:xfrm>
          <a:custGeom>
            <a:avLst/>
            <a:gdLst>
              <a:gd name="textAreaLeft" fmla="*/ 136440 w 682560"/>
              <a:gd name="textAreaRight" fmla="*/ 546120 w 682560"/>
              <a:gd name="textAreaTop" fmla="*/ 136440 h 611280"/>
              <a:gd name="textAreaBottom" fmla="*/ 474840 h 611280"/>
            </a:gdLst>
            <a:ahLst/>
            <a:rect l="textAreaLeft" t="textAreaTop" r="textAreaRight" b="textAreaBottom"/>
            <a:pathLst>
              <a:path w="24117" h="21600">
                <a:moveTo>
                  <a:pt x="0" y="0"/>
                </a:moveTo>
                <a:lnTo>
                  <a:pt x="24117" y="0"/>
                </a:lnTo>
                <a:lnTo>
                  <a:pt x="24117" y="21600"/>
                </a:lnTo>
                <a:lnTo>
                  <a:pt x="0" y="21600"/>
                </a:lnTo>
                <a:close/>
              </a:path>
              <a:path fill="lightenLess" w="24117" h="21600">
                <a:moveTo>
                  <a:pt x="0" y="0"/>
                </a:moveTo>
                <a:lnTo>
                  <a:pt x="24117" y="0"/>
                </a:lnTo>
                <a:lnTo>
                  <a:pt x="19292" y="4825"/>
                </a:lnTo>
                <a:lnTo>
                  <a:pt x="4825" y="4825"/>
                </a:lnTo>
                <a:close/>
              </a:path>
              <a:path fill="darken" w="24117" h="21600">
                <a:moveTo>
                  <a:pt x="24117" y="0"/>
                </a:moveTo>
                <a:lnTo>
                  <a:pt x="24117" y="21600"/>
                </a:lnTo>
                <a:lnTo>
                  <a:pt x="19292" y="16775"/>
                </a:lnTo>
                <a:lnTo>
                  <a:pt x="19292" y="4825"/>
                </a:lnTo>
                <a:close/>
              </a:path>
              <a:path fill="darkenLess" w="24117" h="21600">
                <a:moveTo>
                  <a:pt x="24117" y="21600"/>
                </a:moveTo>
                <a:lnTo>
                  <a:pt x="0" y="21600"/>
                </a:lnTo>
                <a:lnTo>
                  <a:pt x="4825" y="16775"/>
                </a:lnTo>
                <a:lnTo>
                  <a:pt x="19292" y="16775"/>
                </a:lnTo>
                <a:close/>
              </a:path>
              <a:path fill="lighten" w="24117" h="21600">
                <a:moveTo>
                  <a:pt x="0" y="21600"/>
                </a:moveTo>
                <a:lnTo>
                  <a:pt x="0" y="0"/>
                </a:lnTo>
                <a:lnTo>
                  <a:pt x="4825" y="4825"/>
                </a:lnTo>
                <a:lnTo>
                  <a:pt x="4825" y="16775"/>
                </a:lnTo>
                <a:close/>
              </a:path>
              <a:path fill="darken" w="24117" h="21600">
                <a:moveTo>
                  <a:pt x="12059" y="6346"/>
                </a:moveTo>
                <a:arcTo wR="4454" hR="4454" stAng="16200000" swAng="-5400000"/>
                <a:arcTo wR="4454" hR="4454" stAng="10800000" swAng="-5400000"/>
                <a:arcTo wR="4454" hR="4454" stAng="5400000" swAng="-5400000"/>
                <a:arcTo wR="4454" hR="4454" stAng="0" swAng="-5400000"/>
                <a:close/>
              </a:path>
              <a:path fill="lighten" w="24117" h="21600">
                <a:moveTo>
                  <a:pt x="12059" y="6584"/>
                </a:moveTo>
                <a:arcTo wR="1140" hR="1140" stAng="16200000" swAng="-5400000"/>
                <a:arcTo wR="1140" hR="1140" stAng="10800000" swAng="-5400000"/>
                <a:arcTo wR="1140" hR="1140" stAng="5400000" swAng="-5400000"/>
                <a:arcTo wR="1140" hR="1140" stAng="0" swAng="-5400000"/>
                <a:close/>
              </a:path>
              <a:path fill="lighten" w="24117" h="21600">
                <a:moveTo>
                  <a:pt x="10421" y="9162"/>
                </a:moveTo>
                <a:lnTo>
                  <a:pt x="12877" y="9162"/>
                </a:lnTo>
                <a:lnTo>
                  <a:pt x="12877" y="13610"/>
                </a:lnTo>
                <a:lnTo>
                  <a:pt x="13696" y="13610"/>
                </a:lnTo>
                <a:lnTo>
                  <a:pt x="13696" y="14197"/>
                </a:lnTo>
                <a:lnTo>
                  <a:pt x="10421" y="14197"/>
                </a:lnTo>
                <a:lnTo>
                  <a:pt x="10421" y="13610"/>
                </a:lnTo>
                <a:lnTo>
                  <a:pt x="11240" y="13610"/>
                </a:lnTo>
                <a:lnTo>
                  <a:pt x="11240" y="9738"/>
                </a:lnTo>
                <a:lnTo>
                  <a:pt x="10421" y="9738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156360" y="4653000"/>
            <a:ext cx="682560" cy="611280"/>
          </a:xfrm>
          <a:custGeom>
            <a:avLst/>
            <a:gdLst>
              <a:gd name="textAreaLeft" fmla="*/ 136440 w 682560"/>
              <a:gd name="textAreaRight" fmla="*/ 546120 w 682560"/>
              <a:gd name="textAreaTop" fmla="*/ 136440 h 611280"/>
              <a:gd name="textAreaBottom" fmla="*/ 474840 h 611280"/>
            </a:gdLst>
            <a:ahLst/>
            <a:rect l="textAreaLeft" t="textAreaTop" r="textAreaRight" b="textAreaBottom"/>
            <a:pathLst>
              <a:path w="24117" h="21600">
                <a:moveTo>
                  <a:pt x="0" y="0"/>
                </a:moveTo>
                <a:lnTo>
                  <a:pt x="24117" y="0"/>
                </a:lnTo>
                <a:lnTo>
                  <a:pt x="24117" y="21600"/>
                </a:lnTo>
                <a:lnTo>
                  <a:pt x="0" y="21600"/>
                </a:lnTo>
                <a:close/>
              </a:path>
              <a:path fill="lightenLess" w="24117" h="21600">
                <a:moveTo>
                  <a:pt x="0" y="0"/>
                </a:moveTo>
                <a:lnTo>
                  <a:pt x="24117" y="0"/>
                </a:lnTo>
                <a:lnTo>
                  <a:pt x="19292" y="4825"/>
                </a:lnTo>
                <a:lnTo>
                  <a:pt x="4825" y="4825"/>
                </a:lnTo>
                <a:close/>
              </a:path>
              <a:path fill="darken" w="24117" h="21600">
                <a:moveTo>
                  <a:pt x="24117" y="0"/>
                </a:moveTo>
                <a:lnTo>
                  <a:pt x="24117" y="21600"/>
                </a:lnTo>
                <a:lnTo>
                  <a:pt x="19292" y="16775"/>
                </a:lnTo>
                <a:lnTo>
                  <a:pt x="19292" y="4825"/>
                </a:lnTo>
                <a:close/>
              </a:path>
              <a:path fill="darkenLess" w="24117" h="21600">
                <a:moveTo>
                  <a:pt x="24117" y="21600"/>
                </a:moveTo>
                <a:lnTo>
                  <a:pt x="0" y="21600"/>
                </a:lnTo>
                <a:lnTo>
                  <a:pt x="4825" y="16775"/>
                </a:lnTo>
                <a:lnTo>
                  <a:pt x="19292" y="16775"/>
                </a:lnTo>
                <a:close/>
              </a:path>
              <a:path fill="lighten" w="24117" h="21600">
                <a:moveTo>
                  <a:pt x="0" y="21600"/>
                </a:moveTo>
                <a:lnTo>
                  <a:pt x="0" y="0"/>
                </a:lnTo>
                <a:lnTo>
                  <a:pt x="4825" y="4825"/>
                </a:lnTo>
                <a:lnTo>
                  <a:pt x="4825" y="16775"/>
                </a:lnTo>
                <a:close/>
              </a:path>
              <a:path fill="darken" w="24117" h="21600">
                <a:moveTo>
                  <a:pt x="12059" y="6346"/>
                </a:moveTo>
                <a:arcTo wR="4454" hR="4454" stAng="16200000" swAng="-5400000"/>
                <a:arcTo wR="4454" hR="4454" stAng="10800000" swAng="-5400000"/>
                <a:arcTo wR="4454" hR="4454" stAng="5400000" swAng="-5400000"/>
                <a:arcTo wR="4454" hR="4454" stAng="0" swAng="-5400000"/>
                <a:close/>
              </a:path>
              <a:path fill="lighten" w="24117" h="21600">
                <a:moveTo>
                  <a:pt x="12059" y="6584"/>
                </a:moveTo>
                <a:arcTo wR="1140" hR="1140" stAng="16200000" swAng="-5400000"/>
                <a:arcTo wR="1140" hR="1140" stAng="10800000" swAng="-5400000"/>
                <a:arcTo wR="1140" hR="1140" stAng="5400000" swAng="-5400000"/>
                <a:arcTo wR="1140" hR="1140" stAng="0" swAng="-5400000"/>
                <a:close/>
              </a:path>
              <a:path fill="lighten" w="24117" h="21600">
                <a:moveTo>
                  <a:pt x="10421" y="9162"/>
                </a:moveTo>
                <a:lnTo>
                  <a:pt x="12877" y="9162"/>
                </a:lnTo>
                <a:lnTo>
                  <a:pt x="12877" y="13610"/>
                </a:lnTo>
                <a:lnTo>
                  <a:pt x="13696" y="13610"/>
                </a:lnTo>
                <a:lnTo>
                  <a:pt x="13696" y="14197"/>
                </a:lnTo>
                <a:lnTo>
                  <a:pt x="10421" y="14197"/>
                </a:lnTo>
                <a:lnTo>
                  <a:pt x="10421" y="13610"/>
                </a:lnTo>
                <a:lnTo>
                  <a:pt x="11240" y="13610"/>
                </a:lnTo>
                <a:lnTo>
                  <a:pt x="11240" y="9738"/>
                </a:lnTo>
                <a:lnTo>
                  <a:pt x="10421" y="9738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156360" y="5445000"/>
            <a:ext cx="682560" cy="611280"/>
          </a:xfrm>
          <a:custGeom>
            <a:avLst/>
            <a:gdLst>
              <a:gd name="textAreaLeft" fmla="*/ 136440 w 682560"/>
              <a:gd name="textAreaRight" fmla="*/ 546120 w 682560"/>
              <a:gd name="textAreaTop" fmla="*/ 136440 h 611280"/>
              <a:gd name="textAreaBottom" fmla="*/ 474840 h 611280"/>
            </a:gdLst>
            <a:ahLst/>
            <a:rect l="textAreaLeft" t="textAreaTop" r="textAreaRight" b="textAreaBottom"/>
            <a:pathLst>
              <a:path w="24117" h="21600">
                <a:moveTo>
                  <a:pt x="0" y="0"/>
                </a:moveTo>
                <a:lnTo>
                  <a:pt x="24117" y="0"/>
                </a:lnTo>
                <a:lnTo>
                  <a:pt x="24117" y="21600"/>
                </a:lnTo>
                <a:lnTo>
                  <a:pt x="0" y="21600"/>
                </a:lnTo>
                <a:close/>
              </a:path>
              <a:path fill="lightenLess" w="24117" h="21600">
                <a:moveTo>
                  <a:pt x="0" y="0"/>
                </a:moveTo>
                <a:lnTo>
                  <a:pt x="24117" y="0"/>
                </a:lnTo>
                <a:lnTo>
                  <a:pt x="19292" y="4825"/>
                </a:lnTo>
                <a:lnTo>
                  <a:pt x="4825" y="4825"/>
                </a:lnTo>
                <a:close/>
              </a:path>
              <a:path fill="darken" w="24117" h="21600">
                <a:moveTo>
                  <a:pt x="24117" y="0"/>
                </a:moveTo>
                <a:lnTo>
                  <a:pt x="24117" y="21600"/>
                </a:lnTo>
                <a:lnTo>
                  <a:pt x="19292" y="16775"/>
                </a:lnTo>
                <a:lnTo>
                  <a:pt x="19292" y="4825"/>
                </a:lnTo>
                <a:close/>
              </a:path>
              <a:path fill="darkenLess" w="24117" h="21600">
                <a:moveTo>
                  <a:pt x="24117" y="21600"/>
                </a:moveTo>
                <a:lnTo>
                  <a:pt x="0" y="21600"/>
                </a:lnTo>
                <a:lnTo>
                  <a:pt x="4825" y="16775"/>
                </a:lnTo>
                <a:lnTo>
                  <a:pt x="19292" y="16775"/>
                </a:lnTo>
                <a:close/>
              </a:path>
              <a:path fill="lighten" w="24117" h="21600">
                <a:moveTo>
                  <a:pt x="0" y="21600"/>
                </a:moveTo>
                <a:lnTo>
                  <a:pt x="0" y="0"/>
                </a:lnTo>
                <a:lnTo>
                  <a:pt x="4825" y="4825"/>
                </a:lnTo>
                <a:lnTo>
                  <a:pt x="4825" y="16775"/>
                </a:lnTo>
                <a:close/>
              </a:path>
              <a:path fill="darken" w="24117" h="21600">
                <a:moveTo>
                  <a:pt x="12059" y="6346"/>
                </a:moveTo>
                <a:arcTo wR="4454" hR="4454" stAng="16200000" swAng="-5400000"/>
                <a:arcTo wR="4454" hR="4454" stAng="10800000" swAng="-5400000"/>
                <a:arcTo wR="4454" hR="4454" stAng="5400000" swAng="-5400000"/>
                <a:arcTo wR="4454" hR="4454" stAng="0" swAng="-5400000"/>
                <a:close/>
              </a:path>
              <a:path fill="lighten" w="24117" h="21600">
                <a:moveTo>
                  <a:pt x="12059" y="6584"/>
                </a:moveTo>
                <a:arcTo wR="1140" hR="1140" stAng="16200000" swAng="-5400000"/>
                <a:arcTo wR="1140" hR="1140" stAng="10800000" swAng="-5400000"/>
                <a:arcTo wR="1140" hR="1140" stAng="5400000" swAng="-5400000"/>
                <a:arcTo wR="1140" hR="1140" stAng="0" swAng="-5400000"/>
                <a:close/>
              </a:path>
              <a:path fill="lighten" w="24117" h="21600">
                <a:moveTo>
                  <a:pt x="10421" y="9162"/>
                </a:moveTo>
                <a:lnTo>
                  <a:pt x="12877" y="9162"/>
                </a:lnTo>
                <a:lnTo>
                  <a:pt x="12877" y="13610"/>
                </a:lnTo>
                <a:lnTo>
                  <a:pt x="13696" y="13610"/>
                </a:lnTo>
                <a:lnTo>
                  <a:pt x="13696" y="14197"/>
                </a:lnTo>
                <a:lnTo>
                  <a:pt x="10421" y="14197"/>
                </a:lnTo>
                <a:lnTo>
                  <a:pt x="10421" y="13610"/>
                </a:lnTo>
                <a:lnTo>
                  <a:pt x="11240" y="13610"/>
                </a:lnTo>
                <a:lnTo>
                  <a:pt x="11240" y="9738"/>
                </a:lnTo>
                <a:lnTo>
                  <a:pt x="10421" y="9738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>
            <a:hlinkClick r:id="rId2" action="ppaction://hlinksldjump"/>
          </p:cNvPr>
          <p:cNvSpPr/>
          <p:nvPr/>
        </p:nvSpPr>
        <p:spPr>
          <a:xfrm>
            <a:off x="8317080" y="6021360"/>
            <a:ext cx="609480" cy="6112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11280"/>
              <a:gd name="textAreaBottom" fmla="*/ 572040 h 611280"/>
            </a:gdLst>
            <a:ahLst/>
            <a:rect l="textAreaLeft" t="textAreaTop" r="textAreaRight" b="textAreaBottom"/>
            <a:pathLst>
              <a:path w="21600" h="21664">
                <a:moveTo>
                  <a:pt x="0" y="0"/>
                </a:moveTo>
                <a:lnTo>
                  <a:pt x="21600" y="0"/>
                </a:lnTo>
                <a:lnTo>
                  <a:pt x="21600" y="21664"/>
                </a:lnTo>
                <a:lnTo>
                  <a:pt x="0" y="21664"/>
                </a:lnTo>
                <a:close/>
              </a:path>
              <a:path fill="lightenLess" w="21600" h="2166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64">
                <a:moveTo>
                  <a:pt x="21600" y="0"/>
                </a:moveTo>
                <a:lnTo>
                  <a:pt x="21600" y="21664"/>
                </a:lnTo>
                <a:lnTo>
                  <a:pt x="20200" y="20264"/>
                </a:lnTo>
                <a:lnTo>
                  <a:pt x="20200" y="1400"/>
                </a:lnTo>
                <a:close/>
              </a:path>
              <a:path fill="darkenLess" w="21600" h="21664">
                <a:moveTo>
                  <a:pt x="21600" y="21664"/>
                </a:moveTo>
                <a:lnTo>
                  <a:pt x="0" y="21664"/>
                </a:lnTo>
                <a:lnTo>
                  <a:pt x="1400" y="20264"/>
                </a:lnTo>
                <a:lnTo>
                  <a:pt x="20200" y="20264"/>
                </a:lnTo>
                <a:close/>
              </a:path>
              <a:path fill="lighten" w="21600" h="21664">
                <a:moveTo>
                  <a:pt x="0" y="2166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64"/>
                </a:lnTo>
                <a:close/>
              </a:path>
              <a:path fill="darken" w="21600" h="21664">
                <a:moveTo>
                  <a:pt x="3794" y="3825"/>
                </a:moveTo>
                <a:lnTo>
                  <a:pt x="17806" y="10832"/>
                </a:lnTo>
                <a:lnTo>
                  <a:pt x="3794" y="17838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fill="hold">
                            <p:stCondLst>
                              <p:cond delay="500"/>
                            </p:stCondLst>
                            <p:childTnLst>
                              <p:par>
                                <p:cTn id="73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2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5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8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1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4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>
            <a:hlinkClick r:id="" action="ppaction://hlinkshowjump?jump=previousslide"/>
          </p:cNvPr>
          <p:cNvSpPr/>
          <p:nvPr/>
        </p:nvSpPr>
        <p:spPr>
          <a:xfrm>
            <a:off x="8604360" y="6165720"/>
            <a:ext cx="360360" cy="43200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432000"/>
              <a:gd name="textAreaBottom" fmla="*/ 408960 h 432000"/>
            </a:gdLst>
            <a:ahLst/>
            <a:rect l="textAreaLeft" t="textAreaTop" r="textAreaRight" b="textAreaBottom"/>
            <a:pathLst>
              <a:path w="21600" h="25890">
                <a:moveTo>
                  <a:pt x="0" y="0"/>
                </a:moveTo>
                <a:lnTo>
                  <a:pt x="21600" y="0"/>
                </a:lnTo>
                <a:lnTo>
                  <a:pt x="21600" y="25890"/>
                </a:lnTo>
                <a:lnTo>
                  <a:pt x="0" y="25890"/>
                </a:lnTo>
                <a:close/>
              </a:path>
              <a:path fill="lightenLess" w="21600" h="258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890">
                <a:moveTo>
                  <a:pt x="21600" y="0"/>
                </a:moveTo>
                <a:lnTo>
                  <a:pt x="21600" y="25890"/>
                </a:lnTo>
                <a:lnTo>
                  <a:pt x="20200" y="24490"/>
                </a:lnTo>
                <a:lnTo>
                  <a:pt x="20200" y="1400"/>
                </a:lnTo>
                <a:close/>
              </a:path>
              <a:path fill="darkenLess" w="21600" h="25890">
                <a:moveTo>
                  <a:pt x="21600" y="25890"/>
                </a:moveTo>
                <a:lnTo>
                  <a:pt x="0" y="25890"/>
                </a:lnTo>
                <a:lnTo>
                  <a:pt x="1400" y="24490"/>
                </a:lnTo>
                <a:lnTo>
                  <a:pt x="20200" y="24490"/>
                </a:lnTo>
                <a:close/>
              </a:path>
              <a:path fill="lighten" w="21600" h="25890">
                <a:moveTo>
                  <a:pt x="0" y="258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4490"/>
                </a:lnTo>
                <a:close/>
              </a:path>
              <a:path fill="darken" w="21600" h="25890">
                <a:moveTo>
                  <a:pt x="3794" y="12945"/>
                </a:moveTo>
                <a:lnTo>
                  <a:pt x="17806" y="5938"/>
                </a:lnTo>
                <a:lnTo>
                  <a:pt x="17806" y="1995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Click a region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549360"/>
            <a:ext cx="8642160" cy="532908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ff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 Rounded MT Bold"/>
              </a:rPr>
              <a:t>Region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ff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 Rounded MT Bold"/>
              </a:rPr>
              <a:t>Country siz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ff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 Rounded MT Bold"/>
              </a:rPr>
              <a:t>City siz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ff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 Rounded MT Bold"/>
              </a:rPr>
              <a:t>Population densit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ff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 Rounded MT Bold"/>
              </a:rPr>
              <a:t>Climat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620120" y="61722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5" dur="indefinite" restart="never" nodeType="tmRoot">
          <p:childTnLst>
            <p:seq>
              <p:cTn id="756" dur="indefinite" nodeType="mainSeq">
                <p:childTnLst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Age/Gender Population Pyramid for Maryland - 2010"/>
          <p:cNvPicPr/>
          <p:nvPr/>
        </p:nvPicPr>
        <p:blipFill>
          <a:blip r:embed="rId2">
            <a:alphaModFix amt="36000"/>
          </a:blip>
          <a:stretch/>
        </p:blipFill>
        <p:spPr>
          <a:xfrm>
            <a:off x="611280" y="189000"/>
            <a:ext cx="8137440" cy="565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468360" y="549360"/>
            <a:ext cx="8064360" cy="52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buClr>
                <a:srgbClr val="ff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>
                <a:solidFill>
                  <a:srgbClr val="ff0000"/>
                </a:solidFill>
                <a:latin typeface="Arial Rounded MT Bold"/>
                <a:ea typeface="Arial"/>
              </a:rPr>
              <a:t>  </a:t>
            </a:r>
            <a:r>
              <a:rPr b="0" lang="nl-NL" sz="4800" spc="-1" strike="noStrike">
                <a:solidFill>
                  <a:srgbClr val="ff0000"/>
                </a:solidFill>
                <a:latin typeface="Arial Rounded MT Bold"/>
                <a:ea typeface="Arial"/>
              </a:rPr>
              <a:t>Life cycle stag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buClr>
                <a:srgbClr val="ff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>
                <a:solidFill>
                  <a:srgbClr val="ff0000"/>
                </a:solidFill>
                <a:latin typeface="Arial Rounded MT Bold"/>
                <a:ea typeface="Arial"/>
              </a:rPr>
              <a:t>  </a:t>
            </a:r>
            <a:r>
              <a:rPr b="0" lang="nl-NL" sz="4800" spc="-1" strike="noStrike">
                <a:solidFill>
                  <a:srgbClr val="ff0000"/>
                </a:solidFill>
                <a:latin typeface="Arial Rounded MT Bold"/>
                <a:ea typeface="Arial"/>
              </a:rPr>
              <a:t>Inco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buClr>
                <a:srgbClr val="ff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>
                <a:solidFill>
                  <a:srgbClr val="ff0000"/>
                </a:solidFill>
                <a:latin typeface="Arial Rounded MT Bold"/>
                <a:ea typeface="Arial"/>
              </a:rPr>
              <a:t>  </a:t>
            </a:r>
            <a:r>
              <a:rPr b="0" lang="nl-NL" sz="4800" spc="-1" strike="noStrike">
                <a:solidFill>
                  <a:srgbClr val="ff0000"/>
                </a:solidFill>
                <a:latin typeface="Arial Rounded MT Bold"/>
                <a:ea typeface="Arial"/>
              </a:rPr>
              <a:t>Occup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buClr>
                <a:srgbClr val="ff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>
                <a:solidFill>
                  <a:srgbClr val="ff0000"/>
                </a:solidFill>
                <a:latin typeface="Arial Rounded MT Bold"/>
                <a:ea typeface="Arial"/>
              </a:rPr>
              <a:t>  </a:t>
            </a:r>
            <a:r>
              <a:rPr b="0" lang="nl-NL" sz="4800" spc="-1" strike="noStrike">
                <a:solidFill>
                  <a:srgbClr val="ff0000"/>
                </a:solidFill>
                <a:latin typeface="Arial Rounded MT Bold"/>
                <a:ea typeface="Arial"/>
              </a:rPr>
              <a:t>Educ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buClr>
                <a:srgbClr val="ff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>
                <a:solidFill>
                  <a:srgbClr val="ff0000"/>
                </a:solidFill>
                <a:latin typeface="Arial Rounded MT Bold"/>
                <a:ea typeface="Arial"/>
              </a:rPr>
              <a:t>  </a:t>
            </a:r>
            <a:r>
              <a:rPr b="0" lang="nl-NL" sz="4800" spc="-1" strike="noStrike">
                <a:solidFill>
                  <a:srgbClr val="ff0000"/>
                </a:solidFill>
                <a:latin typeface="Arial Rounded MT Bold"/>
                <a:ea typeface="Arial"/>
              </a:rPr>
              <a:t>Relig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317080" y="6093000"/>
            <a:ext cx="610920" cy="539640"/>
          </a:xfrm>
          <a:custGeom>
            <a:avLst/>
            <a:gdLst>
              <a:gd name="textAreaLeft" fmla="*/ 34920 w 610920"/>
              <a:gd name="textAreaRight" fmla="*/ 576000 w 61092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4451" h="21600">
                <a:moveTo>
                  <a:pt x="0" y="0"/>
                </a:moveTo>
                <a:lnTo>
                  <a:pt x="24451" y="0"/>
                </a:lnTo>
                <a:lnTo>
                  <a:pt x="24451" y="21600"/>
                </a:lnTo>
                <a:lnTo>
                  <a:pt x="0" y="21600"/>
                </a:lnTo>
                <a:close/>
              </a:path>
              <a:path fill="lightenLess" w="24451" h="21600">
                <a:moveTo>
                  <a:pt x="0" y="0"/>
                </a:moveTo>
                <a:lnTo>
                  <a:pt x="24451" y="0"/>
                </a:lnTo>
                <a:lnTo>
                  <a:pt x="23051" y="1400"/>
                </a:lnTo>
                <a:lnTo>
                  <a:pt x="1400" y="1400"/>
                </a:lnTo>
                <a:close/>
              </a:path>
              <a:path fill="darken" w="24451" h="21600">
                <a:moveTo>
                  <a:pt x="24451" y="0"/>
                </a:moveTo>
                <a:lnTo>
                  <a:pt x="24451" y="21600"/>
                </a:lnTo>
                <a:lnTo>
                  <a:pt x="23051" y="20200"/>
                </a:lnTo>
                <a:lnTo>
                  <a:pt x="23051" y="1400"/>
                </a:lnTo>
                <a:close/>
              </a:path>
              <a:path fill="darkenLess" w="24451" h="21600">
                <a:moveTo>
                  <a:pt x="244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51" y="20200"/>
                </a:lnTo>
                <a:close/>
              </a:path>
              <a:path fill="lighten" w="244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51" h="21600">
                <a:moveTo>
                  <a:pt x="5219" y="10800"/>
                </a:moveTo>
                <a:lnTo>
                  <a:pt x="19232" y="3794"/>
                </a:lnTo>
                <a:lnTo>
                  <a:pt x="1923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20120" y="61722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1" dur="indefinite" restart="never" nodeType="tmRoot">
          <p:childTnLst>
            <p:seq>
              <p:cTn id="792" dur="indefinite" nodeType="mainSeq">
                <p:childTnLst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8244000" y="6093000"/>
            <a:ext cx="792000" cy="720720"/>
          </a:xfrm>
          <a:custGeom>
            <a:avLst/>
            <a:gdLst>
              <a:gd name="textAreaLeft" fmla="*/ 46440 w 792000"/>
              <a:gd name="textAreaRight" fmla="*/ 745560 w 79200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3735" h="21600">
                <a:moveTo>
                  <a:pt x="0" y="0"/>
                </a:moveTo>
                <a:lnTo>
                  <a:pt x="23735" y="0"/>
                </a:lnTo>
                <a:lnTo>
                  <a:pt x="23735" y="21600"/>
                </a:lnTo>
                <a:lnTo>
                  <a:pt x="0" y="21600"/>
                </a:lnTo>
                <a:close/>
              </a:path>
              <a:path fill="lightenLess" w="23735" h="21600">
                <a:moveTo>
                  <a:pt x="0" y="0"/>
                </a:moveTo>
                <a:lnTo>
                  <a:pt x="23735" y="0"/>
                </a:lnTo>
                <a:lnTo>
                  <a:pt x="22335" y="1400"/>
                </a:lnTo>
                <a:lnTo>
                  <a:pt x="1400" y="1400"/>
                </a:lnTo>
                <a:close/>
              </a:path>
              <a:path fill="darken" w="23735" h="21600">
                <a:moveTo>
                  <a:pt x="23735" y="0"/>
                </a:moveTo>
                <a:lnTo>
                  <a:pt x="23735" y="21600"/>
                </a:lnTo>
                <a:lnTo>
                  <a:pt x="22335" y="20200"/>
                </a:lnTo>
                <a:lnTo>
                  <a:pt x="22335" y="1400"/>
                </a:lnTo>
                <a:close/>
              </a:path>
              <a:path fill="darkenLess" w="23735" h="21600">
                <a:moveTo>
                  <a:pt x="237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35" y="20200"/>
                </a:lnTo>
                <a:close/>
              </a:path>
              <a:path fill="lighten" w="237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35" h="21600">
                <a:moveTo>
                  <a:pt x="4861" y="10800"/>
                </a:moveTo>
                <a:lnTo>
                  <a:pt x="18874" y="3794"/>
                </a:lnTo>
                <a:lnTo>
                  <a:pt x="1887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1116000" y="115920"/>
            <a:ext cx="7201080" cy="55116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5111640" y="3076560"/>
            <a:ext cx="1281240" cy="1433520"/>
          </a:xfrm>
          <a:custGeom>
            <a:avLst/>
            <a:gdLst/>
            <a:ahLst/>
            <a:rect l="l" t="t" r="r" b="b"/>
            <a:pathLst>
              <a:path w="807" h="903">
                <a:moveTo>
                  <a:pt x="213" y="187"/>
                </a:moveTo>
                <a:cubicBezTo>
                  <a:pt x="233" y="156"/>
                  <a:pt x="224" y="144"/>
                  <a:pt x="259" y="132"/>
                </a:cubicBezTo>
                <a:cubicBezTo>
                  <a:pt x="263" y="138"/>
                  <a:pt x="280" y="173"/>
                  <a:pt x="298" y="164"/>
                </a:cubicBezTo>
                <a:cubicBezTo>
                  <a:pt x="305" y="160"/>
                  <a:pt x="300" y="146"/>
                  <a:pt x="306" y="140"/>
                </a:cubicBezTo>
                <a:cubicBezTo>
                  <a:pt x="308" y="138"/>
                  <a:pt x="350" y="126"/>
                  <a:pt x="353" y="125"/>
                </a:cubicBezTo>
                <a:cubicBezTo>
                  <a:pt x="361" y="120"/>
                  <a:pt x="370" y="116"/>
                  <a:pt x="376" y="109"/>
                </a:cubicBezTo>
                <a:cubicBezTo>
                  <a:pt x="381" y="103"/>
                  <a:pt x="377" y="91"/>
                  <a:pt x="384" y="86"/>
                </a:cubicBezTo>
                <a:cubicBezTo>
                  <a:pt x="398" y="76"/>
                  <a:pt x="431" y="70"/>
                  <a:pt x="431" y="70"/>
                </a:cubicBezTo>
                <a:cubicBezTo>
                  <a:pt x="457" y="31"/>
                  <a:pt x="438" y="53"/>
                  <a:pt x="493" y="16"/>
                </a:cubicBezTo>
                <a:cubicBezTo>
                  <a:pt x="501" y="11"/>
                  <a:pt x="516" y="0"/>
                  <a:pt x="516" y="0"/>
                </a:cubicBezTo>
                <a:cubicBezTo>
                  <a:pt x="560" y="3"/>
                  <a:pt x="605" y="3"/>
                  <a:pt x="649" y="8"/>
                </a:cubicBezTo>
                <a:cubicBezTo>
                  <a:pt x="657" y="9"/>
                  <a:pt x="668" y="9"/>
                  <a:pt x="672" y="16"/>
                </a:cubicBezTo>
                <a:cubicBezTo>
                  <a:pt x="680" y="29"/>
                  <a:pt x="672" y="49"/>
                  <a:pt x="680" y="62"/>
                </a:cubicBezTo>
                <a:cubicBezTo>
                  <a:pt x="684" y="69"/>
                  <a:pt x="696" y="66"/>
                  <a:pt x="703" y="70"/>
                </a:cubicBezTo>
                <a:cubicBezTo>
                  <a:pt x="732" y="85"/>
                  <a:pt x="759" y="95"/>
                  <a:pt x="789" y="109"/>
                </a:cubicBezTo>
                <a:cubicBezTo>
                  <a:pt x="807" y="169"/>
                  <a:pt x="791" y="229"/>
                  <a:pt x="781" y="288"/>
                </a:cubicBezTo>
                <a:cubicBezTo>
                  <a:pt x="777" y="309"/>
                  <a:pt x="785" y="333"/>
                  <a:pt x="773" y="350"/>
                </a:cubicBezTo>
                <a:cubicBezTo>
                  <a:pt x="763" y="364"/>
                  <a:pt x="726" y="366"/>
                  <a:pt x="726" y="366"/>
                </a:cubicBezTo>
                <a:cubicBezTo>
                  <a:pt x="665" y="458"/>
                  <a:pt x="696" y="529"/>
                  <a:pt x="680" y="638"/>
                </a:cubicBezTo>
                <a:cubicBezTo>
                  <a:pt x="672" y="691"/>
                  <a:pt x="615" y="725"/>
                  <a:pt x="586" y="763"/>
                </a:cubicBezTo>
                <a:cubicBezTo>
                  <a:pt x="562" y="858"/>
                  <a:pt x="540" y="818"/>
                  <a:pt x="407" y="825"/>
                </a:cubicBezTo>
                <a:cubicBezTo>
                  <a:pt x="355" y="857"/>
                  <a:pt x="371" y="853"/>
                  <a:pt x="345" y="903"/>
                </a:cubicBezTo>
                <a:cubicBezTo>
                  <a:pt x="291" y="900"/>
                  <a:pt x="236" y="899"/>
                  <a:pt x="182" y="895"/>
                </a:cubicBezTo>
                <a:cubicBezTo>
                  <a:pt x="174" y="894"/>
                  <a:pt x="163" y="895"/>
                  <a:pt x="158" y="888"/>
                </a:cubicBezTo>
                <a:cubicBezTo>
                  <a:pt x="148" y="875"/>
                  <a:pt x="148" y="857"/>
                  <a:pt x="143" y="841"/>
                </a:cubicBezTo>
                <a:cubicBezTo>
                  <a:pt x="140" y="833"/>
                  <a:pt x="135" y="817"/>
                  <a:pt x="135" y="817"/>
                </a:cubicBezTo>
                <a:cubicBezTo>
                  <a:pt x="138" y="791"/>
                  <a:pt x="143" y="766"/>
                  <a:pt x="143" y="740"/>
                </a:cubicBezTo>
                <a:cubicBezTo>
                  <a:pt x="143" y="727"/>
                  <a:pt x="147" y="707"/>
                  <a:pt x="135" y="701"/>
                </a:cubicBezTo>
                <a:cubicBezTo>
                  <a:pt x="112" y="688"/>
                  <a:pt x="83" y="696"/>
                  <a:pt x="57" y="693"/>
                </a:cubicBezTo>
                <a:cubicBezTo>
                  <a:pt x="0" y="653"/>
                  <a:pt x="43" y="585"/>
                  <a:pt x="57" y="529"/>
                </a:cubicBezTo>
                <a:cubicBezTo>
                  <a:pt x="58" y="519"/>
                  <a:pt x="73" y="397"/>
                  <a:pt x="80" y="382"/>
                </a:cubicBezTo>
                <a:cubicBezTo>
                  <a:pt x="84" y="373"/>
                  <a:pt x="96" y="371"/>
                  <a:pt x="104" y="366"/>
                </a:cubicBezTo>
                <a:cubicBezTo>
                  <a:pt x="117" y="322"/>
                  <a:pt x="109" y="282"/>
                  <a:pt x="158" y="265"/>
                </a:cubicBezTo>
                <a:cubicBezTo>
                  <a:pt x="178" y="235"/>
                  <a:pt x="185" y="201"/>
                  <a:pt x="205" y="171"/>
                </a:cubicBezTo>
                <a:cubicBezTo>
                  <a:pt x="213" y="176"/>
                  <a:pt x="219" y="187"/>
                  <a:pt x="228" y="187"/>
                </a:cubicBezTo>
                <a:cubicBezTo>
                  <a:pt x="238" y="187"/>
                  <a:pt x="262" y="171"/>
                  <a:pt x="252" y="171"/>
                </a:cubicBezTo>
                <a:cubicBezTo>
                  <a:pt x="238" y="171"/>
                  <a:pt x="226" y="182"/>
                  <a:pt x="213" y="187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384280" y="1384200"/>
            <a:ext cx="1148040" cy="1155960"/>
          </a:xfrm>
          <a:custGeom>
            <a:avLst/>
            <a:gdLst/>
            <a:ahLst/>
            <a:rect l="l" t="t" r="r" b="b"/>
            <a:pathLst>
              <a:path w="723" h="728">
                <a:moveTo>
                  <a:pt x="273" y="257"/>
                </a:moveTo>
                <a:cubicBezTo>
                  <a:pt x="300" y="275"/>
                  <a:pt x="327" y="299"/>
                  <a:pt x="366" y="264"/>
                </a:cubicBezTo>
                <a:cubicBezTo>
                  <a:pt x="382" y="250"/>
                  <a:pt x="366" y="221"/>
                  <a:pt x="374" y="202"/>
                </a:cubicBezTo>
                <a:cubicBezTo>
                  <a:pt x="385" y="174"/>
                  <a:pt x="431" y="183"/>
                  <a:pt x="460" y="179"/>
                </a:cubicBezTo>
                <a:cubicBezTo>
                  <a:pt x="489" y="159"/>
                  <a:pt x="481" y="171"/>
                  <a:pt x="491" y="140"/>
                </a:cubicBezTo>
                <a:cubicBezTo>
                  <a:pt x="496" y="124"/>
                  <a:pt x="506" y="93"/>
                  <a:pt x="506" y="93"/>
                </a:cubicBezTo>
                <a:cubicBezTo>
                  <a:pt x="509" y="72"/>
                  <a:pt x="494" y="38"/>
                  <a:pt x="514" y="31"/>
                </a:cubicBezTo>
                <a:cubicBezTo>
                  <a:pt x="561" y="15"/>
                  <a:pt x="631" y="0"/>
                  <a:pt x="662" y="39"/>
                </a:cubicBezTo>
                <a:cubicBezTo>
                  <a:pt x="701" y="88"/>
                  <a:pt x="660" y="164"/>
                  <a:pt x="670" y="226"/>
                </a:cubicBezTo>
                <a:cubicBezTo>
                  <a:pt x="671" y="234"/>
                  <a:pt x="685" y="231"/>
                  <a:pt x="693" y="233"/>
                </a:cubicBezTo>
                <a:cubicBezTo>
                  <a:pt x="684" y="391"/>
                  <a:pt x="723" y="379"/>
                  <a:pt x="615" y="397"/>
                </a:cubicBezTo>
                <a:cubicBezTo>
                  <a:pt x="604" y="438"/>
                  <a:pt x="606" y="475"/>
                  <a:pt x="561" y="490"/>
                </a:cubicBezTo>
                <a:cubicBezTo>
                  <a:pt x="518" y="476"/>
                  <a:pt x="500" y="476"/>
                  <a:pt x="452" y="482"/>
                </a:cubicBezTo>
                <a:cubicBezTo>
                  <a:pt x="448" y="538"/>
                  <a:pt x="458" y="670"/>
                  <a:pt x="397" y="708"/>
                </a:cubicBezTo>
                <a:cubicBezTo>
                  <a:pt x="306" y="704"/>
                  <a:pt x="127" y="728"/>
                  <a:pt x="39" y="669"/>
                </a:cubicBezTo>
                <a:cubicBezTo>
                  <a:pt x="24" y="645"/>
                  <a:pt x="16" y="622"/>
                  <a:pt x="0" y="599"/>
                </a:cubicBezTo>
                <a:cubicBezTo>
                  <a:pt x="10" y="511"/>
                  <a:pt x="0" y="510"/>
                  <a:pt x="78" y="490"/>
                </a:cubicBezTo>
                <a:cubicBezTo>
                  <a:pt x="96" y="440"/>
                  <a:pt x="97" y="444"/>
                  <a:pt x="156" y="436"/>
                </a:cubicBezTo>
                <a:cubicBezTo>
                  <a:pt x="208" y="418"/>
                  <a:pt x="175" y="385"/>
                  <a:pt x="195" y="334"/>
                </a:cubicBezTo>
                <a:cubicBezTo>
                  <a:pt x="198" y="327"/>
                  <a:pt x="210" y="329"/>
                  <a:pt x="218" y="327"/>
                </a:cubicBezTo>
                <a:cubicBezTo>
                  <a:pt x="234" y="324"/>
                  <a:pt x="249" y="322"/>
                  <a:pt x="265" y="319"/>
                </a:cubicBezTo>
                <a:cubicBezTo>
                  <a:pt x="275" y="272"/>
                  <a:pt x="273" y="293"/>
                  <a:pt x="273" y="257"/>
                </a:cubicBez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086520" y="549360"/>
            <a:ext cx="1006560" cy="1412640"/>
          </a:xfrm>
          <a:custGeom>
            <a:avLst/>
            <a:gdLst/>
            <a:ahLst/>
            <a:rect l="l" t="t" r="r" b="b"/>
            <a:pathLst>
              <a:path w="634" h="890">
                <a:moveTo>
                  <a:pt x="135" y="0"/>
                </a:moveTo>
                <a:cubicBezTo>
                  <a:pt x="194" y="10"/>
                  <a:pt x="256" y="1"/>
                  <a:pt x="315" y="12"/>
                </a:cubicBezTo>
                <a:cubicBezTo>
                  <a:pt x="324" y="14"/>
                  <a:pt x="323" y="29"/>
                  <a:pt x="330" y="35"/>
                </a:cubicBezTo>
                <a:cubicBezTo>
                  <a:pt x="335" y="39"/>
                  <a:pt x="383" y="50"/>
                  <a:pt x="385" y="51"/>
                </a:cubicBezTo>
                <a:cubicBezTo>
                  <a:pt x="434" y="85"/>
                  <a:pt x="378" y="51"/>
                  <a:pt x="470" y="74"/>
                </a:cubicBezTo>
                <a:cubicBezTo>
                  <a:pt x="482" y="77"/>
                  <a:pt x="491" y="86"/>
                  <a:pt x="502" y="90"/>
                </a:cubicBezTo>
                <a:cubicBezTo>
                  <a:pt x="541" y="105"/>
                  <a:pt x="602" y="103"/>
                  <a:pt x="634" y="105"/>
                </a:cubicBezTo>
                <a:cubicBezTo>
                  <a:pt x="631" y="155"/>
                  <a:pt x="625" y="309"/>
                  <a:pt x="618" y="370"/>
                </a:cubicBezTo>
                <a:cubicBezTo>
                  <a:pt x="614" y="404"/>
                  <a:pt x="608" y="437"/>
                  <a:pt x="603" y="471"/>
                </a:cubicBezTo>
                <a:cubicBezTo>
                  <a:pt x="601" y="482"/>
                  <a:pt x="603" y="494"/>
                  <a:pt x="595" y="502"/>
                </a:cubicBezTo>
                <a:cubicBezTo>
                  <a:pt x="587" y="510"/>
                  <a:pt x="574" y="507"/>
                  <a:pt x="564" y="510"/>
                </a:cubicBezTo>
                <a:cubicBezTo>
                  <a:pt x="556" y="515"/>
                  <a:pt x="546" y="518"/>
                  <a:pt x="540" y="526"/>
                </a:cubicBezTo>
                <a:cubicBezTo>
                  <a:pt x="518" y="553"/>
                  <a:pt x="539" y="564"/>
                  <a:pt x="494" y="580"/>
                </a:cubicBezTo>
                <a:cubicBezTo>
                  <a:pt x="462" y="629"/>
                  <a:pt x="435" y="665"/>
                  <a:pt x="416" y="720"/>
                </a:cubicBezTo>
                <a:cubicBezTo>
                  <a:pt x="410" y="738"/>
                  <a:pt x="404" y="765"/>
                  <a:pt x="385" y="767"/>
                </a:cubicBezTo>
                <a:cubicBezTo>
                  <a:pt x="362" y="770"/>
                  <a:pt x="338" y="772"/>
                  <a:pt x="315" y="775"/>
                </a:cubicBezTo>
                <a:cubicBezTo>
                  <a:pt x="287" y="784"/>
                  <a:pt x="290" y="778"/>
                  <a:pt x="276" y="806"/>
                </a:cubicBezTo>
                <a:cubicBezTo>
                  <a:pt x="272" y="813"/>
                  <a:pt x="275" y="825"/>
                  <a:pt x="268" y="829"/>
                </a:cubicBezTo>
                <a:cubicBezTo>
                  <a:pt x="254" y="837"/>
                  <a:pt x="237" y="834"/>
                  <a:pt x="221" y="837"/>
                </a:cubicBezTo>
                <a:cubicBezTo>
                  <a:pt x="211" y="853"/>
                  <a:pt x="208" y="890"/>
                  <a:pt x="190" y="884"/>
                </a:cubicBezTo>
                <a:cubicBezTo>
                  <a:pt x="135" y="865"/>
                  <a:pt x="158" y="877"/>
                  <a:pt x="120" y="853"/>
                </a:cubicBezTo>
                <a:cubicBezTo>
                  <a:pt x="75" y="712"/>
                  <a:pt x="123" y="877"/>
                  <a:pt x="97" y="541"/>
                </a:cubicBezTo>
                <a:cubicBezTo>
                  <a:pt x="94" y="503"/>
                  <a:pt x="66" y="450"/>
                  <a:pt x="50" y="417"/>
                </a:cubicBezTo>
                <a:cubicBezTo>
                  <a:pt x="39" y="394"/>
                  <a:pt x="19" y="347"/>
                  <a:pt x="19" y="347"/>
                </a:cubicBezTo>
                <a:cubicBezTo>
                  <a:pt x="22" y="318"/>
                  <a:pt x="25" y="290"/>
                  <a:pt x="27" y="261"/>
                </a:cubicBezTo>
                <a:cubicBezTo>
                  <a:pt x="34" y="158"/>
                  <a:pt x="0" y="108"/>
                  <a:pt x="89" y="90"/>
                </a:cubicBezTo>
                <a:cubicBezTo>
                  <a:pt x="116" y="52"/>
                  <a:pt x="93" y="37"/>
                  <a:pt x="136" y="51"/>
                </a:cubicBezTo>
                <a:cubicBezTo>
                  <a:pt x="139" y="46"/>
                  <a:pt x="168" y="14"/>
                  <a:pt x="144" y="4"/>
                </a:cubicBezTo>
                <a:cubicBezTo>
                  <a:pt x="134" y="0"/>
                  <a:pt x="123" y="9"/>
                  <a:pt x="112" y="12"/>
                </a:cubicBezTo>
                <a:cubicBezTo>
                  <a:pt x="128" y="72"/>
                  <a:pt x="125" y="29"/>
                  <a:pt x="135" y="0"/>
                </a:cubicBez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187280" y="5877000"/>
            <a:ext cx="684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3300"/>
                </a:solidFill>
                <a:latin typeface="Arial Rounded MT Bold"/>
                <a:ea typeface="Arial"/>
              </a:rPr>
              <a:t>ACORN  and  P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391520" y="62485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1476360" y="115920"/>
            <a:ext cx="6624720" cy="553716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1403280" y="5877000"/>
            <a:ext cx="720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0000"/>
                </a:solidFill>
                <a:latin typeface="Arial Rounded MT Bold"/>
                <a:ea typeface="Arial"/>
              </a:rPr>
              <a:t>Social clas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042920" y="620640"/>
            <a:ext cx="71294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0000"/>
                </a:solidFill>
                <a:latin typeface="Arial Rounded MT Bold"/>
                <a:ea typeface="Arial"/>
              </a:rPr>
              <a:t>Lifesty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0000"/>
                </a:solidFill>
                <a:latin typeface="Arial Rounded MT Bold"/>
                <a:ea typeface="Arial"/>
              </a:rPr>
              <a:t>Persona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8317080" y="6165720"/>
            <a:ext cx="718920" cy="648000"/>
          </a:xfrm>
          <a:custGeom>
            <a:avLst/>
            <a:gdLst>
              <a:gd name="textAreaLeft" fmla="*/ 41760 w 718920"/>
              <a:gd name="textAreaRight" fmla="*/ 677160 w 71892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23963" h="21600">
                <a:moveTo>
                  <a:pt x="0" y="0"/>
                </a:moveTo>
                <a:lnTo>
                  <a:pt x="23963" y="0"/>
                </a:lnTo>
                <a:lnTo>
                  <a:pt x="23963" y="21600"/>
                </a:lnTo>
                <a:lnTo>
                  <a:pt x="0" y="21600"/>
                </a:lnTo>
                <a:close/>
              </a:path>
              <a:path fill="lightenLess" w="23963" h="21600">
                <a:moveTo>
                  <a:pt x="0" y="0"/>
                </a:moveTo>
                <a:lnTo>
                  <a:pt x="23963" y="0"/>
                </a:lnTo>
                <a:lnTo>
                  <a:pt x="22563" y="1400"/>
                </a:lnTo>
                <a:lnTo>
                  <a:pt x="1400" y="1400"/>
                </a:lnTo>
                <a:close/>
              </a:path>
              <a:path fill="darken" w="23963" h="21600">
                <a:moveTo>
                  <a:pt x="23963" y="0"/>
                </a:moveTo>
                <a:lnTo>
                  <a:pt x="23963" y="21600"/>
                </a:lnTo>
                <a:lnTo>
                  <a:pt x="22563" y="20200"/>
                </a:lnTo>
                <a:lnTo>
                  <a:pt x="22563" y="1400"/>
                </a:lnTo>
                <a:close/>
              </a:path>
              <a:path fill="darkenLess" w="23963" h="21600">
                <a:moveTo>
                  <a:pt x="239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63" y="20200"/>
                </a:lnTo>
                <a:close/>
              </a:path>
              <a:path fill="lighten" w="239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63" h="21600">
                <a:moveTo>
                  <a:pt x="4975" y="10800"/>
                </a:moveTo>
                <a:lnTo>
                  <a:pt x="18988" y="3794"/>
                </a:lnTo>
                <a:lnTo>
                  <a:pt x="1898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467480" y="624852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4" dur="indefinite" restart="never" nodeType="tmRoot">
          <p:childTnLst>
            <p:seq>
              <p:cTn id="855" dur="indefinite" nodeType="mainSeq">
                <p:childTnLst>
                  <p:par>
                    <p:cTn id="856" fill="hold">
                      <p:stCondLst>
                        <p:cond delay="0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395280" y="404640"/>
            <a:ext cx="84978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0000"/>
                </a:solidFill>
                <a:latin typeface="Arial Rounded MT Bold"/>
                <a:ea typeface="Arial"/>
              </a:rPr>
              <a:t>Based on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0000"/>
                </a:solidFill>
                <a:latin typeface="Arial Rounded MT Bold"/>
                <a:ea typeface="Arial"/>
              </a:rPr>
              <a:t>	</a:t>
            </a:r>
            <a:r>
              <a:rPr b="1" lang="nl-NL" sz="4000" spc="-1" strike="noStrike">
                <a:solidFill>
                  <a:srgbClr val="ff0000"/>
                </a:solidFill>
                <a:latin typeface="Arial Rounded MT Bold"/>
                <a:ea typeface="Arial"/>
              </a:rPr>
              <a:t>	</a:t>
            </a:r>
            <a:r>
              <a:rPr b="1" lang="nl-NL" sz="4000" spc="-1" strike="noStrike">
                <a:solidFill>
                  <a:srgbClr val="ff0000"/>
                </a:solidFill>
                <a:latin typeface="Arial Rounded MT Bold"/>
                <a:ea typeface="Arial"/>
              </a:rPr>
              <a:t>	</a:t>
            </a:r>
            <a:r>
              <a:rPr b="1" lang="nl-NL" sz="4000" spc="-1" strike="noStrike">
                <a:solidFill>
                  <a:srgbClr val="ff0000"/>
                </a:solidFill>
                <a:latin typeface="Arial Rounded MT Bold"/>
                <a:ea typeface="Arial"/>
              </a:rPr>
              <a:t>Consumer knowled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0000"/>
                </a:solidFill>
                <a:latin typeface="Arial Rounded MT Bold"/>
                <a:ea typeface="Arial"/>
              </a:rPr>
              <a:t>	</a:t>
            </a:r>
            <a:r>
              <a:rPr b="1" lang="nl-NL" sz="4000" spc="-1" strike="noStrike">
                <a:solidFill>
                  <a:srgbClr val="ff0000"/>
                </a:solidFill>
                <a:latin typeface="Arial Rounded MT Bold"/>
                <a:ea typeface="Arial"/>
              </a:rPr>
              <a:t>	</a:t>
            </a:r>
            <a:r>
              <a:rPr b="1" lang="nl-NL" sz="4000" spc="-1" strike="noStrike">
                <a:solidFill>
                  <a:srgbClr val="ff0000"/>
                </a:solidFill>
                <a:latin typeface="Arial Rounded MT Bold"/>
                <a:ea typeface="Arial"/>
              </a:rPr>
              <a:t>	</a:t>
            </a:r>
            <a:r>
              <a:rPr b="1" lang="nl-NL" sz="4000" spc="-1" strike="noStrike">
                <a:solidFill>
                  <a:srgbClr val="ff0000"/>
                </a:solidFill>
                <a:latin typeface="Arial Rounded MT Bold"/>
                <a:ea typeface="Arial"/>
              </a:rPr>
              <a:t>	</a:t>
            </a:r>
            <a:r>
              <a:rPr b="1" lang="nl-NL" sz="4000" spc="-1" strike="noStrike">
                <a:solidFill>
                  <a:srgbClr val="ff0000"/>
                </a:solidFill>
                <a:latin typeface="Arial Rounded MT Bold"/>
                <a:ea typeface="Arial"/>
              </a:rPr>
              <a:t>	</a:t>
            </a:r>
            <a:r>
              <a:rPr b="1" lang="nl-NL" sz="4000" spc="-1" strike="noStrike">
                <a:solidFill>
                  <a:srgbClr val="ff0000"/>
                </a:solidFill>
                <a:latin typeface="Arial Rounded MT Bold"/>
                <a:ea typeface="Arial"/>
              </a:rPr>
              <a:t>	</a:t>
            </a:r>
            <a:r>
              <a:rPr b="1" lang="nl-NL" sz="4000" spc="-1" strike="noStrike">
                <a:solidFill>
                  <a:srgbClr val="ff0000"/>
                </a:solidFill>
                <a:latin typeface="Arial Rounded MT Bold"/>
                <a:ea typeface="Arial"/>
              </a:rPr>
              <a:t>attitu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0000"/>
                </a:solidFill>
                <a:latin typeface="Arial Rounded MT Bold"/>
                <a:ea typeface="Arial"/>
              </a:rPr>
              <a:t>	</a:t>
            </a:r>
            <a:r>
              <a:rPr b="1" lang="nl-NL" sz="4000" spc="-1" strike="noStrike">
                <a:solidFill>
                  <a:srgbClr val="ff0000"/>
                </a:solidFill>
                <a:latin typeface="Arial Rounded MT Bold"/>
                <a:ea typeface="Arial"/>
              </a:rPr>
              <a:t>	</a:t>
            </a:r>
            <a:r>
              <a:rPr b="1" lang="nl-NL" sz="4000" spc="-1" strike="noStrike">
                <a:solidFill>
                  <a:srgbClr val="ff0000"/>
                </a:solidFill>
                <a:latin typeface="Arial Rounded MT Bold"/>
                <a:ea typeface="Arial"/>
              </a:rPr>
              <a:t>	</a:t>
            </a:r>
            <a:r>
              <a:rPr b="1" lang="nl-NL" sz="4000" spc="-1" strike="noStrike">
                <a:solidFill>
                  <a:srgbClr val="ff0000"/>
                </a:solidFill>
                <a:latin typeface="Arial Rounded MT Bold"/>
                <a:ea typeface="Arial"/>
              </a:rPr>
              <a:t>	</a:t>
            </a:r>
            <a:r>
              <a:rPr b="1" lang="nl-NL" sz="4000" spc="-1" strike="noStrike">
                <a:solidFill>
                  <a:srgbClr val="ff0000"/>
                </a:solidFill>
                <a:latin typeface="Arial Rounded MT Bold"/>
                <a:ea typeface="Arial"/>
              </a:rPr>
              <a:t>	</a:t>
            </a:r>
            <a:r>
              <a:rPr b="1" lang="nl-NL" sz="4000" spc="-1" strike="noStrike">
                <a:solidFill>
                  <a:srgbClr val="ff0000"/>
                </a:solidFill>
                <a:latin typeface="Arial Rounded MT Bold"/>
                <a:ea typeface="Arial"/>
              </a:rPr>
              <a:t>	</a:t>
            </a:r>
            <a:r>
              <a:rPr b="1" lang="nl-NL" sz="4000" spc="-1" strike="noStrike">
                <a:solidFill>
                  <a:srgbClr val="ff0000"/>
                </a:solidFill>
                <a:latin typeface="Arial Rounded MT Bold"/>
                <a:ea typeface="Arial"/>
              </a:rPr>
              <a:t> </a:t>
            </a:r>
            <a:r>
              <a:rPr b="1" lang="nl-NL" sz="4000" spc="-1" strike="noStrike">
                <a:solidFill>
                  <a:srgbClr val="ff0000"/>
                </a:solidFill>
                <a:latin typeface="Arial Rounded MT Bold"/>
                <a:ea typeface="Arial"/>
              </a:rPr>
              <a:t>u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0000"/>
                </a:solidFill>
                <a:latin typeface="Arial Rounded MT Bold"/>
                <a:ea typeface="Arial"/>
              </a:rPr>
              <a:t>	</a:t>
            </a:r>
            <a:r>
              <a:rPr b="1" lang="nl-NL" sz="4000" spc="-1" strike="noStrike">
                <a:solidFill>
                  <a:srgbClr val="ff0000"/>
                </a:solidFill>
                <a:latin typeface="Arial Rounded MT Bold"/>
                <a:ea typeface="Arial"/>
              </a:rPr>
              <a:t>	</a:t>
            </a:r>
            <a:r>
              <a:rPr b="1" lang="nl-NL" sz="4000" spc="-1" strike="noStrike">
                <a:solidFill>
                  <a:srgbClr val="ff0000"/>
                </a:solidFill>
                <a:latin typeface="Arial Rounded MT Bold"/>
                <a:ea typeface="Arial"/>
              </a:rPr>
              <a:t>	</a:t>
            </a:r>
            <a:r>
              <a:rPr b="1" lang="nl-NL" sz="4000" spc="-1" strike="noStrike">
                <a:solidFill>
                  <a:srgbClr val="ff0000"/>
                </a:solidFill>
                <a:latin typeface="Arial Rounded MT Bold"/>
                <a:ea typeface="Arial"/>
              </a:rPr>
              <a:t>	</a:t>
            </a:r>
            <a:r>
              <a:rPr b="1" lang="nl-NL" sz="4000" spc="-1" strike="noStrike">
                <a:solidFill>
                  <a:srgbClr val="ff0000"/>
                </a:solidFill>
                <a:latin typeface="Arial Rounded MT Bold"/>
                <a:ea typeface="Arial"/>
              </a:rPr>
              <a:t>	</a:t>
            </a:r>
            <a:r>
              <a:rPr b="1" lang="nl-NL" sz="4000" spc="-1" strike="noStrike">
                <a:solidFill>
                  <a:srgbClr val="ff0000"/>
                </a:solidFill>
                <a:latin typeface="Arial Rounded MT Bold"/>
                <a:ea typeface="Arial"/>
              </a:rPr>
              <a:t>	</a:t>
            </a:r>
            <a:r>
              <a:rPr b="1" lang="nl-NL" sz="4000" spc="-1" strike="noStrike">
                <a:solidFill>
                  <a:srgbClr val="ff0000"/>
                </a:solidFill>
                <a:latin typeface="Arial Rounded MT Bold"/>
                <a:ea typeface="Arial"/>
              </a:rPr>
              <a:t>respon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24000" y="5002200"/>
            <a:ext cx="856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0000"/>
                </a:solidFill>
                <a:latin typeface="Arial Rounded MT Bold"/>
                <a:ea typeface="Arial"/>
              </a:rPr>
              <a:t>Like: </a:t>
            </a:r>
            <a:r>
              <a:rPr b="1" lang="nl-NL" sz="4000" spc="-1" strike="noStrike">
                <a:solidFill>
                  <a:srgbClr val="333399"/>
                </a:solidFill>
                <a:latin typeface="Arial Rounded MT Bold"/>
                <a:ea typeface="Arial"/>
              </a:rPr>
              <a:t>Occasions, benifits sought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333399"/>
                </a:solidFill>
                <a:latin typeface="Arial Rounded MT Bold"/>
                <a:ea typeface="Arial"/>
              </a:rPr>
              <a:t>	</a:t>
            </a:r>
            <a:r>
              <a:rPr b="1" lang="nl-NL" sz="4000" spc="-1" strike="noStrike">
                <a:solidFill>
                  <a:srgbClr val="333399"/>
                </a:solidFill>
                <a:latin typeface="Arial Rounded MT Bold"/>
                <a:ea typeface="Arial"/>
              </a:rPr>
              <a:t>    </a:t>
            </a:r>
            <a:r>
              <a:rPr b="1" lang="nl-NL" sz="4000" spc="-1" strike="noStrike">
                <a:solidFill>
                  <a:srgbClr val="333399"/>
                </a:solidFill>
                <a:latin typeface="Arial Rounded MT Bold"/>
                <a:ea typeface="Arial"/>
              </a:rPr>
              <a:t>buyer-readiness sta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2" dur="indefinite" restart="never" nodeType="tmRoot">
          <p:childTnLst>
            <p:seq>
              <p:cTn id="863" dur="indefinite" nodeType="mainSeq">
                <p:childTnLst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99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-460080" y="1126440"/>
            <a:ext cx="9966240" cy="46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nl-NL" sz="3600" spc="-1" strike="noStrike">
                <a:solidFill>
                  <a:srgbClr val="3399ff"/>
                </a:solidFill>
                <a:latin typeface="Arial"/>
              </a:rPr>
              <a:t>     </a:t>
            </a:r>
            <a:r>
              <a:rPr b="1" lang="nl-NL" sz="4000" spc="-1" strike="noStrike">
                <a:solidFill>
                  <a:srgbClr val="3399ff"/>
                </a:solidFill>
                <a:latin typeface="Arial"/>
              </a:rPr>
              <a:t>sales force strategy</a:t>
            </a:r>
            <a:r>
              <a:rPr b="1" lang="nl-NL" sz="3600" spc="-1" strike="noStrike">
                <a:solidFill>
                  <a:srgbClr val="3399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3399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direct or company sales fo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inside sales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field (outside) sales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contractual sales fo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-541440" y="0"/>
            <a:ext cx="10190160" cy="683568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3635280" y="-27000"/>
            <a:ext cx="216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-181080" y="2421000"/>
            <a:ext cx="9577440" cy="216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724360" y="2637000"/>
            <a:ext cx="216000" cy="4221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rot="3061800">
            <a:off x="7416720" y="1736280"/>
            <a:ext cx="216000" cy="4321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940360" y="2635920"/>
            <a:ext cx="2952720" cy="2376360"/>
          </a:xfrm>
          <a:prstGeom prst="rtTriangle">
            <a:avLst/>
          </a:prstGeom>
          <a:solidFill>
            <a:srgbClr val="ffff00">
              <a:alpha val="2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1835280" y="1700280"/>
            <a:ext cx="5532480" cy="25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Mass marketing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826920" y="692280"/>
            <a:ext cx="21052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Segment  1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651640" y="765000"/>
            <a:ext cx="21049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Segment  2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95280" y="4581360"/>
            <a:ext cx="21049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Segment  3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5796000" y="4581360"/>
            <a:ext cx="21049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Segment  4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1476360" y="1700280"/>
            <a:ext cx="6775560" cy="317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Segmented Marketing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763640" y="1916280"/>
            <a:ext cx="633744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Niche Marketing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0" dur="indefinite" restart="never" nodeType="tmRoot">
          <p:childTnLst>
            <p:seq>
              <p:cTn id="871" dur="indefinite" nodeType="mainSeq">
                <p:childTnLst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880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8" fill="hold">
                            <p:stCondLst>
                              <p:cond delay="500"/>
                            </p:stCondLst>
                            <p:childTnLst>
                              <p:par>
                                <p:cTn id="88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1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4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fill="hold">
                            <p:stCondLst>
                              <p:cond delay="500"/>
                            </p:stCondLst>
                            <p:childTnLst>
                              <p:par>
                                <p:cTn id="90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7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2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1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1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2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2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2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179280" y="2133720"/>
            <a:ext cx="8640720" cy="23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Market Segmentat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-757080" y="22320"/>
            <a:ext cx="10190160" cy="683568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4427640" y="3284640"/>
            <a:ext cx="914400" cy="914400"/>
          </a:xfrm>
          <a:prstGeom prst="donut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55640" y="4437000"/>
            <a:ext cx="914400" cy="914400"/>
          </a:xfrm>
          <a:prstGeom prst="donut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95640" y="2492280"/>
            <a:ext cx="914400" cy="914400"/>
          </a:xfrm>
          <a:prstGeom prst="donut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093080" y="4869000"/>
            <a:ext cx="914400" cy="914400"/>
          </a:xfrm>
          <a:prstGeom prst="donut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596360" y="3284640"/>
            <a:ext cx="914400" cy="914400"/>
          </a:xfrm>
          <a:prstGeom prst="donut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308720" y="1052640"/>
            <a:ext cx="914400" cy="914400"/>
          </a:xfrm>
          <a:prstGeom prst="donut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932360" y="404640"/>
            <a:ext cx="914400" cy="914400"/>
          </a:xfrm>
          <a:prstGeom prst="donut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924360" y="1268280"/>
            <a:ext cx="914400" cy="914400"/>
          </a:xfrm>
          <a:prstGeom prst="donut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2360" y="4076640"/>
            <a:ext cx="914400" cy="914400"/>
          </a:xfrm>
          <a:prstGeom prst="donut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076720" y="5084640"/>
            <a:ext cx="914400" cy="914400"/>
          </a:xfrm>
          <a:prstGeom prst="donut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2" dur="indefinite" restart="never" nodeType="tmRoot">
          <p:childTnLst>
            <p:seq>
              <p:cTn id="953" dur="indefinite" nodeType="mainSeq">
                <p:childTnLst>
                  <p:par>
                    <p:cTn id="954" fill="hold">
                      <p:stCondLst>
                        <p:cond delay="0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1476360" y="1268280"/>
            <a:ext cx="6624720" cy="396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Marke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Aggregrat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250920" y="260280"/>
            <a:ext cx="849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66ff"/>
                </a:solidFill>
                <a:latin typeface="Arial Rounded MT Bold"/>
                <a:ea typeface="Arial"/>
              </a:rPr>
              <a:t>A segment should b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49680" y="5300640"/>
            <a:ext cx="4601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buClr>
                <a:srgbClr val="ff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0000"/>
                </a:solidFill>
                <a:latin typeface="Arial Rounded MT Bold"/>
                <a:ea typeface="Arial"/>
              </a:rPr>
              <a:t>Fit the compan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64000" y="4437000"/>
            <a:ext cx="558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buClr>
                <a:srgbClr val="ff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0000"/>
                </a:solidFill>
                <a:latin typeface="Arial Rounded MT Bold"/>
                <a:ea typeface="Arial"/>
              </a:rPr>
              <a:t>Structural attra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936720" y="3573360"/>
            <a:ext cx="308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buClr>
                <a:srgbClr val="ff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0000"/>
                </a:solidFill>
                <a:latin typeface="Arial Rounded MT Bold"/>
                <a:ea typeface="Arial"/>
              </a:rPr>
              <a:t>Actionab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916920" y="1989000"/>
            <a:ext cx="325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buClr>
                <a:srgbClr val="ff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0000"/>
                </a:solidFill>
                <a:latin typeface="Arial Rounded MT Bold"/>
                <a:ea typeface="Arial"/>
              </a:rPr>
              <a:t>Substanti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021320" y="1197000"/>
            <a:ext cx="2981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buClr>
                <a:srgbClr val="ff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0000"/>
                </a:solidFill>
                <a:latin typeface="Arial Rounded MT Bold"/>
                <a:ea typeface="Arial"/>
              </a:rPr>
              <a:t>Accessib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920880" y="2781360"/>
            <a:ext cx="335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buClr>
                <a:srgbClr val="ff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0000"/>
                </a:solidFill>
                <a:latin typeface="Arial Rounded MT Bold"/>
                <a:ea typeface="Arial"/>
              </a:rPr>
              <a:t>Measurab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8" dur="indefinite" restart="never" nodeType="tmRoot">
          <p:childTnLst>
            <p:seq>
              <p:cTn id="999" dur="indefinite" nodeType="mainSeq">
                <p:childTnLst>
                  <p:par>
                    <p:cTn id="1000" fill="hold">
                      <p:stCondLst>
                        <p:cond delay="0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332000" y="2924280"/>
            <a:ext cx="6624720" cy="374652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2058120" y="0"/>
            <a:ext cx="5225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0000"/>
                </a:solidFill>
                <a:latin typeface="Arial Rounded MT Bold"/>
                <a:ea typeface="Arial"/>
              </a:rPr>
              <a:t>You have a product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717560" y="981000"/>
            <a:ext cx="5721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0000"/>
                </a:solidFill>
                <a:latin typeface="Arial Rounded MT Bold"/>
                <a:ea typeface="Arial"/>
              </a:rPr>
              <a:t>You found a segment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0000"/>
                </a:solidFill>
                <a:latin typeface="Arial Rounded MT Bold"/>
                <a:ea typeface="Arial"/>
              </a:rPr>
              <a:t>  </a:t>
            </a:r>
            <a:r>
              <a:rPr b="1" lang="nl-NL" sz="4000" spc="-1" strike="noStrike">
                <a:solidFill>
                  <a:srgbClr val="ff0000"/>
                </a:solidFill>
                <a:latin typeface="Arial Rounded MT Bold"/>
                <a:ea typeface="Arial"/>
              </a:rPr>
              <a:t>your target group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823560" y="2133720"/>
            <a:ext cx="120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0000"/>
                </a:solidFill>
                <a:latin typeface="Arial Rounded MT Bold"/>
                <a:ea typeface="Arial"/>
              </a:rPr>
              <a:t>but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340000" y="2997360"/>
            <a:ext cx="4552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7200" spc="-1" strike="noStrike">
                <a:solidFill>
                  <a:srgbClr val="ff0000"/>
                </a:solidFill>
                <a:latin typeface="Arial Rounded MT Bold"/>
                <a:ea typeface="Arial"/>
              </a:rPr>
              <a:t>You are not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7200" spc="-1" strike="noStrike">
                <a:solidFill>
                  <a:srgbClr val="ff0000"/>
                </a:solidFill>
                <a:latin typeface="Arial Rounded MT Bold"/>
                <a:ea typeface="Arial"/>
              </a:rPr>
              <a:t>alone !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8" dur="indefinite" restart="never" nodeType="tmRoot">
          <p:childTnLst>
            <p:seq>
              <p:cTn id="1029" dur="indefinite" nodeType="mainSeq">
                <p:childTnLst>
                  <p:par>
                    <p:cTn id="1030" fill="hold">
                      <p:stCondLst>
                        <p:cond delay="0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4095720" y="333360"/>
            <a:ext cx="1505160" cy="45291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88960" y="692280"/>
            <a:ext cx="1800360" cy="295272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5"/>
          <a:stretch/>
        </p:blipFill>
        <p:spPr>
          <a:xfrm>
            <a:off x="5940360" y="765000"/>
            <a:ext cx="2448000" cy="244800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943680" y="2781360"/>
            <a:ext cx="2157480" cy="237636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1403280" y="3933720"/>
            <a:ext cx="1273320" cy="26654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2556000" y="1557360"/>
            <a:ext cx="1874880" cy="252108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4427640" y="4437000"/>
            <a:ext cx="2085840" cy="208620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163440" y="3860640"/>
            <a:ext cx="647640" cy="122400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>
            <a:hlinkClick r:id="rId16"/>
          </p:cNvPr>
          <p:cNvPicPr/>
          <p:nvPr/>
        </p:nvPicPr>
        <p:blipFill>
          <a:blip r:embed="rId17"/>
          <a:stretch/>
        </p:blipFill>
        <p:spPr>
          <a:xfrm>
            <a:off x="6372360" y="4508640"/>
            <a:ext cx="1573200" cy="234936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>
            <a:hlinkClick r:id="rId18"/>
          </p:cNvPr>
          <p:cNvPicPr/>
          <p:nvPr/>
        </p:nvPicPr>
        <p:blipFill>
          <a:blip r:embed="rId19"/>
          <a:stretch/>
        </p:blipFill>
        <p:spPr>
          <a:xfrm>
            <a:off x="5580000" y="2637000"/>
            <a:ext cx="1679760" cy="251928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>
            <a:hlinkClick r:id="rId20"/>
          </p:cNvPr>
          <p:cNvPicPr/>
          <p:nvPr/>
        </p:nvPicPr>
        <p:blipFill>
          <a:blip r:embed="rId21"/>
          <a:stretch/>
        </p:blipFill>
        <p:spPr>
          <a:xfrm>
            <a:off x="0" y="4869000"/>
            <a:ext cx="1422360" cy="198900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>
            <a:hlinkClick r:id="rId22"/>
          </p:cNvPr>
          <p:cNvPicPr/>
          <p:nvPr/>
        </p:nvPicPr>
        <p:blipFill>
          <a:blip r:embed="rId23"/>
          <a:stretch/>
        </p:blipFill>
        <p:spPr>
          <a:xfrm>
            <a:off x="5148360" y="0"/>
            <a:ext cx="1584360" cy="119700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>
            <a:hlinkClick r:id="rId24"/>
          </p:cNvPr>
          <p:cNvPicPr/>
          <p:nvPr/>
        </p:nvPicPr>
        <p:blipFill>
          <a:blip r:embed="rId25"/>
          <a:stretch/>
        </p:blipFill>
        <p:spPr>
          <a:xfrm>
            <a:off x="2484360" y="4005360"/>
            <a:ext cx="1386000" cy="218592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26"/>
          <a:stretch/>
        </p:blipFill>
        <p:spPr>
          <a:xfrm>
            <a:off x="1547640" y="0"/>
            <a:ext cx="2160720" cy="14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4" dur="indefinite" restart="never" nodeType="tmRoot">
          <p:childTnLst>
            <p:seq>
              <p:cTn id="1055" dur="indefinite" nodeType="mainSeq">
                <p:childTnLst>
                  <p:par>
                    <p:cTn id="1056" fill="hold">
                      <p:stCondLst>
                        <p:cond delay="0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3" fill="hold">
                            <p:stCondLst>
                              <p:cond delay="500"/>
                            </p:stCondLst>
                            <p:childTnLst>
                              <p:par>
                                <p:cTn id="106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5" fill="hold">
                            <p:stCondLst>
                              <p:cond delay="2500"/>
                            </p:stCondLst>
                            <p:childTnLst>
                              <p:par>
                                <p:cTn id="107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8" fill="hold">
                            <p:stCondLst>
                              <p:cond delay="3000"/>
                            </p:stCondLst>
                            <p:childTnLst>
                              <p:par>
                                <p:cTn id="107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1" fill="hold">
                            <p:stCondLst>
                              <p:cond delay="3500"/>
                            </p:stCondLst>
                            <p:childTnLst>
                              <p:par>
                                <p:cTn id="108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4" fill="hold">
                            <p:stCondLst>
                              <p:cond delay="4000"/>
                            </p:stCondLst>
                            <p:childTnLst>
                              <p:par>
                                <p:cTn id="108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fill="hold">
                            <p:stCondLst>
                              <p:cond delay="4500"/>
                            </p:stCondLst>
                            <p:childTnLst>
                              <p:par>
                                <p:cTn id="108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3" fill="hold">
                            <p:stCondLst>
                              <p:cond delay="5500"/>
                            </p:stCondLst>
                            <p:childTnLst>
                              <p:par>
                                <p:cTn id="109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6" fill="hold">
                            <p:stCondLst>
                              <p:cond delay="6000"/>
                            </p:stCondLst>
                            <p:childTnLst>
                              <p:par>
                                <p:cTn id="109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1258920" y="765000"/>
            <a:ext cx="432108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50000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So...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50000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50920" y="3860640"/>
            <a:ext cx="889308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51700"/>
                    </a:gs>
                    <a:gs pos="100000">
                      <a:srgbClr val="ff33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How to gain a competitive advantage 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51700"/>
                  </a:gs>
                  <a:gs pos="100000">
                    <a:srgbClr val="ff33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0" y="-316080"/>
            <a:ext cx="9144000" cy="1000944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 txBox="1"/>
          <p:nvPr/>
        </p:nvSpPr>
        <p:spPr>
          <a:xfrm>
            <a:off x="3851280" y="4653000"/>
            <a:ext cx="31924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....be differen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9" dur="indefinite" restart="never" nodeType="tmRoot">
          <p:childTnLst>
            <p:seq>
              <p:cTn id="1100" dur="indefinite" nodeType="mainSeq">
                <p:childTnLst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05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826920" y="476280"/>
            <a:ext cx="7561440" cy="576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51700"/>
                    </a:gs>
                    <a:gs pos="100000">
                      <a:srgbClr val="ff33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How...?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51700"/>
                  </a:gs>
                  <a:gs pos="100000">
                    <a:srgbClr val="ff33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99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203640" y="414360"/>
            <a:ext cx="254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3399ff"/>
                </a:solidFill>
                <a:latin typeface="Arial"/>
              </a:rPr>
              <a:t>Approa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06760" y="1918080"/>
            <a:ext cx="83401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one to one inter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&gt;  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&gt;   group presen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&gt;   seminar se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&gt;   telemark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&gt;   team selling  ( large complex accoun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&gt;   key account managem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941040" y="652320"/>
            <a:ext cx="5684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66ff"/>
                </a:solidFill>
                <a:latin typeface="Arial Rounded MT Bold"/>
                <a:ea typeface="Arial"/>
              </a:rPr>
              <a:t>Differentiation along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028680" y="2163600"/>
            <a:ext cx="218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0000"/>
                </a:solidFill>
                <a:latin typeface="Arial Rounded MT Bold"/>
                <a:ea typeface="Arial"/>
              </a:rPr>
              <a:t>Produ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034800" y="2852640"/>
            <a:ext cx="224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0000"/>
                </a:solidFill>
                <a:latin typeface="Arial Rounded MT Bold"/>
                <a:ea typeface="Arial"/>
              </a:rPr>
              <a:t>Servi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969280" y="3500280"/>
            <a:ext cx="271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0000"/>
                </a:solidFill>
                <a:latin typeface="Arial Rounded MT Bold"/>
                <a:ea typeface="Arial"/>
              </a:rPr>
              <a:t>Personn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941560" y="4869000"/>
            <a:ext cx="180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0000"/>
                </a:solidFill>
                <a:latin typeface="Arial Rounded MT Bold"/>
                <a:ea typeface="Arial"/>
              </a:rPr>
              <a:t>Ima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937600" y="4149720"/>
            <a:ext cx="359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0000"/>
                </a:solidFill>
                <a:latin typeface="Arial Rounded MT Bold"/>
                <a:ea typeface="Arial"/>
              </a:rPr>
              <a:t>Value offer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0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fill="hold">
                      <p:stCondLst>
                        <p:cond delay="indefinite"/>
                      </p:stCondLst>
                      <p:childTnLst>
                        <p:par>
                          <p:cTn id="1127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fill="hold">
                      <p:stCondLst>
                        <p:cond delay="indefinite"/>
                      </p:stCondLst>
                      <p:childTnLst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nl-NL" sz="4000" spc="-1" strike="noStrike">
                <a:solidFill>
                  <a:srgbClr val="ff0000"/>
                </a:solidFill>
                <a:latin typeface="Arial Rounded MT Bold"/>
              </a:rPr>
              <a:t>You</a:t>
            </a: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4000" spc="-1" strike="noStrike">
                <a:solidFill>
                  <a:srgbClr val="ff0000"/>
                </a:solidFill>
                <a:latin typeface="Arial Rounded MT Bold"/>
              </a:rPr>
              <a:t>have a product,</a:t>
            </a:r>
            <a:br>
              <a:rPr sz="4000"/>
            </a:br>
            <a:r>
              <a:rPr b="1" lang="nl-NL" sz="4000" spc="-1" strike="noStrike">
                <a:solidFill>
                  <a:srgbClr val="ff0000"/>
                </a:solidFill>
                <a:latin typeface="Arial Rounded MT Bold"/>
              </a:rPr>
              <a:t>You have a target market</a:t>
            </a:r>
            <a:br>
              <a:rPr sz="4000"/>
            </a:br>
            <a:r>
              <a:rPr b="1" lang="nl-NL" sz="4000" spc="-1" strike="noStrike">
                <a:solidFill>
                  <a:srgbClr val="ff0000"/>
                </a:solidFill>
                <a:latin typeface="Arial Rounded MT Bold"/>
              </a:rPr>
              <a:t>you have a differ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1692360" y="2852640"/>
            <a:ext cx="5878440" cy="234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50000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What now..??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50000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4" dur="indefinite" restart="never" nodeType="tmRoot">
          <p:childTnLst>
            <p:seq>
              <p:cTn id="1145" dur="indefinite" nodeType="mainSeq">
                <p:childTnLst>
                  <p:par>
                    <p:cTn id="1146" fill="hold">
                      <p:stCondLst>
                        <p:cond delay="0"/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2340000" y="2997360"/>
            <a:ext cx="961920" cy="914400"/>
          </a:xfrm>
          <a:prstGeom prst="star5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684360" y="1268280"/>
            <a:ext cx="777528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50000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The Magic is i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50000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900000" y="3860640"/>
            <a:ext cx="7559640" cy="201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7517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Positionin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7517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6" name=""/>
          <p:cNvSpPr/>
          <p:nvPr/>
        </p:nvSpPr>
        <p:spPr>
          <a:xfrm>
            <a:off x="2916360" y="2924280"/>
            <a:ext cx="961920" cy="914400"/>
          </a:xfrm>
          <a:prstGeom prst="star5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140360" y="2997360"/>
            <a:ext cx="961920" cy="91440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635280" y="2924280"/>
            <a:ext cx="962280" cy="914400"/>
          </a:xfrm>
          <a:prstGeom prst="star5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788000" y="2997360"/>
            <a:ext cx="961920" cy="914400"/>
          </a:xfrm>
          <a:prstGeom prst="star5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076720" y="3068640"/>
            <a:ext cx="962280" cy="914400"/>
          </a:xfrm>
          <a:prstGeom prst="star5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843280" y="2637000"/>
            <a:ext cx="961920" cy="914400"/>
          </a:xfrm>
          <a:prstGeom prst="star5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940360" y="2997360"/>
            <a:ext cx="961920" cy="914400"/>
          </a:xfrm>
          <a:prstGeom prst="star5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4" dur="indefinite" restart="never" nodeType="tmRoot">
          <p:childTnLst>
            <p:seq>
              <p:cTn id="1155" dur="indefinite" nodeType="mainSeq">
                <p:childTnLst>
                  <p:par>
                    <p:cTn id="1156" fill="hold">
                      <p:stCondLst>
                        <p:cond delay="0"/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6" nodeType="withEffect" fill="hold" presetClass="exit" presetID="52" repeatCount="5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6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116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1169" dur="8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3" nodeType="withEffect" fill="hold" presetClass="exit" presetID="25" repeatCount="4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100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xit" presetID="47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86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7" dur="100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8" dur="100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2" nodeType="withEffect" fill="hold" presetClass="exit" presetID="15" repeatCount="5000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93" dur="200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200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200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200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0" nodeType="withEffect" fill="hold" presetClass="exit" presetID="48" repeatCount="500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01" dur="200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" dur="200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flt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200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04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8" nodeType="withEffect" fill="hold" presetClass="exit" presetID="2" presetSubtype="4" repeatCount="400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09" dur="200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0" dur="200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4" nodeType="withEffect" fill="hold" presetClass="exit" presetID="29" repeatCount="500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15" dur="200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6" dur="200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17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29" repeatCount="500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22" dur="20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3" dur="20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24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0" y="-387360"/>
            <a:ext cx="9144000" cy="746136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1032120" y="1628640"/>
            <a:ext cx="6973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00"/>
                </a:solidFill>
                <a:latin typeface="Arial Rounded MT Bold"/>
                <a:ea typeface="Arial"/>
              </a:rPr>
              <a:t>Positioning is not abou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00"/>
                </a:solidFill>
                <a:latin typeface="Arial Rounded MT Bold"/>
                <a:ea typeface="Arial"/>
              </a:rPr>
              <a:t>the product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72600" y="3933720"/>
            <a:ext cx="8267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00"/>
                </a:solidFill>
                <a:latin typeface="Arial Rounded MT Bold"/>
                <a:ea typeface="Arial"/>
              </a:rPr>
              <a:t>It is about what people thin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00"/>
                </a:solidFill>
                <a:latin typeface="Arial Rounded MT Bold"/>
                <a:ea typeface="Arial"/>
              </a:rPr>
              <a:t>of the produ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6" dur="indefinite" restart="never" nodeType="tmRoot">
          <p:childTnLst>
            <p:seq>
              <p:cTn id="1227" dur="indefinite" nodeType="mainSeq">
                <p:childTnLst>
                  <p:par>
                    <p:cTn id="1228" fill="hold">
                      <p:stCondLst>
                        <p:cond delay="0"/>
                      </p:stCondLst>
                      <p:childTnLst>
                        <p:par>
                          <p:cTn id="1229" fill="hold">
                            <p:stCondLst>
                              <p:cond delay="0"/>
                            </p:stCondLst>
                            <p:childTnLst>
                              <p:par>
                                <p:cTn id="12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539640" y="5013360"/>
            <a:ext cx="3095640" cy="17064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132000" y="2781360"/>
            <a:ext cx="3095640" cy="17064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651640" y="549360"/>
            <a:ext cx="3095640" cy="17064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900000" y="5373720"/>
            <a:ext cx="2409840" cy="78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segmentin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3492360" y="3141720"/>
            <a:ext cx="2316240" cy="85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targetin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5940360" y="981000"/>
            <a:ext cx="25192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positionin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2" name=""/>
          <p:cNvSpPr/>
          <p:nvPr/>
        </p:nvSpPr>
        <p:spPr>
          <a:xfrm rot="19404600">
            <a:off x="1547280" y="3933720"/>
            <a:ext cx="1266840" cy="486000"/>
          </a:xfrm>
          <a:prstGeom prst="rightArrow">
            <a:avLst>
              <a:gd name="adj1" fmla="val 50000"/>
              <a:gd name="adj2" fmla="val 65167"/>
            </a:avLst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rot="19404600">
            <a:off x="4067280" y="1699920"/>
            <a:ext cx="1266840" cy="485640"/>
          </a:xfrm>
          <a:prstGeom prst="rightArrow">
            <a:avLst>
              <a:gd name="adj1" fmla="val 50000"/>
              <a:gd name="adj2" fmla="val 65215"/>
            </a:avLst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rot="8196600">
            <a:off x="6442920" y="2923920"/>
            <a:ext cx="1266840" cy="485640"/>
          </a:xfrm>
          <a:prstGeom prst="rightArrow">
            <a:avLst>
              <a:gd name="adj1" fmla="val 50000"/>
              <a:gd name="adj2" fmla="val 65215"/>
            </a:avLst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rot="8196600">
            <a:off x="3924000" y="5157720"/>
            <a:ext cx="1266840" cy="486000"/>
          </a:xfrm>
          <a:prstGeom prst="rightArrow">
            <a:avLst>
              <a:gd name="adj1" fmla="val 50000"/>
              <a:gd name="adj2" fmla="val 65167"/>
            </a:avLst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6" dur="indefinite" restart="never" nodeType="tmRoot">
          <p:childTnLst>
            <p:seq>
              <p:cTn id="1237" dur="indefinite" nodeType="mainSeq">
                <p:childTnLst>
                  <p:par>
                    <p:cTn id="1238" fill="hold">
                      <p:stCondLst>
                        <p:cond delay="0"/>
                      </p:stCondLst>
                      <p:childTnLst>
                        <p:par>
                          <p:cTn id="1239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4" fill="hold">
                      <p:stCondLst>
                        <p:cond delay="indefinite"/>
                      </p:stCondLst>
                      <p:childTnLst>
                        <p:par>
                          <p:cTn id="1245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2" fill="hold">
                      <p:stCondLst>
                        <p:cond delay="indefinite"/>
                      </p:stCondLst>
                      <p:childTnLst>
                        <p:par>
                          <p:cTn id="1253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0" fill="hold">
                      <p:stCondLst>
                        <p:cond delay="indefinite"/>
                      </p:stCondLst>
                      <p:childTnLst>
                        <p:par>
                          <p:cTn id="1261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4" fill="hold">
                      <p:stCondLst>
                        <p:cond delay="indefinite"/>
                      </p:stCondLst>
                      <p:childTnLst>
                        <p:par>
                          <p:cTn id="1265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99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02040" y="396360"/>
            <a:ext cx="8600760" cy="64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nl-NL" sz="40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nl-NL" sz="4000" spc="-1" strike="noStrike">
                <a:solidFill>
                  <a:srgbClr val="3399ff"/>
                </a:solidFill>
                <a:latin typeface="Arial"/>
              </a:rPr>
              <a:t>sales force structure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territorial s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one person in a geographical ar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for all produ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product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one person for one product (li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customer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one person customer cont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(account management</a:t>
            </a:r>
            <a:r>
              <a:rPr b="1" lang="nl-NL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99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-492120" y="154440"/>
            <a:ext cx="10326960" cy="65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619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nl-NL" sz="40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nl-NL" sz="4000" spc="-1" strike="noStrike">
                <a:solidFill>
                  <a:srgbClr val="3399ff"/>
                </a:solidFill>
                <a:latin typeface="Arial"/>
              </a:rPr>
              <a:t>paying the sales for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619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0066"/>
                </a:solidFill>
                <a:latin typeface="Arial"/>
              </a:rPr>
              <a:t>straight sal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619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+  eas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619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-   no discrim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619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0066"/>
                </a:solidFill>
                <a:latin typeface="Arial"/>
              </a:rPr>
              <a:t>straight com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619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+   strong incen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619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-    high pressure se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619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0066"/>
                </a:solidFill>
                <a:latin typeface="Arial"/>
              </a:rPr>
              <a:t>salary plus bo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619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+  non selling tasks become mo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619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attra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619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-  could seen as unf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619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0066"/>
                </a:solidFill>
                <a:latin typeface="Arial"/>
              </a:rPr>
              <a:t>salary plus com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619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combines 1 and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2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2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99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08040" y="-1080"/>
            <a:ext cx="7912080" cy="68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3399ff"/>
                </a:solidFill>
                <a:latin typeface="Arial"/>
              </a:rPr>
              <a:t>          </a:t>
            </a:r>
            <a:r>
              <a:rPr b="1" lang="nl-NL" sz="4000" spc="-1" strike="noStrike">
                <a:solidFill>
                  <a:srgbClr val="3399ff"/>
                </a:solidFill>
                <a:latin typeface="Arial"/>
              </a:rPr>
              <a:t>recruting salespeo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desirable traits in a salesper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*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salespeople trainings co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the principals of se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the chief sales arg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field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tim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preparing rep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99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75480" y="532440"/>
            <a:ext cx="8172720" cy="63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3399ff"/>
                </a:solidFill>
                <a:latin typeface="Arial"/>
              </a:rPr>
              <a:t>          </a:t>
            </a:r>
            <a:r>
              <a:rPr b="1" lang="nl-NL" sz="4000" spc="-1" strike="noStrike">
                <a:solidFill>
                  <a:srgbClr val="3399ff"/>
                </a:solidFill>
                <a:latin typeface="Arial"/>
              </a:rPr>
              <a:t>steps in selling proces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¤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prospecting and qualif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¤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pre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¤  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¤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presentation and demons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¤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handling obj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¤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closing the s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¤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follow-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0066"/>
                </a:solidFill>
                <a:latin typeface="Arial"/>
              </a:rPr>
              <a:t>think of cultural differences when sell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0066"/>
                </a:solidFill>
                <a:latin typeface="Arial"/>
              </a:rPr>
              <a:t>in other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99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262440" y="-107640"/>
            <a:ext cx="8884440" cy="68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99ff"/>
                </a:solidFill>
                <a:latin typeface="Arial"/>
              </a:rPr>
              <a:t>                   </a:t>
            </a:r>
            <a:r>
              <a:rPr b="1" lang="en-US" sz="4000" spc="-1" strike="noStrike">
                <a:solidFill>
                  <a:srgbClr val="3399ff"/>
                </a:solidFill>
                <a:latin typeface="Arial"/>
              </a:rPr>
              <a:t>supervis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directing, motivating and eval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rec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veloping customer targ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ll n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lping with time-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tivation 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rganizational clim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tting of sales quot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ve incen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3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3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3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3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9T08:53:26Z</dcterms:created>
  <dc:creator>HAN</dc:creator>
  <dc:description/>
  <dc:language>en-US</dc:language>
  <cp:lastModifiedBy>christine natalia</cp:lastModifiedBy>
  <dcterms:modified xsi:type="dcterms:W3CDTF">2006-12-26T20:09:56Z</dcterms:modified>
  <cp:revision>2</cp:revision>
  <dc:subject/>
  <dc:title>Dia 1</dc:title>
</cp:coreProperties>
</file>