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DAC-B282-4592-AB00-563D1A715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B410-7580-428B-995D-8C71224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4D68-07E0-4A41-88D5-2465EA65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653-24EF-43DF-BD81-B212786A2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3464-1380-43CC-9B54-C5F97E7DB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18A1-8A63-48E2-9CDA-6DBFB1D7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2231-1324-496F-9A10-8191D3C2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E70D-E61A-493F-A21C-B0A34704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F75-9874-4BB3-97F6-B89ABFDD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D15E-F57F-4175-B3DF-3ED236A2B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B2E5-569F-46E7-A989-78BBC266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E0FE-C9DA-4AFA-8620-D814475C5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071C-4152-4E70-A219-6613CA0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3215-AF2F-4ABA-AA74-55E74FE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1141-A542-4700-9EF2-952C7310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A16D-CA0E-4A61-9AFD-8927F65B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5FB0-464B-4DD5-B90B-A15D2E52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B351-C63B-4FB4-9D01-1BBE884A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3D04-133C-450B-817D-6690360B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0C4-D15A-4B9A-AAE0-E4A657A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6B40-BC0C-459C-B3D5-3BBB792D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341F-174E-4CCD-9F93-7BA2A366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33A-4494-42E0-8A2B-C9CFE90C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8AF2-B86B-4E23-8B80-BB3E29E4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E603-C1F4-4948-B586-4154BB29EA1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E477-3A31-429A-ACE9-B37471CAC8B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1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Where, Why and How of Data Coll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1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Random Numbers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-               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Nordstrom’s Payrol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60958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andom Numbers  -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Nordstrom’s Payrol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2286000"/>
            <a:ext cx="73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Nordstrom’s wishes to survey ten of their 300 employees.  Employees are numbered 1 to 300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generate 10 random numbers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between 1 and 300.  Values must be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nteger numbers corresponding to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employee numb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267080" y="990720"/>
            <a:ext cx="25146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819160" y="1219320"/>
            <a:ext cx="1447560" cy="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00600" y="2133720"/>
            <a:ext cx="2514600" cy="10159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3809880" y="2286000"/>
            <a:ext cx="99072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880" y="3581280"/>
            <a:ext cx="3200400" cy="13816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752480" y="3124080"/>
            <a:ext cx="175284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791320" y="220968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rovide Required Inpu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5909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ote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505320" y="2362320"/>
            <a:ext cx="121896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48604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57800" y="3048120"/>
            <a:ext cx="91440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62320" y="2133720"/>
            <a:ext cx="25146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Need to convert numbers to integ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19051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3429000"/>
            <a:ext cx="3200400" cy="14655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Note:  Each time you use </a:t>
            </a:r>
            <a:r>
              <a:rPr b="1" lang="en-US" sz="1800" spc="-1" strike="noStrike">
                <a:solidFill>
                  <a:srgbClr val="00007a"/>
                </a:solidFill>
                <a:latin typeface="Arial"/>
              </a:rPr>
              <a:t>Random Number Generation</a:t>
            </a:r>
            <a:r>
              <a:rPr b="1" lang="en-US" sz="1800" spc="-1" strike="noStrike">
                <a:solidFill>
                  <a:srgbClr val="000054"/>
                </a:solidFill>
                <a:latin typeface="Arial"/>
              </a:rPr>
              <a:t>, you will get a different string of random numb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28800" y="2133720"/>
            <a:ext cx="457200" cy="152388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2514600"/>
            <a:ext cx="25146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Data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57800" y="3352680"/>
            <a:ext cx="251460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crease Decim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Button to Remove Decimal Pl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5257440" y="1752120"/>
            <a:ext cx="114300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66880" y="2133720"/>
            <a:ext cx="4343400" cy="17474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0 Random Numbers Between 0 and 300 -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hese are the 10 employees to be selec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1905120"/>
            <a:ext cx="761760" cy="1676160"/>
          </a:xfrm>
          <a:custGeom>
            <a:avLst/>
            <a:gdLst>
              <a:gd name="textAreaLeft" fmla="*/ 0 w 761760"/>
              <a:gd name="textAreaRight" fmla="*/ 275040 w 7617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2286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Random Numbers – Nordstrom’s Payro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1:30Z</dcterms:modified>
  <cp:revision>26</cp:revision>
  <dc:subject/>
  <dc:title>Excel tutorial chapter 1</dc:title>
</cp:coreProperties>
</file>