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36C0-F498-47D3-8715-588C2FCF9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5E96-CC94-4F3B-9BF1-E79AD2D3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7C6E-487E-4B8D-B443-5FFA9B27E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6CF9-AD25-42DE-8815-EB97CCB5B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0044-CEE7-42F0-9CCD-B6AAB7C40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DC26-E061-46AF-98C8-B73D4146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F2B4-AF99-4D8A-B6CE-60C2CE49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9AEC-DD35-4743-AA7A-243663B0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CF88-746E-4649-BC64-92A40DF1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F9F6-B94C-4CC8-9CD9-62057EB5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5EB0-0EA8-42C6-AD2F-FE9B49EE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D284-08D4-41C0-BA6C-886FE4D9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62AF-6F26-44C4-B644-111CFA36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A5B9-2572-4FDF-A0B6-48244329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16F4-0FEE-445E-BF26-2B1DADD2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527B-C033-41BA-8EDE-8B68EFB74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A3AF-8565-4BDD-8454-4912EBCC2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43AD-D4B5-4F70-9481-E1261B39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C8F5-5959-4152-BC6C-10C3BAD8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811B-8E7B-4749-BD3F-FCCC74D6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738F-AA99-40F5-A98C-E2CA887E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F73B-0CDF-476B-8AE1-EA235C47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F3CD-384F-441F-8441-F58EB873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3756-3E38-4387-881D-B8FFEFB7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9341-AE7F-4D78-9AA8-1C279064E77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31E9-6F1E-4636-B6E2-8C584858FE9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90720" y="304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Guide to Using Excel For Basic Statistical Application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Accompan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Business Statistics: A Decision Making Approach, 6th Ed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apter 1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Where, Why and How of Data Collec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roebner, Shannon, Fry, &amp; Smit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rentice-Hall Publishing Compan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opyright, 2005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373320" cy="333360"/>
          </a:xfrm>
          <a:custGeom>
            <a:avLst/>
            <a:gdLst>
              <a:gd name="textAreaLeft" fmla="*/ 21600 w 373320"/>
              <a:gd name="textAreaRight" fmla="*/ 351720 w 3733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86" h="21600">
                <a:moveTo>
                  <a:pt x="0" y="0"/>
                </a:moveTo>
                <a:lnTo>
                  <a:pt x="24186" y="0"/>
                </a:lnTo>
                <a:lnTo>
                  <a:pt x="24186" y="21600"/>
                </a:lnTo>
                <a:lnTo>
                  <a:pt x="0" y="21600"/>
                </a:lnTo>
                <a:close/>
              </a:path>
              <a:path fill="lightenLess" w="24186" h="21600">
                <a:moveTo>
                  <a:pt x="0" y="0"/>
                </a:moveTo>
                <a:lnTo>
                  <a:pt x="24186" y="0"/>
                </a:lnTo>
                <a:lnTo>
                  <a:pt x="22786" y="1400"/>
                </a:lnTo>
                <a:lnTo>
                  <a:pt x="1400" y="1400"/>
                </a:lnTo>
                <a:close/>
              </a:path>
              <a:path fill="darken" w="24186" h="21600">
                <a:moveTo>
                  <a:pt x="24186" y="0"/>
                </a:moveTo>
                <a:lnTo>
                  <a:pt x="24186" y="21600"/>
                </a:lnTo>
                <a:lnTo>
                  <a:pt x="22786" y="20200"/>
                </a:lnTo>
                <a:lnTo>
                  <a:pt x="22786" y="1400"/>
                </a:lnTo>
                <a:close/>
              </a:path>
              <a:path fill="darkenLess" w="24186" h="21600">
                <a:moveTo>
                  <a:pt x="24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6" y="20200"/>
                </a:lnTo>
                <a:close/>
              </a:path>
              <a:path fill="lighten" w="24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6" h="21600">
                <a:moveTo>
                  <a:pt x="5087" y="3794"/>
                </a:moveTo>
                <a:lnTo>
                  <a:pt x="19100" y="10800"/>
                </a:lnTo>
                <a:lnTo>
                  <a:pt x="5087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Chapter 1 Excel Examples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00"/>
                </a:solidFill>
                <a:uFillTx/>
                <a:latin typeface="Arial"/>
                <a:hlinkClick r:id="rId1" action="ppaction://hlinksldjump"/>
              </a:rPr>
              <a:t>Random Numbers 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-               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Nordstrom’s Payrol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67080" y="60958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Random Numbers  -</a:t>
            </a:r>
            <a:br>
              <a:rPr sz="4400"/>
            </a:b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    Nordstrom’s Payrol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2286000"/>
            <a:ext cx="73152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Issue: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Nordstrom’s wishes to survey ten of their 300 employees.  Employees are numbered 1 to 300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Objective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Use Excel to generate 10 random numbers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between 1 and 300.  Values must be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integer numbers corresponding to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employee numbe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267080" y="990720"/>
            <a:ext cx="251460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Click on </a:t>
            </a:r>
            <a:r>
              <a:rPr b="1" i="1" lang="en-US" sz="2400" spc="-1" strike="noStrike">
                <a:solidFill>
                  <a:srgbClr val="00007a"/>
                </a:solidFill>
                <a:latin typeface="Arial"/>
              </a:rPr>
              <a:t>Too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819160" y="1219320"/>
            <a:ext cx="1447560" cy="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00600" y="2133720"/>
            <a:ext cx="2514600" cy="1015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Click on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7a"/>
                </a:solidFill>
                <a:latin typeface="Arial"/>
              </a:rPr>
              <a:t>Data Analys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809880" y="2286000"/>
            <a:ext cx="990720" cy="60948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2286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Random Numbers – Nordstrom’s Payro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880" y="3581280"/>
            <a:ext cx="3200400" cy="13816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Select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Random Number Gener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752480" y="3124080"/>
            <a:ext cx="1752840" cy="4572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2286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Random Numbers – Nordstrom’s Payro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791320" y="2209680"/>
            <a:ext cx="2514600" cy="825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Provide Required Inpu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2590920"/>
            <a:ext cx="251460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Note:  Select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Uniform Distribu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505320" y="2362320"/>
            <a:ext cx="1218960" cy="4572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2286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Random Numbers – Nordstrom’s Payro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486040" y="28954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257800" y="3048120"/>
            <a:ext cx="91440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362320" y="2133720"/>
            <a:ext cx="251460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Need to convert numbers to intege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1905120"/>
            <a:ext cx="457200" cy="1523880"/>
          </a:xfrm>
          <a:custGeom>
            <a:avLst/>
            <a:gdLst>
              <a:gd name="textAreaLeft" fmla="*/ 0 w 457200"/>
              <a:gd name="textAreaRight" fmla="*/ 164880 w 4572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00600" y="3429000"/>
            <a:ext cx="3200400" cy="1465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4"/>
                </a:solidFill>
                <a:latin typeface="Arial"/>
              </a:rPr>
              <a:t>Note:  Each time you use </a:t>
            </a:r>
            <a:r>
              <a:rPr b="1" lang="en-US" sz="1800" spc="-1" strike="noStrike">
                <a:solidFill>
                  <a:srgbClr val="00007a"/>
                </a:solidFill>
                <a:latin typeface="Arial"/>
              </a:rPr>
              <a:t>Random Number Generation</a:t>
            </a:r>
            <a:r>
              <a:rPr b="1" lang="en-US" sz="1800" spc="-1" strike="noStrike">
                <a:solidFill>
                  <a:srgbClr val="000054"/>
                </a:solidFill>
                <a:latin typeface="Arial"/>
              </a:rPr>
              <a:t>, you will get a different string of random numb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71600" y="2286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Random Numbers – Nordstrom’s Payro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828800" y="2133720"/>
            <a:ext cx="457200" cy="1523880"/>
          </a:xfrm>
          <a:custGeom>
            <a:avLst/>
            <a:gdLst>
              <a:gd name="textAreaLeft" fmla="*/ 0 w 457200"/>
              <a:gd name="textAreaRight" fmla="*/ 164880 w 4572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62320" y="2514600"/>
            <a:ext cx="2514600" cy="825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Highlight the Data Valu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57800" y="3352680"/>
            <a:ext cx="2514600" cy="19227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Click the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Decrease Decimal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Button to Remove Decimal Plac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5257440" y="1752120"/>
            <a:ext cx="1143000" cy="16002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2286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Random Numbers – Nordstrom’s Payro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666880" y="2133720"/>
            <a:ext cx="4343400" cy="17474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10 Random Numbers Between 0 and 300 -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These are the 10 employees to be select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05120" y="1905120"/>
            <a:ext cx="761760" cy="1676160"/>
          </a:xfrm>
          <a:custGeom>
            <a:avLst/>
            <a:gdLst>
              <a:gd name="textAreaLeft" fmla="*/ 0 w 761760"/>
              <a:gd name="textAreaRight" fmla="*/ 275040 w 76176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2286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Random Numbers – Nordstrom’s Payro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29:18Z</dcterms:created>
  <dc:creator>Patrick Shannon</dc:creator>
  <dc:description/>
  <dc:language>en-US</dc:language>
  <cp:lastModifiedBy>dgroebner</cp:lastModifiedBy>
  <cp:lastPrinted>1996-09-26T03:39:24Z</cp:lastPrinted>
  <dcterms:modified xsi:type="dcterms:W3CDTF">2003-10-03T18:01:30Z</dcterms:modified>
  <cp:revision>26</cp:revision>
  <dc:subject/>
  <dc:title>Excel tutorial chapter 1</dc:title>
</cp:coreProperties>
</file>