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EA6-68BB-4F4E-BC18-C74899FE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1D2-D80E-4C23-B6D9-606869F2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291-BACF-4463-864B-5ACCE5B5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A0C-8653-424E-BC3E-F8C2C146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63F0-5E8E-4E19-8075-7BF6D520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7C8D-2FB2-4BE7-883A-DD3F0F29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6B95-D016-4ABA-9804-822654B9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ED4E-88ED-45AE-8DA9-96F147CF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E053-2F6D-4502-9E4A-FDD71EF4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407D-EA6F-49AC-B09A-77DD3641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EE90-08B0-410F-BB07-D6C2D7B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535-666F-4DF2-B2E7-044421CE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8173-185D-452A-8028-5779A296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BB76-07FF-4C65-91FE-84DC6DF2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CFD8-5B9F-4CE0-B08C-94C0B2EA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9DA5-B9C5-43A7-A98F-370264FA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5ABE-9794-4795-B0EE-FCCA96F8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E0C-DA3F-4F3E-A2C5-B5B9A68A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C6A-5D1F-4A90-9EBE-1EFA2AC9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878-A04C-4534-B8AE-2ADE2BE3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AAC-EE43-4263-B049-635D34C8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A29-075B-4887-9A3F-69C8ADEA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D44-C19F-453E-8E55-DA822D35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4D4-F954-4A64-9864-15CE0360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014E-E530-4B54-96DB-49626B3DA82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4D20-5A09-4E62-955F-30B2ED19D35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Guide to Using Excel For Basic Statistical Application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ccompan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Business Statistics: A Decision Making Approach, 6th 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pter 1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Where, Why and How of Data Coll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oebner, Shannon, Fry, &amp; Smi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entice-Hall Publishing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pyright, 200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373320" cy="333360"/>
          </a:xfrm>
          <a:custGeom>
            <a:avLst/>
            <a:gdLst>
              <a:gd name="textAreaLeft" fmla="*/ 21600 w 373320"/>
              <a:gd name="textAreaRight" fmla="*/ 351720 w 373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86" h="21600">
                <a:moveTo>
                  <a:pt x="0" y="0"/>
                </a:moveTo>
                <a:lnTo>
                  <a:pt x="24186" y="0"/>
                </a:lnTo>
                <a:lnTo>
                  <a:pt x="24186" y="21600"/>
                </a:lnTo>
                <a:lnTo>
                  <a:pt x="0" y="21600"/>
                </a:lnTo>
                <a:close/>
              </a:path>
              <a:path fill="lightenLess" w="24186" h="21600">
                <a:moveTo>
                  <a:pt x="0" y="0"/>
                </a:moveTo>
                <a:lnTo>
                  <a:pt x="24186" y="0"/>
                </a:lnTo>
                <a:lnTo>
                  <a:pt x="22786" y="1400"/>
                </a:lnTo>
                <a:lnTo>
                  <a:pt x="1400" y="1400"/>
                </a:lnTo>
                <a:close/>
              </a:path>
              <a:path fill="darken" w="24186" h="21600">
                <a:moveTo>
                  <a:pt x="24186" y="0"/>
                </a:moveTo>
                <a:lnTo>
                  <a:pt x="24186" y="21600"/>
                </a:lnTo>
                <a:lnTo>
                  <a:pt x="22786" y="20200"/>
                </a:lnTo>
                <a:lnTo>
                  <a:pt x="22786" y="1400"/>
                </a:lnTo>
                <a:close/>
              </a:path>
              <a:path fill="darkenLess" w="24186" h="21600">
                <a:moveTo>
                  <a:pt x="24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6" y="20200"/>
                </a:lnTo>
                <a:close/>
              </a:path>
              <a:path fill="lighten" w="24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6" h="21600">
                <a:moveTo>
                  <a:pt x="5087" y="3794"/>
                </a:moveTo>
                <a:lnTo>
                  <a:pt x="19100" y="10800"/>
                </a:lnTo>
                <a:lnTo>
                  <a:pt x="5087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Chapter 1 Excel Example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1" action="ppaction://hlinksldjump"/>
              </a:rPr>
              <a:t>Random Numbers 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-               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rdstrom’s Payro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andom Numbers  -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Nordstrom’s Payrol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86000"/>
            <a:ext cx="73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rdstrom’s wishes to survey ten of their 300 employees.  Employees are numbered 1 to 300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generate 10 random numbers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etween 1 and 300.  Values must be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teger numbers corresponding to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mployee numb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67080" y="990720"/>
            <a:ext cx="25146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i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19160" y="1219320"/>
            <a:ext cx="1447560" cy="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2133720"/>
            <a:ext cx="2514600" cy="1015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286000"/>
            <a:ext cx="990720" cy="6094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3581280"/>
            <a:ext cx="3200400" cy="1381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Random Number Gen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3124080"/>
            <a:ext cx="175284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91320" y="2209680"/>
            <a:ext cx="25146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Provide Required Inpu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2590920"/>
            <a:ext cx="25146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Note: 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Uniform Distrib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505320" y="2362320"/>
            <a:ext cx="121896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8604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57800" y="3048120"/>
            <a:ext cx="91440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62320" y="2133720"/>
            <a:ext cx="25146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Need to convert numbers to integ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90512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3429000"/>
            <a:ext cx="3200400" cy="1465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Note:  Each time you use </a:t>
            </a:r>
            <a:r>
              <a:rPr b="1" lang="en-US" sz="1800" spc="-1" strike="noStrike">
                <a:solidFill>
                  <a:srgbClr val="00007a"/>
                </a:solidFill>
                <a:latin typeface="Arial"/>
              </a:rPr>
              <a:t>Random Number Generation</a:t>
            </a: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, you will get a different string of random numb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28800" y="213372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514600"/>
            <a:ext cx="25146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Highlight the Data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352680"/>
            <a:ext cx="2514600" cy="1922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crease Decimal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Button to Remove Decimal Pla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257440" y="1752120"/>
            <a:ext cx="1143000" cy="1600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66880" y="2133720"/>
            <a:ext cx="4343400" cy="174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10 Random Numbers Between 0 and 300 -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These are the 10 employees to be selec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1905120"/>
            <a:ext cx="761760" cy="1676160"/>
          </a:xfrm>
          <a:custGeom>
            <a:avLst/>
            <a:gdLst>
              <a:gd name="textAreaLeft" fmla="*/ 0 w 761760"/>
              <a:gd name="textAreaRight" fmla="*/ 275040 w 76176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Patrick Shannon</dc:creator>
  <dc:description/>
  <dc:language>en-US</dc:language>
  <cp:lastModifiedBy>dgroebner</cp:lastModifiedBy>
  <cp:lastPrinted>1996-09-26T03:39:24Z</cp:lastPrinted>
  <dcterms:modified xsi:type="dcterms:W3CDTF">2003-10-03T18:01:30Z</dcterms:modified>
  <cp:revision>26</cp:revision>
  <dc:subject/>
  <dc:title>Excel tutorial chapter 1</dc:title>
</cp:coreProperties>
</file>