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914400" y="342900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ldImg"/>
          </p:nvPr>
        </p:nvSpPr>
        <p:spPr>
          <a:xfrm>
            <a:off x="1447560" y="457200"/>
            <a:ext cx="4181400" cy="288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120680" y="35812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8862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20680" y="41911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20680" y="44956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20680" y="48006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20680" y="51055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20680" y="51055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20680" y="54100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20680" y="57150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20680" y="60199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20680" y="63244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20680" y="66294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20680" y="69343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20680" y="72388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20680" y="75438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20680" y="784872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20680" y="815328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20680" y="8458200"/>
            <a:ext cx="4657680" cy="0"/>
          </a:xfrm>
          <a:prstGeom prst="line">
            <a:avLst/>
          </a:prstGeom>
          <a:ln w="1260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3800" y="380880"/>
            <a:ext cx="585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7760" y="8825040"/>
            <a:ext cx="6702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Statistics: A Decision-Making Approach, 6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3800" y="8763120"/>
            <a:ext cx="5851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7760" y="61920"/>
            <a:ext cx="6702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5840"/>
                <a:tab algn="ctr" pos="3257640"/>
                <a:tab algn="r" pos="6458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tructor N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-</a:t>
            </a:r>
            <a:fld id="{AEAFC5B2-504E-44CB-9EBC-D90B6B124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197240"/>
            <a:ext cx="502920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3276360"/>
            <a:ext cx="50292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5A07A-A41E-47D1-919B-38BEBDA78D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30476-D363-4FB1-89CD-64287CF54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A0FDE-45C7-4663-9D93-7D18A80350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5A418-B0FB-4440-BFDB-068CACD3A9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A21458-4AEF-4E14-8578-8853DC6313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956E1-1475-4C38-BBCF-B76945F59B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A34AA-7EC8-405C-9C7F-B68A0CDC73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2CC7B-8586-4251-A932-60483D5A3B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5E1D1-D030-40F9-BB94-37B079CADF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38C19-2025-4A3C-B37E-A71BD09CE04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780A72-0065-4E96-A88D-037FD0DB0E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6BC93-3CD7-4BBD-B0DA-112B9ABA0A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A8530-0B08-462B-8D06-C4C706636A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AD3939-A7A3-4852-B606-2E71CFC178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9B643B-D0D9-4E43-89BF-112963ADED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11482-7A96-46B7-9C05-891DBD8953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3A24E-5FD3-42D9-832B-E4F569C2C3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7CDBD-57BA-4B3B-B5A4-096107FF6C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FDA16-3CBE-4757-88A6-B76A883C8C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3FE2A-4B00-4C9D-8CD0-6E1AC21982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E7720-DB80-4986-A647-F8E7FEBDF3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C7BE4-CDAD-478C-B6B8-6B1CA43A1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889AB-117C-49A4-A7A6-DFC6AC4E6D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C6261-F441-4436-A557-D73E0353E7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5-</a:t>
            </a:r>
            <a:fld id="{88B1F9FF-4973-4222-AEE5-F4729DC49E7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5-</a:t>
            </a:r>
            <a:fld id="{2560F8B4-72A0-4B5D-9C5E-04D29415385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ctr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2480" algn="ctr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06400" algn="ctr">
              <a:spcBef>
                <a:spcPts val="499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064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064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971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apter 5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iscrete and Continuou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bability Distribu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D1624-D7F6-4ADB-A0AF-B0FC43843C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610160" y="4384800"/>
            <a:ext cx="3841560" cy="198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10160" y="2084400"/>
            <a:ext cx="3841560" cy="198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11880" y="2135160"/>
            <a:ext cx="2663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5  p = 0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11880" y="4421160"/>
            <a:ext cx="2663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5  p = 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2209680"/>
            <a:ext cx="3041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68960" y="321804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68960" y="291312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68960" y="261144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86440" y="2641680"/>
            <a:ext cx="488880" cy="879480"/>
          </a:xfrm>
          <a:custGeom>
            <a:avLst/>
            <a:gdLst/>
            <a:ahLst/>
            <a:rect l="l" t="t" r="r" b="b"/>
            <a:pathLst>
              <a:path w="308" h="554">
                <a:moveTo>
                  <a:pt x="0" y="0"/>
                </a:moveTo>
                <a:lnTo>
                  <a:pt x="307" y="0"/>
                </a:lnTo>
                <a:lnTo>
                  <a:pt x="307" y="553"/>
                </a:lnTo>
                <a:lnTo>
                  <a:pt x="0" y="553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73880" y="3035160"/>
            <a:ext cx="485640" cy="486000"/>
          </a:xfrm>
          <a:custGeom>
            <a:avLst/>
            <a:gdLst/>
            <a:ahLst/>
            <a:rect l="l" t="t" r="r" b="b"/>
            <a:pathLst>
              <a:path w="306" h="306">
                <a:moveTo>
                  <a:pt x="0" y="0"/>
                </a:moveTo>
                <a:lnTo>
                  <a:pt x="305" y="0"/>
                </a:lnTo>
                <a:lnTo>
                  <a:pt x="305" y="305"/>
                </a:lnTo>
                <a:lnTo>
                  <a:pt x="0" y="305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58080" y="3397320"/>
            <a:ext cx="488880" cy="123840"/>
          </a:xfrm>
          <a:custGeom>
            <a:avLst/>
            <a:gdLst/>
            <a:ahLst/>
            <a:rect l="l" t="t" r="r" b="b"/>
            <a:pathLst>
              <a:path w="308" h="78">
                <a:moveTo>
                  <a:pt x="0" y="0"/>
                </a:moveTo>
                <a:lnTo>
                  <a:pt x="307" y="0"/>
                </a:lnTo>
                <a:lnTo>
                  <a:pt x="307" y="77"/>
                </a:lnTo>
                <a:lnTo>
                  <a:pt x="0" y="77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45160" y="3489480"/>
            <a:ext cx="488880" cy="31680"/>
          </a:xfrm>
          <a:custGeom>
            <a:avLst/>
            <a:gdLst/>
            <a:ahLst/>
            <a:rect l="l" t="t" r="r" b="b"/>
            <a:pathLst>
              <a:path w="308" h="20">
                <a:moveTo>
                  <a:pt x="0" y="0"/>
                </a:moveTo>
                <a:lnTo>
                  <a:pt x="307" y="0"/>
                </a:lnTo>
                <a:lnTo>
                  <a:pt x="307" y="19"/>
                </a:lnTo>
                <a:lnTo>
                  <a:pt x="0" y="1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86440" y="2793960"/>
            <a:ext cx="0" cy="5796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52960" y="351936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052960" y="321804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52960" y="291312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52960" y="261144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68960" y="351936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08644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57388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05808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54516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703260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751680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800424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24200" y="334476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24200" y="304308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24200" y="273852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24200" y="243684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7536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6244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14664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63408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12152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0716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018640" y="334476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16440" y="2208240"/>
            <a:ext cx="6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67160" y="550548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67160" y="520056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67160" y="489744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84640" y="5761080"/>
            <a:ext cx="489240" cy="47520"/>
          </a:xfrm>
          <a:custGeom>
            <a:avLst/>
            <a:gdLst/>
            <a:ahLst/>
            <a:rect l="l" t="t" r="r" b="b"/>
            <a:pathLst>
              <a:path w="308" h="30">
                <a:moveTo>
                  <a:pt x="0" y="0"/>
                </a:moveTo>
                <a:lnTo>
                  <a:pt x="307" y="0"/>
                </a:lnTo>
                <a:lnTo>
                  <a:pt x="307" y="29"/>
                </a:lnTo>
                <a:lnTo>
                  <a:pt x="0" y="2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72080" y="5568840"/>
            <a:ext cx="487440" cy="239760"/>
          </a:xfrm>
          <a:custGeom>
            <a:avLst/>
            <a:gdLst/>
            <a:ahLst/>
            <a:rect l="l" t="t" r="r" b="b"/>
            <a:pathLst>
              <a:path w="307" h="151">
                <a:moveTo>
                  <a:pt x="0" y="0"/>
                </a:moveTo>
                <a:lnTo>
                  <a:pt x="306" y="0"/>
                </a:lnTo>
                <a:lnTo>
                  <a:pt x="306" y="150"/>
                </a:lnTo>
                <a:lnTo>
                  <a:pt x="0" y="150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58080" y="5334120"/>
            <a:ext cx="488880" cy="474480"/>
          </a:xfrm>
          <a:custGeom>
            <a:avLst/>
            <a:gdLst/>
            <a:ahLst/>
            <a:rect l="l" t="t" r="r" b="b"/>
            <a:pathLst>
              <a:path w="308" h="299">
                <a:moveTo>
                  <a:pt x="0" y="0"/>
                </a:moveTo>
                <a:lnTo>
                  <a:pt x="307" y="0"/>
                </a:lnTo>
                <a:lnTo>
                  <a:pt x="307" y="298"/>
                </a:lnTo>
                <a:lnTo>
                  <a:pt x="0" y="298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45160" y="5334120"/>
            <a:ext cx="490680" cy="474480"/>
          </a:xfrm>
          <a:custGeom>
            <a:avLst/>
            <a:gdLst/>
            <a:ahLst/>
            <a:rect l="l" t="t" r="r" b="b"/>
            <a:pathLst>
              <a:path w="309" h="299">
                <a:moveTo>
                  <a:pt x="0" y="0"/>
                </a:moveTo>
                <a:lnTo>
                  <a:pt x="308" y="0"/>
                </a:lnTo>
                <a:lnTo>
                  <a:pt x="308" y="298"/>
                </a:lnTo>
                <a:lnTo>
                  <a:pt x="0" y="298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34040" y="5568840"/>
            <a:ext cx="486000" cy="239760"/>
          </a:xfrm>
          <a:custGeom>
            <a:avLst/>
            <a:gdLst/>
            <a:ahLst/>
            <a:rect l="l" t="t" r="r" b="b"/>
            <a:pathLst>
              <a:path w="306" h="151">
                <a:moveTo>
                  <a:pt x="0" y="0"/>
                </a:moveTo>
                <a:lnTo>
                  <a:pt x="305" y="0"/>
                </a:lnTo>
                <a:lnTo>
                  <a:pt x="305" y="150"/>
                </a:lnTo>
                <a:lnTo>
                  <a:pt x="0" y="150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18240" y="5761080"/>
            <a:ext cx="489240" cy="47520"/>
          </a:xfrm>
          <a:custGeom>
            <a:avLst/>
            <a:gdLst/>
            <a:ahLst/>
            <a:rect l="l" t="t" r="r" b="b"/>
            <a:pathLst>
              <a:path w="308" h="30">
                <a:moveTo>
                  <a:pt x="0" y="0"/>
                </a:moveTo>
                <a:lnTo>
                  <a:pt x="307" y="0"/>
                </a:lnTo>
                <a:lnTo>
                  <a:pt x="307" y="29"/>
                </a:lnTo>
                <a:lnTo>
                  <a:pt x="0" y="2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84640" y="5079960"/>
            <a:ext cx="0" cy="5810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51520" y="580716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51520" y="550548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51520" y="520056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51520" y="489744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67160" y="580716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0846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5720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0580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54516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0340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5182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80056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22760" y="532908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22760" y="502452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22760" y="472284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735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66244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14664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63588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229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6071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20080" y="563076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29040" y="4494240"/>
            <a:ext cx="6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76760" y="56484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inomial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1600200"/>
            <a:ext cx="769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ape of the binomial distribution depends on the values of p and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3124080"/>
            <a:ext cx="3962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lvl="1" marL="693720" indent="-268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e, n = 5 and p = .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5257800"/>
            <a:ext cx="3962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lvl="1" marL="693720" indent="-2682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re, n = 5 and p = 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8D19C-7368-4014-8EE9-2A7F4401A70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inomial Distribution Character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182880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14400" y="297180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ce and Standard Dev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240000" y="2133720"/>
                <a:ext cx="27399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792600" y="3657600"/>
                <a:ext cx="17380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809880" y="4419720"/>
                <a:ext cx="184464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npq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1066680" y="533412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 = sample siz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 = probability of succes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q = (1 – p) = probability of failu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D83E5-67EC-4104-A6A7-F70E8F26BD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610160" y="4384800"/>
            <a:ext cx="3841560" cy="198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610160" y="2084400"/>
            <a:ext cx="3841560" cy="198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1880" y="2135160"/>
            <a:ext cx="2663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5  p = 0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1880" y="4421160"/>
            <a:ext cx="2663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5  p = 0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2209680"/>
            <a:ext cx="30416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268960" y="321804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68960" y="291312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68960" y="261144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86440" y="2641680"/>
            <a:ext cx="488880" cy="879480"/>
          </a:xfrm>
          <a:custGeom>
            <a:avLst/>
            <a:gdLst/>
            <a:ahLst/>
            <a:rect l="l" t="t" r="r" b="b"/>
            <a:pathLst>
              <a:path w="308" h="554">
                <a:moveTo>
                  <a:pt x="0" y="0"/>
                </a:moveTo>
                <a:lnTo>
                  <a:pt x="307" y="0"/>
                </a:lnTo>
                <a:lnTo>
                  <a:pt x="307" y="553"/>
                </a:lnTo>
                <a:lnTo>
                  <a:pt x="0" y="553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73880" y="3035160"/>
            <a:ext cx="485640" cy="486000"/>
          </a:xfrm>
          <a:custGeom>
            <a:avLst/>
            <a:gdLst/>
            <a:ahLst/>
            <a:rect l="l" t="t" r="r" b="b"/>
            <a:pathLst>
              <a:path w="306" h="306">
                <a:moveTo>
                  <a:pt x="0" y="0"/>
                </a:moveTo>
                <a:lnTo>
                  <a:pt x="305" y="0"/>
                </a:lnTo>
                <a:lnTo>
                  <a:pt x="305" y="305"/>
                </a:lnTo>
                <a:lnTo>
                  <a:pt x="0" y="305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58080" y="3397320"/>
            <a:ext cx="488880" cy="123840"/>
          </a:xfrm>
          <a:custGeom>
            <a:avLst/>
            <a:gdLst/>
            <a:ahLst/>
            <a:rect l="l" t="t" r="r" b="b"/>
            <a:pathLst>
              <a:path w="308" h="78">
                <a:moveTo>
                  <a:pt x="0" y="0"/>
                </a:moveTo>
                <a:lnTo>
                  <a:pt x="307" y="0"/>
                </a:lnTo>
                <a:lnTo>
                  <a:pt x="307" y="77"/>
                </a:lnTo>
                <a:lnTo>
                  <a:pt x="0" y="77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45160" y="3489480"/>
            <a:ext cx="488880" cy="31680"/>
          </a:xfrm>
          <a:custGeom>
            <a:avLst/>
            <a:gdLst/>
            <a:ahLst/>
            <a:rect l="l" t="t" r="r" b="b"/>
            <a:pathLst>
              <a:path w="308" h="20">
                <a:moveTo>
                  <a:pt x="0" y="0"/>
                </a:moveTo>
                <a:lnTo>
                  <a:pt x="307" y="0"/>
                </a:lnTo>
                <a:lnTo>
                  <a:pt x="307" y="19"/>
                </a:lnTo>
                <a:lnTo>
                  <a:pt x="0" y="1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86440" y="2793960"/>
            <a:ext cx="0" cy="57960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52960" y="351936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52960" y="321804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52960" y="291312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52960" y="2611440"/>
            <a:ext cx="18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268960" y="3519360"/>
            <a:ext cx="25891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508644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57388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05808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654516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703260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751680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8004240" y="3392640"/>
            <a:ext cx="0" cy="32832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24200" y="334476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24200" y="304308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24200" y="273852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24200" y="243684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7536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66244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14664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3408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12152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07160" y="368784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018640" y="334476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16440" y="2208240"/>
            <a:ext cx="6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267160" y="550548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267160" y="520056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67160" y="489744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84640" y="5761080"/>
            <a:ext cx="489240" cy="47520"/>
          </a:xfrm>
          <a:custGeom>
            <a:avLst/>
            <a:gdLst/>
            <a:ahLst/>
            <a:rect l="l" t="t" r="r" b="b"/>
            <a:pathLst>
              <a:path w="308" h="30">
                <a:moveTo>
                  <a:pt x="0" y="0"/>
                </a:moveTo>
                <a:lnTo>
                  <a:pt x="307" y="0"/>
                </a:lnTo>
                <a:lnTo>
                  <a:pt x="307" y="29"/>
                </a:lnTo>
                <a:lnTo>
                  <a:pt x="0" y="2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72080" y="5568840"/>
            <a:ext cx="487440" cy="239760"/>
          </a:xfrm>
          <a:custGeom>
            <a:avLst/>
            <a:gdLst/>
            <a:ahLst/>
            <a:rect l="l" t="t" r="r" b="b"/>
            <a:pathLst>
              <a:path w="307" h="151">
                <a:moveTo>
                  <a:pt x="0" y="0"/>
                </a:moveTo>
                <a:lnTo>
                  <a:pt x="306" y="0"/>
                </a:lnTo>
                <a:lnTo>
                  <a:pt x="306" y="150"/>
                </a:lnTo>
                <a:lnTo>
                  <a:pt x="0" y="150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58080" y="5334120"/>
            <a:ext cx="488880" cy="474480"/>
          </a:xfrm>
          <a:custGeom>
            <a:avLst/>
            <a:gdLst/>
            <a:ahLst/>
            <a:rect l="l" t="t" r="r" b="b"/>
            <a:pathLst>
              <a:path w="308" h="299">
                <a:moveTo>
                  <a:pt x="0" y="0"/>
                </a:moveTo>
                <a:lnTo>
                  <a:pt x="307" y="0"/>
                </a:lnTo>
                <a:lnTo>
                  <a:pt x="307" y="298"/>
                </a:lnTo>
                <a:lnTo>
                  <a:pt x="0" y="298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45160" y="5334120"/>
            <a:ext cx="490680" cy="474480"/>
          </a:xfrm>
          <a:custGeom>
            <a:avLst/>
            <a:gdLst/>
            <a:ahLst/>
            <a:rect l="l" t="t" r="r" b="b"/>
            <a:pathLst>
              <a:path w="309" h="299">
                <a:moveTo>
                  <a:pt x="0" y="0"/>
                </a:moveTo>
                <a:lnTo>
                  <a:pt x="308" y="0"/>
                </a:lnTo>
                <a:lnTo>
                  <a:pt x="308" y="298"/>
                </a:lnTo>
                <a:lnTo>
                  <a:pt x="0" y="298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4040" y="5568840"/>
            <a:ext cx="486000" cy="239760"/>
          </a:xfrm>
          <a:custGeom>
            <a:avLst/>
            <a:gdLst/>
            <a:ahLst/>
            <a:rect l="l" t="t" r="r" b="b"/>
            <a:pathLst>
              <a:path w="306" h="151">
                <a:moveTo>
                  <a:pt x="0" y="0"/>
                </a:moveTo>
                <a:lnTo>
                  <a:pt x="305" y="0"/>
                </a:lnTo>
                <a:lnTo>
                  <a:pt x="305" y="150"/>
                </a:lnTo>
                <a:lnTo>
                  <a:pt x="0" y="150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518240" y="5761080"/>
            <a:ext cx="489240" cy="47520"/>
          </a:xfrm>
          <a:custGeom>
            <a:avLst/>
            <a:gdLst/>
            <a:ahLst/>
            <a:rect l="l" t="t" r="r" b="b"/>
            <a:pathLst>
              <a:path w="308" h="30">
                <a:moveTo>
                  <a:pt x="0" y="0"/>
                </a:moveTo>
                <a:lnTo>
                  <a:pt x="307" y="0"/>
                </a:lnTo>
                <a:lnTo>
                  <a:pt x="307" y="29"/>
                </a:lnTo>
                <a:lnTo>
                  <a:pt x="0" y="29"/>
                </a:lnTo>
                <a:lnTo>
                  <a:pt x="0" y="0"/>
                </a:lnTo>
              </a:path>
            </a:pathLst>
          </a:custGeom>
          <a:solidFill>
            <a:srgbClr val="dc0081"/>
          </a:solidFill>
          <a:ln cap="rnd"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84640" y="5079960"/>
            <a:ext cx="0" cy="58104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051520" y="580716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051520" y="550548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51520" y="520056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51520" y="4897440"/>
            <a:ext cx="144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267160" y="5807160"/>
            <a:ext cx="259272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50846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5720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60580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54516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70340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751824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8005680" y="5679720"/>
            <a:ext cx="0" cy="32868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22760" y="532908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22760" y="502452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622760" y="4722840"/>
            <a:ext cx="37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735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66244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4664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63588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1229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07160" y="597528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020080" y="5630760"/>
            <a:ext cx="33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829040" y="4494240"/>
            <a:ext cx="6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76760" y="5648400"/>
            <a:ext cx="307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949320" y="2133720"/>
                <a:ext cx="30844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906480" y="2871720"/>
                <a:ext cx="33987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q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rad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0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949320" y="4419720"/>
                <a:ext cx="30844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906480" y="5157720"/>
                <a:ext cx="33987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q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e>
                        </m:rad>
                      </m:e>
                      <m:e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9" name=""/>
          <p:cNvSpPr/>
          <p:nvPr/>
        </p:nvSpPr>
        <p:spPr>
          <a:xfrm>
            <a:off x="685800" y="4191120"/>
            <a:ext cx="7848720" cy="0"/>
          </a:xfrm>
          <a:prstGeom prst="line">
            <a:avLst/>
          </a:prstGeom>
          <a:ln w="2844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inomial Character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1371600" y="1523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6001F-B63F-48AD-AA90-27EC80DD4C9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inomial Probabiliti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use the (freeware) program PQ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6933960" cy="361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C23E7-DDF7-4FA2-B501-8538561609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inomial Probabiliti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use the Excel file Binomial Template.x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6553080" cy="385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37426-8757-46A0-831C-E5CBE7064A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Using PHSt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PHStat / Probability &amp; Prob. Distributions / Binomi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457200" y="2209680"/>
            <a:ext cx="7162920" cy="416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52271-C20F-47EC-8F9E-9703AC9DBB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Using PHSt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8000"/>
          </a:bodyPr>
          <a:p>
            <a:pPr marL="25560" indent="-25560"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ter desired values in dialog bo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3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ere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 = 1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 = .3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3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utput for x = 0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 x = 10 will b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nerated by PHSt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ptional check bo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5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r additional outpu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4129200" cy="37753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2971800" y="2514600"/>
            <a:ext cx="4267080" cy="6094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8120" y="2971800"/>
            <a:ext cx="419076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4038480" y="3733560"/>
            <a:ext cx="266724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962520" y="4952880"/>
            <a:ext cx="106668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A83FD-6280-43A2-9FA5-885F61B763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705640" cy="47815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4267080" y="2971800"/>
            <a:ext cx="3886200" cy="30492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(x = 3 | n = 10, p = .35) = .252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HStat Outpu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4572000" y="5867280"/>
            <a:ext cx="3886200" cy="304920"/>
          </a:xfrm>
          <a:prstGeom prst="rect">
            <a:avLst/>
          </a:prstGeom>
          <a:solidFill>
            <a:srgbClr val="fde0b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(x &gt; 5 | n = 10, p = .35) = .09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C761E-A651-43AB-BBBF-2A833275A2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5257800" y="396252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525744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248520" y="2590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" y="533520"/>
            <a:ext cx="824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23880" y="457200"/>
            <a:ext cx="7045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Normal Distrib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2743200"/>
            <a:ext cx="220968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43400" y="259092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343400" y="24382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276720" y="1600200"/>
            <a:ext cx="2286000" cy="82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5257440" y="45720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86400" y="4343400"/>
            <a:ext cx="1676520" cy="454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86400" y="5029200"/>
            <a:ext cx="167652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9FF63-99F0-4668-9BAF-E20E109EA55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ahoma"/>
              </a:rPr>
              <a:t>The Normal Distribution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8006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ell Shape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buClr>
                <a:srgbClr val="ff33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ymmetrical</a:t>
            </a: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cd7a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3399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d7a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Mean, Median and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3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are Eq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tion is determined by the mean,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read is determined by the standard deviation,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2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dom variable has an infinite theoretical rang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3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to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24480" y="4800600"/>
            <a:ext cx="1533600" cy="10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e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= Medi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=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010280" y="4419720"/>
            <a:ext cx="0" cy="350640"/>
          </a:xfrm>
          <a:prstGeom prst="line">
            <a:avLst/>
          </a:prstGeom>
          <a:ln w="12600">
            <a:solidFill>
              <a:srgbClr val="1c1c1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010280" y="2743200"/>
            <a:ext cx="1430280" cy="114444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562720" y="2743200"/>
            <a:ext cx="1430280" cy="114444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010280" y="2743200"/>
            <a:ext cx="0" cy="121932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86400" y="2743200"/>
            <a:ext cx="3005280" cy="1214280"/>
          </a:xfrm>
          <a:custGeom>
            <a:avLst/>
            <a:gdLst/>
            <a:ahLst/>
            <a:rect l="l" t="t" r="r" b="b"/>
            <a:pathLst>
              <a:path w="1893" h="765">
                <a:moveTo>
                  <a:pt x="0" y="0"/>
                </a:moveTo>
                <a:lnTo>
                  <a:pt x="0" y="764"/>
                </a:lnTo>
                <a:lnTo>
                  <a:pt x="1892" y="764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556240" y="265896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556240" y="278136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556240" y="290196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56240" y="302436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56240" y="314496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6240" y="326700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56240" y="338760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556240" y="351000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556240" y="363060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56240" y="375120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57412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27388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97256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67232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37244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7220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7232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47208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17076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870520" y="387972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43560" y="3174840"/>
            <a:ext cx="921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980400" y="384984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534520" y="361476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181120" y="2209680"/>
            <a:ext cx="657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58000" y="3962520"/>
            <a:ext cx="46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c1c1c"/>
                </a:solidFill>
                <a:latin typeface="Arial"/>
                <a:ea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08660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c1c1c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7010280" y="3352680"/>
            <a:ext cx="533520" cy="0"/>
          </a:xfrm>
          <a:prstGeom prst="line">
            <a:avLst/>
          </a:prstGeom>
          <a:ln w="12600">
            <a:solidFill>
              <a:srgbClr val="1c1c1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B147F-FA4E-4641-8A01-6113197F0D4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3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the binomial distribution to applied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probabilities using a normal distribution program and apply the normal distribution to business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 when to apply the uniform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9F46F-7F7E-4346-9F94-35EC6C4439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457200" y="533520"/>
            <a:ext cx="824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800600" y="2666880"/>
            <a:ext cx="398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952880" y="2666880"/>
            <a:ext cx="36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1676520" y="1981080"/>
          <a:ext cx="5105160" cy="29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81080"/>
                    <a:ext cx="510516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"/>
          <p:cNvSpPr/>
          <p:nvPr/>
        </p:nvSpPr>
        <p:spPr>
          <a:xfrm>
            <a:off x="762120" y="5181480"/>
            <a:ext cx="7311960" cy="820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varying the paramete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e obtain different normal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295280" y="380880"/>
            <a:ext cx="7467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ahoma"/>
              </a:rPr>
              <a:t>Many Normal Distribution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32A16-9856-44BB-92B2-323C7148428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Normal Distribution Shap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7" name=""/>
          <p:cNvSpPr/>
          <p:nvPr/>
        </p:nvSpPr>
        <p:spPr>
          <a:xfrm>
            <a:off x="4267080" y="4267080"/>
            <a:ext cx="762120" cy="0"/>
          </a:xfrm>
          <a:prstGeom prst="line">
            <a:avLst/>
          </a:prstGeom>
          <a:ln w="12600">
            <a:solidFill>
              <a:srgbClr val="1c1c1c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28800" y="2971800"/>
            <a:ext cx="5029200" cy="2438280"/>
          </a:xfrm>
          <a:custGeom>
            <a:avLst/>
            <a:gdLst/>
            <a:ahLst/>
            <a:rect l="l" t="t" r="r" b="b"/>
            <a:pathLst>
              <a:path w="1893" h="765">
                <a:moveTo>
                  <a:pt x="0" y="0"/>
                </a:moveTo>
                <a:lnTo>
                  <a:pt x="0" y="764"/>
                </a:lnTo>
                <a:lnTo>
                  <a:pt x="1892" y="764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900520" y="320688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00520" y="332892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900520" y="344952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900520" y="357192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900520" y="369252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900520" y="381492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900520" y="393552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900520" y="405756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900520" y="417816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900520" y="4299120"/>
            <a:ext cx="144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91804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61816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31648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01660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1636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41648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11624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1636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1468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214800" y="442764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787480" y="3722760"/>
            <a:ext cx="921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324320" y="439740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010280" y="541008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294920" y="2362320"/>
            <a:ext cx="657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14800" y="5410080"/>
            <a:ext cx="47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95680" y="4191120"/>
            <a:ext cx="47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267080" y="3429000"/>
            <a:ext cx="2438640" cy="190512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905120" y="3429000"/>
            <a:ext cx="2344680" cy="190512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267080" y="3505320"/>
            <a:ext cx="0" cy="190476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819520" y="243828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Changing 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 shifts the distribution left or r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410080" y="35812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Changing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increases or decreases the spr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DD4B8-2F3D-4EC1-B03C-DF9184C41A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90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Finding Normal Probabilities</a:t>
            </a:r>
            <a:r>
              <a:rPr b="0" lang="en-US" sz="4100" spc="-1" strike="noStrike">
                <a:solidFill>
                  <a:srgbClr val="f8f8f8"/>
                </a:solidFill>
                <a:latin typeface="Tahoma"/>
              </a:rPr>
              <a:t>  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"/>
          <p:cNvSpPr/>
          <p:nvPr/>
        </p:nvSpPr>
        <p:spPr>
          <a:xfrm>
            <a:off x="426960" y="1798560"/>
            <a:ext cx="28051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ility is th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a under th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v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313160" y="3610080"/>
            <a:ext cx="870120" cy="2041560"/>
          </a:xfrm>
          <a:custGeom>
            <a:avLst/>
            <a:gdLst/>
            <a:ahLst/>
            <a:rect l="l" t="t" r="r" b="b"/>
            <a:pathLst>
              <a:path w="548" h="1286">
                <a:moveTo>
                  <a:pt x="87" y="27"/>
                </a:moveTo>
                <a:lnTo>
                  <a:pt x="150" y="60"/>
                </a:lnTo>
                <a:lnTo>
                  <a:pt x="243" y="174"/>
                </a:lnTo>
                <a:lnTo>
                  <a:pt x="318" y="288"/>
                </a:lnTo>
                <a:lnTo>
                  <a:pt x="408" y="447"/>
                </a:lnTo>
                <a:lnTo>
                  <a:pt x="483" y="585"/>
                </a:lnTo>
                <a:lnTo>
                  <a:pt x="543" y="678"/>
                </a:lnTo>
                <a:lnTo>
                  <a:pt x="548" y="1286"/>
                </a:lnTo>
                <a:lnTo>
                  <a:pt x="0" y="1286"/>
                </a:lnTo>
                <a:lnTo>
                  <a:pt x="0" y="0"/>
                </a:lnTo>
              </a:path>
            </a:pathLst>
          </a:cu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160880" y="5576760"/>
            <a:ext cx="371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3cc33"/>
                </a:solidFill>
                <a:latin typeface="Arial"/>
              </a:rPr>
              <a:t>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332240" y="3606840"/>
            <a:ext cx="322200" cy="209520"/>
          </a:xfrm>
          <a:custGeom>
            <a:avLst/>
            <a:gdLst/>
            <a:ahLst/>
            <a:rect l="l" t="t" r="r" b="b"/>
            <a:pathLst>
              <a:path w="203" h="132">
                <a:moveTo>
                  <a:pt x="0" y="2"/>
                </a:moveTo>
                <a:lnTo>
                  <a:pt x="27" y="0"/>
                </a:lnTo>
                <a:lnTo>
                  <a:pt x="54" y="3"/>
                </a:lnTo>
                <a:lnTo>
                  <a:pt x="79" y="14"/>
                </a:lnTo>
                <a:lnTo>
                  <a:pt x="101" y="28"/>
                </a:lnTo>
                <a:lnTo>
                  <a:pt x="121" y="45"/>
                </a:lnTo>
                <a:lnTo>
                  <a:pt x="135" y="67"/>
                </a:lnTo>
                <a:lnTo>
                  <a:pt x="202" y="13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98960" y="5576760"/>
            <a:ext cx="39024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6600"/>
                </a:solidFill>
                <a:latin typeface="Arial"/>
              </a:rPr>
              <a:t>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864480" y="55627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332240" y="3610080"/>
            <a:ext cx="2154240" cy="1981080"/>
          </a:xfrm>
          <a:custGeom>
            <a:avLst/>
            <a:gdLst/>
            <a:ahLst/>
            <a:rect l="l" t="t" r="r" b="b"/>
            <a:pathLst>
              <a:path w="1357" h="1248">
                <a:moveTo>
                  <a:pt x="1356" y="1247"/>
                </a:moveTo>
                <a:lnTo>
                  <a:pt x="1213" y="1232"/>
                </a:lnTo>
                <a:lnTo>
                  <a:pt x="1141" y="1218"/>
                </a:lnTo>
                <a:lnTo>
                  <a:pt x="1070" y="1199"/>
                </a:lnTo>
                <a:lnTo>
                  <a:pt x="1000" y="1170"/>
                </a:lnTo>
                <a:lnTo>
                  <a:pt x="927" y="1132"/>
                </a:lnTo>
                <a:lnTo>
                  <a:pt x="857" y="1080"/>
                </a:lnTo>
                <a:lnTo>
                  <a:pt x="714" y="935"/>
                </a:lnTo>
                <a:lnTo>
                  <a:pt x="571" y="731"/>
                </a:lnTo>
                <a:lnTo>
                  <a:pt x="428" y="487"/>
                </a:lnTo>
                <a:lnTo>
                  <a:pt x="356" y="363"/>
                </a:lnTo>
                <a:lnTo>
                  <a:pt x="286" y="247"/>
                </a:lnTo>
                <a:lnTo>
                  <a:pt x="213" y="145"/>
                </a:lnTo>
                <a:lnTo>
                  <a:pt x="143" y="67"/>
                </a:lnTo>
                <a:lnTo>
                  <a:pt x="70" y="17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79800" y="3610080"/>
            <a:ext cx="2138040" cy="1965240"/>
          </a:xfrm>
          <a:custGeom>
            <a:avLst/>
            <a:gdLst/>
            <a:ahLst/>
            <a:rect l="l" t="t" r="r" b="b"/>
            <a:pathLst>
              <a:path w="1347" h="1238">
                <a:moveTo>
                  <a:pt x="0" y="1238"/>
                </a:moveTo>
                <a:lnTo>
                  <a:pt x="143" y="1223"/>
                </a:lnTo>
                <a:lnTo>
                  <a:pt x="213" y="1209"/>
                </a:lnTo>
                <a:lnTo>
                  <a:pt x="285" y="1190"/>
                </a:lnTo>
                <a:lnTo>
                  <a:pt x="356" y="1161"/>
                </a:lnTo>
                <a:lnTo>
                  <a:pt x="428" y="1123"/>
                </a:lnTo>
                <a:lnTo>
                  <a:pt x="499" y="1071"/>
                </a:lnTo>
                <a:lnTo>
                  <a:pt x="642" y="926"/>
                </a:lnTo>
                <a:lnTo>
                  <a:pt x="784" y="722"/>
                </a:lnTo>
                <a:lnTo>
                  <a:pt x="927" y="478"/>
                </a:lnTo>
                <a:lnTo>
                  <a:pt x="1000" y="354"/>
                </a:lnTo>
                <a:lnTo>
                  <a:pt x="1070" y="238"/>
                </a:lnTo>
                <a:lnTo>
                  <a:pt x="1141" y="136"/>
                </a:lnTo>
                <a:lnTo>
                  <a:pt x="1213" y="58"/>
                </a:lnTo>
                <a:lnTo>
                  <a:pt x="1284" y="8"/>
                </a:lnTo>
                <a:lnTo>
                  <a:pt x="1347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3657600"/>
            <a:ext cx="5181480" cy="1981080"/>
          </a:xfrm>
          <a:custGeom>
            <a:avLst/>
            <a:gdLst/>
            <a:ahLst/>
            <a:rect l="l" t="t" r="r" b="b"/>
            <a:pathLst>
              <a:path w="2764" h="1245">
                <a:moveTo>
                  <a:pt x="0" y="0"/>
                </a:moveTo>
                <a:lnTo>
                  <a:pt x="0" y="1244"/>
                </a:lnTo>
                <a:lnTo>
                  <a:pt x="2763" y="124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152800" y="361008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152800" y="380700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152800" y="400356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152800" y="420228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152800" y="439884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152800" y="459756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52800" y="479412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152800" y="499284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152800" y="518940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52800" y="5386320"/>
            <a:ext cx="1440" cy="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56604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12612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68656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24988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81176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37184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93372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49416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05748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617920" y="5607000"/>
            <a:ext cx="0" cy="1800"/>
          </a:xfrm>
          <a:prstGeom prst="line">
            <a:avLst/>
          </a:prstGeom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808280" y="4505400"/>
            <a:ext cx="918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473880" y="578484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377360" y="3124080"/>
            <a:ext cx="657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03880" y="3214800"/>
            <a:ext cx="42696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760360" y="3214800"/>
            <a:ext cx="38736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cc33"/>
                </a:solidFill>
                <a:latin typeface="Arial"/>
              </a:rPr>
              <a:t>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446160" y="3214800"/>
            <a:ext cx="38736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132320" y="3214800"/>
            <a:ext cx="40716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6600"/>
                </a:solidFill>
                <a:latin typeface="Arial"/>
              </a:rPr>
              <a:t>b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608080" y="3214800"/>
            <a:ext cx="30492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392240" y="3170160"/>
            <a:ext cx="30492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20280" y="3214800"/>
            <a:ext cx="47412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782040" y="3214800"/>
            <a:ext cx="474120" cy="5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371600" y="1905120"/>
            <a:ext cx="6781680" cy="9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33cc"/>
                </a:solidFill>
                <a:latin typeface="Arial"/>
              </a:rPr>
              <a:t>Probability is measured by the area under the curv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770360" y="3519360"/>
            <a:ext cx="53352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11192-E95D-49BD-A5CB-61C8BB7787F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1600200" y="3048120"/>
            <a:ext cx="5486400" cy="2438280"/>
          </a:xfrm>
          <a:custGeom>
            <a:avLst/>
            <a:gdLst/>
            <a:ahLst/>
            <a:rect l="l" t="t" r="r" b="b"/>
            <a:pathLst>
              <a:path w="1893" h="765">
                <a:moveTo>
                  <a:pt x="0" y="0"/>
                </a:moveTo>
                <a:lnTo>
                  <a:pt x="0" y="764"/>
                </a:lnTo>
                <a:lnTo>
                  <a:pt x="1892" y="764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913680" y="2819520"/>
            <a:ext cx="657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495680" y="3505320"/>
            <a:ext cx="2438640" cy="190476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133720" y="3505320"/>
            <a:ext cx="2344680" cy="190476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495680" y="3505320"/>
            <a:ext cx="0" cy="19810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086600" y="53341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343400" y="5334120"/>
            <a:ext cx="479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9933"/>
                </a:solidFill>
                <a:latin typeface="Arial"/>
                <a:ea typeface="Arial"/>
              </a:rPr>
              <a:t>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robability as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Area Under the Curv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"/>
          <p:cNvSpPr/>
          <p:nvPr/>
        </p:nvSpPr>
        <p:spPr>
          <a:xfrm>
            <a:off x="4648320" y="4572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733920" y="4572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066680" y="1676520"/>
            <a:ext cx="746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tal area under the curve is 1.0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, and the curve is symmetric, so half is above the mean, half is be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2971800" y="5867280"/>
                <a:ext cx="35179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5562720" y="3124080"/>
                <a:ext cx="27320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∞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1752480" y="2971800"/>
                <a:ext cx="29275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7" name=""/>
          <p:cNvSpPr/>
          <p:nvPr/>
        </p:nvSpPr>
        <p:spPr>
          <a:xfrm flipH="1">
            <a:off x="4952880" y="3581280"/>
            <a:ext cx="9144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200400" y="3429000"/>
            <a:ext cx="76212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49455-D3EB-4511-B07D-624F3B847B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mpirical Ru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647960" y="3200400"/>
            <a:ext cx="4190760" cy="914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716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±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</a:t>
            </a:r>
            <a:r>
              <a:rPr b="1" lang="en-US" sz="2300" spc="-1" strike="noStrike">
                <a:solidFill>
                  <a:srgbClr val="3333cc"/>
                </a:solidFill>
                <a:latin typeface="Arial"/>
              </a:rPr>
              <a:t>encloses about 68% of x’s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752480" y="2971800"/>
            <a:ext cx="5029200" cy="2438280"/>
          </a:xfrm>
          <a:custGeom>
            <a:avLst/>
            <a:gdLst/>
            <a:ahLst/>
            <a:rect l="l" t="t" r="r" b="b"/>
            <a:pathLst>
              <a:path w="1893" h="765">
                <a:moveTo>
                  <a:pt x="0" y="0"/>
                </a:moveTo>
                <a:lnTo>
                  <a:pt x="0" y="764"/>
                </a:lnTo>
                <a:lnTo>
                  <a:pt x="1892" y="764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142280" y="2819520"/>
            <a:ext cx="657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191120" y="3429000"/>
            <a:ext cx="2438280" cy="190512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28800" y="3429000"/>
            <a:ext cx="2344680" cy="190512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191120" y="3505320"/>
            <a:ext cx="0" cy="190476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81680" y="53341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5486400"/>
            <a:ext cx="47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429000" y="4191120"/>
            <a:ext cx="0" cy="12189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91120" y="4191120"/>
            <a:ext cx="761760" cy="0"/>
          </a:xfrm>
          <a:prstGeom prst="line">
            <a:avLst/>
          </a:prstGeom>
          <a:ln w="12600">
            <a:solidFill>
              <a:srgbClr val="1c1c1c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429000" y="4191120"/>
            <a:ext cx="762120" cy="0"/>
          </a:xfrm>
          <a:prstGeom prst="line">
            <a:avLst/>
          </a:prstGeom>
          <a:ln w="12600">
            <a:solidFill>
              <a:srgbClr val="1c1c1c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952880" y="4191120"/>
            <a:ext cx="0" cy="121896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91120" y="5562720"/>
            <a:ext cx="761760" cy="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429000" y="5562720"/>
            <a:ext cx="762120" cy="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648320" y="5486400"/>
            <a:ext cx="91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</a:t>
            </a: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971800" y="5486400"/>
            <a:ext cx="914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μ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</a:t>
            </a: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57200" y="17524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What can we say about the distribution of values around the mean?  There are some general r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343400" y="4114800"/>
            <a:ext cx="30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657600" y="4114800"/>
            <a:ext cx="304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429000" y="6019920"/>
            <a:ext cx="1523880" cy="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660120" y="594360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68.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4602E-F848-463D-8739-AAD4BD6043D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spcBef>
                <a:spcPts val="25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Empirical Ru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6933960" cy="12952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71680" indent="-5716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±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s about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95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x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±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el-GR" sz="28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s about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99.7%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x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209680" y="3276720"/>
            <a:ext cx="1935360" cy="127944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0880" y="3276720"/>
            <a:ext cx="1860840" cy="127944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209680" y="3276720"/>
            <a:ext cx="1800" cy="127944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14800" y="45720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057400" y="4572000"/>
            <a:ext cx="38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990720" y="4267080"/>
            <a:ext cx="0" cy="9907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209680" y="4495680"/>
            <a:ext cx="129564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990720" y="4495680"/>
            <a:ext cx="121896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505320" y="4267080"/>
            <a:ext cx="0" cy="9907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28600" y="4648320"/>
            <a:ext cx="40514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361880" y="411948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504880" y="411948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629400" y="3276720"/>
            <a:ext cx="1935000" cy="127944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800600" y="3276720"/>
            <a:ext cx="1860480" cy="127944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629400" y="3276720"/>
            <a:ext cx="1440" cy="127944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534520" y="45720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77120" y="4572000"/>
            <a:ext cx="380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9933"/>
                </a:solidFill>
                <a:latin typeface="Arial"/>
                <a:ea typeface="Arial"/>
              </a:rPr>
              <a:t>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648320" y="4648320"/>
            <a:ext cx="40510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876920" y="4343400"/>
            <a:ext cx="0" cy="9144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534520" y="4343400"/>
            <a:ext cx="0" cy="914400"/>
          </a:xfrm>
          <a:prstGeom prst="line">
            <a:avLst/>
          </a:prstGeom>
          <a:ln w="2556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629400" y="4419720"/>
            <a:ext cx="1905120" cy="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876920" y="4419720"/>
            <a:ext cx="1752480" cy="0"/>
          </a:xfrm>
          <a:prstGeom prst="line">
            <a:avLst/>
          </a:prstGeom>
          <a:ln w="12600">
            <a:solidFill>
              <a:srgbClr val="333399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57920" y="404352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924600" y="4043520"/>
            <a:ext cx="5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990720" y="5181480"/>
            <a:ext cx="251460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76920" y="5181480"/>
            <a:ext cx="3657600" cy="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671120" y="51814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5.4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098400" y="51814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99.7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467480" y="11430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72F80-3417-4FFF-B773-F92DD32B882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523520" y="380520"/>
            <a:ext cx="6782040" cy="838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mportance of the Ru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 value is about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2 or m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ations away from the mean in a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, then it i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ance that a value that far or fart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way from the mean i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ighly unlike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g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particular mean and standard de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FCAD0-4AD3-4A9D-BE6C-4C4E4429EA5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Standard Normal Distribu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162920" cy="1676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71680" indent="-5716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so known as the “z” distribu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Mean is defined to be 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Standard Deviation is 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299120" y="3813120"/>
            <a:ext cx="1430280" cy="114480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870280" y="3813120"/>
            <a:ext cx="1430280" cy="114480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267080" y="3886200"/>
            <a:ext cx="0" cy="106668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3809880"/>
            <a:ext cx="3005280" cy="1214640"/>
          </a:xfrm>
          <a:custGeom>
            <a:avLst/>
            <a:gdLst/>
            <a:ahLst/>
            <a:rect l="l" t="t" r="r" b="b"/>
            <a:pathLst>
              <a:path w="1893" h="765">
                <a:moveTo>
                  <a:pt x="0" y="0"/>
                </a:moveTo>
                <a:lnTo>
                  <a:pt x="0" y="764"/>
                </a:lnTo>
                <a:lnTo>
                  <a:pt x="1892" y="764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798640" y="374328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798640" y="386568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798640" y="398628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798640" y="410832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798640" y="422928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798640" y="435132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98640" y="447192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798640" y="459432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98640" y="471492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798640" y="483552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81652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51664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21496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91508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61484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31496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01472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71484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41316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112920" y="4964040"/>
            <a:ext cx="0" cy="180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685960" y="4259160"/>
            <a:ext cx="921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222800" y="493380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480060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285280" y="3352680"/>
            <a:ext cx="640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f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114800" y="4952880"/>
            <a:ext cx="47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267080" y="4343400"/>
            <a:ext cx="533520" cy="0"/>
          </a:xfrm>
          <a:prstGeom prst="line">
            <a:avLst/>
          </a:prstGeom>
          <a:ln w="12600">
            <a:solidFill>
              <a:srgbClr val="1c1c1c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419720" y="4267080"/>
            <a:ext cx="479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38080" y="548640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 above the mean hav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osi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-values, values below the mean hav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neg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-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D6598-5634-4198-A1ED-F997B291E60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Standard Norm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8076960" cy="3124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rmal distribution (with any mean and standard deviation combination) can be transformed into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tandard norma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stribution (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transform  x  units into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z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D8256-16A4-4E31-9D74-E27BCFC1DBA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678204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Translation to the Standard Normal Distributio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71680" indent="-57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late from x to the standard normal (the “z” distribution) by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ubtracting the m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x and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viding by its standard devi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3200400" y="3657600"/>
                <a:ext cx="266868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2F1DE-30FE-4DFE-9911-DACD56FE480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257800" y="380988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257440" y="52578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257440" y="5943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599840" y="52578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599840" y="5943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599840" y="45720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259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259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533520"/>
            <a:ext cx="824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457200"/>
            <a:ext cx="7045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Probability Distribu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2743200"/>
            <a:ext cx="2209680" cy="1186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2590920"/>
            <a:ext cx="3810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809880"/>
            <a:ext cx="0" cy="2133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43400" y="24382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4343400"/>
            <a:ext cx="1676160" cy="454680"/>
          </a:xfrm>
          <a:prstGeom prst="rect">
            <a:avLst/>
          </a:prstGeom>
          <a:solidFill>
            <a:srgbClr val="bbd7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5715000"/>
            <a:ext cx="2971800" cy="820440"/>
          </a:xfrm>
          <a:prstGeom prst="rect">
            <a:avLst/>
          </a:prstGeom>
          <a:solidFill>
            <a:srgbClr val="bbd7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geometric (not cove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5029200"/>
            <a:ext cx="3352680" cy="454680"/>
          </a:xfrm>
          <a:prstGeom prst="rect">
            <a:avLst/>
          </a:prstGeom>
          <a:solidFill>
            <a:srgbClr val="bbd7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sson (not cove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1600200"/>
            <a:ext cx="2286000" cy="8204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743200"/>
            <a:ext cx="2209680" cy="1186200"/>
          </a:xfrm>
          <a:prstGeom prst="rect">
            <a:avLst/>
          </a:prstGeom>
          <a:solidFill>
            <a:srgbClr val="bbd7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r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257440" y="45720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486400" y="4343400"/>
            <a:ext cx="1676520" cy="454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86400" y="5029200"/>
            <a:ext cx="1676520" cy="454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5715000"/>
            <a:ext cx="2590920" cy="8204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 (not cove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7DB01-CC9C-4176-972C-0E73F7A8A79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571680" indent="-57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 x  is distributed normally with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ean of 1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tandard deviation of 5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 z  value for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 = 250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This says that  x = 250  is three standard deviations (3 increments of 50 units) above the mean of 1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1943280" y="3276720"/>
                <a:ext cx="54482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4BD75-C30D-404F-A772-6371BCF6B16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447920" y="3049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mparing  x  and  z  unit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1828800" y="1981080"/>
            <a:ext cx="2243160" cy="168120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0" y="720"/>
                </a:moveTo>
                <a:lnTo>
                  <a:pt x="95" y="712"/>
                </a:lnTo>
                <a:lnTo>
                  <a:pt x="142" y="704"/>
                </a:lnTo>
                <a:lnTo>
                  <a:pt x="189" y="691"/>
                </a:lnTo>
                <a:lnTo>
                  <a:pt x="237" y="675"/>
                </a:lnTo>
                <a:lnTo>
                  <a:pt x="284" y="653"/>
                </a:lnTo>
                <a:lnTo>
                  <a:pt x="331" y="623"/>
                </a:lnTo>
                <a:lnTo>
                  <a:pt x="426" y="540"/>
                </a:lnTo>
                <a:lnTo>
                  <a:pt x="521" y="422"/>
                </a:lnTo>
                <a:lnTo>
                  <a:pt x="616" y="281"/>
                </a:lnTo>
                <a:lnTo>
                  <a:pt x="663" y="209"/>
                </a:lnTo>
                <a:lnTo>
                  <a:pt x="710" y="142"/>
                </a:lnTo>
                <a:lnTo>
                  <a:pt x="757" y="83"/>
                </a:lnTo>
                <a:lnTo>
                  <a:pt x="805" y="38"/>
                </a:lnTo>
                <a:lnTo>
                  <a:pt x="852" y="9"/>
                </a:lnTo>
                <a:lnTo>
                  <a:pt x="90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70040" y="244800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570040" y="257004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70040" y="269064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570040" y="281304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70040" y="293364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570040" y="305604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570040" y="317664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570040" y="329868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570040" y="341964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570040" y="3540240"/>
            <a:ext cx="1800" cy="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58792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28804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8636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68648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38624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08636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78612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48624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18456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84320" y="36687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457360" y="2963880"/>
            <a:ext cx="921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994200" y="36385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629400" y="4267080"/>
            <a:ext cx="380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733920" y="3809880"/>
            <a:ext cx="9144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410080" y="4267080"/>
            <a:ext cx="9907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038480" y="1981080"/>
            <a:ext cx="2102040" cy="1681200"/>
          </a:xfrm>
          <a:custGeom>
            <a:avLst/>
            <a:gdLst/>
            <a:ahLst/>
            <a:rect l="l" t="t" r="r" b="b"/>
            <a:pathLst>
              <a:path w="901" h="721">
                <a:moveTo>
                  <a:pt x="900" y="720"/>
                </a:moveTo>
                <a:lnTo>
                  <a:pt x="805" y="712"/>
                </a:lnTo>
                <a:lnTo>
                  <a:pt x="758" y="704"/>
                </a:lnTo>
                <a:lnTo>
                  <a:pt x="711" y="691"/>
                </a:lnTo>
                <a:lnTo>
                  <a:pt x="663" y="675"/>
                </a:lnTo>
                <a:lnTo>
                  <a:pt x="615" y="653"/>
                </a:lnTo>
                <a:lnTo>
                  <a:pt x="568" y="623"/>
                </a:lnTo>
                <a:lnTo>
                  <a:pt x="473" y="540"/>
                </a:lnTo>
                <a:lnTo>
                  <a:pt x="378" y="422"/>
                </a:lnTo>
                <a:lnTo>
                  <a:pt x="284" y="281"/>
                </a:lnTo>
                <a:lnTo>
                  <a:pt x="236" y="209"/>
                </a:lnTo>
                <a:lnTo>
                  <a:pt x="189" y="142"/>
                </a:lnTo>
                <a:lnTo>
                  <a:pt x="142" y="83"/>
                </a:lnTo>
                <a:lnTo>
                  <a:pt x="94" y="38"/>
                </a:lnTo>
                <a:lnTo>
                  <a:pt x="47" y="9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676520" y="3733920"/>
            <a:ext cx="4572000" cy="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86200" y="4267080"/>
            <a:ext cx="479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334120" y="3809880"/>
            <a:ext cx="9903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629400" y="3809880"/>
            <a:ext cx="37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838080" y="495288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Note that the distribution is the same, only the scale has changed.  We can express the problem in original units (x) or in standardized units 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38480" y="1981080"/>
            <a:ext cx="0" cy="175284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715000" y="3581280"/>
            <a:ext cx="0" cy="152640"/>
          </a:xfrm>
          <a:prstGeom prst="line">
            <a:avLst/>
          </a:prstGeom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629400" y="1981080"/>
            <a:ext cx="1371600" cy="1015920"/>
          </a:xfrm>
          <a:prstGeom prst="rect">
            <a:avLst/>
          </a:prstGeom>
          <a:noFill/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c1c1c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c1c1c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=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4952520" y="2438280"/>
            <a:ext cx="1676520" cy="457200"/>
          </a:xfrm>
          <a:prstGeom prst="line">
            <a:avLst/>
          </a:prstGeom>
          <a:ln w="1260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ADADA-E701-4E9E-A66F-F8492983B61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6553080" y="5105520"/>
            <a:ext cx="0" cy="304560"/>
          </a:xfrm>
          <a:prstGeom prst="line">
            <a:avLst/>
          </a:prstGeom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791320" y="4191120"/>
            <a:ext cx="75960" cy="1218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780160" y="4191120"/>
            <a:ext cx="812880" cy="1214280"/>
          </a:xfrm>
          <a:custGeom>
            <a:avLst/>
            <a:gdLst/>
            <a:ahLst/>
            <a:rect l="l" t="t" r="r" b="b"/>
            <a:pathLst>
              <a:path w="512" h="765">
                <a:moveTo>
                  <a:pt x="23" y="19"/>
                </a:moveTo>
                <a:cubicBezTo>
                  <a:pt x="20" y="2"/>
                  <a:pt x="14" y="16"/>
                  <a:pt x="17" y="17"/>
                </a:cubicBezTo>
                <a:cubicBezTo>
                  <a:pt x="20" y="18"/>
                  <a:pt x="35" y="25"/>
                  <a:pt x="43" y="27"/>
                </a:cubicBezTo>
                <a:cubicBezTo>
                  <a:pt x="61" y="29"/>
                  <a:pt x="48" y="21"/>
                  <a:pt x="65" y="27"/>
                </a:cubicBezTo>
                <a:cubicBezTo>
                  <a:pt x="80" y="32"/>
                  <a:pt x="83" y="33"/>
                  <a:pt x="95" y="43"/>
                </a:cubicBezTo>
                <a:cubicBezTo>
                  <a:pt x="123" y="64"/>
                  <a:pt x="138" y="88"/>
                  <a:pt x="167" y="106"/>
                </a:cubicBezTo>
                <a:cubicBezTo>
                  <a:pt x="180" y="144"/>
                  <a:pt x="215" y="179"/>
                  <a:pt x="245" y="208"/>
                </a:cubicBezTo>
                <a:cubicBezTo>
                  <a:pt x="259" y="248"/>
                  <a:pt x="272" y="246"/>
                  <a:pt x="296" y="280"/>
                </a:cubicBezTo>
                <a:cubicBezTo>
                  <a:pt x="304" y="292"/>
                  <a:pt x="315" y="306"/>
                  <a:pt x="327" y="313"/>
                </a:cubicBezTo>
                <a:cubicBezTo>
                  <a:pt x="333" y="317"/>
                  <a:pt x="339" y="340"/>
                  <a:pt x="339" y="340"/>
                </a:cubicBezTo>
                <a:cubicBezTo>
                  <a:pt x="348" y="366"/>
                  <a:pt x="360" y="368"/>
                  <a:pt x="374" y="391"/>
                </a:cubicBezTo>
                <a:cubicBezTo>
                  <a:pt x="386" y="409"/>
                  <a:pt x="416" y="440"/>
                  <a:pt x="431" y="458"/>
                </a:cubicBezTo>
                <a:cubicBezTo>
                  <a:pt x="450" y="482"/>
                  <a:pt x="447" y="510"/>
                  <a:pt x="471" y="526"/>
                </a:cubicBezTo>
                <a:cubicBezTo>
                  <a:pt x="480" y="553"/>
                  <a:pt x="494" y="532"/>
                  <a:pt x="494" y="571"/>
                </a:cubicBezTo>
                <a:cubicBezTo>
                  <a:pt x="494" y="765"/>
                  <a:pt x="512" y="743"/>
                  <a:pt x="326" y="750"/>
                </a:cubicBezTo>
                <a:cubicBezTo>
                  <a:pt x="308" y="752"/>
                  <a:pt x="290" y="757"/>
                  <a:pt x="272" y="756"/>
                </a:cubicBezTo>
                <a:cubicBezTo>
                  <a:pt x="220" y="755"/>
                  <a:pt x="116" y="745"/>
                  <a:pt x="116" y="745"/>
                </a:cubicBezTo>
                <a:cubicBezTo>
                  <a:pt x="75" y="731"/>
                  <a:pt x="60" y="731"/>
                  <a:pt x="19" y="745"/>
                </a:cubicBezTo>
                <a:cubicBezTo>
                  <a:pt x="0" y="646"/>
                  <a:pt x="28" y="594"/>
                  <a:pt x="49" y="513"/>
                </a:cubicBezTo>
                <a:cubicBezTo>
                  <a:pt x="13" y="288"/>
                  <a:pt x="9" y="166"/>
                  <a:pt x="5" y="23"/>
                </a:cubicBezTo>
                <a:cubicBezTo>
                  <a:pt x="4" y="0"/>
                  <a:pt x="44" y="19"/>
                  <a:pt x="23" y="19"/>
                </a:cubicBezTo>
                <a:close/>
              </a:path>
            </a:pathLst>
          </a:custGeom>
          <a:solidFill>
            <a:srgbClr val="ff00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781680" cy="838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Standard Normal Tab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ndard Normal table in the textboo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(Appendix D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the probability from the mean (ze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 to a desired value for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419720" y="4184640"/>
            <a:ext cx="1400040" cy="1149480"/>
          </a:xfrm>
          <a:custGeom>
            <a:avLst/>
            <a:gdLst/>
            <a:ahLst/>
            <a:rect l="l" t="t" r="r" b="b"/>
            <a:pathLst>
              <a:path w="882" h="724">
                <a:moveTo>
                  <a:pt x="0" y="724"/>
                </a:moveTo>
                <a:lnTo>
                  <a:pt x="95" y="716"/>
                </a:lnTo>
                <a:lnTo>
                  <a:pt x="142" y="708"/>
                </a:lnTo>
                <a:lnTo>
                  <a:pt x="189" y="695"/>
                </a:lnTo>
                <a:lnTo>
                  <a:pt x="237" y="679"/>
                </a:lnTo>
                <a:lnTo>
                  <a:pt x="284" y="657"/>
                </a:lnTo>
                <a:lnTo>
                  <a:pt x="331" y="627"/>
                </a:lnTo>
                <a:lnTo>
                  <a:pt x="426" y="544"/>
                </a:lnTo>
                <a:lnTo>
                  <a:pt x="521" y="426"/>
                </a:lnTo>
                <a:lnTo>
                  <a:pt x="616" y="285"/>
                </a:lnTo>
                <a:lnTo>
                  <a:pt x="663" y="213"/>
                </a:lnTo>
                <a:lnTo>
                  <a:pt x="710" y="146"/>
                </a:lnTo>
                <a:lnTo>
                  <a:pt x="757" y="87"/>
                </a:lnTo>
                <a:lnTo>
                  <a:pt x="805" y="42"/>
                </a:lnTo>
                <a:lnTo>
                  <a:pt x="852" y="13"/>
                </a:lnTo>
                <a:lnTo>
                  <a:pt x="882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340760" y="5268960"/>
            <a:ext cx="0" cy="1440"/>
          </a:xfrm>
          <a:prstGeom prst="line">
            <a:avLst/>
          </a:prstGeom>
          <a:ln w="1260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467480" y="53341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638680" y="5410080"/>
            <a:ext cx="479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172200" y="5410080"/>
            <a:ext cx="990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2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791320" y="5334120"/>
            <a:ext cx="761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91320" y="5334120"/>
            <a:ext cx="761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91320" y="5334120"/>
            <a:ext cx="761760" cy="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47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6171840" y="4495680"/>
            <a:ext cx="6094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832360" y="4187880"/>
            <a:ext cx="1384560" cy="1139760"/>
          </a:xfrm>
          <a:custGeom>
            <a:avLst/>
            <a:gdLst/>
            <a:ahLst/>
            <a:rect l="l" t="t" r="r" b="b"/>
            <a:pathLst>
              <a:path w="872" h="718">
                <a:moveTo>
                  <a:pt x="872" y="718"/>
                </a:moveTo>
                <a:lnTo>
                  <a:pt x="777" y="710"/>
                </a:lnTo>
                <a:lnTo>
                  <a:pt x="730" y="702"/>
                </a:lnTo>
                <a:lnTo>
                  <a:pt x="683" y="689"/>
                </a:lnTo>
                <a:lnTo>
                  <a:pt x="635" y="673"/>
                </a:lnTo>
                <a:lnTo>
                  <a:pt x="587" y="651"/>
                </a:lnTo>
                <a:lnTo>
                  <a:pt x="540" y="621"/>
                </a:lnTo>
                <a:lnTo>
                  <a:pt x="445" y="538"/>
                </a:lnTo>
                <a:lnTo>
                  <a:pt x="350" y="420"/>
                </a:lnTo>
                <a:lnTo>
                  <a:pt x="256" y="279"/>
                </a:lnTo>
                <a:lnTo>
                  <a:pt x="208" y="207"/>
                </a:lnTo>
                <a:lnTo>
                  <a:pt x="161" y="140"/>
                </a:lnTo>
                <a:lnTo>
                  <a:pt x="114" y="81"/>
                </a:lnTo>
                <a:lnTo>
                  <a:pt x="66" y="36"/>
                </a:lnTo>
                <a:lnTo>
                  <a:pt x="18" y="10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114800" y="5410080"/>
            <a:ext cx="3422520" cy="1800"/>
          </a:xfrm>
          <a:custGeom>
            <a:avLst/>
            <a:gdLst/>
            <a:ahLst/>
            <a:rect l="l" t="t" r="r" b="b"/>
            <a:pathLst>
              <a:path w="2156" h="1">
                <a:moveTo>
                  <a:pt x="0" y="0"/>
                </a:moveTo>
                <a:lnTo>
                  <a:pt x="72" y="1"/>
                </a:lnTo>
                <a:lnTo>
                  <a:pt x="2156" y="1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38080" y="4191120"/>
            <a:ext cx="3429000" cy="901800"/>
          </a:xfrm>
          <a:prstGeom prst="rect">
            <a:avLst/>
          </a:prstGeom>
          <a:solidFill>
            <a:srgbClr val="fff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0 &lt; z &lt; 2.00) = .477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49E95-BBDC-4334-B406-0E533CEC530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Finding Probabilities for the Normal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>
              <a:lnSpc>
                <a:spcPct val="95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Q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7162920" cy="324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0A8E6-D792-4F66-96DB-87A15482DE4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Finding Probabilities for the Normal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>
              <a:lnSpc>
                <a:spcPct val="95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Excel File normal_prob.x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1371600" y="2438280"/>
            <a:ext cx="6135840" cy="369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878A5-939B-4D40-85F4-258EB86C4EE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Finding Probabilities for the Normal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>
              <a:lnSpc>
                <a:spcPct val="95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applet from our web 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1447920" y="2590920"/>
            <a:ext cx="349092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FE18D-00C4-48B5-A6EB-52A061D68F3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5257800" y="396252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525744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248520" y="259092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57200" y="533520"/>
            <a:ext cx="824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523880" y="457200"/>
            <a:ext cx="7045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he Uniform Distrib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105520" y="2743200"/>
            <a:ext cx="220968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343400" y="259092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343400" y="24382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276720" y="1600200"/>
            <a:ext cx="2286000" cy="82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5257440" y="45720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486400" y="4343400"/>
            <a:ext cx="167652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486400" y="5029200"/>
            <a:ext cx="1676520" cy="454680"/>
          </a:xfrm>
          <a:prstGeom prst="rect">
            <a:avLst/>
          </a:prstGeom>
          <a:solidFill>
            <a:srgbClr val="fcff9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28092-903A-464E-A5DC-44D0CAE8307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Uniform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142640" y="2209680"/>
            <a:ext cx="7010280" cy="24386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5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uniform distrib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probability distribution that has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equal probabil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all possible outcomes of the random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9BAAA-3588-4416-A47C-352C51B2202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1981080" y="2286000"/>
            <a:ext cx="5029200" cy="2209680"/>
          </a:xfrm>
          <a:prstGeom prst="rect">
            <a:avLst/>
          </a:prstGeom>
          <a:solidFill>
            <a:srgbClr val="fff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24720" y="1676520"/>
            <a:ext cx="51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tinuous Uniform Distrib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3581280" y="2362320"/>
                <a:ext cx="3297240" cy="19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  <m:e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 otherwi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7" name=""/>
          <p:cNvSpPr/>
          <p:nvPr/>
        </p:nvSpPr>
        <p:spPr>
          <a:xfrm>
            <a:off x="1752480" y="4724280"/>
            <a:ext cx="63248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(x) = value of the density function at any x valu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= lower limit of the interv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 = upper limit of the interv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Uniform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7543800" y="1143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429000" y="251460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133720" y="32004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AC517-B2B1-4C83-BF08-A1AC11CD67A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1905120" y="2819520"/>
            <a:ext cx="5333760" cy="914400"/>
          </a:xfrm>
          <a:prstGeom prst="rect">
            <a:avLst/>
          </a:prstGeom>
          <a:solidFill>
            <a:srgbClr val="fff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Uniform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4" name=""/>
          <p:cNvSpPr/>
          <p:nvPr/>
        </p:nvSpPr>
        <p:spPr>
          <a:xfrm>
            <a:off x="1295280" y="1676520"/>
            <a:ext cx="693432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iform Probability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the range   2 ≤ x ≤ 6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819520" y="4419720"/>
            <a:ext cx="0" cy="121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819520" y="5638680"/>
            <a:ext cx="411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657600" y="4876920"/>
            <a:ext cx="2438280" cy="761760"/>
          </a:xfrm>
          <a:prstGeom prst="rect">
            <a:avLst/>
          </a:prstGeom>
          <a:solidFill>
            <a:srgbClr val="a0c7f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50532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8672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209680" y="4572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743200" y="48769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057400" y="3048120"/>
            <a:ext cx="648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x) =           = .25   for  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 x ≤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048120" y="32004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-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276720" y="2819520"/>
            <a:ext cx="4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124080" y="3276720"/>
            <a:ext cx="720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58000" y="5562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209680" y="3962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11EBC-AAD5-435F-9A9F-3ED72A40ADA7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iscrete random vari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variable that can assume only a countable number of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any possible 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complaints per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TV’s in a house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rings before the phone is answ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Only two possible 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der: male or fe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ctive: yes or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s peanut butter first vs. spreads jelly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iscrete Probability Distribut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1A0C8-5E06-411B-B691-BEB3E78C67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15328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2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key discret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key continuous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, uni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 probabilities using PQRS or 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d when to apply different distribu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3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d distributions to decision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309EF-B1A5-475F-8890-A0882371D64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Continuous Probability Distribution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9000"/>
          </a:bodyPr>
          <a:p>
            <a:pPr marL="317520" indent="-317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tinuous random vari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variable that can assume any value on a continuum (can assume an uncountable number of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ckness of an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required to complete a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of a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ight, in in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52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can potentially take on any value, depending only on the ability to measure accurat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EF993-9C8C-4B6B-85C7-553BB2DC9B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he Binomial Distribu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racteristics of the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Binomial Distributio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A trial has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only two possible outcomes</a:t>
            </a: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 – “success” or “failure”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There is a fixed number, n, of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identical tria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The trials of the experiment are i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ndependent</a:t>
            </a: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 of each oth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The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probability of a success, p, remains constant</a:t>
            </a: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 from trial to tri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If p represents the probability of a success, then 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1c1c1c"/>
                </a:solidFill>
                <a:latin typeface="Arial"/>
              </a:rPr>
              <a:t>(1-p) = q  is the probability of a fail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C2916-85EA-4CB2-8B87-D6D9308D3EA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inomial Distribution Setting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35880" indent="-33588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 manufacturing plant labels items as either defective or accep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 firm bidding for a contract will either get the contract or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A marketing research firm receives survey responses of “yes I will buy” or “no I will no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New job applicants either accept the offer or reject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5514C-9354-47A9-9D0B-0C49D25DE06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unting Rule for Combinat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combinatio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an outcome of an experiment where x objects are selected from a group of n obje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778120" y="2857680"/>
                <a:ext cx="313056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1447920" y="4572000"/>
            <a:ext cx="5638680" cy="15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! =n(n - 1)(n - 2) . . . (2)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! = x(x - 1)(x - 2) . . . (2)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! = 1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y defini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1F474-4287-4215-8C23-1F0C997437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523880" y="1676520"/>
            <a:ext cx="5410440" cy="1371600"/>
          </a:xfrm>
          <a:prstGeom prst="rect">
            <a:avLst/>
          </a:prstGeom>
          <a:solidFill>
            <a:srgbClr val="fff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3276720"/>
            <a:ext cx="5638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x) = probability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cesses in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rial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probability of succes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each 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  =   number of ‘successes’ in sampl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 = 0, 1, 2, ...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=   probability of “success” per 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cc33"/>
                </a:solidFill>
                <a:latin typeface="Arial"/>
              </a:rPr>
              <a:t> =   probability of “failure” = (1 –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1444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=   number of trials (sample siz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84440" y="2279520"/>
            <a:ext cx="153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75440" y="1981080"/>
            <a:ext cx="928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38120" y="167652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49000" y="2279520"/>
            <a:ext cx="61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22200" y="229536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4520" y="229536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81120" y="198108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14640" y="1981080"/>
            <a:ext cx="40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48240" y="1889280"/>
            <a:ext cx="370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1905120"/>
            <a:ext cx="3520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8560" y="1882800"/>
            <a:ext cx="336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94080" y="1676520"/>
            <a:ext cx="294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82520" y="2279520"/>
            <a:ext cx="31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49200" y="2279520"/>
            <a:ext cx="31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25880" y="2279520"/>
            <a:ext cx="294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93520" y="1981080"/>
            <a:ext cx="50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84000" y="2279520"/>
            <a:ext cx="317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9960" y="1882800"/>
            <a:ext cx="38088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610480" y="46512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3733920"/>
            <a:ext cx="2971800" cy="236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19920" y="3733920"/>
            <a:ext cx="2895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Flip a coin four times, let  x = # head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1 - .5) = 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= 0, 1, 2, 3,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inomial Distribution Formula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CCF01-D3A7-424A-B260-07635880BBC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cp:keywords/>
  <dc:language>en-US</dc:language>
  <cp:lastModifiedBy>christine natalia</cp:lastModifiedBy>
  <cp:lastPrinted>1998-11-22T23:37:53Z</cp:lastPrinted>
  <dcterms:modified xsi:type="dcterms:W3CDTF">2006-10-22T14:35:46Z</dcterms:modified>
  <cp:revision>76</cp:revision>
  <dc:subject>Chapter 5</dc:subject>
  <dc:title>Groebner lecture notes for chapter 5</dc:title>
</cp:coreProperties>
</file>