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EE16E9CE-0D0D-4F7D-A0B8-EC5FE443B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19724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D1A0-DB84-4F70-ADB5-5D8B313F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B18B-CE54-4817-9EF6-36B62FE06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D8DF-7C1F-48AB-AB1B-6B6766291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497E-C9D8-4D06-B996-57648A4E4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3B28-0538-4B40-A121-6B66E30FE3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869E-334D-4943-854A-5BB4F01A1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63F1-6D67-43E0-AD40-73842DFBA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97039-0228-4771-8611-DFC100080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8C6EE-B57B-4AD1-AA70-5B62D064D7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51F2-7DD9-425E-8BDF-1D8D89B25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87C84-6CB5-45BF-A52B-65496E551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DB1E-EB74-454F-BA6B-8F85862DF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B4B5-E1A4-4207-A0F6-B20DF37F10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DB522-7973-4233-B3D9-3EC8D423A3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FD0B0-0F50-4943-98B4-905DB1497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98BD3-E687-445B-AB3B-8D9ADB35F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707B-05FD-4518-A06E-FF9E53191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C2E6-69BC-4E35-8F00-8EFC7293F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7782-40B9-4A93-B0EB-2258BF34B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61BD-710A-4A52-9D35-02CF2EF51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04B1-1053-4713-8169-1E282F403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B028-208F-4D82-BEC5-62165C35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C73F-F89A-4C39-8213-BF05D43C8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318C-9C21-4694-9E27-BA42C4AA8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C7520E9F-4F1B-49D9-ABCB-F0B5032FA68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4A6580FB-FA53-4FE5-B4EB-6FACC773DC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crete and Continuo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426A8-3617-439A-9F2E-EA9544FC6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C7E8-8FC9-4BE2-8B2C-E00345027F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ED1C-0D19-403C-BEA0-B4727B285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906480" y="2871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06480" y="5157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E2E3-663C-4E6F-A15C-E65DB77D54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(freeware) program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36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2AB4-C7EE-424F-860B-1923814E8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Excel file Binomial Template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553080" cy="38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2F8C-8AAB-40D4-A0EB-AA67359BE1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2EB7-CD74-4362-825A-9E10AFDB9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000"/>
          </a:bodyPr>
          <a:p>
            <a:pPr marL="25560" indent="-255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19E3-CA90-435D-80B2-E77E9CB0DA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A655-E0AA-4ECC-B740-1961EAD07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09D8-98BB-4826-9BA0-4922EF9831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The Normal Distribution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36147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120" y="22096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8FBC-9A1F-4E65-A648-C0270DC465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binomial distribution to appl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robabilities using a normal distribution program and apply the normal distribution to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when to apply the uniform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8E9E-CD7D-4A74-B41E-620776F00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981080"/>
          <a:ext cx="5105160" cy="29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62120" y="5181480"/>
            <a:ext cx="7311960" cy="82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varying the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obtain different normal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808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Many Normal Distribu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5FDE-BDF5-4EED-B301-7FFCC4CDCB2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rmal Distribution Sha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426708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00520" y="320688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00520" y="3328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00520" y="3449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00520" y="3571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00520" y="3692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00520" y="3814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00520" y="3935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0520" y="40575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00520" y="41781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0520" y="42991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180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181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166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62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146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148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87480" y="37227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24320" y="4397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10280" y="541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19112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429000"/>
            <a:ext cx="243864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438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shifts the distribution left or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10080" y="3581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creases or decreases the sp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F024-1B35-4B8F-BDF6-769F801B9C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r>
              <a:rPr b="0" lang="en-US" sz="41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13160" y="3610080"/>
            <a:ext cx="87012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3224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9896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64480" y="556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3224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9800" y="3610080"/>
            <a:ext cx="213804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5280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5280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5280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5280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5280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5280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280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5280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280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5280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660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261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865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98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117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71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337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941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574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17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08280" y="45054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3880" y="5784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7360" y="31240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0388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603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461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3232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808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9224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2028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204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770360" y="3519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555C-DF4E-4179-8078-4232010A82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136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a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rea Under the Curv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2971800" y="5867280"/>
                <a:ext cx="351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562720" y="3124080"/>
                <a:ext cx="2732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752480" y="2971800"/>
                <a:ext cx="2927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F53E-7089-4BDF-8ED0-EDAC308C5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mpirical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7960" y="32004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±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encloses about 68% of x’s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22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24382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548640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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7524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can we say about the distribution of values around the mean?  There are some general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6019920"/>
            <a:ext cx="1523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0120" y="5943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8.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A8E4-66FD-4280-A4D1-F2682CDB70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3276720"/>
            <a:ext cx="193536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3276720"/>
            <a:ext cx="186084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276720"/>
            <a:ext cx="180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4495680"/>
            <a:ext cx="12956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4495680"/>
            <a:ext cx="1218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48320"/>
            <a:ext cx="405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1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4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3276720"/>
            <a:ext cx="193500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276720"/>
            <a:ext cx="186048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276720"/>
            <a:ext cx="144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53452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4648320"/>
            <a:ext cx="405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5345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4419720"/>
            <a:ext cx="190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5792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2460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5181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181480"/>
            <a:ext cx="365760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112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5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8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9.7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D030-9A16-47B7-A342-4CAC596D4C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mportance of the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way from the mean in a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then i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a value that far or far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the mea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ly un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articular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B107-8942-4F43-BC2E-2F676F2153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known as the “z”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ean is defined to be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tandard Deviation is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9912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7028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886200"/>
            <a:ext cx="0" cy="1066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3809880"/>
            <a:ext cx="3005280" cy="121464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98640" y="3743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98640" y="3865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98640" y="3986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98640" y="410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98640" y="4229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98640" y="4351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98640" y="447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98640" y="4594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98640" y="4714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98640" y="48355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65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166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1508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147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131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129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85960" y="42591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22800" y="49338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5280" y="33526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9528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434340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267080"/>
            <a:ext cx="47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5486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bove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, values below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A6BC-F8B0-48EE-833F-D624073769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distribution (with any mean and standard deviation combination) can be transformed 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tribution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form  x  units into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AEA7-187F-4DBC-9E63-824A8E2A96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ranslation to the Standard Normal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rom x to the standard normal (the “z” distribution)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tracting th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viding by its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200400" y="3657600"/>
                <a:ext cx="2668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90C0-E81A-4A23-B2B5-E3EB8A493F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343400"/>
            <a:ext cx="167616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715000"/>
            <a:ext cx="2971800" cy="82044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029200"/>
            <a:ext cx="335268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715000"/>
            <a:ext cx="259092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4033-A8CE-4C57-80D1-45E2816DDC7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x  is distributed normally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 of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 of 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 z  value for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5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s says that  x = 250  is three standard deviations (3 increments of 50 units) above the mean of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943280" y="3276720"/>
                <a:ext cx="5448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2333-493D-4BC6-B736-FB30C5862B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 x  and  z  uni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1981080"/>
            <a:ext cx="224316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70040" y="244800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70040" y="2570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70040" y="2690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70040" y="2813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0040" y="2933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70040" y="3056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0040" y="3176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70040" y="3298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70040" y="3419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70040" y="35402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879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880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648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61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845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843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57360" y="296388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94200" y="3638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9400" y="4267080"/>
            <a:ext cx="38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3809880"/>
            <a:ext cx="91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426708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38480" y="1981080"/>
            <a:ext cx="210204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33920"/>
            <a:ext cx="457200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426708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3809880"/>
            <a:ext cx="99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3809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4952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 that the distribution is the same, only the scale has changed.  We can express the problem in original units (x) or in standardized units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1981080"/>
            <a:ext cx="0" cy="17528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3581280"/>
            <a:ext cx="0" cy="1526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1981080"/>
            <a:ext cx="1371600" cy="1015920"/>
          </a:xfrm>
          <a:prstGeom prst="rect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952520" y="2438280"/>
            <a:ext cx="1676520" cy="457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E733-1634-4FE7-8291-132507BA43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4191120"/>
            <a:ext cx="7596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80160" y="4191120"/>
            <a:ext cx="812880" cy="1214280"/>
          </a:xfrm>
          <a:custGeom>
            <a:avLst/>
            <a:gdLst/>
            <a:ahLst/>
            <a:rect l="l" t="t" r="r" b="b"/>
            <a:pathLst>
              <a:path w="512" h="765">
                <a:moveTo>
                  <a:pt x="23" y="19"/>
                </a:moveTo>
                <a:cubicBezTo>
                  <a:pt x="20" y="2"/>
                  <a:pt x="14" y="16"/>
                  <a:pt x="17" y="17"/>
                </a:cubicBezTo>
                <a:cubicBezTo>
                  <a:pt x="20" y="18"/>
                  <a:pt x="35" y="25"/>
                  <a:pt x="43" y="27"/>
                </a:cubicBezTo>
                <a:cubicBezTo>
                  <a:pt x="61" y="29"/>
                  <a:pt x="48" y="21"/>
                  <a:pt x="65" y="27"/>
                </a:cubicBezTo>
                <a:cubicBezTo>
                  <a:pt x="80" y="32"/>
                  <a:pt x="83" y="33"/>
                  <a:pt x="95" y="43"/>
                </a:cubicBezTo>
                <a:cubicBezTo>
                  <a:pt x="123" y="64"/>
                  <a:pt x="138" y="88"/>
                  <a:pt x="167" y="106"/>
                </a:cubicBezTo>
                <a:cubicBezTo>
                  <a:pt x="180" y="144"/>
                  <a:pt x="215" y="179"/>
                  <a:pt x="245" y="208"/>
                </a:cubicBezTo>
                <a:cubicBezTo>
                  <a:pt x="259" y="248"/>
                  <a:pt x="272" y="246"/>
                  <a:pt x="296" y="280"/>
                </a:cubicBezTo>
                <a:cubicBezTo>
                  <a:pt x="304" y="292"/>
                  <a:pt x="315" y="306"/>
                  <a:pt x="327" y="313"/>
                </a:cubicBezTo>
                <a:cubicBezTo>
                  <a:pt x="333" y="317"/>
                  <a:pt x="339" y="340"/>
                  <a:pt x="339" y="340"/>
                </a:cubicBezTo>
                <a:cubicBezTo>
                  <a:pt x="348" y="366"/>
                  <a:pt x="360" y="368"/>
                  <a:pt x="374" y="391"/>
                </a:cubicBezTo>
                <a:cubicBezTo>
                  <a:pt x="386" y="409"/>
                  <a:pt x="416" y="440"/>
                  <a:pt x="431" y="458"/>
                </a:cubicBezTo>
                <a:cubicBezTo>
                  <a:pt x="450" y="482"/>
                  <a:pt x="447" y="510"/>
                  <a:pt x="471" y="526"/>
                </a:cubicBezTo>
                <a:cubicBezTo>
                  <a:pt x="480" y="553"/>
                  <a:pt x="494" y="532"/>
                  <a:pt x="494" y="571"/>
                </a:cubicBezTo>
                <a:cubicBezTo>
                  <a:pt x="494" y="765"/>
                  <a:pt x="512" y="743"/>
                  <a:pt x="326" y="750"/>
                </a:cubicBezTo>
                <a:cubicBezTo>
                  <a:pt x="308" y="752"/>
                  <a:pt x="290" y="757"/>
                  <a:pt x="272" y="756"/>
                </a:cubicBezTo>
                <a:cubicBezTo>
                  <a:pt x="220" y="755"/>
                  <a:pt x="116" y="745"/>
                  <a:pt x="116" y="745"/>
                </a:cubicBezTo>
                <a:cubicBezTo>
                  <a:pt x="75" y="731"/>
                  <a:pt x="60" y="731"/>
                  <a:pt x="19" y="745"/>
                </a:cubicBezTo>
                <a:cubicBezTo>
                  <a:pt x="0" y="646"/>
                  <a:pt x="28" y="594"/>
                  <a:pt x="49" y="513"/>
                </a:cubicBezTo>
                <a:cubicBezTo>
                  <a:pt x="13" y="288"/>
                  <a:pt x="9" y="166"/>
                  <a:pt x="5" y="23"/>
                </a:cubicBezTo>
                <a:cubicBezTo>
                  <a:pt x="4" y="0"/>
                  <a:pt x="44" y="19"/>
                  <a:pt x="23" y="1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Normal table in the textb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Appendix 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probability from the mean (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a desired value for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4184640"/>
            <a:ext cx="1400040" cy="1149480"/>
          </a:xfrm>
          <a:custGeom>
            <a:avLst/>
            <a:gdLst/>
            <a:ahLst/>
            <a:rect l="l" t="t" r="r" b="b"/>
            <a:pathLst>
              <a:path w="882" h="724">
                <a:moveTo>
                  <a:pt x="0" y="724"/>
                </a:moveTo>
                <a:lnTo>
                  <a:pt x="95" y="716"/>
                </a:lnTo>
                <a:lnTo>
                  <a:pt x="142" y="708"/>
                </a:lnTo>
                <a:lnTo>
                  <a:pt x="189" y="695"/>
                </a:lnTo>
                <a:lnTo>
                  <a:pt x="237" y="679"/>
                </a:lnTo>
                <a:lnTo>
                  <a:pt x="284" y="657"/>
                </a:lnTo>
                <a:lnTo>
                  <a:pt x="331" y="627"/>
                </a:lnTo>
                <a:lnTo>
                  <a:pt x="426" y="544"/>
                </a:lnTo>
                <a:lnTo>
                  <a:pt x="521" y="426"/>
                </a:lnTo>
                <a:lnTo>
                  <a:pt x="616" y="285"/>
                </a:lnTo>
                <a:lnTo>
                  <a:pt x="663" y="213"/>
                </a:lnTo>
                <a:lnTo>
                  <a:pt x="710" y="146"/>
                </a:lnTo>
                <a:lnTo>
                  <a:pt x="757" y="87"/>
                </a:lnTo>
                <a:lnTo>
                  <a:pt x="805" y="42"/>
                </a:lnTo>
                <a:lnTo>
                  <a:pt x="852" y="13"/>
                </a:lnTo>
                <a:lnTo>
                  <a:pt x="882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40760" y="52689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674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54100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17184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32360" y="4187880"/>
            <a:ext cx="1384560" cy="1139760"/>
          </a:xfrm>
          <a:custGeom>
            <a:avLst/>
            <a:gdLst/>
            <a:ahLst/>
            <a:rect l="l" t="t" r="r" b="b"/>
            <a:pathLst>
              <a:path w="872" h="718">
                <a:moveTo>
                  <a:pt x="872" y="718"/>
                </a:moveTo>
                <a:lnTo>
                  <a:pt x="777" y="710"/>
                </a:lnTo>
                <a:lnTo>
                  <a:pt x="730" y="702"/>
                </a:lnTo>
                <a:lnTo>
                  <a:pt x="683" y="689"/>
                </a:lnTo>
                <a:lnTo>
                  <a:pt x="635" y="673"/>
                </a:lnTo>
                <a:lnTo>
                  <a:pt x="587" y="651"/>
                </a:lnTo>
                <a:lnTo>
                  <a:pt x="540" y="621"/>
                </a:lnTo>
                <a:lnTo>
                  <a:pt x="445" y="538"/>
                </a:lnTo>
                <a:lnTo>
                  <a:pt x="350" y="420"/>
                </a:lnTo>
                <a:lnTo>
                  <a:pt x="256" y="279"/>
                </a:lnTo>
                <a:lnTo>
                  <a:pt x="208" y="207"/>
                </a:lnTo>
                <a:lnTo>
                  <a:pt x="161" y="140"/>
                </a:lnTo>
                <a:lnTo>
                  <a:pt x="114" y="81"/>
                </a:lnTo>
                <a:lnTo>
                  <a:pt x="66" y="36"/>
                </a:lnTo>
                <a:lnTo>
                  <a:pt x="18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5410080"/>
            <a:ext cx="3422520" cy="1800"/>
          </a:xfrm>
          <a:custGeom>
            <a:avLst/>
            <a:gdLst/>
            <a:ahLst/>
            <a:rect l="l" t="t" r="r" b="b"/>
            <a:pathLst>
              <a:path w="2156" h="1">
                <a:moveTo>
                  <a:pt x="0" y="0"/>
                </a:moveTo>
                <a:lnTo>
                  <a:pt x="72" y="1"/>
                </a:lnTo>
                <a:lnTo>
                  <a:pt x="2156" y="1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4191120"/>
            <a:ext cx="3429000" cy="901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0 &lt; z &lt; 2.00) =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88AB-D27A-4BDB-A461-4343DAE2E4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716292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2199-A357-47DB-BEBE-6A454D5E5A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xcel File normal_prob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135840" cy="36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163D-8605-4C4D-904C-3C4CE45F39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pplet from our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49092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C90A-7484-4A36-B613-EC84E9DAF3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1D09-D5FA-4F14-8D47-0A5D4D5D66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7C49-8AFD-4AFA-96C1-5C8F4F21F9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981080" y="2286000"/>
            <a:ext cx="5029200" cy="22096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581280" y="2362320"/>
                <a:ext cx="329724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52480" y="472428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low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upp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37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4C9B-3444-4514-BF6E-A8B6A16503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905120" y="2819520"/>
            <a:ext cx="5333760" cy="9144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63868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57600" y="4876920"/>
            <a:ext cx="2438280" cy="761760"/>
          </a:xfrm>
          <a:prstGeom prst="rect">
            <a:avLst/>
          </a:prstGeom>
          <a:solidFill>
            <a:srgbClr val="a0c7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053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672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9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06E1-BF44-4224-817F-341C0D1F933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EFA3-E7CA-45AF-B1A0-914030D96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PQRS or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A2EC-8B1D-4DAB-A2DC-A7F01CD1A6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30D4-DCFB-450E-ADAF-990B5ABF6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Binomi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415E-847F-47E6-ADFE-03B9BAC3F4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Setting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get the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82AE-9DC7-441A-8F51-45ADB63655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FD30-E76D-4309-A9B0-BB345C3343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167652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2767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440" y="198108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9000" y="227952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4520" y="22953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464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8560" y="18828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96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7744-EAFC-44F3-946D-042AF3D100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christine natalia</cp:lastModifiedBy>
  <cp:lastPrinted>1998-11-22T23:37:53Z</cp:lastPrinted>
  <dcterms:modified xsi:type="dcterms:W3CDTF">2006-10-22T14:35:46Z</dcterms:modified>
  <cp:revision>76</cp:revision>
  <dc:subject>Chapter 5</dc:subject>
  <dc:title>Groebner lecture notes for chapter 5</dc:title>
</cp:coreProperties>
</file>