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342900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447560" y="457200"/>
            <a:ext cx="418140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120680" y="3581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886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20680" y="41911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20680" y="44956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20680" y="48006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0680" y="54100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20680" y="57150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20680" y="60199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20680" y="63244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20680" y="66294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20680" y="69343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20680" y="72388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20680" y="75438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20680" y="78487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20680" y="8153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20680" y="8458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3800" y="38088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760" y="8825040"/>
            <a:ext cx="670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6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3800" y="876312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760" y="61920"/>
            <a:ext cx="6702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ctr" pos="32576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ctor N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75486FB5-6700-482C-B65E-66E9B7EEE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197240"/>
            <a:ext cx="502920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00D58-F3E7-4627-8131-415E7DDA8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83EF4-3255-4E2D-B233-37313F952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97CD3-6B08-4631-BBA2-D69682F1F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34132-ED65-40BD-9565-13EF8C39F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05380-C118-41FA-A307-0C43F59EEE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42EA6-16DD-405B-866A-DB24F22B84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9EA82-1C76-4BB1-9E3B-1E6734EA97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6DA61-48F2-49B5-BB8B-C460D38B8F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F6420-4932-45B7-8D98-788B02A7CD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D713C-CA1F-4BB2-9C48-8520B43234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05BCF-9255-4BBF-BC16-6D07D96B35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5FC6F-709F-460A-917F-F4D685E3C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4E71E-01C6-4E18-9DC4-087E0AAF5F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2A6EC-BB04-4797-82E2-1E052582F0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D2FAB-D397-4314-9ADE-47200481FB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503F9-0E5F-496C-B941-8BC276050F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D25EC-5878-48AF-B169-D670EB8537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C569D-2004-4F64-807E-EE9AD3D5E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91479-AD4F-4532-9C6B-6971668FD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A0BBB-2488-4F66-A246-B12E8EE36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82DF2-38E8-4685-B304-8EFE541DA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78227-D7D0-4AEA-B3BC-349363DB9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E93B5-C790-41E6-9EDE-EFBA64665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AC3A5-34A6-4BBF-BA94-444A76386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5-</a:t>
            </a:r>
            <a:fld id="{009E3F72-CEBB-4963-8720-4B67460CCEE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5-</a:t>
            </a:r>
            <a:fld id="{4D59A9BF-1389-4F75-972D-0893B7933A6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99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screte and Continuou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bability Distribu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CB249-5483-4CA5-BF49-35B7137564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610160" y="43848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10160" y="20844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11880" y="2135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1880" y="4421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209680"/>
            <a:ext cx="3041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68960" y="32180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68960" y="291312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8960" y="26114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86440" y="2641680"/>
            <a:ext cx="488880" cy="879480"/>
          </a:xfrm>
          <a:custGeom>
            <a:avLst/>
            <a:gdLst/>
            <a:ahLst/>
            <a:rect l="l" t="t" r="r" b="b"/>
            <a:pathLst>
              <a:path w="308" h="554">
                <a:moveTo>
                  <a:pt x="0" y="0"/>
                </a:moveTo>
                <a:lnTo>
                  <a:pt x="307" y="0"/>
                </a:lnTo>
                <a:lnTo>
                  <a:pt x="307" y="553"/>
                </a:lnTo>
                <a:lnTo>
                  <a:pt x="0" y="553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73880" y="3035160"/>
            <a:ext cx="485640" cy="486000"/>
          </a:xfrm>
          <a:custGeom>
            <a:avLst/>
            <a:gdLst/>
            <a:ahLst/>
            <a:rect l="l" t="t" r="r" b="b"/>
            <a:pathLst>
              <a:path w="306" h="306">
                <a:moveTo>
                  <a:pt x="0" y="0"/>
                </a:moveTo>
                <a:lnTo>
                  <a:pt x="305" y="0"/>
                </a:lnTo>
                <a:lnTo>
                  <a:pt x="305" y="305"/>
                </a:lnTo>
                <a:lnTo>
                  <a:pt x="0" y="305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58080" y="3397320"/>
            <a:ext cx="488880" cy="123840"/>
          </a:xfrm>
          <a:custGeom>
            <a:avLst/>
            <a:gdLst/>
            <a:ahLst/>
            <a:rect l="l" t="t" r="r" b="b"/>
            <a:pathLst>
              <a:path w="308" h="78">
                <a:moveTo>
                  <a:pt x="0" y="0"/>
                </a:moveTo>
                <a:lnTo>
                  <a:pt x="307" y="0"/>
                </a:lnTo>
                <a:lnTo>
                  <a:pt x="307" y="77"/>
                </a:lnTo>
                <a:lnTo>
                  <a:pt x="0" y="77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45160" y="3489480"/>
            <a:ext cx="488880" cy="31680"/>
          </a:xfrm>
          <a:custGeom>
            <a:avLst/>
            <a:gdLst/>
            <a:ahLst/>
            <a:rect l="l" t="t" r="r" b="b"/>
            <a:pathLst>
              <a:path w="308" h="20">
                <a:moveTo>
                  <a:pt x="0" y="0"/>
                </a:moveTo>
                <a:lnTo>
                  <a:pt x="307" y="0"/>
                </a:lnTo>
                <a:lnTo>
                  <a:pt x="307" y="19"/>
                </a:lnTo>
                <a:lnTo>
                  <a:pt x="0" y="1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86440" y="2793960"/>
            <a:ext cx="0" cy="5796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52960" y="351936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52960" y="32180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52960" y="291312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52960" y="26114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68960" y="351936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0864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5738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0580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54516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0326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5168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80042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24200" y="334476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24200" y="3043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24200" y="2738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24200" y="2436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753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624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466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3408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2152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071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18640" y="3344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16440" y="2208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67160" y="550548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67160" y="52005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67160" y="489744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84640" y="5761080"/>
            <a:ext cx="489240" cy="4752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72080" y="5568840"/>
            <a:ext cx="487440" cy="239760"/>
          </a:xfrm>
          <a:custGeom>
            <a:avLst/>
            <a:gdLst/>
            <a:ahLst/>
            <a:rect l="l" t="t" r="r" b="b"/>
            <a:pathLst>
              <a:path w="307" h="151">
                <a:moveTo>
                  <a:pt x="0" y="0"/>
                </a:moveTo>
                <a:lnTo>
                  <a:pt x="306" y="0"/>
                </a:lnTo>
                <a:lnTo>
                  <a:pt x="306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58080" y="5334120"/>
            <a:ext cx="488880" cy="474480"/>
          </a:xfrm>
          <a:custGeom>
            <a:avLst/>
            <a:gdLst/>
            <a:ahLst/>
            <a:rect l="l" t="t" r="r" b="b"/>
            <a:pathLst>
              <a:path w="308" h="299">
                <a:moveTo>
                  <a:pt x="0" y="0"/>
                </a:moveTo>
                <a:lnTo>
                  <a:pt x="307" y="0"/>
                </a:lnTo>
                <a:lnTo>
                  <a:pt x="307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45160" y="5334120"/>
            <a:ext cx="490680" cy="474480"/>
          </a:xfrm>
          <a:custGeom>
            <a:avLst/>
            <a:gdLst/>
            <a:ahLst/>
            <a:rect l="l" t="t" r="r" b="b"/>
            <a:pathLst>
              <a:path w="309" h="299">
                <a:moveTo>
                  <a:pt x="0" y="0"/>
                </a:moveTo>
                <a:lnTo>
                  <a:pt x="308" y="0"/>
                </a:lnTo>
                <a:lnTo>
                  <a:pt x="308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34040" y="5568840"/>
            <a:ext cx="486000" cy="239760"/>
          </a:xfrm>
          <a:custGeom>
            <a:avLst/>
            <a:gdLst/>
            <a:ahLst/>
            <a:rect l="l" t="t" r="r" b="b"/>
            <a:pathLst>
              <a:path w="306" h="151">
                <a:moveTo>
                  <a:pt x="0" y="0"/>
                </a:moveTo>
                <a:lnTo>
                  <a:pt x="305" y="0"/>
                </a:lnTo>
                <a:lnTo>
                  <a:pt x="305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18240" y="5761080"/>
            <a:ext cx="489240" cy="4752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84640" y="5079960"/>
            <a:ext cx="0" cy="5810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51520" y="58071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51520" y="550548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51520" y="52005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51520" y="489744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67160" y="58071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0846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572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058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54516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0340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5182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80056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22760" y="5329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22760" y="5024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22760" y="4722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735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624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466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3588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229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071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20080" y="5630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29040" y="4494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76760" y="5648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16002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ape of the binomial distribution depends on the values of p an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3124080"/>
            <a:ext cx="3962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lvl="1" marL="693720" indent="-268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, n = 5 and p = 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525780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lvl="1" marL="693720" indent="-268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, n = 5 and p = 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07618-9496-4D12-AA0C-EDEF8FBB20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Distribution Character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182880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29718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 and Standard Dev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240000" y="2133720"/>
                <a:ext cx="27399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792600" y="3657600"/>
                <a:ext cx="1738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809880" y="4419720"/>
                <a:ext cx="184464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npq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1066680" y="533412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 = probability of succ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q = (1 – p) = probability of fail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F105-920C-47E2-8F77-A947B15AE5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610160" y="43848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10160" y="20844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1880" y="2135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1880" y="4421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2209680"/>
            <a:ext cx="3041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68960" y="32180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68960" y="291312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68960" y="26114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86440" y="2641680"/>
            <a:ext cx="488880" cy="879480"/>
          </a:xfrm>
          <a:custGeom>
            <a:avLst/>
            <a:gdLst/>
            <a:ahLst/>
            <a:rect l="l" t="t" r="r" b="b"/>
            <a:pathLst>
              <a:path w="308" h="554">
                <a:moveTo>
                  <a:pt x="0" y="0"/>
                </a:moveTo>
                <a:lnTo>
                  <a:pt x="307" y="0"/>
                </a:lnTo>
                <a:lnTo>
                  <a:pt x="307" y="553"/>
                </a:lnTo>
                <a:lnTo>
                  <a:pt x="0" y="553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73880" y="3035160"/>
            <a:ext cx="485640" cy="486000"/>
          </a:xfrm>
          <a:custGeom>
            <a:avLst/>
            <a:gdLst/>
            <a:ahLst/>
            <a:rect l="l" t="t" r="r" b="b"/>
            <a:pathLst>
              <a:path w="306" h="306">
                <a:moveTo>
                  <a:pt x="0" y="0"/>
                </a:moveTo>
                <a:lnTo>
                  <a:pt x="305" y="0"/>
                </a:lnTo>
                <a:lnTo>
                  <a:pt x="305" y="305"/>
                </a:lnTo>
                <a:lnTo>
                  <a:pt x="0" y="305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58080" y="3397320"/>
            <a:ext cx="488880" cy="123840"/>
          </a:xfrm>
          <a:custGeom>
            <a:avLst/>
            <a:gdLst/>
            <a:ahLst/>
            <a:rect l="l" t="t" r="r" b="b"/>
            <a:pathLst>
              <a:path w="308" h="78">
                <a:moveTo>
                  <a:pt x="0" y="0"/>
                </a:moveTo>
                <a:lnTo>
                  <a:pt x="307" y="0"/>
                </a:lnTo>
                <a:lnTo>
                  <a:pt x="307" y="77"/>
                </a:lnTo>
                <a:lnTo>
                  <a:pt x="0" y="77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45160" y="3489480"/>
            <a:ext cx="488880" cy="31680"/>
          </a:xfrm>
          <a:custGeom>
            <a:avLst/>
            <a:gdLst/>
            <a:ahLst/>
            <a:rect l="l" t="t" r="r" b="b"/>
            <a:pathLst>
              <a:path w="308" h="20">
                <a:moveTo>
                  <a:pt x="0" y="0"/>
                </a:moveTo>
                <a:lnTo>
                  <a:pt x="307" y="0"/>
                </a:lnTo>
                <a:lnTo>
                  <a:pt x="307" y="19"/>
                </a:lnTo>
                <a:lnTo>
                  <a:pt x="0" y="1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86440" y="2793960"/>
            <a:ext cx="0" cy="5796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52960" y="351936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52960" y="32180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52960" y="291312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52960" y="26114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68960" y="351936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0864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5738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0580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54516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70326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75168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0042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24200" y="334476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24200" y="3043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24200" y="2738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24200" y="2436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753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624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466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3408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2152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071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18640" y="3344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16440" y="2208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67160" y="550548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67160" y="52005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67160" y="489744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84640" y="5761080"/>
            <a:ext cx="489240" cy="4752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72080" y="5568840"/>
            <a:ext cx="487440" cy="239760"/>
          </a:xfrm>
          <a:custGeom>
            <a:avLst/>
            <a:gdLst/>
            <a:ahLst/>
            <a:rect l="l" t="t" r="r" b="b"/>
            <a:pathLst>
              <a:path w="307" h="151">
                <a:moveTo>
                  <a:pt x="0" y="0"/>
                </a:moveTo>
                <a:lnTo>
                  <a:pt x="306" y="0"/>
                </a:lnTo>
                <a:lnTo>
                  <a:pt x="306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58080" y="5334120"/>
            <a:ext cx="488880" cy="474480"/>
          </a:xfrm>
          <a:custGeom>
            <a:avLst/>
            <a:gdLst/>
            <a:ahLst/>
            <a:rect l="l" t="t" r="r" b="b"/>
            <a:pathLst>
              <a:path w="308" h="299">
                <a:moveTo>
                  <a:pt x="0" y="0"/>
                </a:moveTo>
                <a:lnTo>
                  <a:pt x="307" y="0"/>
                </a:lnTo>
                <a:lnTo>
                  <a:pt x="307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45160" y="5334120"/>
            <a:ext cx="490680" cy="474480"/>
          </a:xfrm>
          <a:custGeom>
            <a:avLst/>
            <a:gdLst/>
            <a:ahLst/>
            <a:rect l="l" t="t" r="r" b="b"/>
            <a:pathLst>
              <a:path w="309" h="299">
                <a:moveTo>
                  <a:pt x="0" y="0"/>
                </a:moveTo>
                <a:lnTo>
                  <a:pt x="308" y="0"/>
                </a:lnTo>
                <a:lnTo>
                  <a:pt x="308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4040" y="5568840"/>
            <a:ext cx="486000" cy="239760"/>
          </a:xfrm>
          <a:custGeom>
            <a:avLst/>
            <a:gdLst/>
            <a:ahLst/>
            <a:rect l="l" t="t" r="r" b="b"/>
            <a:pathLst>
              <a:path w="306" h="151">
                <a:moveTo>
                  <a:pt x="0" y="0"/>
                </a:moveTo>
                <a:lnTo>
                  <a:pt x="305" y="0"/>
                </a:lnTo>
                <a:lnTo>
                  <a:pt x="305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18240" y="5761080"/>
            <a:ext cx="489240" cy="4752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84640" y="5079960"/>
            <a:ext cx="0" cy="5810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51520" y="58071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51520" y="550548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51520" y="52005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51520" y="489744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67160" y="58071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0846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572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058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54516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0340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5182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80056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22760" y="5329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22760" y="5024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22760" y="4722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735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624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466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3588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229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071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020080" y="5630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29040" y="4494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76760" y="5648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949320" y="2133720"/>
                <a:ext cx="3084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906480" y="2871720"/>
                <a:ext cx="33987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q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0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949320" y="4419720"/>
                <a:ext cx="3084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906480" y="5157720"/>
                <a:ext cx="33987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q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685800" y="4191120"/>
            <a:ext cx="784872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Character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1523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0D538-E161-4A46-89E3-0D5E7631282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Probabilit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use the (freeware) program PQ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933960" cy="361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B3840-8A4B-4EF6-A017-9D11462468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Probabilit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use the Excel file Binomial Template.x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6553080" cy="385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5DC9C-BE23-42F4-9C14-E3129C2CDC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PHSt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PHStat / Probability &amp; Prob. Distributions / Binomi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7162920" cy="416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226B3-D920-4DE1-BCFE-E2C876C6EB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PHSt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8000"/>
          </a:bodyPr>
          <a:p>
            <a:pPr marL="25560" indent="-255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ter desired values in dialog bo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3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re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 = 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 = .3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3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utput for x = 0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x = 10 will b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nerated by PHSt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ptional check bo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 additional outp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129200" cy="37753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2971800" y="2514600"/>
            <a:ext cx="426708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8120" y="2971800"/>
            <a:ext cx="419076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038480" y="3733560"/>
            <a:ext cx="266724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962520" y="4952880"/>
            <a:ext cx="106668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8E78A-13B7-40B3-95B8-50E53EB02E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705640" cy="47815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267080" y="2971800"/>
            <a:ext cx="3886200" cy="3049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x = 3 | n = 10, p = .35) = .25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HStat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5867280"/>
            <a:ext cx="3886200" cy="3049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x &gt; 5 | n = 10, p = .35) = .09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D4431-8AC3-4D71-BE57-0BBFE40DA8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257800" y="39625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2574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48520" y="2590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Normal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2743200"/>
            <a:ext cx="220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43400" y="25909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257440" y="4572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86400" y="4343400"/>
            <a:ext cx="167652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5029200"/>
            <a:ext cx="1676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541C0-A923-4A1C-94AE-04B7FCEFD45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ahoma"/>
              </a:rPr>
              <a:t>The Normal Distribution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ell Shap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ymmetrical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d7a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33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d7a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Mean, Median and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are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 is determined by the mean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ead is determined by the standard deviation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dom variable has an infinite theoretical ran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o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24480" y="4800600"/>
            <a:ext cx="153360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= Medi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=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10280" y="4419720"/>
            <a:ext cx="0" cy="35064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10280" y="2743200"/>
            <a:ext cx="1430280" cy="1144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62720" y="2743200"/>
            <a:ext cx="1430280" cy="1144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10280" y="2743200"/>
            <a:ext cx="0" cy="121932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86400" y="2743200"/>
            <a:ext cx="3005280" cy="121428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56240" y="26589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556240" y="27813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56240" y="29019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56240" y="30243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56240" y="31449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6240" y="32670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56240" y="33876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56240" y="35100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56240" y="36306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56240" y="37512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57412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27388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97256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7232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37244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7220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7232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7208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17076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7052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43560" y="3174840"/>
            <a:ext cx="9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80400" y="384984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534520" y="36147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81120" y="220968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0" y="39625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866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7010280" y="3352680"/>
            <a:ext cx="53352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60444-938E-4D72-A85B-6B5F1665E43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3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the binomial distribution to applie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probabilities using a normal distribution program and apply the normal distribution to business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when to apply the uniform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A746B-0972-4EEB-9E60-2A6C5E8686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00600" y="2666880"/>
            <a:ext cx="398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52880" y="266688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676520" y="1981080"/>
          <a:ext cx="5105160" cy="29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510516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762120" y="5181480"/>
            <a:ext cx="7311960" cy="820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varying the paramet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e obtain different normal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295280" y="380880"/>
            <a:ext cx="7467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ahoma"/>
              </a:rPr>
              <a:t>Many Normal Distribution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100D8-F121-497A-A35C-DAFD28A3F87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Normal Distribution Shap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4267080" y="4267080"/>
            <a:ext cx="76212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2971800"/>
            <a:ext cx="5029200" cy="243828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900520" y="320688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00520" y="33289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900520" y="34495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00520" y="35719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900520" y="36925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00520" y="38149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900520" y="39355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0520" y="40575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900520" y="41781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00520" y="42991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1804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61816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1648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01660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1636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1648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1624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1636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1468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1480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787480" y="3722760"/>
            <a:ext cx="921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324320" y="4397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10280" y="54100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94920" y="236232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14800" y="541008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95680" y="419112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67080" y="3429000"/>
            <a:ext cx="2438640" cy="19051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05120" y="3429000"/>
            <a:ext cx="2344680" cy="19051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267080" y="3505320"/>
            <a:ext cx="0" cy="190476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24382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hanging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shifts the distribution left or 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410080" y="35812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hanging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ncreases or decreases the spr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7EF04-B55D-48A6-A519-DC55F56C43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90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inding Normal Probabilities</a:t>
            </a:r>
            <a:r>
              <a:rPr b="0" lang="en-US" sz="4100" spc="-1" strike="noStrike">
                <a:solidFill>
                  <a:srgbClr val="f8f8f8"/>
                </a:solidFill>
                <a:latin typeface="Tahoma"/>
              </a:rPr>
              <a:t>  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426960" y="1798560"/>
            <a:ext cx="2805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y is th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a under th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13160" y="3610080"/>
            <a:ext cx="870120" cy="2041560"/>
          </a:xfrm>
          <a:custGeom>
            <a:avLst/>
            <a:gdLst/>
            <a:ahLst/>
            <a:rect l="l" t="t" r="r" b="b"/>
            <a:pathLst>
              <a:path w="548" h="1286">
                <a:moveTo>
                  <a:pt x="87" y="27"/>
                </a:moveTo>
                <a:lnTo>
                  <a:pt x="150" y="60"/>
                </a:lnTo>
                <a:lnTo>
                  <a:pt x="243" y="174"/>
                </a:lnTo>
                <a:lnTo>
                  <a:pt x="318" y="288"/>
                </a:lnTo>
                <a:lnTo>
                  <a:pt x="408" y="447"/>
                </a:lnTo>
                <a:lnTo>
                  <a:pt x="483" y="585"/>
                </a:lnTo>
                <a:lnTo>
                  <a:pt x="543" y="678"/>
                </a:lnTo>
                <a:lnTo>
                  <a:pt x="548" y="1286"/>
                </a:lnTo>
                <a:lnTo>
                  <a:pt x="0" y="1286"/>
                </a:lnTo>
                <a:lnTo>
                  <a:pt x="0" y="0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60880" y="557676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cc33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32240" y="3606840"/>
            <a:ext cx="322200" cy="209520"/>
          </a:xfrm>
          <a:custGeom>
            <a:avLst/>
            <a:gdLst/>
            <a:ahLst/>
            <a:rect l="l" t="t" r="r" b="b"/>
            <a:pathLst>
              <a:path w="203" h="132">
                <a:moveTo>
                  <a:pt x="0" y="2"/>
                </a:moveTo>
                <a:lnTo>
                  <a:pt x="27" y="0"/>
                </a:lnTo>
                <a:lnTo>
                  <a:pt x="54" y="3"/>
                </a:lnTo>
                <a:lnTo>
                  <a:pt x="79" y="14"/>
                </a:lnTo>
                <a:lnTo>
                  <a:pt x="101" y="28"/>
                </a:lnTo>
                <a:lnTo>
                  <a:pt x="121" y="45"/>
                </a:lnTo>
                <a:lnTo>
                  <a:pt x="135" y="67"/>
                </a:lnTo>
                <a:lnTo>
                  <a:pt x="202" y="1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98960" y="5576760"/>
            <a:ext cx="3902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66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64480" y="55627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32240" y="3610080"/>
            <a:ext cx="2154240" cy="1981080"/>
          </a:xfrm>
          <a:custGeom>
            <a:avLst/>
            <a:gdLst/>
            <a:ahLst/>
            <a:rect l="l" t="t" r="r" b="b"/>
            <a:pathLst>
              <a:path w="1357" h="1248">
                <a:moveTo>
                  <a:pt x="1356" y="1247"/>
                </a:moveTo>
                <a:lnTo>
                  <a:pt x="1213" y="1232"/>
                </a:lnTo>
                <a:lnTo>
                  <a:pt x="1141" y="1218"/>
                </a:lnTo>
                <a:lnTo>
                  <a:pt x="1070" y="1199"/>
                </a:lnTo>
                <a:lnTo>
                  <a:pt x="1000" y="1170"/>
                </a:lnTo>
                <a:lnTo>
                  <a:pt x="927" y="1132"/>
                </a:lnTo>
                <a:lnTo>
                  <a:pt x="857" y="1080"/>
                </a:lnTo>
                <a:lnTo>
                  <a:pt x="714" y="935"/>
                </a:lnTo>
                <a:lnTo>
                  <a:pt x="571" y="731"/>
                </a:lnTo>
                <a:lnTo>
                  <a:pt x="428" y="487"/>
                </a:lnTo>
                <a:lnTo>
                  <a:pt x="356" y="363"/>
                </a:lnTo>
                <a:lnTo>
                  <a:pt x="286" y="247"/>
                </a:lnTo>
                <a:lnTo>
                  <a:pt x="213" y="145"/>
                </a:lnTo>
                <a:lnTo>
                  <a:pt x="143" y="67"/>
                </a:lnTo>
                <a:lnTo>
                  <a:pt x="70" y="17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79800" y="3610080"/>
            <a:ext cx="2138040" cy="1965240"/>
          </a:xfrm>
          <a:custGeom>
            <a:avLst/>
            <a:gdLst/>
            <a:ahLst/>
            <a:rect l="l" t="t" r="r" b="b"/>
            <a:pathLst>
              <a:path w="1347" h="1238">
                <a:moveTo>
                  <a:pt x="0" y="1238"/>
                </a:moveTo>
                <a:lnTo>
                  <a:pt x="143" y="1223"/>
                </a:lnTo>
                <a:lnTo>
                  <a:pt x="213" y="1209"/>
                </a:lnTo>
                <a:lnTo>
                  <a:pt x="285" y="1190"/>
                </a:lnTo>
                <a:lnTo>
                  <a:pt x="356" y="1161"/>
                </a:lnTo>
                <a:lnTo>
                  <a:pt x="428" y="1123"/>
                </a:lnTo>
                <a:lnTo>
                  <a:pt x="499" y="1071"/>
                </a:lnTo>
                <a:lnTo>
                  <a:pt x="642" y="926"/>
                </a:lnTo>
                <a:lnTo>
                  <a:pt x="784" y="722"/>
                </a:lnTo>
                <a:lnTo>
                  <a:pt x="927" y="478"/>
                </a:lnTo>
                <a:lnTo>
                  <a:pt x="1000" y="354"/>
                </a:lnTo>
                <a:lnTo>
                  <a:pt x="1070" y="238"/>
                </a:lnTo>
                <a:lnTo>
                  <a:pt x="1141" y="136"/>
                </a:lnTo>
                <a:lnTo>
                  <a:pt x="1213" y="58"/>
                </a:lnTo>
                <a:lnTo>
                  <a:pt x="1284" y="8"/>
                </a:lnTo>
                <a:lnTo>
                  <a:pt x="1347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3657600"/>
            <a:ext cx="5181480" cy="1981080"/>
          </a:xfrm>
          <a:custGeom>
            <a:avLst/>
            <a:gdLst/>
            <a:ahLst/>
            <a:rect l="l" t="t" r="r" b="b"/>
            <a:pathLst>
              <a:path w="2764" h="1245">
                <a:moveTo>
                  <a:pt x="0" y="0"/>
                </a:moveTo>
                <a:lnTo>
                  <a:pt x="0" y="1244"/>
                </a:lnTo>
                <a:lnTo>
                  <a:pt x="2763" y="124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52800" y="361008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52800" y="380700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152800" y="400356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152800" y="420228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152800" y="439884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152800" y="459756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52800" y="479412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152800" y="499284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152800" y="518940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52800" y="538632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56604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12612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68656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4988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1176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37184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3372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9416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5748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61792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08280" y="4505400"/>
            <a:ext cx="918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473880" y="578484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377360" y="312408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03880" y="3214800"/>
            <a:ext cx="4269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60360" y="3214800"/>
            <a:ext cx="3873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cc33"/>
                </a:solidFill>
                <a:latin typeface="Arial"/>
              </a:rPr>
              <a:t>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446160" y="3214800"/>
            <a:ext cx="3873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132320" y="3214800"/>
            <a:ext cx="4071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00"/>
                </a:solidFill>
                <a:latin typeface="Arial"/>
              </a:rPr>
              <a:t>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608080" y="3214800"/>
            <a:ext cx="3049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392240" y="3170160"/>
            <a:ext cx="3049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20280" y="3214800"/>
            <a:ext cx="4741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82040" y="3214800"/>
            <a:ext cx="4741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371600" y="1905120"/>
            <a:ext cx="678168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Probability is measured by the area under the curv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770360" y="3519360"/>
            <a:ext cx="53352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7663B-614D-4534-8948-444BD824E39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600200" y="3048120"/>
            <a:ext cx="5486400" cy="243828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13680" y="281952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95680" y="3505320"/>
            <a:ext cx="2438640" cy="190476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133720" y="3505320"/>
            <a:ext cx="2344680" cy="190476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95680" y="3505320"/>
            <a:ext cx="0" cy="19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86600" y="5334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43400" y="5334120"/>
            <a:ext cx="479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robability as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rea Under the Curv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464832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73392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66680" y="16765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tal area under the curve is 1.0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, and the curve is symmetric, so half is above the mean, half is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2971800" y="5867280"/>
                <a:ext cx="35179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5562720" y="3124080"/>
                <a:ext cx="27320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1752480" y="2971800"/>
                <a:ext cx="29275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 flipH="1">
            <a:off x="4952880" y="358128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00400" y="3429000"/>
            <a:ext cx="76212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295AC-ECBA-4BD4-ABB7-1A5A804A24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mpirical Ru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47960" y="3200400"/>
            <a:ext cx="419076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±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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encloses about 68% of x’s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752480" y="2971800"/>
            <a:ext cx="5029200" cy="243828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42280" y="281952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429000"/>
            <a:ext cx="2438280" cy="19051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429000"/>
            <a:ext cx="2344680" cy="19051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505320"/>
            <a:ext cx="0" cy="190476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1680" y="5334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548640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29000" y="4191120"/>
            <a:ext cx="0" cy="12189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91120" y="4191120"/>
            <a:ext cx="76176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4191120"/>
            <a:ext cx="76212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4191120"/>
            <a:ext cx="0" cy="12189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1120" y="5562720"/>
            <a:ext cx="76176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29000" y="5562720"/>
            <a:ext cx="76212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648320" y="5486400"/>
            <a:ext cx="91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</a:t>
            </a: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971800" y="5486400"/>
            <a:ext cx="91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</a:t>
            </a: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" y="17524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What can we say about the distribution of values around the mean?  There are some general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43400" y="411480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57600" y="411480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429000" y="6019920"/>
            <a:ext cx="152388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660120" y="59436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68.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39969-1701-4791-8CEA-1DD5E867CD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Empirical Ru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±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s about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95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x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±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s about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99.7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x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209680" y="3276720"/>
            <a:ext cx="1935360" cy="1279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880" y="3276720"/>
            <a:ext cx="1860840" cy="1279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209680" y="3276720"/>
            <a:ext cx="1800" cy="127944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14800" y="4572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057400" y="4572000"/>
            <a:ext cx="38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90720" y="4267080"/>
            <a:ext cx="0" cy="990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209680" y="4495680"/>
            <a:ext cx="129564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90720" y="4495680"/>
            <a:ext cx="121896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05320" y="4267080"/>
            <a:ext cx="0" cy="990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8600" y="4648320"/>
            <a:ext cx="405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61880" y="411948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04880" y="411948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29400" y="3276720"/>
            <a:ext cx="1935000" cy="1279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800600" y="3276720"/>
            <a:ext cx="1860480" cy="1279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629400" y="3276720"/>
            <a:ext cx="1440" cy="127944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534520" y="4572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77120" y="4572000"/>
            <a:ext cx="38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648320" y="4648320"/>
            <a:ext cx="405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876920" y="4343400"/>
            <a:ext cx="0" cy="9144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534520" y="4343400"/>
            <a:ext cx="0" cy="9144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29400" y="4419720"/>
            <a:ext cx="190512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76920" y="4419720"/>
            <a:ext cx="175248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57920" y="404352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924600" y="404352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90720" y="5181480"/>
            <a:ext cx="251460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5181480"/>
            <a:ext cx="3657600" cy="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71120" y="51814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5.4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98400" y="51814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99.7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67480" y="11430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17AD5-4BDF-410F-8C1E-6F74440A8E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23520" y="3805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mportance of the Ru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value i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 or 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s away from the mean in a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, then it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nce that a value that far or far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ay from the mean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ighly unlik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articular mean and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98BAA-4BD5-463D-9475-8FD99D599B2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Standard Normal Distribu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so known as the “z” distrib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Mean is defined to be 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Standard Deviation is 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99120" y="3813120"/>
            <a:ext cx="1430280" cy="114480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70280" y="3813120"/>
            <a:ext cx="1430280" cy="114480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3886200"/>
            <a:ext cx="0" cy="106668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3809880"/>
            <a:ext cx="3005280" cy="121464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98640" y="37432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798640" y="38656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798640" y="39862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798640" y="41083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798640" y="42292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798640" y="43513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98640" y="44719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98640" y="45943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98640" y="47149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98640" y="48355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1652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51664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21496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1508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61484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31496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01472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71484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41316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11292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85960" y="4259160"/>
            <a:ext cx="9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22800" y="49338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48006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285280" y="3352680"/>
            <a:ext cx="64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495288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267080" y="4343400"/>
            <a:ext cx="53352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419720" y="4267080"/>
            <a:ext cx="479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38080" y="54864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above the mean ha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-values, values below the mean ha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-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1207-A479-4663-BB33-467E2CEF5B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Standard Norm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3124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rmal distribution (with any mean and standard deviation combination) can be transformed into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ndard nor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stribution (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transform  x  units into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z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D403E-FF62-4607-95E4-889E41BE0D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Translation to the Standard Normal Distribu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rom x to the standard normal (the “z” distribution) by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ubtracting the 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x an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viding by its standard dev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3200400" y="3657600"/>
                <a:ext cx="26686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1D856-A598-4365-B2B3-89DF736427B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257800" y="380988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257440" y="5257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257440" y="5943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599840" y="5257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599840" y="5943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599840" y="4572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obability Distrib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2743200"/>
            <a:ext cx="220968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2590920"/>
            <a:ext cx="3810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80988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343400"/>
            <a:ext cx="1676160" cy="45468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5715000"/>
            <a:ext cx="2971800" cy="82044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geometric (not cove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029200"/>
            <a:ext cx="3352680" cy="45468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son (not cove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743200"/>
            <a:ext cx="2209680" cy="118620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257440" y="4572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4343400"/>
            <a:ext cx="167652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5029200"/>
            <a:ext cx="167652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5715000"/>
            <a:ext cx="2590920" cy="820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(not cove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E949D-58C5-475A-AA69-C8789204A03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 x  is distributed normally with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ean of 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ndard deviation of 5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 z  value for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 = 250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This says that  x = 250  is three standard deviations (3 increments of 50 units) above the mean of 1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1943280" y="3276720"/>
                <a:ext cx="5448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7C438-FB48-499D-A97D-E148BC05085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paring  x  and  z  uni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1828800" y="1981080"/>
            <a:ext cx="2243160" cy="168120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70040" y="244800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70040" y="25700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70040" y="26906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70040" y="28130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70040" y="29336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570040" y="30560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70040" y="31766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70040" y="32986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70040" y="34196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70040" y="35402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58792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28804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8636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8648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8624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8636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78612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48624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8456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8432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457360" y="2963880"/>
            <a:ext cx="921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994200" y="36385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629400" y="4267080"/>
            <a:ext cx="380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33920" y="3809880"/>
            <a:ext cx="914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410080" y="4267080"/>
            <a:ext cx="990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038480" y="1981080"/>
            <a:ext cx="2102040" cy="168120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76520" y="3733920"/>
            <a:ext cx="4572000" cy="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86200" y="4267080"/>
            <a:ext cx="479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34120" y="3809880"/>
            <a:ext cx="990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629400" y="380988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38080" y="49528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te that the distribution is the same, only the scale has changed.  We can express the problem in original units (x) or in standardized units 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8480" y="1981080"/>
            <a:ext cx="0" cy="175284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715000" y="3581280"/>
            <a:ext cx="0" cy="15264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629400" y="1981080"/>
            <a:ext cx="1371600" cy="1015920"/>
          </a:xfrm>
          <a:prstGeom prst="rect">
            <a:avLst/>
          </a:prstGeom>
          <a:noFill/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=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4952520" y="2438280"/>
            <a:ext cx="1676520" cy="457200"/>
          </a:xfrm>
          <a:prstGeom prst="line">
            <a:avLst/>
          </a:prstGeom>
          <a:ln w="1260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DB18A-214E-4F46-8037-9DAC640A0F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553080" y="5105520"/>
            <a:ext cx="0" cy="30456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791320" y="4191120"/>
            <a:ext cx="75960" cy="1218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780160" y="4191120"/>
            <a:ext cx="812880" cy="1214280"/>
          </a:xfrm>
          <a:custGeom>
            <a:avLst/>
            <a:gdLst/>
            <a:ahLst/>
            <a:rect l="l" t="t" r="r" b="b"/>
            <a:pathLst>
              <a:path w="512" h="765">
                <a:moveTo>
                  <a:pt x="23" y="19"/>
                </a:moveTo>
                <a:cubicBezTo>
                  <a:pt x="20" y="2"/>
                  <a:pt x="14" y="16"/>
                  <a:pt x="17" y="17"/>
                </a:cubicBezTo>
                <a:cubicBezTo>
                  <a:pt x="20" y="18"/>
                  <a:pt x="35" y="25"/>
                  <a:pt x="43" y="27"/>
                </a:cubicBezTo>
                <a:cubicBezTo>
                  <a:pt x="61" y="29"/>
                  <a:pt x="48" y="21"/>
                  <a:pt x="65" y="27"/>
                </a:cubicBezTo>
                <a:cubicBezTo>
                  <a:pt x="80" y="32"/>
                  <a:pt x="83" y="33"/>
                  <a:pt x="95" y="43"/>
                </a:cubicBezTo>
                <a:cubicBezTo>
                  <a:pt x="123" y="64"/>
                  <a:pt x="138" y="88"/>
                  <a:pt x="167" y="106"/>
                </a:cubicBezTo>
                <a:cubicBezTo>
                  <a:pt x="180" y="144"/>
                  <a:pt x="215" y="179"/>
                  <a:pt x="245" y="208"/>
                </a:cubicBezTo>
                <a:cubicBezTo>
                  <a:pt x="259" y="248"/>
                  <a:pt x="272" y="246"/>
                  <a:pt x="296" y="280"/>
                </a:cubicBezTo>
                <a:cubicBezTo>
                  <a:pt x="304" y="292"/>
                  <a:pt x="315" y="306"/>
                  <a:pt x="327" y="313"/>
                </a:cubicBezTo>
                <a:cubicBezTo>
                  <a:pt x="333" y="317"/>
                  <a:pt x="339" y="340"/>
                  <a:pt x="339" y="340"/>
                </a:cubicBezTo>
                <a:cubicBezTo>
                  <a:pt x="348" y="366"/>
                  <a:pt x="360" y="368"/>
                  <a:pt x="374" y="391"/>
                </a:cubicBezTo>
                <a:cubicBezTo>
                  <a:pt x="386" y="409"/>
                  <a:pt x="416" y="440"/>
                  <a:pt x="431" y="458"/>
                </a:cubicBezTo>
                <a:cubicBezTo>
                  <a:pt x="450" y="482"/>
                  <a:pt x="447" y="510"/>
                  <a:pt x="471" y="526"/>
                </a:cubicBezTo>
                <a:cubicBezTo>
                  <a:pt x="480" y="553"/>
                  <a:pt x="494" y="532"/>
                  <a:pt x="494" y="571"/>
                </a:cubicBezTo>
                <a:cubicBezTo>
                  <a:pt x="494" y="765"/>
                  <a:pt x="512" y="743"/>
                  <a:pt x="326" y="750"/>
                </a:cubicBezTo>
                <a:cubicBezTo>
                  <a:pt x="308" y="752"/>
                  <a:pt x="290" y="757"/>
                  <a:pt x="272" y="756"/>
                </a:cubicBezTo>
                <a:cubicBezTo>
                  <a:pt x="220" y="755"/>
                  <a:pt x="116" y="745"/>
                  <a:pt x="116" y="745"/>
                </a:cubicBezTo>
                <a:cubicBezTo>
                  <a:pt x="75" y="731"/>
                  <a:pt x="60" y="731"/>
                  <a:pt x="19" y="745"/>
                </a:cubicBezTo>
                <a:cubicBezTo>
                  <a:pt x="0" y="646"/>
                  <a:pt x="28" y="594"/>
                  <a:pt x="49" y="513"/>
                </a:cubicBezTo>
                <a:cubicBezTo>
                  <a:pt x="13" y="288"/>
                  <a:pt x="9" y="166"/>
                  <a:pt x="5" y="23"/>
                </a:cubicBezTo>
                <a:cubicBezTo>
                  <a:pt x="4" y="0"/>
                  <a:pt x="44" y="19"/>
                  <a:pt x="23" y="19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Standard Normal Tab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Normal table in the textboo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Appendix 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the probability from the mean (z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a desired value for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419720" y="4184640"/>
            <a:ext cx="1400040" cy="1149480"/>
          </a:xfrm>
          <a:custGeom>
            <a:avLst/>
            <a:gdLst/>
            <a:ahLst/>
            <a:rect l="l" t="t" r="r" b="b"/>
            <a:pathLst>
              <a:path w="882" h="724">
                <a:moveTo>
                  <a:pt x="0" y="724"/>
                </a:moveTo>
                <a:lnTo>
                  <a:pt x="95" y="716"/>
                </a:lnTo>
                <a:lnTo>
                  <a:pt x="142" y="708"/>
                </a:lnTo>
                <a:lnTo>
                  <a:pt x="189" y="695"/>
                </a:lnTo>
                <a:lnTo>
                  <a:pt x="237" y="679"/>
                </a:lnTo>
                <a:lnTo>
                  <a:pt x="284" y="657"/>
                </a:lnTo>
                <a:lnTo>
                  <a:pt x="331" y="627"/>
                </a:lnTo>
                <a:lnTo>
                  <a:pt x="426" y="544"/>
                </a:lnTo>
                <a:lnTo>
                  <a:pt x="521" y="426"/>
                </a:lnTo>
                <a:lnTo>
                  <a:pt x="616" y="285"/>
                </a:lnTo>
                <a:lnTo>
                  <a:pt x="663" y="213"/>
                </a:lnTo>
                <a:lnTo>
                  <a:pt x="710" y="146"/>
                </a:lnTo>
                <a:lnTo>
                  <a:pt x="757" y="87"/>
                </a:lnTo>
                <a:lnTo>
                  <a:pt x="805" y="42"/>
                </a:lnTo>
                <a:lnTo>
                  <a:pt x="852" y="13"/>
                </a:lnTo>
                <a:lnTo>
                  <a:pt x="882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340760" y="52689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467480" y="53341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638680" y="541008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172200" y="5410080"/>
            <a:ext cx="99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2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91320" y="533412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91320" y="533412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91320" y="5334120"/>
            <a:ext cx="761760" cy="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47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6171840" y="449568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832360" y="4187880"/>
            <a:ext cx="1384560" cy="1139760"/>
          </a:xfrm>
          <a:custGeom>
            <a:avLst/>
            <a:gdLst/>
            <a:ahLst/>
            <a:rect l="l" t="t" r="r" b="b"/>
            <a:pathLst>
              <a:path w="872" h="718">
                <a:moveTo>
                  <a:pt x="872" y="718"/>
                </a:moveTo>
                <a:lnTo>
                  <a:pt x="777" y="710"/>
                </a:lnTo>
                <a:lnTo>
                  <a:pt x="730" y="702"/>
                </a:lnTo>
                <a:lnTo>
                  <a:pt x="683" y="689"/>
                </a:lnTo>
                <a:lnTo>
                  <a:pt x="635" y="673"/>
                </a:lnTo>
                <a:lnTo>
                  <a:pt x="587" y="651"/>
                </a:lnTo>
                <a:lnTo>
                  <a:pt x="540" y="621"/>
                </a:lnTo>
                <a:lnTo>
                  <a:pt x="445" y="538"/>
                </a:lnTo>
                <a:lnTo>
                  <a:pt x="350" y="420"/>
                </a:lnTo>
                <a:lnTo>
                  <a:pt x="256" y="279"/>
                </a:lnTo>
                <a:lnTo>
                  <a:pt x="208" y="207"/>
                </a:lnTo>
                <a:lnTo>
                  <a:pt x="161" y="140"/>
                </a:lnTo>
                <a:lnTo>
                  <a:pt x="114" y="81"/>
                </a:lnTo>
                <a:lnTo>
                  <a:pt x="66" y="36"/>
                </a:lnTo>
                <a:lnTo>
                  <a:pt x="18" y="1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114800" y="5410080"/>
            <a:ext cx="3422520" cy="1800"/>
          </a:xfrm>
          <a:custGeom>
            <a:avLst/>
            <a:gdLst/>
            <a:ahLst/>
            <a:rect l="l" t="t" r="r" b="b"/>
            <a:pathLst>
              <a:path w="2156" h="1">
                <a:moveTo>
                  <a:pt x="0" y="0"/>
                </a:moveTo>
                <a:lnTo>
                  <a:pt x="72" y="1"/>
                </a:lnTo>
                <a:lnTo>
                  <a:pt x="2156" y="1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8080" y="4191120"/>
            <a:ext cx="3429000" cy="90180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0 &lt; z &lt; 2.00) = .47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946AA-C1F3-4A53-91D5-36FCC6AEA5E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Probabilities for the Normal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Q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7162920" cy="324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5220F-574C-41D3-9E36-A89C1FF6CE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Probabilities for the Normal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Excel File normal_prob.x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135840" cy="369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8EA6B-4705-4C70-BA5A-0C56FC480F7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Probabilities for the Normal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applet from our 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349092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796F9-1225-4EC6-B3F9-E37F1DB1026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5257800" y="39625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52574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248520" y="2590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Uniform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105520" y="2743200"/>
            <a:ext cx="220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343400" y="25909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257440" y="4572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86400" y="4343400"/>
            <a:ext cx="1676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486400" y="5029200"/>
            <a:ext cx="1676520" cy="454680"/>
          </a:xfrm>
          <a:prstGeom prst="rect">
            <a:avLst/>
          </a:prstGeom>
          <a:solidFill>
            <a:srgbClr val="fcff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85B78-CD26-4BDD-85E0-6553A862C84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Uniform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uniform distrib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probability distribution that ha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qual proba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ll possible outcomes of the random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76C7E-F383-4BF1-A215-DF9DAA1C8A6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1981080" y="2286000"/>
            <a:ext cx="5029200" cy="220968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24720" y="1676520"/>
            <a:ext cx="51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inuous Uniform Dis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3581280" y="2362320"/>
                <a:ext cx="329724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otherwi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1752480" y="4724280"/>
            <a:ext cx="6324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(x) = value of the density function at any x valu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= lower limit of the interv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 = upper limit of the interv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Uniform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754380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429000" y="251460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133720" y="32004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37E8-F1F7-452A-94DB-784F1ECDEAA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905120" y="2819520"/>
            <a:ext cx="5333760" cy="91440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niform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4" name=""/>
          <p:cNvSpPr/>
          <p:nvPr/>
        </p:nvSpPr>
        <p:spPr>
          <a:xfrm>
            <a:off x="1295280" y="1676520"/>
            <a:ext cx="69343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iform Probability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the range   2 ≤ x ≤ 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819520" y="4419720"/>
            <a:ext cx="0" cy="12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819520" y="5638680"/>
            <a:ext cx="411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657600" y="4876920"/>
            <a:ext cx="2438280" cy="761760"/>
          </a:xfrm>
          <a:prstGeom prst="rect">
            <a:avLst/>
          </a:prstGeom>
          <a:solidFill>
            <a:srgbClr val="a0c7f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5053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8672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209680" y="4572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743200" y="48769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3048120"/>
            <a:ext cx="64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           = .25   for 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 x ≤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048120" y="32004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-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76720" y="281952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124080" y="3276720"/>
            <a:ext cx="72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0" y="5562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09680" y="3962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9B156-7D10-4E41-91EF-5CCBFEA68DC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screte random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ariable that can assume only a countable number of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ny possible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omplaints per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TV’s in a house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rings before the phone is answ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nly two possible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: male or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ctive: yes or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s peanut butter first vs. spreads jelly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crete Probability Distribu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37DE4-25DD-4E85-AF7E-3113571A11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1532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key discret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key continuous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, un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probabilities using PQRS or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d when to apply different distrib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d distributions to decisi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C14AD-7AB6-4D4F-9FAB-CD011E9C11A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ntinuous Probability Distribution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inuous random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ariable that can assume any value on a continuum (can assume an uncountable number of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ness of an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required to complete a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of 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, in i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an potentially take on any value, depending only on the ability to measure accu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716CC-1E90-450E-98EB-6A75C9D974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Binomial Distribu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racteristics of 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Binomial Distribu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A trial has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only two possible outcomes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 – “success” or “failure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There is a fixed number, n, of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identical tria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The trials of the experiment are i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ndependent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 of each oth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The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probability of a success, p, remains constant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 from trial to tri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If p represents the probability of a success, then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(1-p) = q  is the probability of a fail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45653-4CE0-408F-8695-BB206277F5B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Distribution Setting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 manufacturing plant labels items as either defective or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 firm bidding for a contract will either get the contract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 marketing research firm receives survey responses of “yes I will buy” or “no I will no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New job applicants either accept the offer or reje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436CE-DAAC-4C10-97B1-AC520574D79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unting Rule for Combina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mbin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an outcome of an experiment where x objects are selected from a group of n obje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778120" y="2857680"/>
                <a:ext cx="313056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447920" y="4572000"/>
            <a:ext cx="5638680" cy="15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! =n(n - 1)(n - 2) . . . (2)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! = x(x - 1)(x - 2) . . . (2)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! = 1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y defini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5C2A7-E11A-4E26-B664-089FC9A3A4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3880" y="1676520"/>
            <a:ext cx="5410440" cy="137160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3276720"/>
            <a:ext cx="5638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x) = probability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cesses in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ial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ty of succes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each 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 =   number of ‘successes’ in sampl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= 0, 1, 2, ...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=   probability of “success” per 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=   probability of “failure” = (1 –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=   number of trials (sample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84440" y="2279520"/>
            <a:ext cx="153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5440" y="1981080"/>
            <a:ext cx="928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120" y="167652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49000" y="2279520"/>
            <a:ext cx="6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2200" y="229536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4520" y="229536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1120" y="198108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4640" y="198108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48240" y="1889280"/>
            <a:ext cx="370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1905120"/>
            <a:ext cx="352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8560" y="1882800"/>
            <a:ext cx="336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94080" y="167652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82520" y="227952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49200" y="227952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25880" y="227952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93520" y="1981080"/>
            <a:ext cx="50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84000" y="227952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9960" y="1882800"/>
            <a:ext cx="380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10480" y="4651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3733920"/>
            <a:ext cx="2971800" cy="236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3733920"/>
            <a:ext cx="2895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lip a coin four times, let  x = # hea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 - .5) = 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0, 1, 2, 3,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Distribution Formula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25EB1-E944-4453-9915-1AFD3EA7F4D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christine natalia</cp:lastModifiedBy>
  <cp:lastPrinted>1998-11-22T23:37:53Z</cp:lastPrinted>
  <dcterms:modified xsi:type="dcterms:W3CDTF">2006-10-22T14:35:46Z</dcterms:modified>
  <cp:revision>76</cp:revision>
  <dc:subject>Chapter 5</dc:subject>
  <dc:title>Groebner lecture notes for chapter 5</dc:title>
</cp:coreProperties>
</file>