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4.png" ContentType="image/png"/>
  <Override PartName="/ppt/media/image11.jpeg" ContentType="image/jpeg"/>
  <Override PartName="/ppt/media/image17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A533-CD28-42F7-8345-357E3BA0F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EA24D-9F98-47C0-940D-BF9DC4C11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FFC5D-2C24-4FF7-AB12-A525B95BB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A0096-96FD-4C7A-95EC-E7656796C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33A89-BA3E-4C1B-82F3-A8493EDCE4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B16A5-8117-47FA-89F5-DB7CAD478F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86939-212A-49BE-AF80-BB0DD74C63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DD658-EE89-47A6-9FA0-A97BA79235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D97AC-B099-4C1C-8EDD-8BD850EA11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3BA5C-79C6-4CC5-8F5B-AD111A84F7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0A5D6-CF11-4550-A06C-28C0D4A5A4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3117E-7C9A-4A5F-9D73-388067F91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DDAF5-4082-4BD4-90DD-83F3D3A17D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DDD1D-AB49-4189-8DAC-C8CA7DD6CB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F5054-A311-4D58-97A6-3D876166B7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4D026-AA15-4C19-BBC4-EBB586A53A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69D99-CD32-4F22-8E0C-533AD54CAB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9A495-497E-4697-A830-F8E56636A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7C088-71B7-4A06-BC15-3A195ADD8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06E47-C0C9-4A49-97B8-DFA301F0C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07273-C18A-4406-990E-115E82995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76E4C-153F-4BEA-97FF-18034E1E5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93C16-790F-4445-BAC6-12726F615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A2C28-6F43-4906-A0CC-6D8E5B389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E3EE4548-6330-4165-8391-A57FFF4AC3D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17BC4B4B-BF3A-4EDF-8180-1540382B2BD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99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Where, Why, and How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4536A-757F-4531-ABB3-E4011CCDCD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pulation vs. S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90920"/>
            <a:ext cx="3581280" cy="26668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2774880"/>
            <a:ext cx="4508640" cy="27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2895480"/>
            <a:ext cx="2286000" cy="213372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281952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 b     c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   gh i  jk l   m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 p q   rs  t  u v 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 y     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1905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1905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289548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     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 i       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      r    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681AF-4166-47ED-8C8A-C9829113D4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Why Sample?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s time consu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a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s cos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dminister than a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ossible to obtain statistical results of a sufficiently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igh prec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sed on s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D5FC9-D331-4C5F-9E28-782386442E9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419720" y="2286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1880" y="3733920"/>
            <a:ext cx="0" cy="153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37339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ampling Techniq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4114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373392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3733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411480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5334120"/>
            <a:ext cx="1979640" cy="453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ven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1828800"/>
            <a:ext cx="160020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819520"/>
            <a:ext cx="541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2819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3429000"/>
            <a:ext cx="3124440" cy="673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n-Probability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4648320"/>
            <a:ext cx="182880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ud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2819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3352680"/>
            <a:ext cx="335304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bability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343400"/>
            <a:ext cx="1524240" cy="75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4419720"/>
            <a:ext cx="182880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yste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5486400"/>
            <a:ext cx="152388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ra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257800"/>
            <a:ext cx="129528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05816-2D8D-417F-8553-CF7A0313C2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tistical Sampl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of the sample are chosen based on known or calculable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4343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4343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3581280"/>
            <a:ext cx="0" cy="75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43434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3048120"/>
            <a:ext cx="3657600" cy="515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obability S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800600"/>
            <a:ext cx="1371600" cy="735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4343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4800600"/>
            <a:ext cx="167652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4343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4800600"/>
            <a:ext cx="144756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at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91520" y="4800600"/>
            <a:ext cx="121896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656DE-2085-477A-9735-333EFD63E5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imple Random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dividual or item from the population has a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qual ch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eing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may be with replacement or without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can be obtained from a table of random numbers or computer random number gen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952880" y="5181480"/>
          <a:ext cx="19814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5181480"/>
                    <a:ext cx="19814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D61E8-AB23-4BF6-B385-B4ED673694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7086600" y="3225960"/>
          <a:ext cx="1803240" cy="12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225960"/>
                    <a:ext cx="180324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ratified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divided into subgroups (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ccording to some common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random sample selected from each sub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from subgroups are combined into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05920" y="4952880"/>
            <a:ext cx="759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657600" cy="2166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248520" y="5181480"/>
            <a:ext cx="900000" cy="304920"/>
          </a:xfrm>
          <a:prstGeom prst="rightArrow">
            <a:avLst>
              <a:gd name="adj1" fmla="val 50000"/>
              <a:gd name="adj2" fmla="val 746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4800600"/>
            <a:ext cx="1447920" cy="1211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Pop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Divi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into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t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62920" y="6095880"/>
            <a:ext cx="106668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00"/>
                </a:solidFill>
                <a:latin typeface="Tahoma"/>
              </a:rPr>
              <a:t>Sam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05120" y="480024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905120" y="5181480"/>
            <a:ext cx="8380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410080"/>
            <a:ext cx="8380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5638680"/>
            <a:ext cx="7617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7162920" y="4724280"/>
            <a:ext cx="952560" cy="135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F823A-CE20-4062-A80E-2A3B2BC02C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sample size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frame of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s into groups of </a:t>
            </a:r>
            <a:r>
              <a:rPr b="0" lang="en-US" sz="2800" spc="-1" strike="noStrike">
                <a:solidFill>
                  <a:srgbClr val="dcb2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s:  </a:t>
            </a:r>
            <a:r>
              <a:rPr b="0" lang="en-US" sz="2800" spc="-1" strike="noStrike">
                <a:solidFill>
                  <a:srgbClr val="dcb2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select one individual from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every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 there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ystematic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5270400" y="4727520"/>
            <a:ext cx="3187800" cy="1677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048120" y="3581280"/>
          <a:ext cx="205740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581280"/>
                    <a:ext cx="20574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410080" y="4800600"/>
            <a:ext cx="2900520" cy="1522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362320" y="4876920"/>
            <a:ext cx="1131840" cy="1567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 =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k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65440" y="5533920"/>
            <a:ext cx="1798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4191120"/>
            <a:ext cx="144756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95680" y="5105160"/>
            <a:ext cx="990720" cy="53316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8F1C-8781-4279-8C4C-509ECC8F69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uster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s divided into several “clusters,” each representative of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random sample of clusters is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tems in the selected clusters can be used, or items can be chosen from a cluster using another probability sampling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181480" y="4038480"/>
          <a:ext cx="1609920" cy="11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038480"/>
                    <a:ext cx="160992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228600" y="4952880"/>
            <a:ext cx="1981080" cy="118620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divided into 16 clus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191120" y="5409720"/>
            <a:ext cx="304560" cy="3049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876920" y="5334120"/>
            <a:ext cx="0" cy="3808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105520"/>
            <a:ext cx="533520" cy="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248520" y="5409720"/>
            <a:ext cx="457200" cy="2286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743200" y="4876920"/>
          <a:ext cx="6095880" cy="46512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</a:tblGrid>
              <a:tr h="465120"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4267080" y="5638680"/>
            <a:ext cx="2590920" cy="69876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ly selected clusters for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4B0B3-3820-47D1-BDC9-CD08589629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Key Defini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9246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entire collection of things under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mmary measure computed to describe a characteristic 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ortion of the population selected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mmary measure computed to describe a characteristic of the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F8085-A2B4-4DFB-ABF8-2BE85040C7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3276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statements about a population by examining sampl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Sample statistic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66ffff"/>
                </a:solidFill>
                <a:latin typeface="Arial"/>
              </a:rPr>
              <a:t>  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Population paramet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known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unknown, but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e estima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ample evid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14600" y="3733920"/>
          <a:ext cx="5486400" cy="25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733920"/>
                    <a:ext cx="5486400" cy="25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tial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2895480"/>
            <a:ext cx="9144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0D127-044D-45B4-B992-1AAE7B78A3A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key data collec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key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vs. Secondary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ative vs. Qualitative data 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ries vs. Cross-Sectio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difference between descriptiv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tial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ifferent samp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B6658-6B81-4411-A403-4FEA5B0EDB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tial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5791320" cy="4227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Estimate the population mean weight using the sample mean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Use sample evidence to test the claim that the population mean weight is 120 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1523880"/>
            <a:ext cx="7467480" cy="673560"/>
          </a:xfrm>
          <a:prstGeom prst="rect">
            <a:avLst/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rawing conclusions and/or making decisions concerning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pulation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ased 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mp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312408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F8CBA-951A-4216-805B-52A124C29C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81080" y="1673280"/>
            <a:ext cx="6019920" cy="3505320"/>
            <a:chOff x="1981080" y="1673280"/>
            <a:chExt cx="6019920" cy="3505320"/>
          </a:xfrm>
        </p:grpSpPr>
        <p:cxnSp>
          <p:nvCxnSpPr>
            <p:cNvPr id="226" name="_s137262"/>
            <p:cNvCxnSpPr>
              <a:stCxn id="227" idx="0"/>
              <a:endCxn id="228" idx="2"/>
            </p:cNvCxnSpPr>
            <p:nvPr/>
          </p:nvCxnSpPr>
          <p:spPr>
            <a:xfrm flipV="1" rot="16200000">
              <a:off x="6476760" y="3844080"/>
              <a:ext cx="381600" cy="1067760"/>
            </a:xfrm>
            <a:prstGeom prst="bentConnector3">
              <a:avLst>
                <a:gd name="adj1" fmla="val 29933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29" name="_s137260"/>
            <p:cNvCxnSpPr>
              <a:stCxn id="230" idx="0"/>
              <a:endCxn id="228" idx="2"/>
            </p:cNvCxnSpPr>
            <p:nvPr/>
          </p:nvCxnSpPr>
          <p:spPr>
            <a:xfrm flipH="1" flipV="1" rot="5400000">
              <a:off x="5471640" y="3906360"/>
              <a:ext cx="381600" cy="943560"/>
            </a:xfrm>
            <a:prstGeom prst="bentConnector3">
              <a:avLst>
                <a:gd name="adj1" fmla="val 29933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31" name="_s137258"/>
            <p:cNvCxnSpPr>
              <a:stCxn id="228" idx="0"/>
              <a:endCxn id="232" idx="2"/>
            </p:cNvCxnSpPr>
            <p:nvPr/>
          </p:nvCxnSpPr>
          <p:spPr>
            <a:xfrm flipV="1" rot="16200000">
              <a:off x="5162760" y="2073600"/>
              <a:ext cx="418320" cy="1524600"/>
            </a:xfrm>
            <a:prstGeom prst="bentConnector3">
              <a:avLst>
                <a:gd name="adj1" fmla="val 27304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33" name="_s137256"/>
            <p:cNvCxnSpPr>
              <a:stCxn id="234" idx="0"/>
              <a:endCxn id="232" idx="2"/>
            </p:cNvCxnSpPr>
            <p:nvPr/>
          </p:nvCxnSpPr>
          <p:spPr>
            <a:xfrm flipH="1" flipV="1" rot="5400000">
              <a:off x="3588840" y="2023560"/>
              <a:ext cx="418320" cy="1624680"/>
            </a:xfrm>
            <a:prstGeom prst="bentConnector3">
              <a:avLst>
                <a:gd name="adj1" fmla="val 27304"/>
              </a:avLst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232" name="_s137254"/>
            <p:cNvSpPr/>
            <p:nvPr/>
          </p:nvSpPr>
          <p:spPr>
            <a:xfrm>
              <a:off x="3657600" y="1673280"/>
              <a:ext cx="1905120" cy="954000"/>
            </a:xfrm>
            <a:prstGeom prst="rect">
              <a:avLst/>
            </a:prstGeom>
            <a:solidFill>
              <a:srgbClr val="fdd29f">
                <a:alpha val="50000"/>
              </a:srgbClr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_s137255"/>
            <p:cNvSpPr/>
            <p:nvPr/>
          </p:nvSpPr>
          <p:spPr>
            <a:xfrm>
              <a:off x="1981080" y="3044880"/>
              <a:ext cx="2008440" cy="1143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lit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Categoric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_s137257"/>
            <p:cNvSpPr/>
            <p:nvPr/>
          </p:nvSpPr>
          <p:spPr>
            <a:xfrm>
              <a:off x="5105520" y="3044880"/>
              <a:ext cx="2057400" cy="114300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Quantitativ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(Numeric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_s137259"/>
            <p:cNvSpPr/>
            <p:nvPr/>
          </p:nvSpPr>
          <p:spPr>
            <a:xfrm>
              <a:off x="4419720" y="4568760"/>
              <a:ext cx="1542960" cy="60984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Discre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_s137261"/>
            <p:cNvSpPr/>
            <p:nvPr/>
          </p:nvSpPr>
          <p:spPr>
            <a:xfrm>
              <a:off x="6400800" y="4568760"/>
              <a:ext cx="1600200" cy="60984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Continu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371600" y="4267080"/>
            <a:ext cx="25146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rital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olitical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ye Co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283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Defined catego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5181480"/>
            <a:ext cx="228600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umber of Child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Defects per h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83c1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unted ite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5181480"/>
            <a:ext cx="22860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83c1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easured characteristic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5A9E5-1937-440E-B9D1-7DD9C5FC1A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ime Serie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ed data values observed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oss Secti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values observed at a fixed point i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EE181-2C3D-450E-B54D-6CE71E2688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990720" y="1981080"/>
          <a:ext cx="6400800" cy="2979720"/>
        </p:xfrm>
        <a:graphic>
          <a:graphicData uri="http://schemas.openxmlformats.org/drawingml/2006/table">
            <a:tbl>
              <a:tblPr/>
              <a:tblGrid>
                <a:gridCol w="1600200"/>
                <a:gridCol w="1219320"/>
                <a:gridCol w="1219320"/>
                <a:gridCol w="1218960"/>
                <a:gridCol w="114300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(in $1000’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la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o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leve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n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609480" y="2895480"/>
            <a:ext cx="7010640" cy="6098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2133720"/>
            <a:ext cx="1067040" cy="3124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96080" y="25909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ime Seri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5334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ross Sec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44400-50E1-434F-8A80-77CC1CAE38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Measurement Leve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057400"/>
            <a:ext cx="3746520" cy="56988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2133720"/>
            <a:ext cx="351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io/Interv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27200" y="3422520"/>
            <a:ext cx="4091040" cy="56988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44920" y="3494160"/>
            <a:ext cx="385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in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4870440"/>
            <a:ext cx="4495680" cy="56988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01840" y="4941720"/>
            <a:ext cx="454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in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1981080"/>
            <a:ext cx="21337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3352680"/>
            <a:ext cx="21333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-level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4800600"/>
            <a:ext cx="21337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st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4724280"/>
            <a:ext cx="2133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ical Codes ID Numbers                 Category 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3352680"/>
            <a:ext cx="2286000" cy="6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ed Categ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213372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403848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66688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6108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key data collec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key defin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vs. Secondary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ative vs. Qualitative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ries vs. Cross-Sectio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d descriptive vs. inferential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different sampl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data types and measurement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5B008-C846-4D7B-AE5E-AE7265520F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ptive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ng, presenting, and describ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22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erential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conclusions and/or making decisions concerning a population based only on sampl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ools of Business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4B901-3849-4689-A06B-CEAF90D854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escriptive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llect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, Survey, Observation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110000"/>
              </a:lnSpc>
              <a:spcBef>
                <a:spcPts val="236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resent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, Charts and grap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110000"/>
              </a:lnSpc>
              <a:spcBef>
                <a:spcPts val="236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haracterize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, Sample mean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1158840" cy="1295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867280" y="3581280"/>
            <a:ext cx="1600200" cy="125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952880" y="5257800"/>
                <a:ext cx="739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60CD8-1560-4BD6-A2F7-76D0D99F4B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Sourc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3276720"/>
            <a:ext cx="0" cy="60948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2590920"/>
            <a:ext cx="0" cy="54612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1752480"/>
            <a:ext cx="2819520" cy="912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1752480"/>
            <a:ext cx="2743200" cy="876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2698920"/>
            <a:ext cx="0" cy="57780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3440" y="3276720"/>
            <a:ext cx="2752560" cy="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276720"/>
            <a:ext cx="0" cy="50796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809880"/>
            <a:ext cx="236196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3276720"/>
            <a:ext cx="0" cy="190476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5181480"/>
            <a:ext cx="327672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peri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3886200"/>
            <a:ext cx="144792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urv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3124080"/>
            <a:ext cx="381024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int or Electronic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781680" y="3733920"/>
          <a:ext cx="17528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733920"/>
                    <a:ext cx="17528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952880" y="4267080"/>
          <a:ext cx="83844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267080"/>
                    <a:ext cx="8384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772400" y="4419720"/>
          <a:ext cx="99072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72400" y="4419720"/>
                    <a:ext cx="9907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152280" y="3200400"/>
            <a:ext cx="762120" cy="579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3505320" y="4876920"/>
            <a:ext cx="1063440" cy="115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386D8-6A44-4D93-857A-91F24573BC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urvey Design Ste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urpose and objectives of the surv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population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survey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questions clear and unamb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universally-accepted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the number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BA2FB-21E9-4F46-A0BF-0CBF62BA6E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urvey Design Ste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test the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 test with a small group of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clarity and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sample size and sampling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Sample and administer the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CF634-F9EF-4254-94D5-D3DC38F0BC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Ques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d-en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from a short list of defined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jor:   __busi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liberal art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sc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oth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en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dents are free to respond with any value, words, or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did you like best about this cour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graphic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 about the respondents’ personal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:  __Female   __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2438280"/>
            <a:ext cx="69343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191120"/>
            <a:ext cx="7010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5791320"/>
            <a:ext cx="69343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F8194-1F89-49A7-8F54-BDD0CB5AD7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et of all items or individuals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likely voters in the next election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rts produce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ales receipts for Nov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et of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 voters selected at random for int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parts selected for destructiv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10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ceipt selected for au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pulations and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819520"/>
            <a:ext cx="7848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4724280"/>
            <a:ext cx="78483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B1FF1-0BAE-419A-B8FC-F07643F75ED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Gé Groenewegen</cp:lastModifiedBy>
  <cp:lastPrinted>1998-11-22T23:37:53Z</cp:lastPrinted>
  <dcterms:modified xsi:type="dcterms:W3CDTF">2005-03-20T08:27:44Z</dcterms:modified>
  <cp:revision>61</cp:revision>
  <dc:subject>Chapter 1</dc:subject>
  <dc:title>Groebner lecture notes for chapter 1</dc:title>
</cp:coreProperties>
</file>