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4.png" ContentType="image/png"/>
  <Override PartName="/ppt/media/image11.jpeg" ContentType="image/jpeg"/>
  <Override PartName="/ppt/media/image17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0A26-98BB-4D43-B9C0-D480C0E9F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5D14-A0E1-4D2A-9C23-0EB9A6231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E9B1-908D-4249-B449-0CA00910F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6885-C2EB-47B8-9EC2-0E4931CDA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6C377-5B20-4210-A71C-FCC79F5E38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80264-A707-40B6-9CE7-D9F4300158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27C17-BC43-42D5-A146-DEDB706DB0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A3AB3-F108-4A9A-BF14-4FEDE0DED8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01DD9-061F-47C6-A22F-6114F563A6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888AE-76CC-4710-ACCE-6CE2E6F210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36921-5FA3-49CC-9C39-9CBEA939AC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0E8AB-3A46-4BF4-881A-A7A018C9F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AA0AD-1370-4C83-84A4-9A796DD56A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E4229-3D64-4EBB-9980-01CFC380B6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A7D39-3B1C-45F5-A513-A1030207A7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F96C0-22F1-461F-9420-E3E669F655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BD706-A856-4209-83EA-27C5FECD59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710D-AC8C-4063-B3F9-3484C185A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59000-0F8C-41FF-BC26-06E963761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6A78-4A68-4B45-82D0-44B1F4B2E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D000-8A69-4D6E-AA2F-F15BEFD16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E0CA-79C9-46E3-AB7A-C93463D04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B768-C71C-4AF9-A6E0-ED35E0039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D491-FAA4-477B-A3EC-10C70519A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1175A1EC-7920-49E7-B6FE-5ABE83DAAED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9C1F49F7-27FF-4A1A-AA60-94257822556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Where, Why, and How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34DB0-E9FA-4B5D-8A3E-5C8CE78508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vs. S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90920"/>
            <a:ext cx="3581280" cy="26668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2774880"/>
            <a:ext cx="45086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895480"/>
            <a:ext cx="2286000" cy="21337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281952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 b     c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   gh i  jk l   m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 p q   rs  t  u v 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 y 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905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     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 i   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      r   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E0D3-B0FA-4EFA-8B74-58EAEC4DE3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y Sample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time consu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cos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dminister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obtain statistical results of a sufficientl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 pr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8C46-A165-404E-82BB-2C4F1C65A45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197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1880" y="3733920"/>
            <a:ext cx="0" cy="15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7339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ampling Techniq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114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37339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4114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334120"/>
            <a:ext cx="1979640" cy="453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828800"/>
            <a:ext cx="16002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8195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429000"/>
            <a:ext cx="3124440" cy="673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n-Probability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4648320"/>
            <a:ext cx="182880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819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3352680"/>
            <a:ext cx="335304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343400"/>
            <a:ext cx="1524240" cy="75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4419720"/>
            <a:ext cx="182880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5486400"/>
            <a:ext cx="15238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257800"/>
            <a:ext cx="12952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5651E-7C07-4F26-BBC1-CCF4CFAE22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tistical Sampl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of the sample are chosen based on known or calculable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34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581280"/>
            <a:ext cx="0" cy="75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343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3048120"/>
            <a:ext cx="3657600" cy="515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800600"/>
            <a:ext cx="1371600" cy="73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4800600"/>
            <a:ext cx="167652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4800600"/>
            <a:ext cx="14475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4800600"/>
            <a:ext cx="12189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63E7-760B-4FAC-8374-618E2F15CF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mple Random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dividual or item from the population has a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qual ch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eing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may be with replacement or 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can be obtained from a table of random numbers or computer random number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952880" y="5181480"/>
          <a:ext cx="19814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5181480"/>
                    <a:ext cx="1981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0DCB1-100B-4355-8EB4-D71977B67E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7086600" y="3225960"/>
          <a:ext cx="18032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225960"/>
                    <a:ext cx="18032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ratifie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divided into subgroups (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ccording to some common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andom sample selected from each sub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from subgroups are combined into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4952880"/>
            <a:ext cx="759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657600" cy="2166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248520" y="5181480"/>
            <a:ext cx="900000" cy="304920"/>
          </a:xfrm>
          <a:prstGeom prst="rightArrow">
            <a:avLst>
              <a:gd name="adj1" fmla="val 50000"/>
              <a:gd name="adj2" fmla="val 746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800600"/>
            <a:ext cx="1447920" cy="121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Divi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into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t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6095880"/>
            <a:ext cx="106668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Tahoma"/>
              </a:rPr>
              <a:t>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5120" y="480024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905120" y="51814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410080"/>
            <a:ext cx="8380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5638680"/>
            <a:ext cx="7617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162920" y="4724280"/>
            <a:ext cx="952560" cy="13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FE47C-306F-406C-B8D3-C4675489B3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sample siz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frame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 into groups of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: 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 one individual from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ever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 there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ystematic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270400" y="4727520"/>
            <a:ext cx="3187800" cy="167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48120" y="3581280"/>
          <a:ext cx="20574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581280"/>
                    <a:ext cx="2057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410080" y="4800600"/>
            <a:ext cx="2900520" cy="1522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362320" y="4876920"/>
            <a:ext cx="1131840" cy="156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 =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k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65440" y="5533920"/>
            <a:ext cx="1798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191120"/>
            <a:ext cx="144756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5105160"/>
            <a:ext cx="990720" cy="5331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64B0-36BE-410B-A8A4-34F4412DC3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uster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divided into several “clusters,” each representative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random sample of clusters is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tems in the selected clusters can be used, or items can be chosen from a cluster using another probability sampl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81480" y="4038480"/>
          <a:ext cx="16099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038480"/>
                    <a:ext cx="16099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8600" y="4952880"/>
            <a:ext cx="1981080" cy="118620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divided into 16 clu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191120" y="5409720"/>
            <a:ext cx="304560" cy="3049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876920" y="5334120"/>
            <a:ext cx="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105520"/>
            <a:ext cx="53352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248520" y="5409720"/>
            <a:ext cx="457200" cy="2286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43200" y="4876920"/>
          <a:ext cx="6095880" cy="46512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465120"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4267080" y="5638680"/>
            <a:ext cx="2590920" cy="69876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ly selected clusters for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8EFC-F3EB-45A8-B4A5-686FFABFC2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Key Defini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ntire collection of things unde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ortion of the population selected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2058-C51B-4B4B-AC1C-C8F44CE986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tatements about a population by examining samp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ample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opulation paramet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known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unknown, but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 estima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mple evi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14600" y="3733920"/>
          <a:ext cx="54864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733920"/>
                    <a:ext cx="54864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2895480"/>
            <a:ext cx="9144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FA52-40A4-4CAD-A2CB-4ED99B67E7B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key data col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key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ifference between descriptiv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ifferent samp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2ACCF-84FD-42A4-8411-E43CE63879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5791320" cy="4227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Estimate the population mean weight using the sample mean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Use sample evidence to test the claim that the population mean weight is 120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523880"/>
            <a:ext cx="7467480" cy="673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rawing conclusions and/or making decisions concerning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31240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D46E-EEF9-4047-9D24-934E3975F6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81080" y="1673280"/>
            <a:ext cx="6019920" cy="3505320"/>
            <a:chOff x="1981080" y="1673280"/>
            <a:chExt cx="6019920" cy="3505320"/>
          </a:xfrm>
        </p:grpSpPr>
        <p:cxnSp>
          <p:nvCxnSpPr>
            <p:cNvPr id="226" name="_s137262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6476760" y="3844080"/>
              <a:ext cx="381600" cy="10677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29" name="_s137260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5471640" y="3906360"/>
              <a:ext cx="381600" cy="9435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1" name="_s137258"/>
            <p:cNvCxnSpPr>
              <a:stCxn id="228" idx="0"/>
              <a:endCxn id="232" idx="2"/>
            </p:cNvCxnSpPr>
            <p:nvPr/>
          </p:nvCxnSpPr>
          <p:spPr>
            <a:xfrm flipV="1" rot="16200000">
              <a:off x="5162760" y="2073600"/>
              <a:ext cx="418320" cy="152460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3" name="_s137256"/>
            <p:cNvCxnSpPr>
              <a:stCxn id="234" idx="0"/>
              <a:endCxn id="232" idx="2"/>
            </p:cNvCxnSpPr>
            <p:nvPr/>
          </p:nvCxnSpPr>
          <p:spPr>
            <a:xfrm flipH="1" flipV="1" rot="5400000">
              <a:off x="3588840" y="2023560"/>
              <a:ext cx="418320" cy="162468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232" name="_s137254"/>
            <p:cNvSpPr/>
            <p:nvPr/>
          </p:nvSpPr>
          <p:spPr>
            <a:xfrm>
              <a:off x="3657600" y="1673280"/>
              <a:ext cx="1905120" cy="954000"/>
            </a:xfrm>
            <a:prstGeom prst="rect">
              <a:avLst/>
            </a:prstGeom>
            <a:solidFill>
              <a:srgbClr val="fdd29f">
                <a:alpha val="50000"/>
              </a:srgbClr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137255"/>
            <p:cNvSpPr/>
            <p:nvPr/>
          </p:nvSpPr>
          <p:spPr>
            <a:xfrm>
              <a:off x="1981080" y="3044880"/>
              <a:ext cx="2008440" cy="1143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lit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ategoric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_s137257"/>
            <p:cNvSpPr/>
            <p:nvPr/>
          </p:nvSpPr>
          <p:spPr>
            <a:xfrm>
              <a:off x="5105520" y="3044880"/>
              <a:ext cx="2057400" cy="114300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Quantitativ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(Numeric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_s137259"/>
            <p:cNvSpPr/>
            <p:nvPr/>
          </p:nvSpPr>
          <p:spPr>
            <a:xfrm>
              <a:off x="4419720" y="4568760"/>
              <a:ext cx="154296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Discr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_s137261"/>
            <p:cNvSpPr/>
            <p:nvPr/>
          </p:nvSpPr>
          <p:spPr>
            <a:xfrm>
              <a:off x="6400800" y="4568760"/>
              <a:ext cx="160020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Continu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371600" y="4267080"/>
            <a:ext cx="2514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rital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itical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ye Co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283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efined catego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5181480"/>
            <a:ext cx="22860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umber of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fects per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unted ite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5181480"/>
            <a:ext cx="22860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easured characterist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B7CB-245F-47E6-92D4-83A07CEB6C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ata values observed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oss Sec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ues observed at a fixed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B59A-A3CF-4C3C-90EC-34E9E14E74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90720" y="1981080"/>
          <a:ext cx="6400800" cy="297972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219320"/>
                <a:gridCol w="1218960"/>
                <a:gridCol w="114300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in $1000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la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ev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n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609480" y="2895480"/>
            <a:ext cx="7010640" cy="6098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2133720"/>
            <a:ext cx="106704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90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ime Seri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5334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ross Se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6B2B-C227-44DC-B95F-4B761D0AD5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Measurement Leve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057400"/>
            <a:ext cx="374652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133720"/>
            <a:ext cx="351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/Interv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27200" y="3422520"/>
            <a:ext cx="409104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44920" y="3494160"/>
            <a:ext cx="385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4870440"/>
            <a:ext cx="449568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01840" y="4941720"/>
            <a:ext cx="454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198108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3352680"/>
            <a:ext cx="2133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leve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480060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724280"/>
            <a:ext cx="2133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 Codes ID Numbers                 Category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3352680"/>
            <a:ext cx="2286000" cy="6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213372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40384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ata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key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escriptive vs. inferenti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different sampl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data types and measurem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B690-E32D-46DE-9C92-73A4A2EA26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, presenting, and describ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2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conclusions and/or making decisions concerning a population based only on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ools of Business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AEEB-7D5D-4051-8998-FB587073A6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scriptive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lec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Survey, Observation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esen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Charts and grap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aracterize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Sample mean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15884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1600200" cy="125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52880" y="5257800"/>
                <a:ext cx="739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C16C8-797A-43C9-9179-C76BAC8EA2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Sour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276720"/>
            <a:ext cx="0" cy="60948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2590920"/>
            <a:ext cx="0" cy="54612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752480"/>
            <a:ext cx="2819520" cy="91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752480"/>
            <a:ext cx="2743200" cy="87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698920"/>
            <a:ext cx="0" cy="57780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3440" y="3276720"/>
            <a:ext cx="275256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276720"/>
            <a:ext cx="0" cy="5079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809880"/>
            <a:ext cx="236196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276720"/>
            <a:ext cx="0" cy="19047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181480"/>
            <a:ext cx="32767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886200"/>
            <a:ext cx="14479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124080"/>
            <a:ext cx="381024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int or Electronic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1680" y="3733920"/>
          <a:ext cx="1752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733920"/>
                    <a:ext cx="1752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952880" y="4267080"/>
          <a:ext cx="83844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670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772400" y="4419720"/>
          <a:ext cx="9907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4419720"/>
                    <a:ext cx="990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52280" y="3200400"/>
            <a:ext cx="762120" cy="579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505320" y="4876920"/>
            <a:ext cx="1063440" cy="115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17EF-A62A-457E-84B6-6418F13F2F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rvey Design Ste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urpose and objectives of the surv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opulation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surv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questions clear and unamb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universally-accepte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he number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0D83-C343-4300-97A1-DBC7DA0851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rvey Design Ste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test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 with a small group of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larity and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sample size and samp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ample and administer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B825-0BA9-4BBD-BDDC-E5F7E97E0D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Ques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-en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from a short list of define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jor:   __bu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liberal art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o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s are free to respond with any value, words, or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did you like best about this cour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about the respondents’ person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 __Female   __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438280"/>
            <a:ext cx="6934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191120"/>
            <a:ext cx="7010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791320"/>
            <a:ext cx="6934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5B52-3A32-4D6E-BE30-F44DA50561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all items or individual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ikely voters in the next election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rts produce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ales receipts for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et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voters selected at random for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parts selected for destructiv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1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eipt selected for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s an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819520"/>
            <a:ext cx="7848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4724280"/>
            <a:ext cx="7848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47BF-CEF3-4A29-847C-31DC891EA2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Gé Groenewegen</cp:lastModifiedBy>
  <cp:lastPrinted>1998-11-22T23:37:53Z</cp:lastPrinted>
  <dcterms:modified xsi:type="dcterms:W3CDTF">2005-03-20T08:27:44Z</dcterms:modified>
  <cp:revision>61</cp:revision>
  <dc:subject>Chapter 1</dc:subject>
  <dc:title>Groebner lecture notes for chapter 1</dc:title>
</cp:coreProperties>
</file>