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4.png" ContentType="image/png"/>
  <Override PartName="/ppt/media/image11.jpeg" ContentType="image/jpeg"/>
  <Override PartName="/ppt/media/image17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090EF-CE2B-4F29-BCA7-A0EB1D35E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B9223-2CF8-4F3B-8108-8B49B57E57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EB750-62C2-477E-B341-D6507FBE1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8B163-1EA8-468A-A8B0-17E9A5520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30F96-459A-46C3-8FA0-619AE47DC3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E74C9A-3406-48D9-88FC-E145B916FF9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73D5F4-64BF-45F9-8B59-F28F528844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1DE3D-A575-4449-AA44-2C7CF5C2E8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DBEC4-E899-48EF-94BA-8C6FA1812C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C63EE-6856-4357-997B-FBF0A35C1A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833BA-999D-44B5-BE4B-4396073028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4C22-BA83-4794-993B-8290FD63F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128C5-2AFC-4446-AEEE-DEC519CFD7C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3C9603-DF53-4692-8669-B4B37B91B6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04369-AED3-4B4A-AC70-EB66BB8E14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37D39-F798-4865-A82A-92F02A96BE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9308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24400" y="160020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212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9308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24400" y="3749760"/>
            <a:ext cx="260064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E3962D-1CE3-44C4-9296-1AB01E634B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63A5-0C8F-4314-A529-65765D5C09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BCF26-2E28-440B-8901-EA5940C13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93417-B8DF-4262-B194-AAA52C7F49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360" y="380520"/>
            <a:ext cx="7792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3A35-4149-4A1B-A411-5F55BBD9EB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8B9A9-7F9D-4C69-9AE3-966DEF9FB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0680" y="374976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2D7C-36CA-4313-ABB8-D3FC28B113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0680" y="1600200"/>
            <a:ext cx="394128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749760"/>
            <a:ext cx="80769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A159B-7769-4C05-91FA-85FFB3225D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-2160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94000" indent="-2127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19160" indent="-212760">
              <a:spcBef>
                <a:spcPts val="700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19160" indent="-21276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40044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86600" y="6400800"/>
            <a:ext cx="1905120" cy="3096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A3CEDB03-7860-4478-9BE2-D9A5D10C258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8839440" cy="119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16765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>
            <a:off x="152280" y="6400800"/>
            <a:ext cx="4648320" cy="324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usiness Statistics: A Decision-Making Approach, 6e © 2005 Prentice-Hall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8576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Chap 1-</a:t>
            </a:r>
            <a:fld id="{412E7543-C69B-46A1-8682-5220CFFF6ED7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8839440" cy="1197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320040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5520" indent="0" algn="ctr">
              <a:spcBef>
                <a:spcPts val="60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248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8124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6400" algn="ctr">
              <a:spcBef>
                <a:spcPts val="499"/>
              </a:spcBef>
              <a:buClr>
                <a:srgbClr val="fd2b4e"/>
              </a:buClr>
              <a:buSzPct val="50000"/>
              <a:buFont typeface="Wingdings" charset="2"/>
              <a:buChar char=""/>
              <a:tabLst>
                <a:tab algn="l" pos="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7064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533520"/>
            <a:ext cx="7657920" cy="19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Business Statistics: 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cc"/>
                </a:solidFill>
                <a:latin typeface="Tahoma"/>
              </a:rPr>
              <a:t>A Decision-Making Approach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6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ahoma"/>
              </a:rPr>
              <a:t>th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3200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hapter 1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 Where, Why, and How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85EC3-CD5A-4FC0-9E92-0C82CA64CFF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 vs. Sample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90920"/>
            <a:ext cx="3581280" cy="2666880"/>
          </a:xfrm>
          <a:prstGeom prst="ellipse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2774880"/>
            <a:ext cx="450864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2895480"/>
            <a:ext cx="2286000" cy="2133720"/>
          </a:xfrm>
          <a:prstGeom prst="ellipse">
            <a:avLst/>
          </a:pr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281952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 b     c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   gh i  jk l   m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 p q   rs  t  u v 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  y     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190512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9051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2895480"/>
            <a:ext cx="3124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     c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 i        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      r    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       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CFA9F-AEDC-4CAB-958C-2694A2E0605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304920"/>
            <a:ext cx="6095880" cy="8380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Why Sample?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time consum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s cost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administer than a cen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possible to obtain statistical results of a sufficiently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igh preci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ased on sa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BF7CE-890F-4350-B7DA-6DB7F243089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419720" y="2286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1880" y="3733920"/>
            <a:ext cx="0" cy="153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37339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ampling Techniqu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4114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3733920"/>
            <a:ext cx="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37339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41148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5334120"/>
            <a:ext cx="1979640" cy="4539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ven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1828800"/>
            <a:ext cx="1600200" cy="454680"/>
          </a:xfrm>
          <a:prstGeom prst="rect">
            <a:avLst/>
          </a:prstGeom>
          <a:solidFill>
            <a:srgbClr val="fde0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819520"/>
            <a:ext cx="541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05120" y="2819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3429000"/>
            <a:ext cx="3124440" cy="673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on-Probability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4648320"/>
            <a:ext cx="1828800" cy="4546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Jud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2819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81480" y="3352680"/>
            <a:ext cx="335304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ability S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343400"/>
            <a:ext cx="1524240" cy="75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00800" y="4419720"/>
            <a:ext cx="182880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5486400"/>
            <a:ext cx="15238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257800"/>
            <a:ext cx="1295280" cy="4546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C8019-06D6-4C3F-9986-A0AD08D4A7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atistical Sampling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s of the sample are chosen based on known or calculable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343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4343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3581280"/>
            <a:ext cx="0" cy="758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343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3048120"/>
            <a:ext cx="3657600" cy="515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obability S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4800600"/>
            <a:ext cx="1371600" cy="735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4800600"/>
            <a:ext cx="167652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yste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43434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120" y="4800600"/>
            <a:ext cx="14475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at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91520" y="4800600"/>
            <a:ext cx="1218960" cy="3938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AB92F-5D89-4CDC-B750-4D119436DFB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imple Random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dividual or item from the population has an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qual ch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being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on may be with replacement or without re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can be obtained from a table of random numbers or computer random number gen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952880" y="5181480"/>
          <a:ext cx="19814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5181480"/>
                    <a:ext cx="19814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CB3C2-B9C6-4B90-B407-E465DDDA5F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7086600" y="3225960"/>
          <a:ext cx="18032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225960"/>
                    <a:ext cx="18032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tratified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divided into subgroups (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ccording to some common character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random sample selected from each sub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s from subgroups are combined into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05920" y="4952880"/>
            <a:ext cx="759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2743200" y="4419720"/>
            <a:ext cx="3657600" cy="2166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248520" y="5181480"/>
            <a:ext cx="900000" cy="304920"/>
          </a:xfrm>
          <a:prstGeom prst="rightArrow">
            <a:avLst>
              <a:gd name="adj1" fmla="val 50000"/>
              <a:gd name="adj2" fmla="val 74692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4800600"/>
            <a:ext cx="1447920" cy="1211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Pop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Divi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into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str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6095880"/>
            <a:ext cx="106668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3300"/>
                </a:solidFill>
                <a:latin typeface="Tahoma"/>
              </a:rPr>
              <a:t>Samp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905120" y="480024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905120" y="5181480"/>
            <a:ext cx="8380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410080"/>
            <a:ext cx="83808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905120" y="5638680"/>
            <a:ext cx="7617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5320" rIns="85320" tIns="42480" bIns="42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162920" y="4724280"/>
            <a:ext cx="952560" cy="13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BDFF-7DB9-40DF-B8F1-43E26DF500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sample size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frame of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 into groups of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s:  </a:t>
            </a:r>
            <a:r>
              <a:rPr b="0" lang="en-US" sz="2800" spc="-1" strike="noStrike">
                <a:solidFill>
                  <a:srgbClr val="dcb2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ly select one individual from the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every 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ividual there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ystematic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5270400" y="4727520"/>
            <a:ext cx="3187800" cy="167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48120" y="3581280"/>
          <a:ext cx="205740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581280"/>
                    <a:ext cx="205740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410080" y="4800600"/>
            <a:ext cx="2900520" cy="1522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362320" y="4876920"/>
            <a:ext cx="1131840" cy="1567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N =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Arial"/>
              </a:rPr>
              <a:t>k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65440" y="5533920"/>
            <a:ext cx="1798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rst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4191120"/>
            <a:ext cx="144756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495680" y="5105160"/>
            <a:ext cx="990720" cy="53316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18F42-54D2-4607-8944-FE45C352B1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luster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7732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s divided into several “clusters,” each representative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random sample of clusters is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tems in the selected clusters can be used, or items can be chosen from a cluster using another probability sampling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181480" y="4038480"/>
          <a:ext cx="1609920" cy="11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4038480"/>
                    <a:ext cx="160992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228600" y="4952880"/>
            <a:ext cx="1981080" cy="118620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pulation divided into 16 clus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191120" y="5409720"/>
            <a:ext cx="304560" cy="30492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876920" y="5334120"/>
            <a:ext cx="0" cy="38088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105520"/>
            <a:ext cx="533520" cy="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248520" y="5409720"/>
            <a:ext cx="457200" cy="228600"/>
          </a:xfrm>
          <a:prstGeom prst="line">
            <a:avLst/>
          </a:prstGeom>
          <a:ln w="255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743200" y="4876920"/>
          <a:ext cx="6095880" cy="46512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465120"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5320" rIns="8532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4267080" y="5638680"/>
            <a:ext cx="2590920" cy="69876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ly selected clusters for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9F5F-6B08-44FC-A546-7E1DAD16C5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Key Defini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entire collection of things under consi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portion of the population selected fo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ummary measure computed to describe a characteristic of the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9D7A7-CC47-4156-8842-93A005B144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66320" y="1600200"/>
            <a:ext cx="7620120" cy="3276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statements about a population by examining sampl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ample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300" spc="-1" strike="noStrike">
                <a:solidFill>
                  <a:srgbClr val="66ffff"/>
                </a:solidFill>
                <a:latin typeface="Arial"/>
              </a:rPr>
              <a:t>       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300" spc="-1" strike="noStrike">
                <a:solidFill>
                  <a:srgbClr val="3333cc"/>
                </a:solidFill>
                <a:latin typeface="Arial"/>
              </a:rPr>
              <a:t>Population paramet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(known)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(unknown, but 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be estima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ample evide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514600" y="3733920"/>
          <a:ext cx="54864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733920"/>
                    <a:ext cx="54864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581280" y="2895480"/>
            <a:ext cx="914400" cy="0"/>
          </a:xfrm>
          <a:prstGeom prst="line">
            <a:avLst/>
          </a:prstGeom>
          <a:ln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26F89-BA95-4D45-AE63-770E6F840C2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Goa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completing this chapter, you should be able 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7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key data coll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key defini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  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difference between descriptiv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ifferent sampl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1ABA8-1F92-4741-8F10-9A423A8EF0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Inferential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5791320" cy="422748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Estimate the population mean weight using the sample mean w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pothesis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Use sample evidence to test the claim that the population mean weight is 120 p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1523880"/>
            <a:ext cx="7467480" cy="673560"/>
          </a:xfrm>
          <a:prstGeom prst="rect">
            <a:avLst/>
          </a:prstGeom>
          <a:solidFill>
            <a:srgbClr val="ffffd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rawing conclusions and/or making decisions concerning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sed 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ample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312408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B9CDC-B563-432E-A86A-901BBF128A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81080" y="1673280"/>
            <a:ext cx="6019920" cy="3505320"/>
            <a:chOff x="1981080" y="1673280"/>
            <a:chExt cx="6019920" cy="3505320"/>
          </a:xfrm>
        </p:grpSpPr>
        <p:cxnSp>
          <p:nvCxnSpPr>
            <p:cNvPr id="226" name="_s137262"/>
            <p:cNvCxnSpPr>
              <a:stCxn id="227" idx="0"/>
              <a:endCxn id="228" idx="2"/>
            </p:cNvCxnSpPr>
            <p:nvPr/>
          </p:nvCxnSpPr>
          <p:spPr>
            <a:xfrm flipV="1" rot="16200000">
              <a:off x="6476760" y="3844080"/>
              <a:ext cx="381600" cy="10677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29" name="_s137260"/>
            <p:cNvCxnSpPr>
              <a:stCxn id="230" idx="0"/>
              <a:endCxn id="228" idx="2"/>
            </p:cNvCxnSpPr>
            <p:nvPr/>
          </p:nvCxnSpPr>
          <p:spPr>
            <a:xfrm flipH="1" flipV="1" rot="5400000">
              <a:off x="5471640" y="3906360"/>
              <a:ext cx="381600" cy="943560"/>
            </a:xfrm>
            <a:prstGeom prst="bentConnector3">
              <a:avLst>
                <a:gd name="adj1" fmla="val 29933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1" name="_s137258"/>
            <p:cNvCxnSpPr>
              <a:stCxn id="228" idx="0"/>
              <a:endCxn id="232" idx="2"/>
            </p:cNvCxnSpPr>
            <p:nvPr/>
          </p:nvCxnSpPr>
          <p:spPr>
            <a:xfrm flipV="1" rot="16200000">
              <a:off x="5162760" y="2073600"/>
              <a:ext cx="418320" cy="152460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cxnSp>
          <p:nvCxnSpPr>
            <p:cNvPr id="233" name="_s137256"/>
            <p:cNvCxnSpPr>
              <a:stCxn id="234" idx="0"/>
              <a:endCxn id="232" idx="2"/>
            </p:cNvCxnSpPr>
            <p:nvPr/>
          </p:nvCxnSpPr>
          <p:spPr>
            <a:xfrm flipH="1" flipV="1" rot="5400000">
              <a:off x="3588840" y="2023560"/>
              <a:ext cx="418320" cy="1624680"/>
            </a:xfrm>
            <a:prstGeom prst="bentConnector3">
              <a:avLst>
                <a:gd name="adj1" fmla="val 27304"/>
              </a:avLst>
            </a:prstGeom>
            <a:ln w="25560">
              <a:solidFill>
                <a:srgbClr val="000000"/>
              </a:solidFill>
              <a:miter/>
            </a:ln>
          </p:spPr>
        </p:cxnSp>
        <p:sp>
          <p:nvSpPr>
            <p:cNvPr id="232" name="_s137254"/>
            <p:cNvSpPr/>
            <p:nvPr/>
          </p:nvSpPr>
          <p:spPr>
            <a:xfrm>
              <a:off x="3657600" y="1673280"/>
              <a:ext cx="1905120" cy="954000"/>
            </a:xfrm>
            <a:prstGeom prst="rect">
              <a:avLst/>
            </a:prstGeom>
            <a:solidFill>
              <a:srgbClr val="fdd29f">
                <a:alpha val="50000"/>
              </a:srgbClr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137255"/>
            <p:cNvSpPr/>
            <p:nvPr/>
          </p:nvSpPr>
          <p:spPr>
            <a:xfrm>
              <a:off x="1981080" y="3044880"/>
              <a:ext cx="2008440" cy="1143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alit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Categoric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_s137257"/>
            <p:cNvSpPr/>
            <p:nvPr/>
          </p:nvSpPr>
          <p:spPr>
            <a:xfrm>
              <a:off x="5105520" y="3044880"/>
              <a:ext cx="2057400" cy="114300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Quantitativ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(Numeric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_s137259"/>
            <p:cNvSpPr/>
            <p:nvPr/>
          </p:nvSpPr>
          <p:spPr>
            <a:xfrm>
              <a:off x="4419720" y="4568760"/>
              <a:ext cx="154296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Discr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_s137261"/>
            <p:cNvSpPr/>
            <p:nvPr/>
          </p:nvSpPr>
          <p:spPr>
            <a:xfrm>
              <a:off x="6400800" y="4568760"/>
              <a:ext cx="1600200" cy="609840"/>
            </a:xfrm>
            <a:prstGeom prst="rect">
              <a:avLst/>
            </a:prstGeom>
            <a:solidFill>
              <a:srgbClr val="ffff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74747"/>
                  </a:solidFill>
                  <a:latin typeface="Arial"/>
                </a:rPr>
                <a:t>Continu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371600" y="4267080"/>
            <a:ext cx="25146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Marital Stat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olitical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ye Co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283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Defined catego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5181480"/>
            <a:ext cx="228600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Number of Childr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Defects per h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Counted ite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5181480"/>
            <a:ext cx="2286000" cy="13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320" rIns="85320" tIns="42840" bIns="4284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Exampl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We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983c1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Measured characteristi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29B6-920A-46D9-AD90-85FF51A920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2640" y="19810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Time Serie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ed data values observed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ross Section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values observed at a fixed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54F3A-0BE2-406C-9155-19644FAE40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Typ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90720" y="1981080"/>
          <a:ext cx="6400800" cy="2979720"/>
        </p:xfrm>
        <a:graphic>
          <a:graphicData uri="http://schemas.openxmlformats.org/drawingml/2006/table">
            <a:tbl>
              <a:tblPr/>
              <a:tblGrid>
                <a:gridCol w="1600200"/>
                <a:gridCol w="1219320"/>
                <a:gridCol w="1219320"/>
                <a:gridCol w="1218960"/>
                <a:gridCol w="114300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es (in $1000’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lan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os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leve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nv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52480"/>
                          <a:tab algn="l" pos="1704960"/>
                          <a:tab algn="l" pos="2557440"/>
                          <a:tab algn="l" pos="3409920"/>
                          <a:tab algn="l" pos="4262400"/>
                          <a:tab algn="l" pos="5114880"/>
                          <a:tab algn="l" pos="5967360"/>
                          <a:tab algn="l" pos="6819840"/>
                          <a:tab algn="l" pos="7672320"/>
                          <a:tab algn="l" pos="8524800"/>
                          <a:tab algn="l" pos="9377280"/>
                          <a:tab algn="l" pos="1022976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"/>
          <p:cNvSpPr/>
          <p:nvPr/>
        </p:nvSpPr>
        <p:spPr>
          <a:xfrm>
            <a:off x="609480" y="2895480"/>
            <a:ext cx="7010640" cy="60984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2133720"/>
            <a:ext cx="1067040" cy="3124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96080" y="2590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Time Seri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66880" y="5334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ross Secti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4DC00-5F6C-4104-9EB2-C7A24F376B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Measurement Level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2743200" y="2057400"/>
            <a:ext cx="374652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5480" y="2133720"/>
            <a:ext cx="351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tio/Interv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27200" y="3422520"/>
            <a:ext cx="409104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44920" y="3494160"/>
            <a:ext cx="3855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di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4870440"/>
            <a:ext cx="4495680" cy="569880"/>
          </a:xfrm>
          <a:prstGeom prst="rect">
            <a:avLst/>
          </a:prstGeom>
          <a:solidFill>
            <a:srgbClr val="ffff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01840" y="4941720"/>
            <a:ext cx="4541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min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198108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3352680"/>
            <a:ext cx="213336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-level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4800600"/>
            <a:ext cx="21337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s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724280"/>
            <a:ext cx="2133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ical Codes ID Numbers                 Category Na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3352680"/>
            <a:ext cx="2286000" cy="6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king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Categ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3520" y="2133720"/>
            <a:ext cx="2133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9720" y="4038480"/>
            <a:ext cx="228600" cy="762120"/>
          </a:xfrm>
          <a:prstGeom prst="upArrow">
            <a:avLst>
              <a:gd name="adj1" fmla="val 50000"/>
              <a:gd name="adj2" fmla="val 8334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19720" y="2666880"/>
            <a:ext cx="228600" cy="685800"/>
          </a:xfrm>
          <a:prstGeom prst="upArrow">
            <a:avLst>
              <a:gd name="adj1" fmla="val 50000"/>
              <a:gd name="adj2" fmla="val 7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Chapter Summary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61084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key data collec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key defin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 vs. Sam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vs. Secondary data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tive vs. Qualitativ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eries vs. Cross-Sec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d descriptive vs. inferential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d different sampl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data types and measurement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B2D2-2D34-4A6A-85CE-79EFCE887B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11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ng, presenting, and describ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110000"/>
              </a:lnSpc>
              <a:spcBef>
                <a:spcPts val="22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erential 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conclusions and/or making decisions concerning a population based only on sampl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ools of Business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98E3B-45B0-42D8-9BEA-E8C2303359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escriptive Statistic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5000"/>
          </a:bodyPr>
          <a:p>
            <a:pPr marL="304560" indent="-304560">
              <a:lnSpc>
                <a:spcPct val="110000"/>
              </a:lnSpc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lec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Survey, Observation,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resent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6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Charts and grap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04560" indent="-304560">
              <a:lnSpc>
                <a:spcPct val="110000"/>
              </a:lnSpc>
              <a:spcBef>
                <a:spcPts val="236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haracterize dat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5452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.g., Sample mean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324480" y="1600200"/>
            <a:ext cx="1158840" cy="1295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867280" y="3581280"/>
            <a:ext cx="1600200" cy="1251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952880" y="5257800"/>
                <a:ext cx="739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3F28D-D614-4070-B8E3-EA90F175C1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Data Sourc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276720"/>
            <a:ext cx="0" cy="60948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10280" y="2590920"/>
            <a:ext cx="0" cy="54612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828800"/>
            <a:ext cx="802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1752480"/>
            <a:ext cx="2819520" cy="9126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752480"/>
            <a:ext cx="2743200" cy="87624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pi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698920"/>
            <a:ext cx="0" cy="57780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3440" y="3276720"/>
            <a:ext cx="2752560" cy="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276720"/>
            <a:ext cx="0" cy="5079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3809880"/>
            <a:ext cx="236196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3276720"/>
            <a:ext cx="0" cy="1904760"/>
          </a:xfrm>
          <a:prstGeom prst="line">
            <a:avLst/>
          </a:prstGeom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5181480"/>
            <a:ext cx="32767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Experi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886200"/>
            <a:ext cx="144792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124080"/>
            <a:ext cx="3810240" cy="515520"/>
          </a:xfrm>
          <a:prstGeom prst="rect">
            <a:avLst/>
          </a:prstGeom>
          <a:noFill/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int or Electronic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81680" y="3733920"/>
          <a:ext cx="175284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3733920"/>
                    <a:ext cx="1752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952880" y="4267080"/>
          <a:ext cx="83844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42670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772400" y="4419720"/>
          <a:ext cx="99072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72400" y="4419720"/>
                    <a:ext cx="990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152280" y="3200400"/>
            <a:ext cx="762120" cy="579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8"/>
          <a:stretch/>
        </p:blipFill>
        <p:spPr>
          <a:xfrm>
            <a:off x="3505320" y="4876920"/>
            <a:ext cx="1063440" cy="115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F93CB-7140-4B3F-B1BB-5A054B566B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rvey Design Ste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53204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purpose and objectives of the surv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population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te survey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questions clear and unamb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universally-accepted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the number of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1426-8D2D-4299-A05C-6E97F4E2F1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Survey Design Step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5324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-test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lot test with a small group of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spcBef>
                <a:spcPts val="11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ss clarity and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sample size and sampling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Sample and administer the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43800" y="12034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Tahoma"/>
              </a:rPr>
              <a:t>(continu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ECDF-44DE-4AB5-946F-7E7DB67F36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Types of Question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sed-en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from a short list of defined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jor:   __bus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liberal art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sci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oth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en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nts are free to respond with any value, words, or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did you like best about this cour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8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graphic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68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 about the respondents’ person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Exampl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:  __Female   __ M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2438280"/>
            <a:ext cx="69343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191120"/>
            <a:ext cx="70102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791320"/>
            <a:ext cx="69343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3FDD-B4C8-4186-82DE-C46AB2B60E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et of all items or individual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likely voters in the next election</a:t>
            </a: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rts produced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ales receipts for 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amp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ubset of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xamp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0 voters selected at random for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parts selected for destructiv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10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ceipt selected for au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840" bIns="42840" anchor="b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333399"/>
                </a:solidFill>
                <a:latin typeface="Tahoma"/>
              </a:rPr>
              <a:t>Populations and Samples</a:t>
            </a:r>
            <a:endParaRPr b="0" lang="en-US" sz="4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2819520"/>
            <a:ext cx="784836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90720" y="4724280"/>
            <a:ext cx="784836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5320" rIns="85320" tIns="42480" bIns="42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0B949-E456-4338-BBDD-60A08CB5D7A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3T00:04:22Z</dcterms:created>
  <dc:creator>Dirk Yandell</dc:creator>
  <dc:description/>
  <cp:keywords/>
  <dc:language>en-US</dc:language>
  <cp:lastModifiedBy>Gé Groenewegen</cp:lastModifiedBy>
  <cp:lastPrinted>1998-11-22T23:37:53Z</cp:lastPrinted>
  <dcterms:modified xsi:type="dcterms:W3CDTF">2005-03-20T08:27:44Z</dcterms:modified>
  <cp:revision>61</cp:revision>
  <dc:subject>Chapter 1</dc:subject>
  <dc:title>Groebner lecture notes for chapter 1</dc:title>
</cp:coreProperties>
</file>