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B0E-18DD-479C-90E1-E9E500CE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A0F-EF1A-420A-B1F8-34EBC6B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854-24A3-4071-A949-13F2A27A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3CF-3BAB-498A-992E-7FBD4F06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ADAA-A307-45D3-8910-0E7161A3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6780-9DC3-4F46-B947-5A01383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DB2E-FBEC-44A6-8466-FD8410B4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9C3-656C-4EF4-B2F4-F366EFEF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E18F-D9A6-4E84-B4E9-5A5F60B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0454-677B-4170-B6C6-E6D2B164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6828-E082-4CFD-877F-203F9B3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E04-29AE-47C3-80DA-B2C2ABEB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155E-E006-4571-9DBE-B6306BB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BB54-C150-4F0B-9174-88B3BA44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0F52-06CF-42E7-8931-851C188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623F-5F44-41A4-BAE8-DF01D764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7AB7-F599-4DB7-81F0-C55F7EE1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30F-52B5-42C5-A659-5E431452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320-9BB8-4DD8-83FF-4C705595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540-1A05-46AA-96CA-C9032421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19D-AD96-4A45-9661-C5D51663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8CE-1E51-40FC-8033-8FE8295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91D-2520-43CE-B151-C5E3EA1D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48D-0014-4EDC-998D-D9E4728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891-520A-4D30-A887-71DB37AF71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87D1-36DC-46F3-ADED-7B60E8BF24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uide to Using Excel For Basic Statistical Applic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ccompan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usiness Statistics: A Decision Making Approach, 6th 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pter 3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cribing Data Using Numerical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ebner, Shannon, Fry, &amp; Sm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entice-Hall Publishing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pyright, 200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373320" cy="333360"/>
          </a:xfrm>
          <a:custGeom>
            <a:avLst/>
            <a:gdLst>
              <a:gd name="textAreaLeft" fmla="*/ 21600 w 373320"/>
              <a:gd name="textAreaRight" fmla="*/ 351720 w 373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86" h="21600">
                <a:moveTo>
                  <a:pt x="0" y="0"/>
                </a:moveTo>
                <a:lnTo>
                  <a:pt x="24186" y="0"/>
                </a:lnTo>
                <a:lnTo>
                  <a:pt x="24186" y="21600"/>
                </a:lnTo>
                <a:lnTo>
                  <a:pt x="0" y="21600"/>
                </a:lnTo>
                <a:close/>
              </a:path>
              <a:path fill="lightenLess" w="24186" h="21600">
                <a:moveTo>
                  <a:pt x="0" y="0"/>
                </a:moveTo>
                <a:lnTo>
                  <a:pt x="24186" y="0"/>
                </a:lnTo>
                <a:lnTo>
                  <a:pt x="22786" y="1400"/>
                </a:lnTo>
                <a:lnTo>
                  <a:pt x="1400" y="1400"/>
                </a:lnTo>
                <a:close/>
              </a:path>
              <a:path fill="darken" w="24186" h="21600">
                <a:moveTo>
                  <a:pt x="24186" y="0"/>
                </a:moveTo>
                <a:lnTo>
                  <a:pt x="24186" y="21600"/>
                </a:lnTo>
                <a:lnTo>
                  <a:pt x="22786" y="20200"/>
                </a:lnTo>
                <a:lnTo>
                  <a:pt x="22786" y="1400"/>
                </a:lnTo>
                <a:close/>
              </a:path>
              <a:path fill="darkenLess" w="24186" h="21600">
                <a:moveTo>
                  <a:pt x="24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6" y="20200"/>
                </a:lnTo>
                <a:close/>
              </a:path>
              <a:path fill="lighten" w="24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6" h="21600">
                <a:moveTo>
                  <a:pt x="5087" y="3794"/>
                </a:moveTo>
                <a:lnTo>
                  <a:pt x="19100" y="10800"/>
                </a:lnTo>
                <a:lnTo>
                  <a:pt x="5087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26708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76520" y="3505320"/>
            <a:ext cx="1676160" cy="7617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19920" y="365760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 and select o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733920"/>
            <a:ext cx="1523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120" y="2209680"/>
            <a:ext cx="205740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638320" y="3504960"/>
            <a:ext cx="762120" cy="152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419360" y="3886200"/>
            <a:ext cx="16002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343400" y="2286000"/>
            <a:ext cx="25909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 Reven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048120" y="1981080"/>
            <a:ext cx="12952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ean, Median and Mode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90512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oes the WIM scale produce gross weights that are close to the POE weight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develop histograms for the weights from each scale and to compute the mean, median, and mode for each scale.  The data file 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rucks.xl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00600" y="685800"/>
            <a:ext cx="4343400" cy="3020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onstructing histograms was covered in Chapter 2 (See Capital Credit Union) here is an optional method for determining the frequency distribution and histogram using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Pivot T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971800"/>
            <a:ext cx="83808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124080"/>
            <a:ext cx="12193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86200" y="1143000"/>
            <a:ext cx="43434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Group the WIM weights by 10,000 pounds starting at 15,000 pounds (See Capital Credit Union example in Chapter 2 for specific steps required to group da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419360" y="3429000"/>
            <a:ext cx="6858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657600" y="3124080"/>
            <a:ext cx="4343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Highlight the frequencies and click on th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Chart Wizard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o develop “quick-and dirty” histogra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819520" y="3200040"/>
            <a:ext cx="83808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09880" y="1218960"/>
            <a:ext cx="1828800" cy="19047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00600" y="1295280"/>
            <a:ext cx="4343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ose Gaps by selecting bars – Right Clicking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Format Data Serie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- 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Op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00600" y="685800"/>
            <a:ext cx="43434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ompleted Histogram for WIM gross weights – Repeat the process for POE gross weights.  Then compute mean, median and modes for both var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hapter 3 Excel Exampl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1" action="ppaction://hlinksldjump"/>
              </a:rPr>
              <a:t>Population Mean 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ster City Hot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2" action="ppaction://hlinksldjump"/>
              </a:rPr>
              <a:t>Mean, Median,and Mode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3" action="ppaction://hlinksldjump"/>
              </a:rPr>
              <a:t>Percentiles and Quarti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4911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More Examp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95680" y="2895480"/>
            <a:ext cx="4343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520" y="4191120"/>
            <a:ext cx="4343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19920" y="320040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 and select o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276720"/>
            <a:ext cx="1523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181120" y="1752480"/>
            <a:ext cx="205740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638320" y="3047760"/>
            <a:ext cx="762120" cy="152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419360" y="3429000"/>
            <a:ext cx="16002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124080" y="4191120"/>
            <a:ext cx="4343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lete un-needed colum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19720" y="2286000"/>
            <a:ext cx="38862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, Median, and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828800"/>
            <a:ext cx="32767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133720"/>
            <a:ext cx="32767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ercentiles and Quartiles-          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228600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termine Percentiles and Quartiles for WIM and POE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calculate 10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percentiles and 1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and 3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quartiles for weigh-in-motion data.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3657600"/>
            <a:ext cx="259092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function wizard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tatistic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Percen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5800" y="1218960"/>
            <a:ext cx="2438280" cy="2438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05120" y="2590560"/>
            <a:ext cx="1218960" cy="10666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3048120"/>
            <a:ext cx="2133360" cy="1371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800600" y="3505320"/>
            <a:ext cx="3200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nter Data Range and desired percen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124080" y="1904760"/>
            <a:ext cx="236232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800600" y="3962520"/>
            <a:ext cx="3200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WIM Percentile Results – Process also repeated for PO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2438280"/>
            <a:ext cx="19051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1066680"/>
            <a:ext cx="20574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886200" y="1447560"/>
            <a:ext cx="2666880" cy="19810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7695720" y="3200040"/>
            <a:ext cx="22860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hapter 3 Excel Examples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1" action="ppaction://hlinksldjump"/>
              </a:rPr>
              <a:t>Measures of Variation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mpirical Rule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urger N’ Br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85800" y="3733920"/>
            <a:ext cx="3200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Chart Wizard 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– click on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Statistical 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– then select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Quart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914400" y="1218960"/>
            <a:ext cx="2286000" cy="2514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81080" y="2666880"/>
            <a:ext cx="1067040" cy="10670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886200" y="2514600"/>
            <a:ext cx="838080" cy="1371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800600" y="3505320"/>
            <a:ext cx="3200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nter Data Range and desired quar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124080" y="1904760"/>
            <a:ext cx="236232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666880" y="4114800"/>
            <a:ext cx="3200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54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and 3</a:t>
            </a:r>
            <a:r>
              <a:rPr b="1" lang="en-US" sz="2400" spc="-1" strike="noStrike" baseline="30000">
                <a:solidFill>
                  <a:srgbClr val="000054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quartiles for WIM and POE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3505320"/>
            <a:ext cx="2514600" cy="838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352680" y="1371600"/>
            <a:ext cx="3200400" cy="2666880"/>
          </a:xfrm>
          <a:prstGeom prst="line">
            <a:avLst/>
          </a:prstGeom>
          <a:ln w="3816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1066680"/>
            <a:ext cx="1828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45720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easures of Variation -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28600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derstand the Variation in POE and WIM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the Excel to compute various measures of variation in WIM and POE Gross Weights 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4038480"/>
            <a:ext cx="47242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ab – then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choos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219320" y="914400"/>
            <a:ext cx="1523880" cy="31240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981080" y="3047760"/>
            <a:ext cx="1143000" cy="9903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676520" y="2133360"/>
            <a:ext cx="1295280" cy="190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876920" y="388620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76720"/>
            <a:ext cx="144792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5409720" y="1828440"/>
            <a:ext cx="129564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334120" y="3123720"/>
            <a:ext cx="83808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962520" y="3733560"/>
            <a:ext cx="9144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191120" y="22860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tandard Deviation, Variance, and 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047760" y="2590920"/>
            <a:ext cx="1143000" cy="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124080" y="2971800"/>
            <a:ext cx="106704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24382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3048120"/>
            <a:ext cx="236196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419112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or POE,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88620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3276720"/>
            <a:ext cx="144792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409720" y="1828440"/>
            <a:ext cx="129564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334120" y="3123720"/>
            <a:ext cx="83808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962520" y="3733560"/>
            <a:ext cx="9144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191120" y="22860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tandard Deviation, Variance, and 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47760" y="2590920"/>
            <a:ext cx="1143000" cy="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124080" y="2971800"/>
            <a:ext cx="106704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2438280"/>
            <a:ext cx="24382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3048120"/>
            <a:ext cx="236196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opulation Mean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Foster City Hot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8600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termine the mean nightly revenue for the Foster City Hote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calculate the population mean revenue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sterCity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mpirical Rule -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urger N’ Br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90512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nalyze the Phoenix Burger Sales Distrib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the Excel to compute graphs and numerical measures necessary for using the empirical rule to analyze sales at Burger N’ Brew 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rgerNBrew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324480" y="2286000"/>
            <a:ext cx="28195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BurgerNBrew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sales for 365 days.  Last row is 366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676520" y="4343400"/>
            <a:ext cx="4495680" cy="10666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105520" y="2057400"/>
            <a:ext cx="2819160" cy="1922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irst, develop histogram – class width = 2.  Form Bins (upper limit of each clas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8480" y="1752480"/>
            <a:ext cx="457200" cy="152424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648320" y="2514240"/>
            <a:ext cx="457200" cy="22860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267080"/>
            <a:ext cx="51055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Refer to Example 2-6 for detailed steps in developing the histo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04920" y="3886200"/>
            <a:ext cx="510516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ab –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47920" y="914040"/>
            <a:ext cx="1295280" cy="29718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133720" y="3580920"/>
            <a:ext cx="6094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752480" y="2133720"/>
            <a:ext cx="91440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457200" y="2209680"/>
            <a:ext cx="25146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input range, bin range, output location – check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Chart 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971800" y="2362320"/>
            <a:ext cx="25146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3886200"/>
            <a:ext cx="1600200" cy="533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71800" y="3581280"/>
            <a:ext cx="8380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905120" y="3733920"/>
            <a:ext cx="579096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xcel default output – See Capital Credit Union example Chapter 2 for specific steps to enhance the histogram – close gaps, label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0" y="4572000"/>
            <a:ext cx="579132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inished Histogram – Bell Shaped Distribu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0" y="4267080"/>
            <a:ext cx="57913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To compute numerical measures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Click 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676520" y="990360"/>
            <a:ext cx="1066680" cy="32763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276720" y="3352680"/>
            <a:ext cx="990360" cy="914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257800" y="419112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3581280"/>
            <a:ext cx="144792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400440" y="2133360"/>
            <a:ext cx="121932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019920" y="3352320"/>
            <a:ext cx="380880" cy="8384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4571640" y="3885840"/>
            <a:ext cx="68580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114800" y="1981080"/>
            <a:ext cx="45720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 and Standard Dev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047760" y="1980720"/>
            <a:ext cx="10666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047760" y="2286000"/>
            <a:ext cx="10666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2743200"/>
            <a:ext cx="4572000" cy="2128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mpirical Rul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68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1)3.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95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2)3.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99.7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3)3.1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33920" y="358128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Excel file called FosterCity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57800" y="9144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tion 1 – Use the Excel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fun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91120"/>
            <a:ext cx="4343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the function wizard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tatistic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category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14400" y="1218960"/>
            <a:ext cx="2286000" cy="29718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62320" y="3124080"/>
            <a:ext cx="914400" cy="10670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343400" y="2590560"/>
            <a:ext cx="609480" cy="23619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86400" y="175248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pecify data range -  Click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437920" y="1752480"/>
            <a:ext cx="304812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266720" y="2362320"/>
            <a:ext cx="1219320" cy="5331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3809880"/>
            <a:ext cx="27432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33720" y="3429000"/>
            <a:ext cx="53316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952880" y="2362320"/>
            <a:ext cx="312444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tional Method: 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895480" y="914400"/>
            <a:ext cx="281952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885840" y="2514600"/>
            <a:ext cx="10666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Patrick Shannon</dc:creator>
  <dc:description/>
  <dc:language>en-US</dc:language>
  <cp:lastModifiedBy>dgroebner</cp:lastModifiedBy>
  <cp:lastPrinted>1996-09-26T03:39:24Z</cp:lastPrinted>
  <dcterms:modified xsi:type="dcterms:W3CDTF">2003-10-03T18:02:01Z</dcterms:modified>
  <cp:revision>78</cp:revision>
  <dc:subject/>
  <dc:title>Excel tutorial for chapter 3</dc:title>
</cp:coreProperties>
</file>