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5E2F-4418-42C1-90E5-6A13522CD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2023-FA01-4AB2-AFD3-D67466F5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FE85-E615-45F5-82DF-DD78B9552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6777-FD4C-4854-8D50-235E4C4D7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78CF-F865-4A92-B650-8D17623DF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204A-1BF0-450F-AE00-B6E4152D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7D22-F47D-48B5-AA40-1FFB1A52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1B0D-58B9-4E61-836B-FE766D9B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8FB8-D833-4D0E-9738-69AD3E1B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077E-BFD1-46CE-A28C-517FCBF2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FC9B-C174-4934-8055-0243C3F1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6BEF-3241-40ED-B3DE-C601921C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AE19-A4BC-4F70-B3FF-0C0A358E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AFAF-58D3-4C6F-9D1D-EA3283A5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829D-23EC-40BA-A8CD-E90B676E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8F2C-306E-4A52-A08E-B9019374B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21E8-D13E-4E40-8F04-6059D709D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2804-1786-4646-96B1-001DD2F5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E426-6C0E-46C3-B2C2-D64B2F70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A0B1-97D0-49F6-AB36-BF5B264D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1AB8-1ED9-4F5E-85D4-EC9CE633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FFE4-47E6-4702-AB09-E5D3555F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76E3-7132-4C46-B3B2-1098254D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D2F9-1D37-407D-8CEA-9A549C32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351E-1905-4631-BBF0-B2DBA2A1896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AE10-B4A1-4B95-BC82-EB682ABAC96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3.xml"/><Relationship Id="rId3" Type="http://schemas.openxmlformats.org/officeDocument/2006/relationships/slide" Target="slide25.xm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90720" y="304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Guide to Using Excel For Basic Statistical Application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Accompan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Business Statistics: A Decision Making Approach, 6th Ed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apter 3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scribing Data Using Numerical Measur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roebner, Shannon, Fry, &amp; Smit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entice-Hall Publishing Compan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opyright, 200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373320" cy="333360"/>
          </a:xfrm>
          <a:custGeom>
            <a:avLst/>
            <a:gdLst>
              <a:gd name="textAreaLeft" fmla="*/ 21600 w 373320"/>
              <a:gd name="textAreaRight" fmla="*/ 351720 w 3733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86" h="21600">
                <a:moveTo>
                  <a:pt x="0" y="0"/>
                </a:moveTo>
                <a:lnTo>
                  <a:pt x="24186" y="0"/>
                </a:lnTo>
                <a:lnTo>
                  <a:pt x="24186" y="21600"/>
                </a:lnTo>
                <a:lnTo>
                  <a:pt x="0" y="21600"/>
                </a:lnTo>
                <a:close/>
              </a:path>
              <a:path fill="lightenLess" w="24186" h="21600">
                <a:moveTo>
                  <a:pt x="0" y="0"/>
                </a:moveTo>
                <a:lnTo>
                  <a:pt x="24186" y="0"/>
                </a:lnTo>
                <a:lnTo>
                  <a:pt x="22786" y="1400"/>
                </a:lnTo>
                <a:lnTo>
                  <a:pt x="1400" y="1400"/>
                </a:lnTo>
                <a:close/>
              </a:path>
              <a:path fill="darken" w="24186" h="21600">
                <a:moveTo>
                  <a:pt x="24186" y="0"/>
                </a:moveTo>
                <a:lnTo>
                  <a:pt x="24186" y="21600"/>
                </a:lnTo>
                <a:lnTo>
                  <a:pt x="22786" y="20200"/>
                </a:lnTo>
                <a:lnTo>
                  <a:pt x="22786" y="1400"/>
                </a:lnTo>
                <a:close/>
              </a:path>
              <a:path fill="darkenLess" w="24186" h="21600">
                <a:moveTo>
                  <a:pt x="24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6" y="20200"/>
                </a:lnTo>
                <a:close/>
              </a:path>
              <a:path fill="lighten" w="24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6" h="21600">
                <a:moveTo>
                  <a:pt x="5087" y="3794"/>
                </a:moveTo>
                <a:lnTo>
                  <a:pt x="19100" y="10800"/>
                </a:lnTo>
                <a:lnTo>
                  <a:pt x="5087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4267080"/>
            <a:ext cx="3124080" cy="825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Descriptive Statisti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76520" y="3505320"/>
            <a:ext cx="1676160" cy="76176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pulation Mean – Foster City Hot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019920" y="3657600"/>
            <a:ext cx="3124080" cy="825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Define Data Range and select op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3733920"/>
            <a:ext cx="1523880" cy="3808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5181120" y="2209680"/>
            <a:ext cx="2057400" cy="144792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5638320" y="3504960"/>
            <a:ext cx="762120" cy="15228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4419360" y="3886200"/>
            <a:ext cx="1600200" cy="38088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7160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pulation Mean – Foster City Hot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343400" y="2286000"/>
            <a:ext cx="259092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Mean Revenu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3048120" y="1981080"/>
            <a:ext cx="1295280" cy="4572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pulation Mean – Foster City Hot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3430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Mean, Median and Mode-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Weigh-In-Mo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1905120"/>
            <a:ext cx="73152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Issue: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oes the WIM scale produce gross weights that are close to the POE weights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Objective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Use Excel to develop histograms for the weights from each scale and to compute the mean, median, and mode for each scale.  The data file is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Trucks.xl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553080" y="2286000"/>
            <a:ext cx="259092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Open the data file called Trucks.x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72200" y="4114800"/>
            <a:ext cx="297180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Data File contains 200 trucks.  Last row is 20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447560" y="4343400"/>
            <a:ext cx="4724280" cy="121932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ean, Median, and Mode-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800600" y="685800"/>
            <a:ext cx="4343400" cy="30200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Constructing histograms was covered in Chapter 2 (See Capital Credit Union) here is an optional method for determining the frequency distribution and histogram using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Pivot Tab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2971800"/>
            <a:ext cx="838080" cy="5335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3124080"/>
            <a:ext cx="1219320" cy="4572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71600" y="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ean, Median, and Mode-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886200" y="1143000"/>
            <a:ext cx="4343400" cy="2288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Group the WIM weights by 10,000 pounds starting at 15,000 pounds (See Capital Credit Union example in Chapter 2 for specific steps required to group dat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4419360" y="3429000"/>
            <a:ext cx="685800" cy="11430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71600" y="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ean, Median, and Mode-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657600" y="3124080"/>
            <a:ext cx="4343400" cy="15570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Highlight the frequencies and click on the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Chart Wizard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to develop “quick-and dirty” histogram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2819520" y="3200040"/>
            <a:ext cx="838080" cy="60948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3809880" y="1218960"/>
            <a:ext cx="1828800" cy="190476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ean, Median, and Mode-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800600" y="1295280"/>
            <a:ext cx="4343400" cy="15570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Close Gaps by selecting bars – Right Clicking – select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Format Data Series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-  then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Option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71600" y="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ean, Median, and Mode-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800600" y="685800"/>
            <a:ext cx="4343400" cy="2288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Completed Histogram for WIM gross weights – Repeat the process for POE gross weights.  Then compute mean, median and modes for both variab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ean, Median, and Mode-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Chapter 3 Excel Examples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00"/>
                </a:solidFill>
                <a:uFillTx/>
                <a:latin typeface="Arial"/>
                <a:hlinkClick r:id="rId1" action="ppaction://hlinksldjump"/>
              </a:rPr>
              <a:t>Population Mean  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ster City Hot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00"/>
                </a:solidFill>
                <a:uFillTx/>
                <a:latin typeface="Arial"/>
                <a:hlinkClick r:id="rId2" action="ppaction://hlinksldjump"/>
              </a:rPr>
              <a:t>Mean, Median,and Mode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igh-In-Mo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00"/>
                </a:solidFill>
                <a:uFillTx/>
                <a:latin typeface="Arial"/>
                <a:hlinkClick r:id="rId3" action="ppaction://hlinksldjump"/>
              </a:rPr>
              <a:t>Percentiles and Quarti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igh-In-Mo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1320" y="649116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More Exampl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495680" y="2895480"/>
            <a:ext cx="4343400" cy="825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Tools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– then select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Data Analys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1600" y="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ean, Median, and Mode-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533520" y="4191120"/>
            <a:ext cx="4343400" cy="825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Click on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Descriptive Statisti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1600" y="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ean, Median, and Mode-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019920" y="3200400"/>
            <a:ext cx="3124080" cy="825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Define Data Range and select op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971800" y="3276720"/>
            <a:ext cx="1523880" cy="3808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5181120" y="1752480"/>
            <a:ext cx="2057400" cy="144792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5638320" y="3047760"/>
            <a:ext cx="762120" cy="15228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4419360" y="3429000"/>
            <a:ext cx="1600200" cy="38088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71600" y="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ean, Median, and Mode-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124080" y="4191120"/>
            <a:ext cx="434340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Delete un-needed colum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71600" y="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ean, Median, and Mode-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419720" y="2286000"/>
            <a:ext cx="388620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Mean, Median, and Mo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38080" y="1828800"/>
            <a:ext cx="3276720" cy="304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38080" y="2133720"/>
            <a:ext cx="3276720" cy="4572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71600" y="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ean, Median, and Mode-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43000" y="3430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Percentiles and Quartiles-          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Weigh-In-Mo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2286000"/>
            <a:ext cx="73152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Issue: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etermine Percentiles and Quartiles for WIM and POE Gross Weigh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Objective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Use Excel to calculate 10</a:t>
            </a:r>
            <a:r>
              <a:rPr b="1" lang="en-US" sz="24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percentiles and 1</a:t>
            </a:r>
            <a:r>
              <a:rPr b="1" lang="en-US" sz="2400" spc="-1" strike="noStrike" baseline="30000">
                <a:solidFill>
                  <a:srgbClr val="eaeaea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and 3</a:t>
            </a:r>
            <a:r>
              <a:rPr b="1" lang="en-US" sz="2400" spc="-1" strike="noStrike" baseline="30000">
                <a:solidFill>
                  <a:srgbClr val="eaeaea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quartiles for weigh-in-motion data.  Data file is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rucks.x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>
            <a:hlinkClick r:id="rId1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6553080" y="2286000"/>
            <a:ext cx="259092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Open the data file called Trucks.x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172200" y="4114800"/>
            <a:ext cx="297180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Data File contains 200 trucks.  Last row is 20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1447560" y="4343400"/>
            <a:ext cx="4724280" cy="121932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ercentiles and Quartiles –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0" y="3657600"/>
            <a:ext cx="2590920" cy="15570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Select function wizard –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Statistical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– then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Percenti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685800" y="1218960"/>
            <a:ext cx="2438280" cy="243828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1905120" y="2590560"/>
            <a:ext cx="1218960" cy="106668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590920" y="3048120"/>
            <a:ext cx="2133360" cy="13716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71600" y="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ercentiles and Quartiles –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4800600" y="3505320"/>
            <a:ext cx="320040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Enter Data Range and desired percenti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3124080" y="1904760"/>
            <a:ext cx="2362320" cy="16002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371600" y="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ercentiles and Quartiles –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4800600" y="3962520"/>
            <a:ext cx="3200400" cy="15570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WIM Percentile Results – Process also repeated for PO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72200" y="2438280"/>
            <a:ext cx="1905120" cy="13716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09680" y="1066680"/>
            <a:ext cx="2057400" cy="4572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3886200" y="1447560"/>
            <a:ext cx="2666880" cy="198108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7695720" y="3200040"/>
            <a:ext cx="228600" cy="76212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71600" y="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ercentiles and Quartiles –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43000" y="3430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Chapter 3 Excel Examples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00"/>
                </a:solidFill>
                <a:uFillTx/>
                <a:latin typeface="Times New Roman"/>
                <a:hlinkClick r:id="rId1" action="ppaction://hlinksldjump"/>
              </a:rPr>
              <a:t>Measures of Variation -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Weigh-In-Mo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mpirical Rule -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urger N’ Brew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85800" y="3733920"/>
            <a:ext cx="3200400" cy="15570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Select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 Chart Wizard 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– click on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 Statistical 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– then select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 Quarti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914400" y="1218960"/>
            <a:ext cx="2286000" cy="25146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1981080" y="2666880"/>
            <a:ext cx="1067040" cy="106704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3886200" y="2514600"/>
            <a:ext cx="838080" cy="13716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71600" y="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ercentiles and Quartiles –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4800600" y="3505320"/>
            <a:ext cx="3200400" cy="825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Enter Data Range and desired quarti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3124080" y="1904760"/>
            <a:ext cx="2362320" cy="16002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371600" y="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ercentiles and Quartiles –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5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2666880" y="4114800"/>
            <a:ext cx="320040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000054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and 3</a:t>
            </a:r>
            <a:r>
              <a:rPr b="1" lang="en-US" sz="2400" spc="-1" strike="noStrike" baseline="30000">
                <a:solidFill>
                  <a:srgbClr val="000054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quartiles for WIM and POE gross weigh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15000" y="3505320"/>
            <a:ext cx="2514600" cy="8380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3352680" y="1371600"/>
            <a:ext cx="3200400" cy="2666880"/>
          </a:xfrm>
          <a:prstGeom prst="line">
            <a:avLst/>
          </a:prstGeom>
          <a:ln w="3816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09680" y="1066680"/>
            <a:ext cx="1828800" cy="5335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71600" y="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ercentiles and Quartiles –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143000" y="457200"/>
            <a:ext cx="7772400" cy="102888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Measures of Variation -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Weigh-In-Mo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" y="2286000"/>
            <a:ext cx="73152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Issue: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Understand the Variation in POE and WIM gross Weigh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Objective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Use the Excel to compute various measures of variation in WIM and POE Gross Weights   Data file is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rucks.x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>
            <a:hlinkClick r:id="rId1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6553080" y="2286000"/>
            <a:ext cx="259092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Open the data file called Trucks.x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172200" y="4114800"/>
            <a:ext cx="297180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Data File contains 200 trucks.  Last row is 20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1447560" y="4343400"/>
            <a:ext cx="4724280" cy="121932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easures of Variation – Weigh –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5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0" y="4038480"/>
            <a:ext cx="472428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Click on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Tools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tab – then select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Data Analysis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– then choose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Descriptive Statisti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219320" y="914400"/>
            <a:ext cx="1523880" cy="312408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981080" y="3047760"/>
            <a:ext cx="1143000" cy="99036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371600" y="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easures of Variation – Weigh –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1676520" y="2133360"/>
            <a:ext cx="1295280" cy="1904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4876920" y="3886200"/>
            <a:ext cx="388620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Define data range, output location – request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Summary Statisti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895480" y="3276720"/>
            <a:ext cx="1447920" cy="380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 flipV="1">
            <a:off x="5409720" y="1828440"/>
            <a:ext cx="1295640" cy="20574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5334120" y="3123720"/>
            <a:ext cx="838080" cy="76212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3962520" y="3733560"/>
            <a:ext cx="914400" cy="11430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71600" y="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easures of Variation – Weigh –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4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4191120" y="2286000"/>
            <a:ext cx="3886200" cy="825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Standard Deviation, Variance, and Ran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047760" y="2590920"/>
            <a:ext cx="1143000" cy="0"/>
          </a:xfrm>
          <a:prstGeom prst="line">
            <a:avLst/>
          </a:prstGeom>
          <a:ln w="284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124080" y="2971800"/>
            <a:ext cx="1067040" cy="304920"/>
          </a:xfrm>
          <a:prstGeom prst="line">
            <a:avLst/>
          </a:prstGeom>
          <a:ln w="284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2120" y="2438280"/>
            <a:ext cx="2438280" cy="4572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62120" y="3048120"/>
            <a:ext cx="2361960" cy="380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371600" y="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easures of Variation – Weigh –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0" y="4191120"/>
            <a:ext cx="388620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For POE, select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Tools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Data Analysis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Descriptive Statisti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876920" y="3886200"/>
            <a:ext cx="388620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Define data range, output location – request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Summary Statisti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895480" y="3276720"/>
            <a:ext cx="1447920" cy="380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5409720" y="1828440"/>
            <a:ext cx="1295640" cy="20574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5334120" y="3123720"/>
            <a:ext cx="838080" cy="76212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3962520" y="3733560"/>
            <a:ext cx="914400" cy="11430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371600" y="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easures of Variation – Weigh –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5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4191120" y="2286000"/>
            <a:ext cx="3886200" cy="825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Standard Deviation, Variance, and Ran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3047760" y="2590920"/>
            <a:ext cx="1143000" cy="0"/>
          </a:xfrm>
          <a:prstGeom prst="line">
            <a:avLst/>
          </a:prstGeom>
          <a:ln w="284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3124080" y="2971800"/>
            <a:ext cx="1067040" cy="304920"/>
          </a:xfrm>
          <a:prstGeom prst="line">
            <a:avLst/>
          </a:prstGeom>
          <a:ln w="284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62120" y="2438280"/>
            <a:ext cx="2438280" cy="4572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62120" y="3048120"/>
            <a:ext cx="2361960" cy="380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71600" y="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easures of Variation – Weigh –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Population Mean</a:t>
            </a:r>
            <a:br>
              <a:rPr sz="4400"/>
            </a:b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    Foster City Hote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286000"/>
            <a:ext cx="73152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Issue: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etermine the mean nightly revenue for the Foster City Hotel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Objective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Use Excel to calculate the population mean revenue  Data File is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osterCity.x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143000" y="3430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Empirical Rule - 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Burger N’ Brew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1905120"/>
            <a:ext cx="73152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Issue: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Analyze the Phoenix Burger Sales Distribu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Objective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Use the Excel to compute graphs and numerical measures necessary for using the empirical rule to analyze sales at Burger N’ Brew   Data file is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urgerNBrew.x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6324480" y="2286000"/>
            <a:ext cx="281952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Open the data file called BurgerNBrew.x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172200" y="4114800"/>
            <a:ext cx="297180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Data File contains sales for 365 days.  Last row is 366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1676520" y="4343400"/>
            <a:ext cx="4495680" cy="106668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37160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mpirical Rule – Burger N’ Bre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5105520" y="2057400"/>
            <a:ext cx="2819160" cy="19227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First, develop histogram – class width = 2.  Form Bins (upper limit of each clas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038480" y="1752480"/>
            <a:ext cx="457200" cy="1524240"/>
          </a:xfrm>
          <a:custGeom>
            <a:avLst/>
            <a:gdLst>
              <a:gd name="textAreaLeft" fmla="*/ 0 w 457200"/>
              <a:gd name="textAreaRight" fmla="*/ 164880 w 45720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4648320" y="2514240"/>
            <a:ext cx="457200" cy="228600"/>
          </a:xfrm>
          <a:prstGeom prst="line">
            <a:avLst/>
          </a:prstGeom>
          <a:ln w="284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14400" y="4267080"/>
            <a:ext cx="510552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Refer to Example 2-6 for detailed steps in developing the histogra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37160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mpirical Rule – Burger N’ Bre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4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5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304920" y="3886200"/>
            <a:ext cx="5105160" cy="825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Click on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Tools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tab – then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Data Analysis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– then 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Histogra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1447920" y="914040"/>
            <a:ext cx="1295280" cy="29718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2133720" y="3580920"/>
            <a:ext cx="609480" cy="30492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37160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mpirical Rule – Burger N’ Bre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2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3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1752480" y="2133720"/>
            <a:ext cx="914400" cy="1752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457200" y="2209680"/>
            <a:ext cx="2514600" cy="2288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Define input range, bin range, output location – check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 Chart Outpu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2971800" y="2362320"/>
            <a:ext cx="2514600" cy="38088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886200" y="3886200"/>
            <a:ext cx="1600200" cy="5335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971800" y="3581280"/>
            <a:ext cx="838080" cy="4572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mpirical Rule – Burger N’ Bre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2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3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1905120" y="3733920"/>
            <a:ext cx="5790960" cy="15570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Excel default output – See Capital Credit Union example Chapter 2 for specific steps to enhance the histogram – close gaps, label , et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37160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mpirical Rule – Burger N’ Bre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8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9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0" y="4572000"/>
            <a:ext cx="5791320" cy="825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Finished Histogram – Bell Shaped Distribution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37160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mpirical Rule – Burger N’ Bre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4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5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0" y="4267080"/>
            <a:ext cx="579132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To compute numerical measures –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Click Tools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Data Analysis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Descriptive Statisti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1676520" y="990360"/>
            <a:ext cx="1066680" cy="327636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3276720" y="3352680"/>
            <a:ext cx="990360" cy="9144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37160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mpirical Rule – Burger N’ Bre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2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3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5257800" y="4191120"/>
            <a:ext cx="388620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Define data range, output location – request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Summary Statisti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114800" y="3581280"/>
            <a:ext cx="1447920" cy="3812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6400440" y="2133360"/>
            <a:ext cx="1219320" cy="20574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6019920" y="3352320"/>
            <a:ext cx="380880" cy="83844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 flipV="1">
            <a:off x="4571640" y="3885840"/>
            <a:ext cx="685800" cy="60948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37160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mpirical Rule – Burger N’ Bre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2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3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4114800" y="1981080"/>
            <a:ext cx="457200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Mean and Standard Devi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 flipV="1">
            <a:off x="3047760" y="1980720"/>
            <a:ext cx="1066680" cy="30492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3047760" y="2286000"/>
            <a:ext cx="1066680" cy="30492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657600" y="2743200"/>
            <a:ext cx="4572000" cy="21283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Empirical Rule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68% within 15.12 </a:t>
            </a:r>
            <a:r>
              <a:rPr b="1" lang="en-US" sz="2400" spc="-1" strike="noStrike" u="sng">
                <a:solidFill>
                  <a:srgbClr val="000054"/>
                </a:solidFill>
                <a:uFillTx/>
                <a:latin typeface="Arial"/>
              </a:rPr>
              <a:t>+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(1)3.1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95% within 15.12 </a:t>
            </a:r>
            <a:r>
              <a:rPr b="1" lang="en-US" sz="2400" spc="-1" strike="noStrike" u="sng">
                <a:solidFill>
                  <a:srgbClr val="000054"/>
                </a:solidFill>
                <a:uFillTx/>
                <a:latin typeface="Arial"/>
              </a:rPr>
              <a:t>+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(2)3.1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99.7% within 15.12 </a:t>
            </a:r>
            <a:r>
              <a:rPr b="1" lang="en-US" sz="2400" spc="-1" strike="noStrike" u="sng">
                <a:solidFill>
                  <a:srgbClr val="000054"/>
                </a:solidFill>
                <a:uFillTx/>
                <a:latin typeface="Arial"/>
              </a:rPr>
              <a:t>+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(3)3.13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37160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mpirical Rule – Burger N’ Bre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1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733920" y="3581280"/>
            <a:ext cx="3886200" cy="825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Open the Excel file called FosterCity.x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pulation Mean – Foster City Hot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57800" y="914400"/>
            <a:ext cx="3886200" cy="825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Option 1 – Use the Excel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Average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functio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191120"/>
            <a:ext cx="434340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Click the function wizard – Select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Statistical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category – Select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Avera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914400" y="1218960"/>
            <a:ext cx="2286000" cy="29718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362320" y="3124080"/>
            <a:ext cx="914400" cy="106704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343400" y="2590560"/>
            <a:ext cx="609480" cy="236196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pulation Mean – Foster City Hot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486400" y="1752480"/>
            <a:ext cx="3124080" cy="825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Specify data range -  Click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2437920" y="1752480"/>
            <a:ext cx="3048120" cy="4572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266720" y="2362320"/>
            <a:ext cx="1219320" cy="53316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pulation Mean – Foster City Hot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80880" y="3809880"/>
            <a:ext cx="274320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Population Me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133720" y="3429000"/>
            <a:ext cx="533160" cy="38088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pulation Mean – Foster City Hot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952880" y="2362320"/>
            <a:ext cx="312444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Optional Method:  Select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Tools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, then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Data Analys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2895480" y="914400"/>
            <a:ext cx="2819520" cy="144792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885840" y="2514600"/>
            <a:ext cx="1066680" cy="4572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pulation Mean – Foster City Hot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9:18Z</dcterms:created>
  <dc:creator>Patrick Shannon</dc:creator>
  <dc:description/>
  <dc:language>en-US</dc:language>
  <cp:lastModifiedBy>dgroebner</cp:lastModifiedBy>
  <cp:lastPrinted>1996-09-26T03:39:24Z</cp:lastPrinted>
  <dcterms:modified xsi:type="dcterms:W3CDTF">2003-10-03T18:02:01Z</dcterms:modified>
  <cp:revision>78</cp:revision>
  <dc:subject/>
  <dc:title>Excel tutorial for chapter 3</dc:title>
</cp:coreProperties>
</file>