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84A1-E749-4EE8-8B2B-737A8879D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94D9-79E5-4019-BE55-F0973886C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1CC8-A402-4C14-A6A1-0B5E7A29A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EB0E-F31C-46FD-8496-571638A13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1AB54-809C-4AA8-BBC1-F066AD57DC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5B11C-9FB6-4364-A838-569B09773A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E7FE4-45AF-43E2-901E-1AD6922DC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8C468-E683-4B65-A8D6-39E4FC2BC9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AFE57-59C9-4D8D-B6B9-C03B70EEBD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2EC90-6A27-4B40-B548-E71249414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4F8AE-458C-414A-98B1-C9CDEA7EA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6554-0D1E-4B07-A371-168908655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47D2B-7CA2-4764-B628-C36AB18630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A1465-988B-48D4-A427-DC15911FC6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FCEB7-2E52-47A7-ACCF-F7869699B2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A0A8F-0C8F-4216-9A58-7D6FBC9934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BDDBD-45DA-433C-9A4C-F9FE895FC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5B60-E7D1-4B1D-A92C-33D63389F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06E6-7669-4696-91CD-C591283EB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F509-CAF5-4BBE-813E-CEE99D0C9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15FE-CB9F-4012-BF01-928F51CDB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9275-2280-4197-85B4-242F02F33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C9A4-0EB9-4382-9007-9E19F721F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88E2-07BE-41CF-92E9-1A09E39AC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C3BCE637-1670-4ACF-9FE4-97387D01B6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9124D4FB-D79D-499F-A9B1-AD8028BE6C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, Charts, and Tables – Describing Your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59120-BCE7-4840-8EBA-2779FA3C55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ass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v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hown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rizontal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rtic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s of the appropriate heights can be used to represent the number of observations within each cl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graph is called 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887B-E6AD-488C-952C-B23F80080E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2057400"/>
            <a:ext cx="8458200" cy="457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438280"/>
          <a:ext cx="6502680" cy="38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6502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00400" y="6019920"/>
            <a:ext cx="243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id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3733920"/>
            <a:ext cx="1752480" cy="1917720"/>
          </a:xfrm>
          <a:prstGeom prst="rect">
            <a:avLst/>
          </a:prstGeom>
          <a:solidFill>
            <a:srgbClr val="ffffd5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aps between bars, since continu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CAA0-07FF-4FD4-8DE4-691F287298C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estions for Grouping Dat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o Cla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wide should each interval b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lasses should be u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should the endpoints of 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vals be determ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swered by trial and error, subject to user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create a distribution that is neithe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g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no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appropriately show the pattern of variation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B91F-DC04-4685-B966-A86EA50A6A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Many Class Intervals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(Narrow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yield a very jagged distribution with gaps from empty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give a poor indication of how frequency varies across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 (Wide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press variation too much and yield a blocky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bscure important patterns of var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943600" y="4227480"/>
          <a:ext cx="320040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27480"/>
                    <a:ext cx="320040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943600" y="2166840"/>
          <a:ext cx="3200400" cy="20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166840"/>
                    <a:ext cx="320040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553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X axis labels are upper class endpo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D462-BB45-47FC-B284-19EFC05A92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16292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eneral Guidelin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ber of Data Points       Number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50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 -  7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0 – 100                               6 - 10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100 – 250                               7 - 12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over  250                             10 - 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dths can typically be reduced as the number of observations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with numerous observations are more likely to be smooth and have gaps filled since data are plen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9FEF-AABC-4969-B5FF-FC0E88C91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4419720"/>
            <a:ext cx="5562720" cy="11430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ass Width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width is the distance between the lowest possible value and the highest possible value for a frequenc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class width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st Value - Smallest Valu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952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 of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648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95288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C5D3-CF11-458A-B71B-EF2FC92DBB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38680" y="45720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ols/Data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33412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1148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80920" y="5257800"/>
            <a:ext cx="213372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BDC1-4ED2-4A95-B33D-15E4AAB0A7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724280" y="243828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ose Histo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219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433680"/>
            <a:ext cx="4124160" cy="303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9810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4956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85640" y="2743200"/>
            <a:ext cx="24382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05320" y="6019560"/>
            <a:ext cx="1447560" cy="75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9528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put data and bin r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Chart Outp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67080" y="4191120"/>
            <a:ext cx="2133720" cy="914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4D20-2394-417D-BFB2-48E850E16F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em and Leaf Diagra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9664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way to see distribution details in a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Separate the sorted data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into leading digits (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the trailing digits (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e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B856-34D1-40B1-A682-1357EA7D5C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876920" y="3352680"/>
            <a:ext cx="1600200" cy="2286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use the 10’s digit for the stem u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809880"/>
            <a:ext cx="3505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3526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3429000"/>
            <a:ext cx="152388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85A5-126C-4DD4-BD08-3531AE40AF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frequency distribution both manually and with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nd interpret a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d interpret bar charts, pie charts, and stem-and-leaf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nd interpret data in line charts and scatter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2D9D-B2BD-454B-9AE3-50734F1A60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Stem-and-leaf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71800" y="3352680"/>
          <a:ext cx="3124080" cy="2819520"/>
        </p:xfrm>
        <a:graphic>
          <a:graphicData uri="http://schemas.openxmlformats.org/drawingml/2006/table">
            <a:tbl>
              <a:tblPr/>
              <a:tblGrid>
                <a:gridCol w="914400"/>
                <a:gridCol w="2209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4  4  6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2  5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3  4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971800" y="373392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4290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8FAE-FFA9-41C3-9D03-21C1DE6C1E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800600" y="3048120"/>
            <a:ext cx="1752480" cy="2209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sing other stem uni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100’s digit as the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off the 10’s digit to form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13 would become             6     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76 would become             7     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24 becomes                  12     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5053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0481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3C37-751F-4D32-99DA-F6C43094DB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ng Categoric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417920" y="26654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752480"/>
            <a:ext cx="2968560" cy="9421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33720" y="3045960"/>
            <a:ext cx="4646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3962520"/>
            <a:ext cx="159696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0240" y="3046320"/>
            <a:ext cx="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962520"/>
            <a:ext cx="228312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to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0481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962520"/>
            <a:ext cx="167328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5793-0A0C-49D9-BBE6-E50E589F03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and Pie Char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charts and Pie charts are often used for qualitative (category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bar or size of pie slice shows the frequency or percentage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6CC5-CE18-4E04-9D44-95DD8CD0A3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i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505320" y="2362320"/>
          <a:ext cx="5638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362320"/>
                    <a:ext cx="5638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5029200"/>
            <a:ext cx="1447920" cy="9414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ercentages are rounded to the nearest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523880"/>
            <a:ext cx="5181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nvestment Portfo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362320"/>
            <a:ext cx="1143000" cy="67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3429000"/>
            <a:ext cx="758880" cy="637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9200"/>
            <a:ext cx="914400" cy="63756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s 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971800"/>
            <a:ext cx="990720" cy="64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362320"/>
            <a:ext cx="4038840" cy="23119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       Amount       Perce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 $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              46.5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0               29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5.5                14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8954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343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105520"/>
            <a:ext cx="2895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Variables are Qualit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066680" y="426708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0088-FFAC-44EF-AD04-902F5C63F0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752480"/>
          <a:ext cx="80010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BDF7-05DF-47CA-9D0F-50661B8161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areto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94440" y="3491280"/>
            <a:ext cx="304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% inves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ne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861120" y="3452040"/>
            <a:ext cx="373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invested in each category (bar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600200"/>
          <a:ext cx="601992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0199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EA9C-1699-4F50-B46A-8095720A0A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09680" y="1828800"/>
          <a:ext cx="68533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28800"/>
                    <a:ext cx="68533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52280" y="1905120"/>
          <a:ext cx="2210040" cy="3467160"/>
        </p:xfrm>
        <a:graphic>
          <a:graphicData uri="http://schemas.openxmlformats.org/drawingml/2006/table">
            <a:tbl>
              <a:tblPr/>
              <a:tblGrid>
                <a:gridCol w="1105200"/>
                <a:gridCol w="1104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5382-F700-471E-A6A5-F881DC5603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in thousands of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040" y="2668680"/>
            <a:ext cx="8455320" cy="3339360"/>
          </a:xfrm>
          <a:prstGeom prst="rect">
            <a:avLst/>
          </a:prstGeom>
          <a:solidFill>
            <a:srgbClr val="ffffd9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estment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vestor A          </a:t>
            </a:r>
            <a:r>
              <a:rPr b="1" lang="en-US" sz="2000" spc="-1" strike="noStrike">
                <a:solidFill>
                  <a:srgbClr val="d8af00"/>
                </a:solidFill>
                <a:latin typeface="Arial"/>
              </a:rPr>
              <a:t>Investor 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Investor C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32.0                 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.0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5.5                 20                 13.5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6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8                   7.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47                 67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276720"/>
            <a:ext cx="84582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2666880"/>
            <a:ext cx="0" cy="32767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7960" y="5257800"/>
            <a:ext cx="844884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A4D2-DB04-423C-905C-2FF4A1D915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 by side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209680"/>
          <a:ext cx="7086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7086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E4D6-440E-40C9-83F5-105FDD8A4D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requency Distrib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st or a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ues of a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a set of ranges within which the data fall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sponding frequ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which each value occurs (or frequencies with which data fall within each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7452-C39D-4DF6-9D67-C5D9625A84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0400" y="2133720"/>
            <a:ext cx="3505320" cy="6094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de-by-Sid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by quarter for three sales territori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28800" y="2514600"/>
          <a:ext cx="64483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4483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286000" y="1905120"/>
            <a:ext cx="4495680" cy="89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6CC6-B0F7-4280-A462-A49A645D10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e cha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values of one variable vs.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 is traditionally shown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points for bivari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s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312E-C287-4DAC-ADC2-8262496CAD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81080" y="1828800"/>
          <a:ext cx="6867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867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1828800"/>
          <a:ext cx="1600200" cy="43639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2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0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8274-0516-4B94-89F0-3EB730CCD1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52280" y="2133720"/>
          <a:ext cx="1905120" cy="359388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C15F-84EB-41B6-8BA1-AA36D5C6B4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656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F3CF-26D2-4AA5-B0A1-C673CED5B2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2362320"/>
          <a:ext cx="84484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448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6059-A6B1-4BBC-84DD-9B9D7E16D5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1747-C79F-4507-82F8-CD6026D6AE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iques reviewed in this chap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cy Distributions and Histo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r Charts and Pie Cha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and Leaf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Charts and Scatter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767A-494B-4AA9-8E0F-B9CCB8A1FC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Why Use Frequency Distributions?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3846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way to summar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bution condenses the raw data into a more useful form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lows for a quick visual interpretation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6D7B-8B66-4C3C-B4CF-AAE6E8661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iscrete dat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ossible values are coun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4382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advertiser asks 200 customers how many days per week they read the daily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38480" y="2362320"/>
          <a:ext cx="4267440" cy="38113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1886040" cy="11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F11F-E0D9-4A6C-A8F1-88F1FB9E51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lative Frequenc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proportion is in each categ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38080" y="2209680"/>
          <a:ext cx="6400800" cy="38689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lati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7467480" y="29718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20120" y="2743200"/>
                <a:ext cx="1315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629400" y="3048120"/>
            <a:ext cx="990720" cy="152280"/>
          </a:xfrm>
          <a:prstGeom prst="left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3657600"/>
            <a:ext cx="1676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% of the people in the sample report that they read the newspaper 0 days per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1520" y="551196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36A1-6203-4B49-A2C2-130EA017F3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4114800"/>
            <a:ext cx="5257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367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take on any value in som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anufacturer of insulation randomly selects 20 winter days and records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ily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6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, 35, 17, 21, 24, 37, 26, 46, 58, 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, 13, 12, 38, 41, 43, 44, 27, 53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emperature is a continuous variable because it c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measured to any degree of precision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F8FF-BF28-43FC-87F3-4E04DE14D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09680"/>
            <a:ext cx="8153640" cy="3812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ouping Data by Class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rt raw data in ascending ord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12, 13, 17, 21, 24, 24, 26, 27, 27, 30, 32, 35, 37, 38, 41, 43, 44, 46, 53,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ange: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8 - 12 =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number of classe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usually between 5 and 2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width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46/5 then round of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lass boundaries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, 20, 30, 40,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midpoint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5, 25, 35, 45,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observations &amp; assign 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B396-CC36-48B8-B27F-3255F82816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514600"/>
            <a:ext cx="6400800" cy="388620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 ordered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1160" y="37339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048120"/>
            <a:ext cx="627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809880"/>
            <a:ext cx="642312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 but under 20             3                 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 but under 3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6                   .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 but under 4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5                   .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0 but under 50             4                   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0 but under 6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2                   .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20                 1.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048120"/>
            <a:ext cx="1622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5943600"/>
            <a:ext cx="596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514600"/>
            <a:ext cx="627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0481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7097-504A-44D0-9F11-C46336FD32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29:01Z</dcterms:modified>
  <cp:revision>61</cp:revision>
  <dc:subject>Chapter 2</dc:subject>
  <dc:title>Groebner lecture notes for chapter 2</dc:title>
</cp:coreProperties>
</file>