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AD45-722E-43A8-B691-3BD25621C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12D3-09CE-41F9-A499-BAC5A5CB3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562D-EA20-4C06-BAD1-57E78BFBC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2E2E-7262-4831-8345-408DFAE69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88222-FA9C-4FAF-B454-1291E5D8B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A4B31-82CE-4977-A22A-3483D2605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A554-1D00-4481-85DC-0E991C3CF1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A4236-8F4C-426F-BCA9-8C8B4523F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8E0D5-5494-47BF-839B-2B6786AE1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AB833-5CBD-4A68-B2D7-5DC594F3A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AEBE-2250-4190-92FE-B435F1996C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FB44-8968-4C65-B9F1-65E4E44B6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A28B-737D-4048-9326-B3F78EF086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8EBE-896E-4217-83C4-FFFA62F499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A1640-721E-45D8-A99D-4B7C1D3951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7996C-BB1D-43EF-9205-7E73DB266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7123-8539-4260-81E8-0634B1805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EE61-F081-48B2-A130-D330BAF42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AA8E-7C13-4A95-BC18-03C4E4272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5864-18F5-42CA-8EA2-90FE98699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71B0-7437-4B21-B1A4-5E0D91FD5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61A2-6C9F-4ED3-8078-46CA881DC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33C6-7584-4960-A700-ACC95266A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1968-24A9-462A-9E17-B0ADA28A3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06BB0C60-A8F8-4BF9-904B-E54201AA55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BA55EE43-0CEE-47BA-909A-9714C7E6C2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E4CE0-AAFB-4AE0-A120-8091E001A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v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rizont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graph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665A-EEE8-4E3B-BEB6-D763D63A6F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2057400"/>
            <a:ext cx="8458200" cy="457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6502680" cy="38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6502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00400" y="6019920"/>
            <a:ext cx="24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733920"/>
            <a:ext cx="1752480" cy="1917720"/>
          </a:xfrm>
          <a:prstGeom prst="rect">
            <a:avLst/>
          </a:prstGeom>
          <a:solidFill>
            <a:srgbClr val="ffffd5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ps between bars, since continu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02DA-1309-4EFC-AD6A-7E1DBED2FE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g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no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25EE-B6CC-472B-9649-F01838E60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2166840"/>
          <a:ext cx="3200400" cy="20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166840"/>
                    <a:ext cx="32004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553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3473-551F-499F-BD42-C292D77FE7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16292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Guidelin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Data Points      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50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 -  7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0 – 100                               6 - 10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100 – 250                               7 - 12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over  250                             10 -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dths can typically be reduced as the number of observation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with numerous observations are more likely to be smooth and have gaps filled since data a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7477-4835-420E-86F0-F905016165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4419720"/>
            <a:ext cx="5562720" cy="11430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ass Width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width is the distance between the lowest possible value and the highest possible value for a frequen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class widt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st Value - Smallest Val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952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648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6BA7-B6AC-41F0-B417-893D31FB4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5257800"/>
            <a:ext cx="21337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8CB8-64C2-4BE1-9C9D-CB5A2AD25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24280" y="243828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956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05320" y="6019560"/>
            <a:ext cx="144756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9528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ata and bin r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Chart 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4191120"/>
            <a:ext cx="2133720" cy="914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27AD-F9A4-4613-ACE9-062D5B4985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em and Leaf Diagra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Separate the sorted data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into leading digits (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the trailing digits (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CA4D-5471-446A-B509-8EC21599E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3429000"/>
            <a:ext cx="152388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56C6-6B94-47B9-A93F-11A3D568D1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frequency distribution both manually and with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d interpret a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terpret bar charts, pie charts, and stem-and-leaf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FA96-71F0-46CD-93D7-098BBD887B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71800" y="3352680"/>
          <a:ext cx="3124080" cy="281952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5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3  4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971800" y="3733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4290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1F10-30FE-49E3-ACE5-C7525E4D24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800600" y="3048120"/>
            <a:ext cx="1752480" cy="220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sing other stem uni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5053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7EC3-C773-45CD-9458-70457EC5C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ng Categoric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417920" y="26654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752480"/>
            <a:ext cx="2968560" cy="9421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3045960"/>
            <a:ext cx="4646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962520"/>
            <a:ext cx="159696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0240" y="304632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962520"/>
            <a:ext cx="228312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to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0481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962520"/>
            <a:ext cx="167328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5FF2-E17C-42EA-BB87-7875DF1951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and Pie Char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0A3E-8BED-4680-BD65-76B06A210E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i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3623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3623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02920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36232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42900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920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97180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4038840" cy="23119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895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2895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Variables are Qualit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066680" y="4267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ED7E-C66E-4182-9D57-9A25782311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52480"/>
          <a:ext cx="80010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12FE-9439-4357-940E-BED1F11410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areto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94440" y="3491280"/>
            <a:ext cx="304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861120" y="3452040"/>
            <a:ext cx="373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6002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154A-77DB-4C76-A283-4A4F34A9A2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1828800"/>
          <a:ext cx="68533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6853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1905120"/>
          <a:ext cx="2210040" cy="34671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A50D-C1C9-448C-BEC9-80983806FD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in thousand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040" y="2668680"/>
            <a:ext cx="8455320" cy="3339360"/>
          </a:xfrm>
          <a:prstGeom prst="rect">
            <a:avLst/>
          </a:prstGeom>
          <a:solidFill>
            <a:srgbClr val="ffffd9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66688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960" y="525780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5FD0-D914-4F84-8E0E-87F7819897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9149-C7B9-488A-8C78-2F2063382A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equency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ues of a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 set of ranges within which the data fall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each value occurs (or frequencies with which data fall within each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F64C-43F3-4793-8E0E-C09691E7A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de-by-Sid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7981-8120-4CA6-A5EA-2FC8E2E804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5BDD-2AD8-409C-BD7B-8EEFC09491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1828800"/>
          <a:ext cx="1600200" cy="43639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0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76EB-B514-4AEC-A559-F6998B4A07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5A5D-39F1-4C01-A8D8-22A3E294C7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AAFC-556B-477A-83C0-D0510C0D7B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0AB2-45F6-4F9F-BC17-D57CFBD01E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7A28-5230-4A11-B489-4C28A80BB7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and Leaf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8A62-90EE-43F1-AAE2-F524A0B664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hy Use Frequency Distributions?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846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B86C-841F-49E4-AE5F-E2E527095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iscrete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sible values are coun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438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advertiser asks 200 customers how many days per week they read the daily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38480" y="2362320"/>
          <a:ext cx="4267440" cy="38113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1886040" cy="11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811B-186D-44F3-A352-E8A949198A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lative Frequenc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proportion is in each categ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2209680"/>
          <a:ext cx="6400800" cy="38689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l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467480" y="29718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0120" y="2743200"/>
                <a:ext cx="131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629400" y="304812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3657600"/>
            <a:ext cx="167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 of the people in the sample report that they read the newspaper 0 days per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551196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5479-0E6D-45C7-8C8E-F407ADB25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114800"/>
            <a:ext cx="5257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6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take on any value in so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anufacturer of insulation randomly selects 20 winter days and record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6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, 35, 17, 21, 24, 37, 26, 46, 58,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, 13, 12, 38, 41, 43, 44, 27, 53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mperature is a continuous variable because it c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measured to any degree of precision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E100-BC8F-4823-9E35-D5C574364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09680"/>
            <a:ext cx="8153640" cy="3812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ouping Data by Class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ange: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8 - 12 =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usually between 5 and 2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width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46/5 then round of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lass boundaries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, 20, 30, 40,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5, 25, 35, 45,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BEFE-B611-4011-9FD6-C12487E285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6400800" cy="3886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7339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048120"/>
            <a:ext cx="627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809880"/>
            <a:ext cx="642312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under 20             3                 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under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6                   .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under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5                   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under 50             4                   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under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2                   .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20                 1.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1622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5943600"/>
            <a:ext cx="596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514600"/>
            <a:ext cx="627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0481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E350-8329-401E-A906-B6C375C88F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9:01Z</dcterms:modified>
  <cp:revision>61</cp:revision>
  <dc:subject>Chapter 2</dc:subject>
  <dc:title>Groebner lecture notes for chapter 2</dc:title>
</cp:coreProperties>
</file>