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AE6DB-5CB1-4D8F-9369-4C524B3D4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4B0B2-2ADA-465A-8BB1-88DAA6619D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1D80-190E-4D66-8419-BA3D238BD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F019-E499-41C5-84B8-FACC0B72A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62D9F-1393-49B8-A87C-29C0D3ECAC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7E311-7EC4-4006-A07B-2D12003244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9135C-344C-44D3-89A7-397F2DAAC4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89276-99E5-4967-9A4A-3C3480FFD3A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B4D7D-DE04-4CF9-AA23-BE38B95943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9D8D51-E059-413B-86D8-9A8E217A4C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37DC8-0B21-47C8-AA20-EEBCE92A9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C69C-905A-40F2-BBA3-A7939D58BF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2806D-AB54-45E4-B370-1EC63B8345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BC239A-04C2-4095-9430-A1FC7B6EEC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C8FBF-A99F-4EBE-B321-EFB1A2D2F5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FADB9C-DB07-4753-A3D2-8B1E507618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8164-B573-44C0-B104-9B3A20E321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CE932-D37E-406D-A3E7-59ACC0A09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5A574-3BDF-4973-BACC-B35BCD042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8A60-8EF3-4153-A783-58227A3D7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07E41-ED3E-46F3-AAD6-FF33F369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3355E-1961-4732-AEDC-B65FA7A37B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9D28-74DB-4D12-BF2B-BFFC576E8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A416-68B7-4007-9031-941080B9B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CF62241B-AE4F-4D02-824B-8CDFF1A4C91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2-</a:t>
            </a:r>
            <a:fld id="{E5D581A4-1600-4729-858F-5DF59A72B4C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2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Graphs, Charts, and Tables – Describing Your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2AB5B-8634-4D11-8892-1FBF6AE3DD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lass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interv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hown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rizontal ax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requ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measured on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ertical 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s of the appropriate heights can be used to represent the number of observations within each clas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h a graph is called 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15357-54D5-4426-8310-177572C96A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2057400"/>
            <a:ext cx="8458200" cy="4572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2438280"/>
          <a:ext cx="6502680" cy="38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438280"/>
                    <a:ext cx="6502680" cy="38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200400" y="6019920"/>
            <a:ext cx="2435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Mid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Histo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3733920"/>
            <a:ext cx="1752480" cy="1917720"/>
          </a:xfrm>
          <a:prstGeom prst="rect">
            <a:avLst/>
          </a:prstGeom>
          <a:solidFill>
            <a:srgbClr val="ffffd5"/>
          </a:solidFill>
          <a:ln w="1260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aps between bars, since continuou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75146-913E-49D0-A4B3-A483AF79C1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Questions for Grouping Data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nto Class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wide should each interval be?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ow many classes should be us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should the endpoints of th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intervals be determin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swered by trial and error, subject to user jud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to create a distribution that is neithe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gg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nor too "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appropriately show the pattern of variation in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A3DE-8188-4CCD-9AC7-3BFC87A8AB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How Many Class Intervals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563904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(Narrow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yield a very jagged distribution with gaps from empty class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give a poor indication of how frequency varies across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w (Wide class interv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compress variation too much and yield a blocky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obscure important patterns of var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943600" y="4227480"/>
          <a:ext cx="3200400" cy="202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4227480"/>
                    <a:ext cx="3200400" cy="20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943600" y="2166840"/>
          <a:ext cx="3200400" cy="204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166840"/>
                    <a:ext cx="3200400" cy="20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553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X axis labels are upper class endpo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87C55-AD9B-4F41-A0A5-D64DD502C0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066680" y="1752480"/>
            <a:ext cx="7162920" cy="23623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General Guidelin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924680" cy="4953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umber of Data Points       Number of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nder 50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 -  7 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 50 – 100                               6 - 10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100 – 250                               7 - 12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 over  250                             10 - 2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widths can typically be reduced as the number of observations in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s with numerous observations are more likely to be smooth and have gaps filled since data are plenti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B13B-8202-4D0F-980E-931F017301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4419720"/>
            <a:ext cx="5562720" cy="114300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ass Width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1828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lass width is the distance between the lowest possible value and the highest possible value for a frequency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733920"/>
            <a:ext cx="5181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inimum class width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4495680"/>
            <a:ext cx="5181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rgest Value - Smallest Valu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4952880"/>
            <a:ext cx="312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umber of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4648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 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952880"/>
            <a:ext cx="4191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E9825-C1A3-4A59-A0E3-EDE2AD2274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38680" y="4572000"/>
            <a:ext cx="3200400" cy="1371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ols/Data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533412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386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411480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580920" y="5257800"/>
            <a:ext cx="213372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ADB7B-C10E-49B0-9FA6-6B7B9734A8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724280" y="2438280"/>
            <a:ext cx="381024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oose Histogr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267080" cy="2190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00600" y="3433680"/>
            <a:ext cx="4124160" cy="3035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800600" y="198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4495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24280" y="19810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495680"/>
            <a:ext cx="457200" cy="4572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285640" y="2743200"/>
            <a:ext cx="2438280" cy="6858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505320" y="6019560"/>
            <a:ext cx="1447560" cy="7596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4952880"/>
            <a:ext cx="3809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 fontScale="96000"/>
          </a:bodyPr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put data and bin rang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07800" indent="-307800">
              <a:lnSpc>
                <a:spcPct val="140000"/>
              </a:lnSpc>
              <a:spcBef>
                <a:spcPts val="575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lect Chart Outpu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267080" y="4191120"/>
            <a:ext cx="2133720" cy="914400"/>
          </a:xfrm>
          <a:prstGeom prst="line">
            <a:avLst/>
          </a:prstGeom>
          <a:ln w="316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304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Histograms in Excel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DBCFB-BD99-4B1E-B66D-0E389F2DDB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em and Leaf Diagram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96640"/>
            <a:ext cx="7772400" cy="3465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way to see distribution details in a data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Separate the sorted data seri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into leading digits (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n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the trailing digits (the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ea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907C-2716-46FD-8879-F9819D1B2DA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76920" y="3352680"/>
            <a:ext cx="1600200" cy="2286000"/>
          </a:xfrm>
          <a:prstGeom prst="rect">
            <a:avLst/>
          </a:prstGeom>
          <a:solidFill>
            <a:srgbClr val="ffff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, use the 10’s digit for the stem un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3809880"/>
            <a:ext cx="3505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is show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76920" y="3886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67080" y="41148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51055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00600" y="1981080"/>
            <a:ext cx="53352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352680"/>
            <a:ext cx="0" cy="228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76920" y="3429000"/>
            <a:ext cx="1523880" cy="19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    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E8708-42F6-419E-AA7B-C8635281E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30592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7000"/>
          </a:bodyPr>
          <a:p>
            <a:pPr marL="311040" indent="0">
              <a:lnSpc>
                <a:spcPct val="105000"/>
              </a:lnSpc>
              <a:spcBef>
                <a:spcPts val="14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8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 frequency distribution both manually and with a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 and interpret a hist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nd interpret bar charts, pie charts, and stem-and-leaf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lnSpc>
                <a:spcPct val="105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and interpret data in line charts and scatter di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9D8A-008E-49F2-85FD-7642A2DC07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4203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Example:</a:t>
            </a: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19320" y="26668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d Stem-and-leaf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91160" y="1521000"/>
            <a:ext cx="85140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Data in ordered arr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971800" y="3352680"/>
          <a:ext cx="3124080" cy="2819520"/>
        </p:xfrm>
        <a:graphic>
          <a:graphicData uri="http://schemas.openxmlformats.org/drawingml/2006/table">
            <a:tbl>
              <a:tblPr/>
              <a:tblGrid>
                <a:gridCol w="914400"/>
                <a:gridCol w="220968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v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 3 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4  4  6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 2  5  7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 3  4  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8" name=""/>
          <p:cNvSpPr/>
          <p:nvPr/>
        </p:nvSpPr>
        <p:spPr>
          <a:xfrm>
            <a:off x="2971800" y="3733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34290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574C6-2F6D-4664-86EB-6E67DF4592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800600" y="3048120"/>
            <a:ext cx="1752480" cy="220968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Using other stem units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100’s digit as the ste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 off the 10’s digit to form the le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13 would become             6     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76 would become             7      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24 becomes                  12      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5053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3048120"/>
            <a:ext cx="0" cy="22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4952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124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m    Le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F22B8-D2D3-4CB0-B70D-B28327C5CE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aphing Categorical Data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4417920" y="266544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1752480"/>
            <a:ext cx="2968560" cy="9421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tegor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133720" y="3045960"/>
            <a:ext cx="46465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3962520"/>
            <a:ext cx="159696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e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0240" y="3046320"/>
            <a:ext cx="1440" cy="106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3962520"/>
            <a:ext cx="228312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eto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3048120"/>
            <a:ext cx="144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81280" y="3962520"/>
            <a:ext cx="1673280" cy="942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1877-8715-4A79-B1F8-01CB823BDCA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586728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and Pie Chart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 charts and Pie charts are often used for qualitative (category)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ight of bar or size of pie slice shows the frequency or percentage for each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DB656-DF2F-4CFE-938C-D54B70304D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1956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i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505320" y="2362320"/>
          <a:ext cx="5638680" cy="350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362320"/>
                    <a:ext cx="563868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543800" y="5029200"/>
            <a:ext cx="1447920" cy="941400"/>
          </a:xfrm>
          <a:prstGeom prst="rect">
            <a:avLst/>
          </a:prstGeom>
          <a:solidFill>
            <a:srgbClr val="f8f8f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ercentages are rounded to the nearest perc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1523880"/>
            <a:ext cx="5181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nvestment Portfoli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29200" y="2362320"/>
            <a:ext cx="1143000" cy="670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3429000"/>
            <a:ext cx="758880" cy="637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1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81480" y="5029200"/>
            <a:ext cx="914400" cy="63756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s 2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38880" y="2971800"/>
            <a:ext cx="990720" cy="642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280" y="2362320"/>
            <a:ext cx="4038840" cy="231192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ment        Amount       Percen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thousands $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cks              46.5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42.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.0               29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15.5                14.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ings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0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9548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447920" y="2362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289548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4343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289584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Variables are Qualitativ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066680" y="4267080"/>
            <a:ext cx="6098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49585-5400-463B-970D-37A599CB95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1752480"/>
          <a:ext cx="8001000" cy="47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80010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C6F2-29D6-47BE-9464-81CD8AFC8E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areto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6094440" y="3491280"/>
            <a:ext cx="3048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mulative % inves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ne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16200000">
            <a:off x="-861120" y="3452040"/>
            <a:ext cx="373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invested in each category (bar grap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1600200"/>
          <a:ext cx="6019920" cy="454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600200"/>
                    <a:ext cx="6019920" cy="45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3180-B8E0-466F-8942-0538CEB021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Bar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2209680" y="1828800"/>
          <a:ext cx="6853320" cy="4183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828800"/>
                    <a:ext cx="6853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52280" y="1905120"/>
          <a:ext cx="2210040" cy="3467160"/>
        </p:xfrm>
        <a:graphic>
          <a:graphicData uri="http://schemas.openxmlformats.org/drawingml/2006/table">
            <a:tbl>
              <a:tblPr/>
              <a:tblGrid>
                <a:gridCol w="1105200"/>
                <a:gridCol w="11048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2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457200" y="548640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066D-0F5D-4AD2-AA1C-D9618D20D1E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868040"/>
            <a:ext cx="8001000" cy="569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in thousands of doll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0040" y="2668680"/>
            <a:ext cx="8455320" cy="3339360"/>
          </a:xfrm>
          <a:prstGeom prst="rect">
            <a:avLst/>
          </a:prstGeom>
          <a:solidFill>
            <a:srgbClr val="ffffd9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estment     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Investor A          </a:t>
            </a:r>
            <a:r>
              <a:rPr b="1" lang="en-US" sz="2000" spc="-1" strike="noStrike">
                <a:solidFill>
                  <a:srgbClr val="d8af00"/>
                </a:solidFill>
                <a:latin typeface="Arial"/>
              </a:rPr>
              <a:t>Investor B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e4a8"/>
                </a:solidFill>
                <a:latin typeface="Arial"/>
              </a:rPr>
              <a:t>Investor C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tegory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46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7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32.0                 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19.0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5.5                 20                 13.5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16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28                   7.0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147                 67.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3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3276720"/>
            <a:ext cx="845820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15000" y="2666880"/>
            <a:ext cx="0" cy="327672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800" y="2666880"/>
            <a:ext cx="0" cy="327672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7960" y="5257800"/>
            <a:ext cx="8448840" cy="0"/>
          </a:xfrm>
          <a:prstGeom prst="line">
            <a:avLst/>
          </a:prstGeom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18F6-2039-4148-A239-F99CAE5C18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360" y="5335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abulating and Graphing </a:t>
            </a:r>
            <a:br>
              <a:rPr sz="3600"/>
            </a:b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variate Categorical Dat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de by side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209680"/>
          <a:ext cx="708660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09680"/>
                    <a:ext cx="70866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DEB7E-4588-46C1-B8D8-AA5D03F60B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7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Frequency Distrib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st or a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ing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alues of a var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a set of ranges within which the data fall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rresponding freque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which each value occurs (or frequencies with which data fall within each ran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AFFFB-C19B-4E76-B654-88031F22FC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200400" y="2133720"/>
            <a:ext cx="3505320" cy="609480"/>
          </a:xfrm>
          <a:prstGeom prst="rect">
            <a:avLst/>
          </a:prstGeom>
          <a:solidFill>
            <a:srgbClr val="ffff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de-by-Sid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5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ales by quarter for three sales territorie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828800" y="2514600"/>
          <a:ext cx="644832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14600"/>
                    <a:ext cx="644832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286000" y="1905120"/>
            <a:ext cx="4495680" cy="89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E568-AA33-40AD-B33B-3594B50961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219320" y="182880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ine char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values of one variable vs.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ime is traditionally shown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catter Diagram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how points for bivariate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ne variable is measured on the vertical axis and the other variable is measured on the horizontal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28600"/>
            <a:ext cx="7792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s and </a:t>
            </a:r>
            <a:br>
              <a:rPr sz="4100"/>
            </a:b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DB729-9E6F-4ED1-95BE-CB03AD6F606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Line Chart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981080" y="1828800"/>
          <a:ext cx="6867720" cy="403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8677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304920" y="1828800"/>
          <a:ext cx="1600200" cy="4363920"/>
        </p:xfrm>
        <a:graphic>
          <a:graphicData uri="http://schemas.openxmlformats.org/drawingml/2006/table">
            <a:tbl>
              <a:tblPr/>
              <a:tblGrid>
                <a:gridCol w="799920"/>
                <a:gridCol w="800280"/>
              </a:tblGrid>
              <a:tr h="468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2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lation R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8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4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16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208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3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D913C-2459-4B45-9802-90DC96EC2B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304920"/>
            <a:ext cx="7792920" cy="761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catter Diagram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057400" y="1752480"/>
          <a:ext cx="69343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69343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52280" y="2133720"/>
          <a:ext cx="1905120" cy="3593880"/>
        </p:xfrm>
        <a:graphic>
          <a:graphicData uri="http://schemas.openxmlformats.org/drawingml/2006/table">
            <a:tbl>
              <a:tblPr/>
              <a:tblGrid>
                <a:gridCol w="939960"/>
                <a:gridCol w="965160"/>
              </a:tblGrid>
              <a:tr h="580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ume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 per d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d5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FC40E-86D3-4E48-B626-8177117E8F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656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748AD-0F70-4392-AA49-78403D1A816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ilinea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3520" y="2362320"/>
          <a:ext cx="844848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44848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7C8D4-AB78-4D76-A201-96CC396EF2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5562720"/>
            <a:ext cx="3733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2362320"/>
          <a:ext cx="844884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44884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Relationshi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E3E2B-B36B-4DB6-88E7-4B55D0CBF40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010640" cy="609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 in raw form are usually not easy to use for decision making -- Some type of organization is need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e4a8"/>
                </a:solidFill>
                <a:latin typeface="Symbol"/>
                <a:ea typeface="Symbol"/>
              </a:rPr>
              <a:t>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echniques reviewed in this chapter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equency Distributions and Histo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r Charts and Pie Cha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em and Leaf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ne Charts and Scatter Diagra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E64A1-595D-45BA-AFFF-D936E684D92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Why Use Frequency Distributions?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315200" cy="38462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equency distribution is a way to summariz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ribution condenses the raw data into a more useful form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19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llows for a quick visual interpretation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95E61-23DE-4C02-96D9-6CA51CB2E5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Discrete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Discrete data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possible values are countabl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4382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 advertiser asks 200 customers how many days per week they read the daily newspap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038480" y="2362320"/>
          <a:ext cx="4267440" cy="38113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</a:tblGrid>
              <a:tr h="67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5181480"/>
            <a:ext cx="1886040" cy="1105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B7DD6-D545-4C6B-8B8F-0AE1BB2BD4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Relative Frequenc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Frequ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hat proportion is in each categ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38080" y="2209680"/>
          <a:ext cx="6400800" cy="3868920"/>
        </p:xfrm>
        <a:graphic>
          <a:graphicData uri="http://schemas.openxmlformats.org/drawingml/2006/table">
            <a:tbl>
              <a:tblPr/>
              <a:tblGrid>
                <a:gridCol w="2133720"/>
                <a:gridCol w="2133720"/>
                <a:gridCol w="2133360"/>
              </a:tblGrid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ays rea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Relativ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9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Frequenc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0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.1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5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1" lang="en-US" sz="17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0bd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7467480" y="2971800"/>
            <a:ext cx="1371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normAutofit/>
          </a:bodyPr>
          <a:p>
            <a:pPr marL="320760" indent="-32076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7620120" y="2743200"/>
                <a:ext cx="13158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629400" y="3048120"/>
            <a:ext cx="990720" cy="152280"/>
          </a:xfrm>
          <a:prstGeom prst="left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67480" y="3657600"/>
            <a:ext cx="1676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% of the people in the sample report that they read the newspaper 0 days per we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391520" y="5511960"/>
            <a:ext cx="1581120" cy="9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D5DA1-9C8B-41B9-8EC6-7A0710C489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057400" y="4114800"/>
            <a:ext cx="5257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Frequency Distribution: </a:t>
            </a:r>
            <a:br>
              <a:rPr sz="3700"/>
            </a:br>
            <a:r>
              <a:rPr b="0" lang="en-US" sz="3700" spc="-1" strike="noStrike">
                <a:solidFill>
                  <a:srgbClr val="333399"/>
                </a:solidFill>
                <a:latin typeface="Tahoma"/>
              </a:rPr>
              <a:t>Continuous Data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8076960" cy="43671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inuous Data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y take on any value in some inter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manufacturer of insulation randomly selects 20 winter days and records the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aily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165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, 35, 17, 21, 24, 37, 26, 46, 58, 3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2, 13, 12, 38, 41, 43, 44, 27, 53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emperature is a continuous variable because it cou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spcBef>
                <a:spcPts val="499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measured to any degree of precision desi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2ED4-B315-4FC6-BC7C-58FF31591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480" y="2209680"/>
            <a:ext cx="8153640" cy="381240"/>
          </a:xfrm>
          <a:prstGeom prst="rect">
            <a:avLst/>
          </a:prstGeom>
          <a:solidFill>
            <a:srgbClr val="ffff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Grouping Data by Class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lvl="1" marL="693720" indent="0">
              <a:spcBef>
                <a:spcPts val="5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rt raw data in ascending order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5000"/>
              </a:lnSpc>
              <a:spcBef>
                <a:spcPts val="476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12, 13, 17, 21, 24, 24, 26, 27, 27, 30, 32, 35, 37, 38, 41, 43, 44, 46, 53, 5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range: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8 - 12 = 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number of classe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usually between 5 and 20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9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width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46/5 then round off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class boundaries: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0, 20, 30, 40,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class midpoints: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15, 25, 35, 45,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observations &amp; assign to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F3FD2-F4C8-410A-A7C0-C33AA1A18FE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Arial"/>
              </a:rPr>
              <a:t>Frequency Distribution Ex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514600"/>
            <a:ext cx="6400800" cy="3886200"/>
          </a:xfrm>
          <a:prstGeom prst="rect">
            <a:avLst/>
          </a:prstGeom>
          <a:solidFill>
            <a:srgbClr val="ffffd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in ordered arr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12, 13, 17, 21, 24, 24, 26, 27, 27, 30, 32, 35, 37, 38, 41, 43, 44, 46, 53, 5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1160" y="37339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9112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048120"/>
            <a:ext cx="6270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lass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     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3809880"/>
            <a:ext cx="642312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0 but under 20             3                  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20 but under 3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6                   .30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30 but under 4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5                   .2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40 but under 50             4                   .2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50 but under 60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      2                   .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20                 1.00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048120"/>
            <a:ext cx="0" cy="33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048120"/>
            <a:ext cx="1622520" cy="6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el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35200" y="5943600"/>
            <a:ext cx="596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057400" y="2514600"/>
            <a:ext cx="6270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quency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3048120"/>
            <a:ext cx="580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6EC97-488F-4109-A8A3-E26C8D644FC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9:01Z</dcterms:modified>
  <cp:revision>61</cp:revision>
  <dc:subject>Chapter 2</dc:subject>
  <dc:title>Groebner lecture notes for chapter 2</dc:title>
</cp:coreProperties>
</file>