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820A-B611-4BC6-8907-C614F1090A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FA902-8A48-406A-8292-9CCBF03BF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3779-13E2-48BD-90DF-A41621605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28CC-F9FE-4EED-9A2C-92A03D5AE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DEAA5-AC86-4B3D-9BF4-FA96B8A2C9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3B024-4A68-45DE-B3BC-53F9FF3A72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030BA-BD21-4058-8631-1441CEDAF4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BCF2D-DE19-4D59-8623-A69BF335B4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C7E56E-6277-446F-849A-5777A7FEB7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85915-9365-4BAD-9C50-0BB35ED990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92544-B9B8-44B2-9C79-A16C27D70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F0CF7-D6B1-43CE-ABC7-80137C3B29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E3921-464C-4C24-BA7F-E79950A099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CD1B3-F65D-42D5-AC84-C50B74CA8F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38BE8-F87C-4A49-94F5-19743F7876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2A5B5-BD87-4B34-A5A6-881756B21B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F7B8CA-8034-4B7C-A88F-B77EECAF4E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7B34A-837C-4CFD-A37E-3AAF3EC22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55D4-4E13-477C-B6E7-0A539B3F0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55C6-03C6-4575-B132-4ECD73974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247A5-D2A0-4DED-AF15-58F4E263B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6DA98-E0CA-4DED-9558-97ED60EA6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5A2B0-A338-4254-BEEE-F09A8A64D2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D2027-C192-4225-9774-BF7E38AE0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4440140F-2969-4BF1-B7F5-E5AFD3FDEFC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3-</a:t>
            </a:r>
            <a:fld id="{8B3A1B07-ED75-4537-B9E2-CF85BA4F7AE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3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scribing Data 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umerical Meas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8C79D-5197-4F73-BC9D-C01A3C8C1F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eighted Me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hen values are grouped by frequency or relative 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57200" y="3809880"/>
          <a:ext cx="2743200" cy="2186280"/>
        </p:xfrm>
        <a:graphic>
          <a:graphicData uri="http://schemas.openxmlformats.org/drawingml/2006/table">
            <a:tbl>
              <a:tblPr/>
              <a:tblGrid>
                <a:gridCol w="1295280"/>
                <a:gridCol w="144792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s to Complet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fff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4" name=""/>
          <p:cNvSpPr/>
          <p:nvPr/>
        </p:nvSpPr>
        <p:spPr>
          <a:xfrm>
            <a:off x="380880" y="2971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ample of 26 Repair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350532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ed Mean Days to Comple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3664080" y="4419720"/>
                <a:ext cx="532764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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×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×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8</m:t>
                            </m:r>
                            <m:r>
                              <m:t xml:space="preserve">×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8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6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 day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3200400" y="52578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04496-C678-4FC5-BA14-14FE9A8D8D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1676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houses on a hill by the beac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view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3043080" y="2286000"/>
          <a:ext cx="6100920" cy="414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2286000"/>
                    <a:ext cx="6100920" cy="41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33520" y="2743200"/>
            <a:ext cx="2286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$2,0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4876920"/>
            <a:ext cx="10670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7620120" y="4876920"/>
            <a:ext cx="1092240" cy="1066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7238880" y="586728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594360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60199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0" y="6172200"/>
            <a:ext cx="167652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6248520"/>
            <a:ext cx="1676520" cy="7596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240" bIns="30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6324480"/>
            <a:ext cx="1676160" cy="76320"/>
          </a:xfrm>
          <a:custGeom>
            <a:avLst/>
            <a:gdLst/>
            <a:ahLst/>
            <a:rect l="l" t="t" r="r" b="b"/>
            <a:pathLst>
              <a:path w="1536" h="144">
                <a:moveTo>
                  <a:pt x="0" y="144"/>
                </a:moveTo>
                <a:cubicBezTo>
                  <a:pt x="128" y="72"/>
                  <a:pt x="256" y="0"/>
                  <a:pt x="384" y="0"/>
                </a:cubicBezTo>
                <a:cubicBezTo>
                  <a:pt x="512" y="0"/>
                  <a:pt x="640" y="144"/>
                  <a:pt x="768" y="144"/>
                </a:cubicBezTo>
                <a:cubicBezTo>
                  <a:pt x="896" y="144"/>
                  <a:pt x="1024" y="0"/>
                  <a:pt x="1152" y="0"/>
                </a:cubicBezTo>
                <a:cubicBezTo>
                  <a:pt x="1280" y="0"/>
                  <a:pt x="1408" y="72"/>
                  <a:pt x="1536" y="144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30600" bIns="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6D56D-2235-47B6-B517-6AC3A0E4CA0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742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362320" y="213372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($3,000,000/5)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6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edian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iddle value of ranked data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3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ode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most frequent value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         =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$100,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1981080"/>
            <a:ext cx="2057400" cy="2692080"/>
          </a:xfrm>
          <a:prstGeom prst="rect">
            <a:avLst/>
          </a:prstGeom>
          <a:solidFill>
            <a:srgbClr val="ffff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63A9-B080-41E6-84D4-FC160DDFFF3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676520" y="18288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generally used, unless extreme values (outliers)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media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ften used, since the median is not sensitive to extreme 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dian home prices may be reported for a region – less sensitive to out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ich measure of location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s the “best”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46840-A99F-4155-BFA0-7A7E8ECBAB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1114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4114800"/>
            <a:ext cx="0" cy="11430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83280" y="3346560"/>
            <a:ext cx="2895480" cy="25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2280" y="3340080"/>
            <a:ext cx="2895840" cy="2590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hape of a Distribu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1676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how data is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ymmetr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k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45000" y="4111560"/>
            <a:ext cx="905040" cy="1071720"/>
          </a:xfrm>
          <a:custGeom>
            <a:avLst/>
            <a:gdLst/>
            <a:ahLst/>
            <a:rect l="l" t="t" r="r" b="b"/>
            <a:pathLst>
              <a:path w="570" h="675">
                <a:moveTo>
                  <a:pt x="569" y="674"/>
                </a:moveTo>
                <a:lnTo>
                  <a:pt x="508" y="667"/>
                </a:lnTo>
                <a:lnTo>
                  <a:pt x="478" y="659"/>
                </a:lnTo>
                <a:lnTo>
                  <a:pt x="449" y="648"/>
                </a:lnTo>
                <a:lnTo>
                  <a:pt x="419" y="633"/>
                </a:lnTo>
                <a:lnTo>
                  <a:pt x="389" y="612"/>
                </a:lnTo>
                <a:lnTo>
                  <a:pt x="358" y="583"/>
                </a:lnTo>
                <a:lnTo>
                  <a:pt x="300" y="506"/>
                </a:lnTo>
                <a:lnTo>
                  <a:pt x="239" y="396"/>
                </a:lnTo>
                <a:lnTo>
                  <a:pt x="178" y="263"/>
                </a:lnTo>
                <a:lnTo>
                  <a:pt x="150" y="197"/>
                </a:lnTo>
                <a:lnTo>
                  <a:pt x="120" y="133"/>
                </a:lnTo>
                <a:lnTo>
                  <a:pt x="89" y="78"/>
                </a:lnTo>
                <a:lnTo>
                  <a:pt x="59" y="36"/>
                </a:lnTo>
                <a:lnTo>
                  <a:pt x="29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643200" y="4111560"/>
            <a:ext cx="903240" cy="1071720"/>
          </a:xfrm>
          <a:custGeom>
            <a:avLst/>
            <a:gdLst/>
            <a:ahLst/>
            <a:rect l="l" t="t" r="r" b="b"/>
            <a:pathLst>
              <a:path w="569" h="675">
                <a:moveTo>
                  <a:pt x="0" y="674"/>
                </a:moveTo>
                <a:lnTo>
                  <a:pt x="59" y="667"/>
                </a:lnTo>
                <a:lnTo>
                  <a:pt x="89" y="659"/>
                </a:lnTo>
                <a:lnTo>
                  <a:pt x="120" y="648"/>
                </a:lnTo>
                <a:lnTo>
                  <a:pt x="150" y="633"/>
                </a:lnTo>
                <a:lnTo>
                  <a:pt x="178" y="612"/>
                </a:lnTo>
                <a:lnTo>
                  <a:pt x="209" y="583"/>
                </a:lnTo>
                <a:lnTo>
                  <a:pt x="269" y="506"/>
                </a:lnTo>
                <a:lnTo>
                  <a:pt x="328" y="396"/>
                </a:lnTo>
                <a:lnTo>
                  <a:pt x="389" y="263"/>
                </a:lnTo>
                <a:lnTo>
                  <a:pt x="419" y="197"/>
                </a:lnTo>
                <a:lnTo>
                  <a:pt x="449" y="133"/>
                </a:lnTo>
                <a:lnTo>
                  <a:pt x="478" y="78"/>
                </a:lnTo>
                <a:lnTo>
                  <a:pt x="508" y="36"/>
                </a:lnTo>
                <a:lnTo>
                  <a:pt x="538" y="10"/>
                </a:lnTo>
                <a:lnTo>
                  <a:pt x="568" y="0"/>
                </a:lnTo>
              </a:path>
            </a:pathLst>
          </a:custGeom>
          <a:noFill/>
          <a:ln cap="rnd" w="25560">
            <a:solidFill>
              <a:srgbClr val="1c1c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5562720"/>
            <a:ext cx="2943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79720" y="4317840"/>
            <a:ext cx="245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64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7960" y="5626080"/>
            <a:ext cx="2952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94000" y="4729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14880" y="5562720"/>
            <a:ext cx="3010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Mode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di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666280" y="464832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114800"/>
            <a:ext cx="0" cy="106668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4191120"/>
            <a:ext cx="0" cy="99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0120" y="4495680"/>
            <a:ext cx="0" cy="68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178160"/>
            <a:ext cx="0" cy="106704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52480" y="4483080"/>
            <a:ext cx="0" cy="7621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4788000"/>
            <a:ext cx="0" cy="4572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59400" y="4211640"/>
            <a:ext cx="4680" cy="87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57600" y="4489560"/>
            <a:ext cx="0" cy="51732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257800"/>
            <a:ext cx="177012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452840" y="5295960"/>
            <a:ext cx="18432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5181480"/>
            <a:ext cx="198108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39120" y="527220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5245200"/>
            <a:ext cx="1828800" cy="0"/>
          </a:xfrm>
          <a:prstGeom prst="line">
            <a:avLst/>
          </a:prstGeom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533600" y="535932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2057400" y="5245200"/>
            <a:ext cx="45720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752480" y="524520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838080" y="5245200"/>
            <a:ext cx="685800" cy="45720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5720" y="5181480"/>
            <a:ext cx="533160" cy="457200"/>
          </a:xfrm>
          <a:prstGeom prst="line">
            <a:avLst/>
          </a:prstGeom>
          <a:ln w="12600">
            <a:solidFill>
              <a:srgbClr val="00e4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391520" y="5181480"/>
            <a:ext cx="0" cy="457200"/>
          </a:xfrm>
          <a:prstGeom prst="line">
            <a:avLst/>
          </a:prstGeom>
          <a:ln w="1260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7619760" y="5181120"/>
            <a:ext cx="685800" cy="38124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79480" y="3416400"/>
            <a:ext cx="2530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2560" y="3492360"/>
            <a:ext cx="22755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57960" y="3429000"/>
            <a:ext cx="1999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7080" y="6019920"/>
            <a:ext cx="258480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lef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174360" y="6019920"/>
            <a:ext cx="2708280" cy="332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onger tail extends to righ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" y="4129200"/>
            <a:ext cx="1981080" cy="1089000"/>
          </a:xfrm>
          <a:custGeom>
            <a:avLst/>
            <a:gdLst/>
            <a:ahLst/>
            <a:rect l="l" t="t" r="r" b="b"/>
            <a:pathLst>
              <a:path w="1248" h="686">
                <a:moveTo>
                  <a:pt x="0" y="668"/>
                </a:moveTo>
                <a:cubicBezTo>
                  <a:pt x="21" y="666"/>
                  <a:pt x="73" y="669"/>
                  <a:pt x="126" y="656"/>
                </a:cubicBezTo>
                <a:cubicBezTo>
                  <a:pt x="180" y="643"/>
                  <a:pt x="258" y="628"/>
                  <a:pt x="321" y="590"/>
                </a:cubicBezTo>
                <a:cubicBezTo>
                  <a:pt x="385" y="552"/>
                  <a:pt x="413" y="520"/>
                  <a:pt x="506" y="426"/>
                </a:cubicBezTo>
                <a:cubicBezTo>
                  <a:pt x="599" y="332"/>
                  <a:pt x="782" y="0"/>
                  <a:pt x="878" y="25"/>
                </a:cubicBezTo>
                <a:cubicBezTo>
                  <a:pt x="974" y="50"/>
                  <a:pt x="1022" y="472"/>
                  <a:pt x="1084" y="579"/>
                </a:cubicBezTo>
                <a:cubicBezTo>
                  <a:pt x="1146" y="686"/>
                  <a:pt x="1214" y="649"/>
                  <a:pt x="1248" y="667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29400" y="4059360"/>
            <a:ext cx="1981080" cy="1096920"/>
          </a:xfrm>
          <a:custGeom>
            <a:avLst/>
            <a:gdLst/>
            <a:ahLst/>
            <a:rect l="l" t="t" r="r" b="b"/>
            <a:pathLst>
              <a:path w="1248" h="691">
                <a:moveTo>
                  <a:pt x="1248" y="672"/>
                </a:moveTo>
                <a:cubicBezTo>
                  <a:pt x="1227" y="670"/>
                  <a:pt x="1175" y="673"/>
                  <a:pt x="1122" y="660"/>
                </a:cubicBezTo>
                <a:cubicBezTo>
                  <a:pt x="1068" y="647"/>
                  <a:pt x="990" y="632"/>
                  <a:pt x="927" y="594"/>
                </a:cubicBezTo>
                <a:cubicBezTo>
                  <a:pt x="863" y="556"/>
                  <a:pt x="833" y="525"/>
                  <a:pt x="742" y="430"/>
                </a:cubicBezTo>
                <a:cubicBezTo>
                  <a:pt x="651" y="335"/>
                  <a:pt x="476" y="0"/>
                  <a:pt x="380" y="25"/>
                </a:cubicBezTo>
                <a:cubicBezTo>
                  <a:pt x="284" y="50"/>
                  <a:pt x="227" y="475"/>
                  <a:pt x="164" y="583"/>
                </a:cubicBezTo>
                <a:cubicBezTo>
                  <a:pt x="101" y="691"/>
                  <a:pt x="34" y="653"/>
                  <a:pt x="0" y="671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572000" y="5257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8E4D-44FA-49E3-9297-F777A1F18D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4343400" y="2209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24480" y="2666880"/>
            <a:ext cx="504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62320" y="2666880"/>
            <a:ext cx="3962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6232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ther Location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1676520"/>
            <a:ext cx="2590920" cy="820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676520" y="289548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67280" y="28954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3505320"/>
            <a:ext cx="403884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2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8480" indent="-216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artile = 7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880" y="3505320"/>
            <a:ext cx="41911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centile in a data ar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% are less than or equal to this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0 – p)% are greater than or equal to this valu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re 0 ≤ p ≤ 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A3A22-3D68-4A99-B839-F0AFCF48FC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ercen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ntile in an ordered array of n values is the value in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on, 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09480" y="434340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6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centile in an ordered array of 19 values is the value in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3276720" y="2805120"/>
                <a:ext cx="27432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2133720" y="5257800"/>
                <a:ext cx="53337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9FC3C-335E-40FA-B948-E0F40FCA07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495680" y="5943600"/>
            <a:ext cx="1219320" cy="4572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4876920"/>
            <a:ext cx="2819520" cy="685800"/>
          </a:xfrm>
          <a:prstGeom prst="rect">
            <a:avLst/>
          </a:prstGeom>
          <a:solidFill>
            <a:srgbClr val="e5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Quarti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95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rtiles split the ranked data into 4 equal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666880" y="2292480"/>
            <a:ext cx="1149480" cy="609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2292480"/>
            <a:ext cx="1143000" cy="6094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800600" y="2292480"/>
            <a:ext cx="1758960" cy="609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400800" y="2292480"/>
            <a:ext cx="1905120" cy="60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98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2362320"/>
            <a:ext cx="9237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1680" y="2362320"/>
            <a:ext cx="9241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114800"/>
            <a:ext cx="8310600" cy="820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e Data in Ordered Array:  11   12   13   16   16   17   18   21   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16200000">
            <a:off x="3543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657600"/>
            <a:ext cx="4647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Example: Find the first quarti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520" y="4648320"/>
            <a:ext cx="8305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n = 9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Q1 = 25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percentile, so find the               </a:t>
            </a:r>
            <a:r>
              <a:rPr b="0" lang="en-US" sz="1900" spc="-1" strike="noStrike">
                <a:solidFill>
                  <a:srgbClr val="3333cc"/>
                </a:solidFill>
                <a:latin typeface="Arial"/>
              </a:rPr>
              <a:t>(9+1) = 2.5 pos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use the value half way between the 2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3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values,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5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o    </a:t>
            </a:r>
            <a:r>
              <a:rPr b="1" lang="en-US" sz="1900" spc="-1" strike="noStrike">
                <a:solidFill>
                  <a:srgbClr val="3333cc"/>
                </a:solidFill>
                <a:latin typeface="Arial"/>
              </a:rPr>
              <a:t>Q1 = 12.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46861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6286320" y="3009240"/>
            <a:ext cx="228600" cy="152640"/>
          </a:xfrm>
          <a:prstGeom prst="rightArrow">
            <a:avLst>
              <a:gd name="adj1" fmla="val 50000"/>
              <a:gd name="adj2" fmla="val 3771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4480" y="4876920"/>
            <a:ext cx="60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419720" y="52578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20040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172200" y="320040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5257800" y="4571640"/>
            <a:ext cx="381240" cy="228600"/>
          </a:xfrm>
          <a:prstGeom prst="rightArrow">
            <a:avLst>
              <a:gd name="adj1" fmla="val 50000"/>
              <a:gd name="adj2" fmla="val 4200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975FA-F7AA-4470-AA31-64F9EDDEE0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raphical display of data using 5-number summ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440" y="251460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edi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Q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ax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0960" y="34290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6560" y="3809880"/>
          <a:ext cx="8610840" cy="28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809880"/>
                    <a:ext cx="8610840" cy="28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"/>
          <p:cNvGraphicFramePr/>
          <p:nvPr/>
        </p:nvGraphicFramePr>
        <p:xfrm>
          <a:off x="1076400" y="5334120"/>
          <a:ext cx="80676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6400" y="5334120"/>
                    <a:ext cx="80676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2279520" y="4267080"/>
            <a:ext cx="488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   25%              25% 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47920" y="2514600"/>
            <a:ext cx="6248160" cy="4572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88B02-BD87-4278-AD3D-8DC740ADAA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hape of Box and Whisker Plo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x and central line are centered between the endpoints if data is symmetric around the med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ox and Whisker plot can be shown in either vertical or horizontal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905120" y="2819520"/>
          <a:ext cx="541008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19520"/>
                    <a:ext cx="541008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52D9-A052-4848-AFDB-BB3C0044E56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interpret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an, media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m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se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ange, varianc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tandard dev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know what these values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 and interpret 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ox and whiskers pl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explain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efficient of var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30000"/>
              </a:lnSpc>
              <a:spcBef>
                <a:spcPts val="134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 sc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umerical measures along with graphs, charts, and tables to describ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8080-7532-4FCC-B8CD-1BFDBF5537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tribution Shape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 and Whisker Plo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186600" y="1981080"/>
            <a:ext cx="27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79440" y="1981080"/>
            <a:ext cx="2440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ft-Ske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579840" y="1981080"/>
            <a:ext cx="2101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705720" y="3360600"/>
            <a:ext cx="0" cy="60984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934320" y="2819520"/>
            <a:ext cx="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48560" y="3808440"/>
            <a:ext cx="0" cy="14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09680" y="3056040"/>
            <a:ext cx="0" cy="9144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2979720"/>
            <a:ext cx="0" cy="99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733920"/>
            <a:ext cx="0" cy="22860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95680" y="2751120"/>
            <a:ext cx="0" cy="1219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91120" y="3208320"/>
            <a:ext cx="0" cy="762120"/>
          </a:xfrm>
          <a:prstGeom prst="line">
            <a:avLst/>
          </a:prstGeom>
          <a:ln w="255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800600" y="3208320"/>
            <a:ext cx="0" cy="76212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33720" y="2827440"/>
            <a:ext cx="46188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290" y="691"/>
                </a:moveTo>
                <a:lnTo>
                  <a:pt x="259" y="684"/>
                </a:lnTo>
                <a:lnTo>
                  <a:pt x="243" y="676"/>
                </a:lnTo>
                <a:lnTo>
                  <a:pt x="230" y="664"/>
                </a:lnTo>
                <a:lnTo>
                  <a:pt x="214" y="649"/>
                </a:lnTo>
                <a:lnTo>
                  <a:pt x="199" y="627"/>
                </a:lnTo>
                <a:lnTo>
                  <a:pt x="183" y="598"/>
                </a:lnTo>
                <a:lnTo>
                  <a:pt x="153" y="519"/>
                </a:lnTo>
                <a:lnTo>
                  <a:pt x="122" y="406"/>
                </a:lnTo>
                <a:lnTo>
                  <a:pt x="93" y="270"/>
                </a:lnTo>
                <a:lnTo>
                  <a:pt x="77" y="202"/>
                </a:lnTo>
                <a:lnTo>
                  <a:pt x="62" y="136"/>
                </a:lnTo>
                <a:lnTo>
                  <a:pt x="46" y="80"/>
                </a:lnTo>
                <a:lnTo>
                  <a:pt x="31" y="37"/>
                </a:lnTo>
                <a:lnTo>
                  <a:pt x="15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5800" y="2827440"/>
            <a:ext cx="1460520" cy="1098360"/>
          </a:xfrm>
          <a:custGeom>
            <a:avLst/>
            <a:gdLst/>
            <a:ahLst/>
            <a:rect l="l" t="t" r="r" b="b"/>
            <a:pathLst>
              <a:path w="872" h="692">
                <a:moveTo>
                  <a:pt x="0" y="691"/>
                </a:moveTo>
                <a:lnTo>
                  <a:pt x="93" y="684"/>
                </a:lnTo>
                <a:lnTo>
                  <a:pt x="138" y="676"/>
                </a:lnTo>
                <a:lnTo>
                  <a:pt x="184" y="664"/>
                </a:lnTo>
                <a:lnTo>
                  <a:pt x="230" y="649"/>
                </a:lnTo>
                <a:lnTo>
                  <a:pt x="275" y="627"/>
                </a:lnTo>
                <a:lnTo>
                  <a:pt x="321" y="598"/>
                </a:lnTo>
                <a:lnTo>
                  <a:pt x="412" y="519"/>
                </a:lnTo>
                <a:lnTo>
                  <a:pt x="505" y="406"/>
                </a:lnTo>
                <a:lnTo>
                  <a:pt x="596" y="270"/>
                </a:lnTo>
                <a:lnTo>
                  <a:pt x="642" y="202"/>
                </a:lnTo>
                <a:lnTo>
                  <a:pt x="689" y="136"/>
                </a:lnTo>
                <a:lnTo>
                  <a:pt x="733" y="80"/>
                </a:lnTo>
                <a:lnTo>
                  <a:pt x="780" y="37"/>
                </a:lnTo>
                <a:lnTo>
                  <a:pt x="826" y="10"/>
                </a:lnTo>
                <a:lnTo>
                  <a:pt x="871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95680" y="2751120"/>
            <a:ext cx="914400" cy="1143000"/>
          </a:xfrm>
          <a:custGeom>
            <a:avLst/>
            <a:gdLst/>
            <a:ahLst/>
            <a:rect l="l" t="t" r="r" b="b"/>
            <a:pathLst>
              <a:path w="399" h="692">
                <a:moveTo>
                  <a:pt x="398" y="691"/>
                </a:moveTo>
                <a:lnTo>
                  <a:pt x="356" y="684"/>
                </a:lnTo>
                <a:lnTo>
                  <a:pt x="335" y="676"/>
                </a:lnTo>
                <a:lnTo>
                  <a:pt x="315" y="664"/>
                </a:lnTo>
                <a:lnTo>
                  <a:pt x="294" y="649"/>
                </a:lnTo>
                <a:lnTo>
                  <a:pt x="273" y="627"/>
                </a:lnTo>
                <a:lnTo>
                  <a:pt x="251" y="598"/>
                </a:lnTo>
                <a:lnTo>
                  <a:pt x="209" y="519"/>
                </a:lnTo>
                <a:lnTo>
                  <a:pt x="168" y="406"/>
                </a:lnTo>
                <a:lnTo>
                  <a:pt x="126" y="270"/>
                </a:lnTo>
                <a:lnTo>
                  <a:pt x="104" y="202"/>
                </a:lnTo>
                <a:lnTo>
                  <a:pt x="83" y="136"/>
                </a:lnTo>
                <a:lnTo>
                  <a:pt x="62" y="80"/>
                </a:lnTo>
                <a:lnTo>
                  <a:pt x="41" y="37"/>
                </a:lnTo>
                <a:lnTo>
                  <a:pt x="21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81280" y="2751120"/>
            <a:ext cx="892440" cy="1143000"/>
          </a:xfrm>
          <a:custGeom>
            <a:avLst/>
            <a:gdLst/>
            <a:ahLst/>
            <a:rect l="l" t="t" r="r" b="b"/>
            <a:pathLst>
              <a:path w="401" h="692">
                <a:moveTo>
                  <a:pt x="0" y="691"/>
                </a:moveTo>
                <a:lnTo>
                  <a:pt x="42" y="684"/>
                </a:lnTo>
                <a:lnTo>
                  <a:pt x="63" y="676"/>
                </a:lnTo>
                <a:lnTo>
                  <a:pt x="85" y="664"/>
                </a:lnTo>
                <a:lnTo>
                  <a:pt x="106" y="649"/>
                </a:lnTo>
                <a:lnTo>
                  <a:pt x="127" y="627"/>
                </a:lnTo>
                <a:lnTo>
                  <a:pt x="147" y="598"/>
                </a:lnTo>
                <a:lnTo>
                  <a:pt x="189" y="519"/>
                </a:lnTo>
                <a:lnTo>
                  <a:pt x="232" y="406"/>
                </a:lnTo>
                <a:lnTo>
                  <a:pt x="274" y="270"/>
                </a:lnTo>
                <a:lnTo>
                  <a:pt x="294" y="202"/>
                </a:lnTo>
                <a:lnTo>
                  <a:pt x="315" y="136"/>
                </a:lnTo>
                <a:lnTo>
                  <a:pt x="336" y="80"/>
                </a:lnTo>
                <a:lnTo>
                  <a:pt x="357" y="37"/>
                </a:lnTo>
                <a:lnTo>
                  <a:pt x="379" y="10"/>
                </a:lnTo>
                <a:lnTo>
                  <a:pt x="40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843600" y="2797200"/>
            <a:ext cx="1462320" cy="1098360"/>
          </a:xfrm>
          <a:custGeom>
            <a:avLst/>
            <a:gdLst/>
            <a:ahLst/>
            <a:rect l="l" t="t" r="r" b="b"/>
            <a:pathLst>
              <a:path w="871" h="692">
                <a:moveTo>
                  <a:pt x="870" y="691"/>
                </a:moveTo>
                <a:lnTo>
                  <a:pt x="777" y="684"/>
                </a:lnTo>
                <a:lnTo>
                  <a:pt x="733" y="676"/>
                </a:lnTo>
                <a:lnTo>
                  <a:pt x="686" y="664"/>
                </a:lnTo>
                <a:lnTo>
                  <a:pt x="640" y="649"/>
                </a:lnTo>
                <a:lnTo>
                  <a:pt x="596" y="627"/>
                </a:lnTo>
                <a:lnTo>
                  <a:pt x="549" y="598"/>
                </a:lnTo>
                <a:lnTo>
                  <a:pt x="456" y="519"/>
                </a:lnTo>
                <a:lnTo>
                  <a:pt x="365" y="406"/>
                </a:lnTo>
                <a:lnTo>
                  <a:pt x="274" y="270"/>
                </a:lnTo>
                <a:lnTo>
                  <a:pt x="228" y="202"/>
                </a:lnTo>
                <a:lnTo>
                  <a:pt x="182" y="136"/>
                </a:lnTo>
                <a:lnTo>
                  <a:pt x="137" y="80"/>
                </a:lnTo>
                <a:lnTo>
                  <a:pt x="91" y="37"/>
                </a:lnTo>
                <a:lnTo>
                  <a:pt x="44" y="1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83160" y="2797200"/>
            <a:ext cx="462240" cy="1098360"/>
          </a:xfrm>
          <a:custGeom>
            <a:avLst/>
            <a:gdLst/>
            <a:ahLst/>
            <a:rect l="l" t="t" r="r" b="b"/>
            <a:pathLst>
              <a:path w="291" h="692">
                <a:moveTo>
                  <a:pt x="0" y="691"/>
                </a:moveTo>
                <a:lnTo>
                  <a:pt x="29" y="684"/>
                </a:lnTo>
                <a:lnTo>
                  <a:pt x="44" y="676"/>
                </a:lnTo>
                <a:lnTo>
                  <a:pt x="60" y="664"/>
                </a:lnTo>
                <a:lnTo>
                  <a:pt x="75" y="649"/>
                </a:lnTo>
                <a:lnTo>
                  <a:pt x="90" y="627"/>
                </a:lnTo>
                <a:lnTo>
                  <a:pt x="106" y="598"/>
                </a:lnTo>
                <a:lnTo>
                  <a:pt x="137" y="519"/>
                </a:lnTo>
                <a:lnTo>
                  <a:pt x="168" y="406"/>
                </a:lnTo>
                <a:lnTo>
                  <a:pt x="197" y="270"/>
                </a:lnTo>
                <a:lnTo>
                  <a:pt x="212" y="202"/>
                </a:lnTo>
                <a:lnTo>
                  <a:pt x="228" y="136"/>
                </a:lnTo>
                <a:lnTo>
                  <a:pt x="243" y="80"/>
                </a:lnTo>
                <a:lnTo>
                  <a:pt x="259" y="37"/>
                </a:lnTo>
                <a:lnTo>
                  <a:pt x="274" y="10"/>
                </a:lnTo>
                <a:lnTo>
                  <a:pt x="290" y="0"/>
                </a:lnTo>
              </a:path>
            </a:pathLst>
          </a:custGeom>
          <a:noFill/>
          <a:ln cap="rnd"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295280" y="5113440"/>
            <a:ext cx="990720" cy="463320"/>
          </a:xfrm>
          <a:custGeom>
            <a:avLst/>
            <a:gdLst/>
            <a:ahLst/>
            <a:rect l="l" t="t" r="r" b="b"/>
            <a:pathLst>
              <a:path w="655" h="292">
                <a:moveTo>
                  <a:pt x="0" y="291"/>
                </a:moveTo>
                <a:lnTo>
                  <a:pt x="654" y="291"/>
                </a:lnTo>
                <a:lnTo>
                  <a:pt x="654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981080" y="51228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0" y="5351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67080" y="5113440"/>
            <a:ext cx="609840" cy="457200"/>
          </a:xfrm>
          <a:custGeom>
            <a:avLst/>
            <a:gdLst/>
            <a:ahLst/>
            <a:rect l="l" t="t" r="r" b="b"/>
            <a:pathLst>
              <a:path w="288" h="292">
                <a:moveTo>
                  <a:pt x="0" y="291"/>
                </a:moveTo>
                <a:lnTo>
                  <a:pt x="287" y="291"/>
                </a:lnTo>
                <a:lnTo>
                  <a:pt x="287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5113440"/>
            <a:ext cx="761760" cy="457200"/>
          </a:xfrm>
          <a:custGeom>
            <a:avLst/>
            <a:gdLst/>
            <a:ahLst/>
            <a:rect l="l" t="t" r="r" b="b"/>
            <a:pathLst>
              <a:path w="653" h="292">
                <a:moveTo>
                  <a:pt x="0" y="291"/>
                </a:moveTo>
                <a:lnTo>
                  <a:pt x="652" y="291"/>
                </a:lnTo>
                <a:lnTo>
                  <a:pt x="652" y="0"/>
                </a:lnTo>
                <a:lnTo>
                  <a:pt x="0" y="0"/>
                </a:lnTo>
                <a:lnTo>
                  <a:pt x="0" y="29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5105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53514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008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5334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534204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467480" y="533412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00800" y="534204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134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467480" y="3513240"/>
            <a:ext cx="0" cy="457200"/>
          </a:xfrm>
          <a:prstGeom prst="line">
            <a:avLst/>
          </a:prstGeom>
          <a:ln w="255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30592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864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657600" y="51894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51991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3970440"/>
            <a:ext cx="19396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248520" y="3970440"/>
            <a:ext cx="20574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9144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600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8620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267080" y="419904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48320" y="41990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4008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f01"/>
                </a:solidFill>
                <a:latin typeface="Arial"/>
              </a:rPr>
              <a:t>Q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Q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315200" y="4122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Q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7AD7B-BE15-4477-A70F-2BBEE6E9993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ox-and-Whisker Plo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458200" cy="4028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ow is a Box-and-Whisker plot for the following data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0    2     2      2     3     3     4     5     5    10   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ata is very right skewed, as the plot dep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914400" y="3657600"/>
          <a:ext cx="7086600" cy="236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657600"/>
                    <a:ext cx="708660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1600200" y="50292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   2  3   5                                                              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281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Min          Q1                    Q2                    Q3          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8108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48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72200" y="3200400"/>
            <a:ext cx="53352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20120" y="3200400"/>
            <a:ext cx="609480" cy="533520"/>
          </a:xfrm>
          <a:prstGeom prst="ellipse">
            <a:avLst/>
          </a:prstGeom>
          <a:noFill/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EC279-BBD4-4F19-A0B8-67A77DAB04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4382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886200"/>
            <a:ext cx="42732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362320"/>
            <a:ext cx="708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66880" y="2362320"/>
            <a:ext cx="0" cy="399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724280" y="2057400"/>
            <a:ext cx="0" cy="77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2362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1676520"/>
            <a:ext cx="175248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81080" y="2666880"/>
            <a:ext cx="1371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26686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859440" y="2668680"/>
            <a:ext cx="190368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3886200"/>
            <a:ext cx="322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350532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438280" y="4952880"/>
            <a:ext cx="2383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666880" y="4572000"/>
            <a:ext cx="1524240" cy="6130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065400"/>
            <a:ext cx="0" cy="1887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4952880"/>
            <a:ext cx="419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76920" y="3429000"/>
            <a:ext cx="16002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2880" y="4648320"/>
            <a:ext cx="1521000" cy="924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nd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" y="2666880"/>
            <a:ext cx="12160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28600" y="3505320"/>
            <a:ext cx="1749600" cy="6742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quart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9C32-4AE1-4478-A586-CDA0D076F2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 give information on 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variabi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data value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4419360" cy="3314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4724280" y="5410080"/>
            <a:ext cx="2362320" cy="709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Same center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ifferent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E2C3E-97B9-47DE-8BBF-D464DC3CE22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between the largest and the smallest observ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124080"/>
            <a:ext cx="5105520" cy="147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=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im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ini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49560" y="5029200"/>
            <a:ext cx="33559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286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895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429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0384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572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43434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349960" y="5029200"/>
            <a:ext cx="1298520" cy="14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15000" y="45720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220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53080" y="4800600"/>
            <a:ext cx="228600" cy="2286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5105520"/>
            <a:ext cx="5648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362320" y="5791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6232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662940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812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= 14 - 1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981080" y="5105520"/>
            <a:ext cx="4953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41911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A5DB-3547-4ACC-AF79-0B2D2E025C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s the way in which data are distrib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itive to out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160640" y="259092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1932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09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743200" y="2438280"/>
            <a:ext cx="15228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3526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52480" y="24382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1430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2984400"/>
            <a:ext cx="2752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51520" y="2595600"/>
            <a:ext cx="3049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2590920"/>
            <a:ext cx="3057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      8      9     10     11    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1020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634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777080" y="2443320"/>
            <a:ext cx="15264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243920" y="2443320"/>
            <a:ext cx="152280" cy="152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7080" y="229068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77080" y="2151000"/>
            <a:ext cx="152640" cy="152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6520" y="2836800"/>
            <a:ext cx="238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2984400"/>
            <a:ext cx="28958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 - 7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259092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33880" y="2595600"/>
            <a:ext cx="312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isadvantages of th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533520" y="4267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3520" y="54100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1,1,1,1,1,1,1,1,1,1,2,2,2,2,2,2,2,2,3,3,3,3,4,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76720" y="4724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5 - 1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76720" y="5867280"/>
            <a:ext cx="28954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 = 120 - 1 = 1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2133720"/>
            <a:ext cx="7772400" cy="144756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2120" y="4267080"/>
            <a:ext cx="7772400" cy="2133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A2CD2-F216-41AC-8702-CD91FE7FF8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an eliminate some outlier problems by using the </a:t>
            </a: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interquartile range</a:t>
            </a: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liminate some high-and low-valued observations and calculate the range from the remaining valu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quartile range = 3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 – 1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quarti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A5B1-3BD7-416D-BDAB-83BDD0373D8A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Interquartile Range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429000" y="4800600"/>
            <a:ext cx="25146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17840" y="3357720"/>
            <a:ext cx="2516400" cy="528480"/>
          </a:xfrm>
          <a:custGeom>
            <a:avLst/>
            <a:gdLst/>
            <a:ahLst/>
            <a:rect l="l" t="t" r="r" b="b"/>
            <a:pathLst>
              <a:path w="1585" h="318">
                <a:moveTo>
                  <a:pt x="0" y="317"/>
                </a:moveTo>
                <a:lnTo>
                  <a:pt x="1584" y="317"/>
                </a:lnTo>
                <a:lnTo>
                  <a:pt x="1584" y="0"/>
                </a:lnTo>
                <a:lnTo>
                  <a:pt x="0" y="0"/>
                </a:lnTo>
                <a:lnTo>
                  <a:pt x="0" y="31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876920" y="3352680"/>
            <a:ext cx="0" cy="5335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268520" y="2514600"/>
            <a:ext cx="1179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6576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676520" y="3657600"/>
            <a:ext cx="17524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7086600" y="3276360"/>
            <a:ext cx="0" cy="685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676520" y="3352680"/>
            <a:ext cx="0" cy="609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590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008480" y="2819520"/>
            <a:ext cx="1284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969320" y="303840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95280" y="266688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523160" y="2895480"/>
            <a:ext cx="1213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04960" y="3137040"/>
            <a:ext cx="184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20004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638320" y="2743200"/>
            <a:ext cx="588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06956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03920" y="3352680"/>
            <a:ext cx="46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%                 25%               25%          2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39640" y="3936960"/>
            <a:ext cx="5874480" cy="398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                    30                 45           57           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59436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3429000" y="4343040"/>
            <a:ext cx="0" cy="60948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352680" y="495288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quartile r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= 57 – 30 =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98F4C-082B-4F88-92C8-13C2DB11BB4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age of squared deviations of values from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vari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6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Varianc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724280" y="4800600"/>
                <a:ext cx="27813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4724280" y="2666880"/>
                <a:ext cx="2748240" cy="15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 -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D3F19-9386-4914-8C90-2B159429F0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 Dev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1676160"/>
            <a:ext cx="838188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ly us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variation about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the same units as the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34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tandard devi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5791320" y="5105520"/>
                <a:ext cx="242712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5791320" y="3352680"/>
                <a:ext cx="23986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n-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A0E56-B7B8-42D0-A500-6FD890B7139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Top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9000"/>
          </a:bodyPr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mean, percentiles,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105000"/>
              </a:lnSpc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6520" indent="-265320">
              <a:lnSpc>
                <a:spcPct val="105000"/>
              </a:lnSpc>
              <a:spcBef>
                <a:spcPts val="12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, interquartile range, variance and standard deviation, coefficient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FA42-3088-4803-B1D0-753AE29D2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743200" y="5791320"/>
            <a:ext cx="1143000" cy="457200"/>
          </a:xfrm>
          <a:prstGeom prst="rect">
            <a:avLst/>
          </a:prstGeom>
          <a:solidFill>
            <a:srgbClr val="e5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09680" y="1981080"/>
            <a:ext cx="57150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609588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alculation Example: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Sample Standard Devi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1676520"/>
            <a:ext cx="830592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 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: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0     12     14     15    17    18    18   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90920" y="2666880"/>
            <a:ext cx="4724280" cy="417960"/>
          </a:xfrm>
          <a:prstGeom prst="rect">
            <a:avLst/>
          </a:prstGeom>
          <a:solidFill>
            <a:srgbClr val="fde0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8            Mean = x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569880" y="3295800"/>
                <a:ext cx="8082000" cy="31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r>
                          <m:t xml:space="preserve">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⋯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4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8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/>
                      <m:e>
                        <m:r>
                          <m:t xml:space="preserve">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126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rad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2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5562720" y="27432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86BCF-127E-4D65-A9A4-FFA10E0FAFD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Standard Devia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4503600" y="3308400"/>
          <a:ext cx="43020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3308400"/>
                    <a:ext cx="43020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7" name=""/>
          <p:cNvSpPr/>
          <p:nvPr/>
        </p:nvSpPr>
        <p:spPr>
          <a:xfrm>
            <a:off x="6934320" y="2162160"/>
            <a:ext cx="1981080" cy="932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33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179360" y="26668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81000" y="26542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0620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5955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1286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529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52920" y="22096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1012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4328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091200" y="24382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981000" y="4102200"/>
            <a:ext cx="5496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063800" y="3354480"/>
            <a:ext cx="129204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063800" y="1830240"/>
            <a:ext cx="12920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155600" y="411480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194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529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1940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36576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11940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52920" y="34290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220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110120" y="388620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939000" y="3657600"/>
            <a:ext cx="1976400" cy="8582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9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981000" y="5638680"/>
            <a:ext cx="5724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    12    13    14    15    16    17    18    19    20  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55600" y="5638680"/>
            <a:ext cx="518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062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2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6340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34000" y="51814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634000" y="49528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59552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76800" y="541008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939000" y="5181480"/>
            <a:ext cx="1976400" cy="78480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1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521000" y="4802040"/>
            <a:ext cx="1292040" cy="45468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B2F4D-AE6C-4DD7-A330-2E5898D572A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efficient 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62120" y="1599840"/>
            <a:ext cx="8076960" cy="3048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lative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in percentage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riation relative to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used to compare two or more sets of data measured in different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5164200" y="5105520"/>
                <a:ext cx="35384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"/>
              <p:cNvSpPr txBox="1"/>
              <p:nvPr/>
            </p:nvSpPr>
            <p:spPr>
              <a:xfrm>
                <a:off x="725400" y="5135400"/>
                <a:ext cx="350676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7" name=""/>
          <p:cNvSpPr/>
          <p:nvPr/>
        </p:nvSpPr>
        <p:spPr>
          <a:xfrm>
            <a:off x="1447920" y="45720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2972-C051-4E6C-91C8-EDB895F658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792920" cy="1066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omparing Coefficient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of Vari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A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5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Stock B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verage price last year = $10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eviation = $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2920" y="3505320"/>
            <a:ext cx="1828800" cy="2014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stocks have the same standard deviation, but stock B is less variable relative to its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248520" y="3048120"/>
            <a:ext cx="76176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5410080"/>
            <a:ext cx="762120" cy="762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752480" y="2895480"/>
                <a:ext cx="525780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5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752480" y="5257800"/>
                <a:ext cx="5257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 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$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$100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87B1E-0338-4965-B22A-07158EC1C23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8076960" cy="2209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f the data distribution is bell-shaped, then the interv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68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311120" y="2819520"/>
                <a:ext cx="121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4572000" y="3906720"/>
            <a:ext cx="847800" cy="1503360"/>
          </a:xfrm>
          <a:custGeom>
            <a:avLst/>
            <a:gdLst/>
            <a:ahLst/>
            <a:rect l="l" t="t" r="r" b="b"/>
            <a:pathLst>
              <a:path w="534" h="947">
                <a:moveTo>
                  <a:pt x="0" y="0"/>
                </a:moveTo>
                <a:lnTo>
                  <a:pt x="120" y="23"/>
                </a:lnTo>
                <a:lnTo>
                  <a:pt x="240" y="131"/>
                </a:lnTo>
                <a:lnTo>
                  <a:pt x="330" y="203"/>
                </a:lnTo>
                <a:lnTo>
                  <a:pt x="414" y="317"/>
                </a:lnTo>
                <a:lnTo>
                  <a:pt x="504" y="443"/>
                </a:lnTo>
                <a:lnTo>
                  <a:pt x="534" y="469"/>
                </a:lnTo>
                <a:lnTo>
                  <a:pt x="534" y="947"/>
                </a:lnTo>
                <a:lnTo>
                  <a:pt x="0" y="947"/>
                </a:lnTo>
                <a:lnTo>
                  <a:pt x="0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743280" y="3913200"/>
            <a:ext cx="838080" cy="1496880"/>
          </a:xfrm>
          <a:custGeom>
            <a:avLst/>
            <a:gdLst/>
            <a:ahLst/>
            <a:rect l="l" t="t" r="r" b="b"/>
            <a:pathLst>
              <a:path w="528" h="1338">
                <a:moveTo>
                  <a:pt x="456" y="18"/>
                </a:moveTo>
                <a:lnTo>
                  <a:pt x="385" y="66"/>
                </a:lnTo>
                <a:lnTo>
                  <a:pt x="262" y="214"/>
                </a:lnTo>
                <a:lnTo>
                  <a:pt x="197" y="293"/>
                </a:lnTo>
                <a:lnTo>
                  <a:pt x="102" y="474"/>
                </a:lnTo>
                <a:lnTo>
                  <a:pt x="36" y="588"/>
                </a:lnTo>
                <a:lnTo>
                  <a:pt x="0" y="654"/>
                </a:lnTo>
                <a:lnTo>
                  <a:pt x="0" y="1338"/>
                </a:lnTo>
                <a:lnTo>
                  <a:pt x="528" y="1332"/>
                </a:lnTo>
                <a:lnTo>
                  <a:pt x="528" y="0"/>
                </a:lnTo>
              </a:path>
            </a:pathLst>
          </a:custGeom>
          <a:solidFill>
            <a:srgbClr val="c0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214880" y="3643200"/>
            <a:ext cx="2509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0" y="5410080"/>
            <a:ext cx="4648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4487760" y="5389560"/>
                <a:ext cx="2746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3733920" y="4648320"/>
            <a:ext cx="144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410080" y="4648320"/>
            <a:ext cx="1800" cy="1447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80952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105520" y="6095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9112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572000" y="3906720"/>
            <a:ext cx="1440" cy="1503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"/>
              <p:cNvSpPr txBox="1"/>
              <p:nvPr/>
            </p:nvSpPr>
            <p:spPr>
              <a:xfrm>
                <a:off x="4105440" y="5894280"/>
                <a:ext cx="933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1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2" name=""/>
          <p:cNvSpPr/>
          <p:nvPr/>
        </p:nvSpPr>
        <p:spPr>
          <a:xfrm>
            <a:off x="2362320" y="3886200"/>
            <a:ext cx="2232000" cy="14526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3886200"/>
            <a:ext cx="2227320" cy="14526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85ADB-9B83-40BA-8D51-345264F181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6859440" y="3797280"/>
            <a:ext cx="1513080" cy="1660680"/>
          </a:xfrm>
          <a:custGeom>
            <a:avLst/>
            <a:gdLst/>
            <a:ahLst/>
            <a:rect l="l" t="t" r="r" b="b"/>
            <a:pathLst>
              <a:path w="953" h="1046">
                <a:moveTo>
                  <a:pt x="0" y="1043"/>
                </a:moveTo>
                <a:lnTo>
                  <a:pt x="0" y="0"/>
                </a:lnTo>
                <a:lnTo>
                  <a:pt x="96" y="38"/>
                </a:lnTo>
                <a:lnTo>
                  <a:pt x="192" y="139"/>
                </a:lnTo>
                <a:lnTo>
                  <a:pt x="264" y="240"/>
                </a:lnTo>
                <a:lnTo>
                  <a:pt x="330" y="360"/>
                </a:lnTo>
                <a:lnTo>
                  <a:pt x="360" y="438"/>
                </a:lnTo>
                <a:lnTo>
                  <a:pt x="414" y="522"/>
                </a:lnTo>
                <a:lnTo>
                  <a:pt x="462" y="629"/>
                </a:lnTo>
                <a:lnTo>
                  <a:pt x="528" y="714"/>
                </a:lnTo>
                <a:lnTo>
                  <a:pt x="618" y="822"/>
                </a:lnTo>
                <a:lnTo>
                  <a:pt x="780" y="955"/>
                </a:lnTo>
                <a:lnTo>
                  <a:pt x="947" y="986"/>
                </a:lnTo>
                <a:lnTo>
                  <a:pt x="953" y="1046"/>
                </a:lnTo>
                <a:lnTo>
                  <a:pt x="0" y="1043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362320" y="3828960"/>
            <a:ext cx="1076040" cy="1638360"/>
          </a:xfrm>
          <a:custGeom>
            <a:avLst/>
            <a:gdLst/>
            <a:ahLst/>
            <a:rect l="l" t="t" r="r" b="b"/>
            <a:pathLst>
              <a:path w="678" h="1032">
                <a:moveTo>
                  <a:pt x="0" y="1032"/>
                </a:moveTo>
                <a:lnTo>
                  <a:pt x="0" y="0"/>
                </a:lnTo>
                <a:lnTo>
                  <a:pt x="96" y="36"/>
                </a:lnTo>
                <a:lnTo>
                  <a:pt x="210" y="156"/>
                </a:lnTo>
                <a:lnTo>
                  <a:pt x="282" y="288"/>
                </a:lnTo>
                <a:lnTo>
                  <a:pt x="366" y="432"/>
                </a:lnTo>
                <a:lnTo>
                  <a:pt x="420" y="540"/>
                </a:lnTo>
                <a:lnTo>
                  <a:pt x="474" y="624"/>
                </a:lnTo>
                <a:lnTo>
                  <a:pt x="528" y="720"/>
                </a:lnTo>
                <a:lnTo>
                  <a:pt x="568" y="780"/>
                </a:lnTo>
                <a:lnTo>
                  <a:pt x="647" y="852"/>
                </a:lnTo>
                <a:lnTo>
                  <a:pt x="678" y="870"/>
                </a:lnTo>
                <a:lnTo>
                  <a:pt x="678" y="1032"/>
                </a:lnTo>
                <a:lnTo>
                  <a:pt x="0" y="103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5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abou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99.7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population or the s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21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he Empirical Rule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1249200" y="1676520"/>
                <a:ext cx="12430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σ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"/>
              <p:cNvSpPr txBox="1"/>
              <p:nvPr/>
            </p:nvSpPr>
            <p:spPr>
              <a:xfrm>
                <a:off x="1235160" y="2590920"/>
                <a:ext cx="12459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±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σ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0" name=""/>
          <p:cNvSpPr/>
          <p:nvPr/>
        </p:nvSpPr>
        <p:spPr>
          <a:xfrm>
            <a:off x="5324400" y="3807000"/>
            <a:ext cx="1535040" cy="1670040"/>
          </a:xfrm>
          <a:custGeom>
            <a:avLst/>
            <a:gdLst/>
            <a:ahLst/>
            <a:rect l="l" t="t" r="r" b="b"/>
            <a:pathLst>
              <a:path w="967" h="1052">
                <a:moveTo>
                  <a:pt x="967" y="1038"/>
                </a:moveTo>
                <a:lnTo>
                  <a:pt x="967" y="0"/>
                </a:lnTo>
                <a:lnTo>
                  <a:pt x="871" y="78"/>
                </a:lnTo>
                <a:lnTo>
                  <a:pt x="775" y="174"/>
                </a:lnTo>
                <a:lnTo>
                  <a:pt x="709" y="312"/>
                </a:lnTo>
                <a:lnTo>
                  <a:pt x="631" y="462"/>
                </a:lnTo>
                <a:lnTo>
                  <a:pt x="583" y="558"/>
                </a:lnTo>
                <a:lnTo>
                  <a:pt x="505" y="642"/>
                </a:lnTo>
                <a:lnTo>
                  <a:pt x="439" y="750"/>
                </a:lnTo>
                <a:lnTo>
                  <a:pt x="343" y="858"/>
                </a:lnTo>
                <a:lnTo>
                  <a:pt x="187" y="954"/>
                </a:lnTo>
                <a:lnTo>
                  <a:pt x="0" y="992"/>
                </a:lnTo>
                <a:lnTo>
                  <a:pt x="6" y="1052"/>
                </a:lnTo>
                <a:lnTo>
                  <a:pt x="967" y="1038"/>
                </a:lnTo>
                <a:close/>
              </a:path>
            </a:pathLst>
          </a:custGeom>
          <a:solidFill>
            <a:srgbClr val="fde0bd"/>
          </a:solidFill>
          <a:ln w="12600">
            <a:solidFill>
              <a:srgbClr val="c1ba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894360" y="380988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257800" y="3809880"/>
            <a:ext cx="163836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40160" y="546588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3828960"/>
            <a:ext cx="1067040" cy="1657440"/>
          </a:xfrm>
          <a:custGeom>
            <a:avLst/>
            <a:gdLst/>
            <a:ahLst/>
            <a:rect l="l" t="t" r="r" b="b"/>
            <a:pathLst>
              <a:path w="666" h="1044">
                <a:moveTo>
                  <a:pt x="666" y="1044"/>
                </a:moveTo>
                <a:lnTo>
                  <a:pt x="666" y="0"/>
                </a:lnTo>
                <a:lnTo>
                  <a:pt x="576" y="60"/>
                </a:lnTo>
                <a:lnTo>
                  <a:pt x="474" y="180"/>
                </a:lnTo>
                <a:lnTo>
                  <a:pt x="426" y="324"/>
                </a:lnTo>
                <a:lnTo>
                  <a:pt x="330" y="468"/>
                </a:lnTo>
                <a:lnTo>
                  <a:pt x="282" y="564"/>
                </a:lnTo>
                <a:lnTo>
                  <a:pt x="210" y="660"/>
                </a:lnTo>
                <a:lnTo>
                  <a:pt x="138" y="756"/>
                </a:lnTo>
                <a:lnTo>
                  <a:pt x="108" y="792"/>
                </a:lnTo>
                <a:lnTo>
                  <a:pt x="30" y="864"/>
                </a:lnTo>
                <a:lnTo>
                  <a:pt x="0" y="882"/>
                </a:lnTo>
                <a:lnTo>
                  <a:pt x="0" y="1044"/>
                </a:lnTo>
                <a:lnTo>
                  <a:pt x="666" y="1044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62320" y="380988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397240" y="3841920"/>
            <a:ext cx="1635120" cy="1573200"/>
          </a:xfrm>
          <a:custGeom>
            <a:avLst/>
            <a:gdLst/>
            <a:ahLst/>
            <a:rect l="l" t="t" r="r" b="b"/>
            <a:pathLst>
              <a:path w="1030" h="991">
                <a:moveTo>
                  <a:pt x="1029" y="990"/>
                </a:moveTo>
                <a:lnTo>
                  <a:pt x="921" y="980"/>
                </a:lnTo>
                <a:lnTo>
                  <a:pt x="866" y="967"/>
                </a:lnTo>
                <a:lnTo>
                  <a:pt x="813" y="952"/>
                </a:lnTo>
                <a:lnTo>
                  <a:pt x="758" y="929"/>
                </a:lnTo>
                <a:lnTo>
                  <a:pt x="703" y="897"/>
                </a:lnTo>
                <a:lnTo>
                  <a:pt x="651" y="857"/>
                </a:lnTo>
                <a:lnTo>
                  <a:pt x="541" y="743"/>
                </a:lnTo>
                <a:lnTo>
                  <a:pt x="433" y="581"/>
                </a:lnTo>
                <a:lnTo>
                  <a:pt x="325" y="386"/>
                </a:lnTo>
                <a:lnTo>
                  <a:pt x="270" y="287"/>
                </a:lnTo>
                <a:lnTo>
                  <a:pt x="215" y="196"/>
                </a:lnTo>
                <a:lnTo>
                  <a:pt x="163" y="116"/>
                </a:lnTo>
                <a:lnTo>
                  <a:pt x="108" y="53"/>
                </a:lnTo>
                <a:lnTo>
                  <a:pt x="53" y="13"/>
                </a:lnTo>
                <a:lnTo>
                  <a:pt x="0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46280" y="3841920"/>
            <a:ext cx="1652400" cy="1573200"/>
          </a:xfrm>
          <a:custGeom>
            <a:avLst/>
            <a:gdLst/>
            <a:ahLst/>
            <a:rect l="l" t="t" r="r" b="b"/>
            <a:pathLst>
              <a:path w="1032" h="991">
                <a:moveTo>
                  <a:pt x="0" y="990"/>
                </a:moveTo>
                <a:lnTo>
                  <a:pt x="108" y="980"/>
                </a:lnTo>
                <a:lnTo>
                  <a:pt x="163" y="967"/>
                </a:lnTo>
                <a:lnTo>
                  <a:pt x="218" y="952"/>
                </a:lnTo>
                <a:lnTo>
                  <a:pt x="271" y="929"/>
                </a:lnTo>
                <a:lnTo>
                  <a:pt x="326" y="897"/>
                </a:lnTo>
                <a:lnTo>
                  <a:pt x="381" y="857"/>
                </a:lnTo>
                <a:lnTo>
                  <a:pt x="488" y="743"/>
                </a:lnTo>
                <a:lnTo>
                  <a:pt x="596" y="581"/>
                </a:lnTo>
                <a:lnTo>
                  <a:pt x="706" y="386"/>
                </a:lnTo>
                <a:lnTo>
                  <a:pt x="759" y="287"/>
                </a:lnTo>
                <a:lnTo>
                  <a:pt x="814" y="196"/>
                </a:lnTo>
                <a:lnTo>
                  <a:pt x="868" y="116"/>
                </a:lnTo>
                <a:lnTo>
                  <a:pt x="921" y="53"/>
                </a:lnTo>
                <a:lnTo>
                  <a:pt x="976" y="13"/>
                </a:lnTo>
                <a:lnTo>
                  <a:pt x="1031" y="0"/>
                </a:lnTo>
              </a:path>
            </a:pathLst>
          </a:custGeom>
          <a:noFill/>
          <a:ln cap="rnd"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43040" y="5497560"/>
            <a:ext cx="3289320" cy="7920"/>
          </a:xfrm>
          <a:custGeom>
            <a:avLst/>
            <a:gdLst/>
            <a:ahLst/>
            <a:rect l="l" t="t" r="r" b="b"/>
            <a:pathLst>
              <a:path w="2072" h="5">
                <a:moveTo>
                  <a:pt x="0" y="5"/>
                </a:moveTo>
                <a:lnTo>
                  <a:pt x="12" y="0"/>
                </a:lnTo>
                <a:lnTo>
                  <a:pt x="2072" y="0"/>
                </a:lnTo>
              </a:path>
            </a:pathLst>
          </a:cu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859440" y="3778200"/>
            <a:ext cx="0" cy="167652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6454800" y="5665680"/>
                <a:ext cx="9604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3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1" name=""/>
          <p:cNvSpPr/>
          <p:nvPr/>
        </p:nvSpPr>
        <p:spPr>
          <a:xfrm flipV="1">
            <a:off x="533412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8381880" y="533376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333760" y="5867280"/>
            <a:ext cx="99036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543800" y="5867280"/>
            <a:ext cx="8380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4724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9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81080" y="4724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986120" y="5665680"/>
                <a:ext cx="9601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±</m:t>
                    </m:r>
                    <m:r>
                      <m:rPr>
                        <m:lit/>
                        <m:nor/>
                      </m:rPr>
                      <m:t xml:space="preserve">2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 flipV="1">
            <a:off x="129528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429000" y="5257440"/>
            <a:ext cx="0" cy="685800"/>
          </a:xfrm>
          <a:prstGeom prst="line">
            <a:avLst/>
          </a:prstGeom>
          <a:ln w="28440">
            <a:solidFill>
              <a:srgbClr val="99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1317240" y="5867280"/>
            <a:ext cx="538200" cy="180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048120" y="5867280"/>
            <a:ext cx="380880" cy="0"/>
          </a:xfrm>
          <a:prstGeom prst="line">
            <a:avLst/>
          </a:prstGeom>
          <a:ln w="1260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E2B2-F361-40E5-BB98-4ECDADF37FD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2590920" y="4191120"/>
            <a:ext cx="5333760" cy="1904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ardless of how the data are distributed, at least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1 - 1/k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values will fall withi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ndard deviations of th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1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1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75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.......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2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2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 -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89%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……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k=3  (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± 3</a:t>
            </a:r>
            <a:r>
              <a:rPr b="0" lang="el-GR" sz="2400" spc="-1" strike="noStrike">
                <a:solidFill>
                  <a:srgbClr val="3333cc"/>
                </a:solidFill>
                <a:latin typeface="Arial"/>
                <a:ea typeface="Arial"/>
              </a:rPr>
              <a:t>σ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914400" y="304920"/>
            <a:ext cx="7721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chebysheff’s Theorem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404400" y="41148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277800" y="41148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819520" y="45720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4A154-1716-4E4B-8F07-461336E796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106668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tandardized data valu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fers to the number of standard deviations a value is from the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99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ized data values are sometimes referred to a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z-sc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80880"/>
            <a:ext cx="77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Data Value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332D-C089-44E6-AAE2-1107415EC53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population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Population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3276720" y="1676520"/>
                <a:ext cx="214308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F763-BDCB-4D38-B32C-0BCD0562F2D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1371600" y="297180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 = original dat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sample m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= sample standard dev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standard sco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andard deviations x is from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1294920" y="3805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ndardized Sample Val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3254400" y="1676520"/>
                <a:ext cx="218916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6" name=""/>
          <p:cNvSpPr/>
          <p:nvPr/>
        </p:nvSpPr>
        <p:spPr>
          <a:xfrm>
            <a:off x="1752480" y="4114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1828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48CF3-C695-4AE0-A459-92298EE5BB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293840" y="2360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mmary Measur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4341960" y="2055960"/>
            <a:ext cx="0" cy="1110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7160" y="2665440"/>
            <a:ext cx="266544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er and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3840" y="2360520"/>
            <a:ext cx="5715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8040" y="3351240"/>
            <a:ext cx="914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886200"/>
            <a:ext cx="11415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4419720"/>
            <a:ext cx="91152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2666880"/>
            <a:ext cx="2209680" cy="698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Measures of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1280" y="4954680"/>
            <a:ext cx="2057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1752480"/>
            <a:ext cx="3655800" cy="39384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ing Data Numer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08840" y="2360520"/>
            <a:ext cx="0" cy="47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2666880"/>
            <a:ext cx="14479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24480" y="4572000"/>
            <a:ext cx="129564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518148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5791320"/>
            <a:ext cx="1828800" cy="69876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efficient of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24480" y="3352680"/>
            <a:ext cx="99072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657600"/>
            <a:ext cx="16002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ce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962520"/>
            <a:ext cx="251460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quartile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3080" y="4268880"/>
            <a:ext cx="1371600" cy="393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r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E5BF-2EF4-4840-969E-577F8C7EBF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Microsoft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ptive Statistics are easy to obtain from Microsoft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600"/>
            </a:b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 details in dialog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9A50-9ACC-44E0-BA77-F392AC2015A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4581720" cy="454356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4038480" cy="20001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4724280" y="5181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876920" y="1981080"/>
            <a:ext cx="40384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4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enu choice:</a:t>
            </a:r>
            <a:br>
              <a:rPr sz="2400"/>
            </a:b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ools / data analysis / descriptive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DBFB0-13C3-4585-A4D2-633A79BA78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80520" y="3123720"/>
            <a:ext cx="3048120" cy="2971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dialog box 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box for summary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5200560" cy="365760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 flipV="1">
            <a:off x="3048120" y="2819160"/>
            <a:ext cx="342900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3048120" y="3352680"/>
            <a:ext cx="2057400" cy="152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276720" y="4572000"/>
            <a:ext cx="1828800" cy="3808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Using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6C9B-9945-4300-ADB3-D022A588BAE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828440" y="38052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cel outpu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254880" y="1780920"/>
            <a:ext cx="39938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icrosoft Exc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escriptive statistics outpu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using the house price da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143000" y="3200400"/>
            <a:ext cx="2057400" cy="253332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use Prices: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$2,0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3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10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3836880" cy="4343400"/>
          </a:xfrm>
          <a:prstGeom prst="rect">
            <a:avLst/>
          </a:prstGeom>
          <a:ln w="0">
            <a:noFill/>
          </a:ln>
        </p:spPr>
      </p:pic>
      <p:sp>
        <p:nvSpPr>
          <p:cNvPr id="666" name=""/>
          <p:cNvSpPr/>
          <p:nvPr/>
        </p:nvSpPr>
        <p:spPr>
          <a:xfrm>
            <a:off x="5029200" y="2514600"/>
            <a:ext cx="6858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029200" y="30481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029200" y="327672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029200" y="3505320"/>
            <a:ext cx="167652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29200" y="3733920"/>
            <a:ext cx="160020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029200" y="4495680"/>
            <a:ext cx="838080" cy="2286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C1C47-C994-4943-B5FC-1B3F434A79D9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s of center an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, median, mode, geometric mean, mid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percentiles and quar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measure of var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ge, interquartile range, vari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, coefficient of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ox and Whisker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F6D96-74B7-4B1B-9C7A-9D9D6B154E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distribution sh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, ske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ed Tchebysheff’s Theor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d standardized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90DFC-BB49-4C03-9681-75CD199B07A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15080" y="2819520"/>
            <a:ext cx="504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sures of Center and Locatio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1828800"/>
            <a:ext cx="320040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enter and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2819520"/>
            <a:ext cx="640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6200" y="3278160"/>
            <a:ext cx="13701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9360" y="3278160"/>
            <a:ext cx="129240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di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3276720"/>
            <a:ext cx="121896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3276720"/>
            <a:ext cx="2062080" cy="393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ighted 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312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428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27400" y="28195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66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41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303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23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846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7512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303696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396252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4114800"/>
            <a:ext cx="152280" cy="15228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37080" y="4419720"/>
            <a:ext cx="171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41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73600" y="4267080"/>
            <a:ext cx="152280" cy="15264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055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4762440" y="4533480"/>
            <a:ext cx="228600" cy="152280"/>
          </a:xfrm>
          <a:prstGeom prst="rightArrow">
            <a:avLst>
              <a:gd name="adj1" fmla="val 50000"/>
              <a:gd name="adj2" fmla="val 37807"/>
            </a:avLst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92920" y="4267080"/>
            <a:ext cx="152280" cy="152640"/>
          </a:xfrm>
          <a:prstGeom prst="ellipse">
            <a:avLst/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73600" y="396252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73600" y="4114800"/>
            <a:ext cx="152280" cy="152280"/>
          </a:xfrm>
          <a:prstGeom prst="ellipse">
            <a:avLst/>
          </a:prstGeom>
          <a:solidFill>
            <a:srgbClr val="ffcf01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406440" y="3962520"/>
                <a:ext cx="1284120" cy="25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t xml:space="preserve">μ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477120" y="4038480"/>
                <a:ext cx="218124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3581280" y="1371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7E51-F1D4-4A18-8008-23D4EEB0D1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1532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Me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arithmetic average of data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2590920"/>
            <a:ext cx="190512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Samp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4572000"/>
            <a:ext cx="2210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 = Populatio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962160" y="2743200"/>
            <a:ext cx="990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038480" y="4800600"/>
            <a:ext cx="914400" cy="1522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819520" y="2819520"/>
                <a:ext cx="464796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940120" y="4830840"/>
                <a:ext cx="4680000" cy="15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97076-2E2F-41F5-AA61-4676F032A2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an (Arithmetic Average)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measure of central t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= sum of values divided by the number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fected by extreme values (out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590544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34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2360" y="37987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430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4479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6200000">
            <a:off x="1257480" y="4304880"/>
            <a:ext cx="609480" cy="228600"/>
          </a:xfrm>
          <a:prstGeom prst="rightArrow">
            <a:avLst>
              <a:gd name="adj1" fmla="val 50000"/>
              <a:gd name="adj2" fmla="val 6714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4800600"/>
            <a:ext cx="152388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46840" y="3886200"/>
            <a:ext cx="335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380988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657600"/>
            <a:ext cx="314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365760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5880" y="4800600"/>
            <a:ext cx="1524240" cy="454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n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38080" y="5410080"/>
                <a:ext cx="30225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276880" y="5410080"/>
                <a:ext cx="31878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06E2A-94D5-41BE-BCBE-82CF16E7D3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edian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 ordered array, the median is the “middle”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odd, the median is the middl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or N is even, the median is the average of the two middle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55242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71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6040" y="2579760"/>
            <a:ext cx="3984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76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1180800" y="3085920"/>
            <a:ext cx="609840" cy="228600"/>
          </a:xfrm>
          <a:prstGeom prst="rightArrow">
            <a:avLst>
              <a:gd name="adj1" fmla="val 50000"/>
              <a:gd name="adj2" fmla="val 6718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716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70520" y="2666880"/>
            <a:ext cx="3354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8320" y="2590920"/>
            <a:ext cx="3984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 1   2   3   4   5   6   7   8   9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6920" y="2438280"/>
            <a:ext cx="314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001000" y="2438280"/>
            <a:ext cx="228600" cy="228600"/>
          </a:xfrm>
          <a:prstGeom prst="ellipse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3581280"/>
            <a:ext cx="1828800" cy="454680"/>
          </a:xfrm>
          <a:prstGeom prst="rect">
            <a:avLst/>
          </a:prstGeom>
          <a:solidFill>
            <a:srgbClr val="f4c7c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54446-FA8E-4446-A53F-F12031569A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Mod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measure of central t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that occurs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ffected by extreme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ither numerical or categor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may be no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may be several m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68240" y="5576760"/>
            <a:ext cx="3354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2200" y="5570640"/>
            <a:ext cx="55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   7   8   9   10   11   12   13   14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03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12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46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557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46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189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89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487692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62320" y="6019920"/>
            <a:ext cx="144756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701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1913760" y="6010920"/>
            <a:ext cx="533520" cy="246240"/>
          </a:xfrm>
          <a:prstGeom prst="rightArrow">
            <a:avLst>
              <a:gd name="adj1" fmla="val 50000"/>
              <a:gd name="adj2" fmla="val 54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8640" y="5576760"/>
            <a:ext cx="1297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322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32240" y="51195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944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170320" y="534816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5562720"/>
            <a:ext cx="1830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07080" y="5562720"/>
            <a:ext cx="253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   1   2   3   4   5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6748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62920" y="52578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6124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06616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70720" y="5272200"/>
            <a:ext cx="228600" cy="228600"/>
          </a:xfrm>
          <a:prstGeom prst="ellipse">
            <a:avLst/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086600" y="6019920"/>
            <a:ext cx="1469880" cy="393840"/>
          </a:xfrm>
          <a:prstGeom prst="rect">
            <a:avLst/>
          </a:prstGeom>
          <a:solidFill>
            <a:srgbClr val="e5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A5C1-4D19-42E2-9255-38C2825984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30:22Z</dcterms:modified>
  <cp:revision>76</cp:revision>
  <dc:subject>Chapter 3</dc:subject>
  <dc:title>Groebner lecture notes for chapter 3</dc:title>
</cp:coreProperties>
</file>