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7A23-9B38-4A70-AFAD-A70D21442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84CA-E606-45E2-B9DE-566C814AA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24F7-C089-472D-8546-4747E4F62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AE35-05ED-4646-B88E-F6195B496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B317F-AEAB-436F-A310-DE9829C06E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51B60-709E-42BB-BB2A-0BDBE09411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57B91-D6FD-41B5-A277-64633B06C1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F287D-4BD1-4E62-ACB4-057E8E1782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CA772-BA59-4745-816F-A9657D6BCD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61BA9-FC3C-48C7-B1B8-5396884FD7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AAFEF-78AE-4E09-9CAD-EF8758ECFA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4989-69FF-4629-9C5F-D1FEAEFC0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D3E0F-60FC-4DEB-B461-6DA5A25B97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29C5F-F806-46E1-83AE-8E87BD310B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2E029-CD29-4048-920D-02FA18DB09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14D5F-64D5-433B-93ED-F019FD7575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E03C7-6709-4179-890B-002A947654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E1A3-695C-4746-9BAF-C7EABDC45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7B6E-3D99-4BAA-9F07-389C7B27E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1F00-E1DB-4BB7-B7F0-CF3280D1D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BA54-AC20-4072-8D90-45D1E5DF7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9356-F9AC-4764-9E73-6FA8E2AEA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1A31-43F4-4030-B845-1532FBD06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D8CD-4D62-48E0-9CCB-8832AEEC2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3-</a:t>
            </a:r>
            <a:fld id="{AFF3CF28-0EB6-492E-AB93-E23CBE2F6EB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3-</a:t>
            </a:r>
            <a:fld id="{7B25EC86-1155-424E-A7B3-AA2B8198395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scribing Data 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umerical Meas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140ED-AAD7-4967-A6D6-A1F26AA638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eighted Mea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values are grouped by frequency or relative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3809880"/>
          <a:ext cx="2743200" cy="218628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 to Comple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380880" y="29718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ample of 26 Repai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3505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Mean Days to Comple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664080" y="4419720"/>
                <a:ext cx="532764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day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320040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102F-BCF3-4451-B5CE-19BF5FA451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houses on a hill by the b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view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3080" y="2286000"/>
          <a:ext cx="610092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2286000"/>
                    <a:ext cx="61009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33520" y="2743200"/>
            <a:ext cx="228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$2,0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487692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2240" cy="1066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238880" y="5867280"/>
            <a:ext cx="167652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5943600"/>
            <a:ext cx="167616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6019920"/>
            <a:ext cx="1676520" cy="7596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6172200"/>
            <a:ext cx="167652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6248520"/>
            <a:ext cx="1676520" cy="7596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6324480"/>
            <a:ext cx="167616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C54C4-AD65-4CF0-BAFA-35CBC90692F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742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mmary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3623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($3,000,000/5)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6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di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iddle value of ranked dat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3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d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ost frequent valu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1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1981080"/>
            <a:ext cx="2057400" cy="26920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D0573-EEDF-4716-A1A5-A078C88B57B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676520" y="18288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enerally used, unless extreme values (outliers)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di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ften used, since the median is not sensitive to extreme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n home prices may be reported for a region – less sensitive to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ich measure of loca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s the “best”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CE5E-1FB9-4E94-BA36-FD0DD8ECEB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1114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4114800"/>
            <a:ext cx="0" cy="11430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832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3340080"/>
            <a:ext cx="2895840" cy="259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hape of a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how data is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45000" y="4111560"/>
            <a:ext cx="905040" cy="1071720"/>
          </a:xfrm>
          <a:custGeom>
            <a:avLst/>
            <a:gdLst/>
            <a:ahLst/>
            <a:rect l="l" t="t" r="r" b="b"/>
            <a:pathLst>
              <a:path w="570" h="675">
                <a:moveTo>
                  <a:pt x="569" y="674"/>
                </a:moveTo>
                <a:lnTo>
                  <a:pt x="508" y="667"/>
                </a:lnTo>
                <a:lnTo>
                  <a:pt x="478" y="659"/>
                </a:lnTo>
                <a:lnTo>
                  <a:pt x="449" y="648"/>
                </a:lnTo>
                <a:lnTo>
                  <a:pt x="419" y="633"/>
                </a:lnTo>
                <a:lnTo>
                  <a:pt x="389" y="612"/>
                </a:lnTo>
                <a:lnTo>
                  <a:pt x="358" y="583"/>
                </a:lnTo>
                <a:lnTo>
                  <a:pt x="300" y="506"/>
                </a:lnTo>
                <a:lnTo>
                  <a:pt x="239" y="396"/>
                </a:lnTo>
                <a:lnTo>
                  <a:pt x="178" y="263"/>
                </a:lnTo>
                <a:lnTo>
                  <a:pt x="150" y="197"/>
                </a:lnTo>
                <a:lnTo>
                  <a:pt x="120" y="133"/>
                </a:lnTo>
                <a:lnTo>
                  <a:pt x="89" y="78"/>
                </a:lnTo>
                <a:lnTo>
                  <a:pt x="59" y="36"/>
                </a:lnTo>
                <a:lnTo>
                  <a:pt x="29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43200" y="4111560"/>
            <a:ext cx="903240" cy="1071720"/>
          </a:xfrm>
          <a:custGeom>
            <a:avLst/>
            <a:gdLst/>
            <a:ahLst/>
            <a:rect l="l" t="t" r="r" b="b"/>
            <a:pathLst>
              <a:path w="569" h="675">
                <a:moveTo>
                  <a:pt x="0" y="674"/>
                </a:moveTo>
                <a:lnTo>
                  <a:pt x="59" y="667"/>
                </a:lnTo>
                <a:lnTo>
                  <a:pt x="89" y="659"/>
                </a:lnTo>
                <a:lnTo>
                  <a:pt x="120" y="648"/>
                </a:lnTo>
                <a:lnTo>
                  <a:pt x="150" y="633"/>
                </a:lnTo>
                <a:lnTo>
                  <a:pt x="178" y="612"/>
                </a:lnTo>
                <a:lnTo>
                  <a:pt x="209" y="583"/>
                </a:lnTo>
                <a:lnTo>
                  <a:pt x="269" y="506"/>
                </a:lnTo>
                <a:lnTo>
                  <a:pt x="328" y="396"/>
                </a:lnTo>
                <a:lnTo>
                  <a:pt x="389" y="263"/>
                </a:lnTo>
                <a:lnTo>
                  <a:pt x="419" y="197"/>
                </a:lnTo>
                <a:lnTo>
                  <a:pt x="449" y="133"/>
                </a:lnTo>
                <a:lnTo>
                  <a:pt x="478" y="78"/>
                </a:lnTo>
                <a:lnTo>
                  <a:pt x="508" y="36"/>
                </a:lnTo>
                <a:lnTo>
                  <a:pt x="538" y="10"/>
                </a:lnTo>
                <a:lnTo>
                  <a:pt x="568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5562720"/>
            <a:ext cx="2943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79720" y="43178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64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7960" y="5626080"/>
            <a:ext cx="2952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94000" y="4729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4880" y="5562720"/>
            <a:ext cx="3010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666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114800"/>
            <a:ext cx="0" cy="106668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4191120"/>
            <a:ext cx="0" cy="99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4495680"/>
            <a:ext cx="0" cy="68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178160"/>
            <a:ext cx="0" cy="106704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44830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4788000"/>
            <a:ext cx="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59400" y="4211640"/>
            <a:ext cx="4680" cy="87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57600" y="4489560"/>
            <a:ext cx="0" cy="517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257800"/>
            <a:ext cx="177012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52840" y="529596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5181480"/>
            <a:ext cx="198108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39120" y="527220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5245200"/>
            <a:ext cx="182880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33600" y="5359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2057400" y="5245200"/>
            <a:ext cx="457200" cy="457200"/>
          </a:xfrm>
          <a:prstGeom prst="line">
            <a:avLst/>
          </a:prstGeom>
          <a:ln w="1260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752480" y="5245200"/>
            <a:ext cx="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38080" y="5245200"/>
            <a:ext cx="685800" cy="45720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705720" y="5181480"/>
            <a:ext cx="533160" cy="457200"/>
          </a:xfrm>
          <a:prstGeom prst="line">
            <a:avLst/>
          </a:prstGeom>
          <a:ln w="1260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391520" y="5181480"/>
            <a:ext cx="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7619760" y="5181120"/>
            <a:ext cx="685800" cy="3812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79480" y="3416400"/>
            <a:ext cx="253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2560" y="3492360"/>
            <a:ext cx="227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57960" y="3429000"/>
            <a:ext cx="199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7080" y="6019920"/>
            <a:ext cx="258480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le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74360" y="6019920"/>
            <a:ext cx="270828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rig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4129200"/>
            <a:ext cx="1981080" cy="1089000"/>
          </a:xfrm>
          <a:custGeom>
            <a:avLst/>
            <a:gdLst/>
            <a:ahLst/>
            <a:rect l="l" t="t" r="r" b="b"/>
            <a:pathLst>
              <a:path w="1248" h="686">
                <a:moveTo>
                  <a:pt x="0" y="668"/>
                </a:moveTo>
                <a:cubicBezTo>
                  <a:pt x="21" y="666"/>
                  <a:pt x="73" y="669"/>
                  <a:pt x="126" y="656"/>
                </a:cubicBezTo>
                <a:cubicBezTo>
                  <a:pt x="180" y="643"/>
                  <a:pt x="258" y="628"/>
                  <a:pt x="321" y="590"/>
                </a:cubicBezTo>
                <a:cubicBezTo>
                  <a:pt x="385" y="552"/>
                  <a:pt x="413" y="520"/>
                  <a:pt x="506" y="426"/>
                </a:cubicBezTo>
                <a:cubicBezTo>
                  <a:pt x="599" y="332"/>
                  <a:pt x="782" y="0"/>
                  <a:pt x="878" y="25"/>
                </a:cubicBezTo>
                <a:cubicBezTo>
                  <a:pt x="974" y="50"/>
                  <a:pt x="1022" y="472"/>
                  <a:pt x="1084" y="579"/>
                </a:cubicBezTo>
                <a:cubicBezTo>
                  <a:pt x="1146" y="686"/>
                  <a:pt x="1214" y="649"/>
                  <a:pt x="1248" y="667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4059360"/>
            <a:ext cx="1981080" cy="1096920"/>
          </a:xfrm>
          <a:custGeom>
            <a:avLst/>
            <a:gdLst/>
            <a:ahLst/>
            <a:rect l="l" t="t" r="r" b="b"/>
            <a:pathLst>
              <a:path w="1248" h="691">
                <a:moveTo>
                  <a:pt x="1248" y="672"/>
                </a:moveTo>
                <a:cubicBezTo>
                  <a:pt x="1227" y="670"/>
                  <a:pt x="1175" y="673"/>
                  <a:pt x="1122" y="660"/>
                </a:cubicBezTo>
                <a:cubicBezTo>
                  <a:pt x="1068" y="647"/>
                  <a:pt x="990" y="632"/>
                  <a:pt x="927" y="594"/>
                </a:cubicBezTo>
                <a:cubicBezTo>
                  <a:pt x="863" y="556"/>
                  <a:pt x="833" y="525"/>
                  <a:pt x="742" y="430"/>
                </a:cubicBezTo>
                <a:cubicBezTo>
                  <a:pt x="651" y="335"/>
                  <a:pt x="476" y="0"/>
                  <a:pt x="380" y="25"/>
                </a:cubicBezTo>
                <a:cubicBezTo>
                  <a:pt x="284" y="50"/>
                  <a:pt x="227" y="475"/>
                  <a:pt x="164" y="583"/>
                </a:cubicBezTo>
                <a:cubicBezTo>
                  <a:pt x="101" y="691"/>
                  <a:pt x="34" y="653"/>
                  <a:pt x="0" y="67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57200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E156-7D58-4FFA-8D0B-E637B1229D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3434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2666880"/>
            <a:ext cx="50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2320" y="2666880"/>
            <a:ext cx="39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2666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Other Location Measu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1676520"/>
            <a:ext cx="2590920" cy="820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289548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28954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3505320"/>
            <a:ext cx="403884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216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7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419112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 in a data ar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% are less than or equal to thi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 – p)% are greater than or equal to this valu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re 0 ≤ p ≤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A9329-58B0-448E-9DD9-13BC6A25C9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ercenti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ntile in an ordered array of n values is the value in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43434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ile in an ordered array of 19 values is the value in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276720" y="2805120"/>
                <a:ext cx="27432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133720" y="5257800"/>
                <a:ext cx="53337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DB93-81FA-4CE8-AA6D-44D3CBC18D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495680" y="5943600"/>
            <a:ext cx="1219320" cy="4572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4876920"/>
            <a:ext cx="2819520" cy="685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Quarti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467840" cy="95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iles split the ranked data into 4 equ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2292480"/>
            <a:ext cx="1149480" cy="60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2292480"/>
            <a:ext cx="1143000" cy="6094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0600" y="2292480"/>
            <a:ext cx="1758960" cy="609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00800" y="2292480"/>
            <a:ext cx="190512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2362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236232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2362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236232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114800"/>
            <a:ext cx="8310600" cy="82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Data in Ordered Array:  11   12   13   16   16   17   18   21   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35431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657600"/>
            <a:ext cx="464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Example: Find the first quarti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648320"/>
            <a:ext cx="8305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n = 9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1 = 2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percentile, so find the               </a:t>
            </a: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(9+1) = 2.5 pos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 use the value half way between the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alues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Q1 = 12.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46861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62863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4480" y="4876920"/>
            <a:ext cx="60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52578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3200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3200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3200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5257800" y="4571640"/>
            <a:ext cx="381240" cy="228600"/>
          </a:xfrm>
          <a:prstGeom prst="rightArrow">
            <a:avLst>
              <a:gd name="adj1" fmla="val 50000"/>
              <a:gd name="adj2" fmla="val 4200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1BFC-B082-486B-866E-A457B8047A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ical display of data using 5-number 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440" y="25146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nim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Q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edi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Q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0960" y="3429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6560" y="3809880"/>
          <a:ext cx="861084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809880"/>
                    <a:ext cx="861084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1076400" y="5334120"/>
          <a:ext cx="8067600" cy="67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6400" y="5334120"/>
                    <a:ext cx="80676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2279520" y="426708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   25%              25%          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2514600"/>
            <a:ext cx="624816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EE36-7DEC-4072-B78D-9954514BAB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hape of Box and Whisker Plo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x and central line are centered between the endpoints if data is symmetric around the 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x and Whisker plot can be shown in either vertical or horizonta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905120" y="2819520"/>
          <a:ext cx="541008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19520"/>
                    <a:ext cx="541008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E18A4-1691-4092-8B59-D5F0B9BC23E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interpret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an, medi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nge, varian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know what these values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d interpret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ox and whiskers p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explain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efficient of vari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z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umerical measures along with graphs, charts, and tables to describ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E131-5F89-45CD-88D7-6528ED3158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tribution Shape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186600" y="1981080"/>
            <a:ext cx="27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9440" y="1981080"/>
            <a:ext cx="244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79840" y="1981080"/>
            <a:ext cx="210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3360600"/>
            <a:ext cx="0" cy="60984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28195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48560" y="3808440"/>
            <a:ext cx="0" cy="1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09680" y="3056040"/>
            <a:ext cx="0" cy="9144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297972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733920"/>
            <a:ext cx="0" cy="22860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275112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1120" y="3208320"/>
            <a:ext cx="0" cy="76212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3208320"/>
            <a:ext cx="0" cy="76212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2827440"/>
            <a:ext cx="461880" cy="1098360"/>
          </a:xfrm>
          <a:custGeom>
            <a:avLst/>
            <a:gdLst/>
            <a:ahLst/>
            <a:rect l="l" t="t" r="r" b="b"/>
            <a:pathLst>
              <a:path w="291" h="692">
                <a:moveTo>
                  <a:pt x="290" y="691"/>
                </a:moveTo>
                <a:lnTo>
                  <a:pt x="259" y="684"/>
                </a:lnTo>
                <a:lnTo>
                  <a:pt x="243" y="676"/>
                </a:lnTo>
                <a:lnTo>
                  <a:pt x="230" y="664"/>
                </a:lnTo>
                <a:lnTo>
                  <a:pt x="214" y="649"/>
                </a:lnTo>
                <a:lnTo>
                  <a:pt x="199" y="627"/>
                </a:lnTo>
                <a:lnTo>
                  <a:pt x="183" y="598"/>
                </a:lnTo>
                <a:lnTo>
                  <a:pt x="153" y="519"/>
                </a:lnTo>
                <a:lnTo>
                  <a:pt x="122" y="406"/>
                </a:lnTo>
                <a:lnTo>
                  <a:pt x="93" y="270"/>
                </a:lnTo>
                <a:lnTo>
                  <a:pt x="77" y="202"/>
                </a:lnTo>
                <a:lnTo>
                  <a:pt x="62" y="136"/>
                </a:lnTo>
                <a:lnTo>
                  <a:pt x="46" y="80"/>
                </a:lnTo>
                <a:lnTo>
                  <a:pt x="31" y="37"/>
                </a:lnTo>
                <a:lnTo>
                  <a:pt x="15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827440"/>
            <a:ext cx="1460520" cy="1098360"/>
          </a:xfrm>
          <a:custGeom>
            <a:avLst/>
            <a:gdLst/>
            <a:ahLst/>
            <a:rect l="l" t="t" r="r" b="b"/>
            <a:pathLst>
              <a:path w="872" h="692">
                <a:moveTo>
                  <a:pt x="0" y="691"/>
                </a:moveTo>
                <a:lnTo>
                  <a:pt x="93" y="684"/>
                </a:lnTo>
                <a:lnTo>
                  <a:pt x="138" y="676"/>
                </a:lnTo>
                <a:lnTo>
                  <a:pt x="184" y="664"/>
                </a:lnTo>
                <a:lnTo>
                  <a:pt x="230" y="649"/>
                </a:lnTo>
                <a:lnTo>
                  <a:pt x="275" y="627"/>
                </a:lnTo>
                <a:lnTo>
                  <a:pt x="321" y="598"/>
                </a:lnTo>
                <a:lnTo>
                  <a:pt x="412" y="519"/>
                </a:lnTo>
                <a:lnTo>
                  <a:pt x="505" y="406"/>
                </a:lnTo>
                <a:lnTo>
                  <a:pt x="596" y="270"/>
                </a:lnTo>
                <a:lnTo>
                  <a:pt x="642" y="202"/>
                </a:lnTo>
                <a:lnTo>
                  <a:pt x="689" y="136"/>
                </a:lnTo>
                <a:lnTo>
                  <a:pt x="733" y="80"/>
                </a:lnTo>
                <a:lnTo>
                  <a:pt x="780" y="37"/>
                </a:lnTo>
                <a:lnTo>
                  <a:pt x="826" y="10"/>
                </a:lnTo>
                <a:lnTo>
                  <a:pt x="871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95680" y="2751120"/>
            <a:ext cx="914400" cy="1143000"/>
          </a:xfrm>
          <a:custGeom>
            <a:avLst/>
            <a:gdLst/>
            <a:ahLst/>
            <a:rect l="l" t="t" r="r" b="b"/>
            <a:pathLst>
              <a:path w="399" h="692">
                <a:moveTo>
                  <a:pt x="398" y="691"/>
                </a:moveTo>
                <a:lnTo>
                  <a:pt x="356" y="684"/>
                </a:lnTo>
                <a:lnTo>
                  <a:pt x="335" y="676"/>
                </a:lnTo>
                <a:lnTo>
                  <a:pt x="315" y="664"/>
                </a:lnTo>
                <a:lnTo>
                  <a:pt x="294" y="649"/>
                </a:lnTo>
                <a:lnTo>
                  <a:pt x="273" y="627"/>
                </a:lnTo>
                <a:lnTo>
                  <a:pt x="251" y="598"/>
                </a:lnTo>
                <a:lnTo>
                  <a:pt x="209" y="519"/>
                </a:lnTo>
                <a:lnTo>
                  <a:pt x="168" y="406"/>
                </a:lnTo>
                <a:lnTo>
                  <a:pt x="126" y="270"/>
                </a:lnTo>
                <a:lnTo>
                  <a:pt x="104" y="202"/>
                </a:lnTo>
                <a:lnTo>
                  <a:pt x="83" y="136"/>
                </a:lnTo>
                <a:lnTo>
                  <a:pt x="62" y="80"/>
                </a:lnTo>
                <a:lnTo>
                  <a:pt x="41" y="37"/>
                </a:lnTo>
                <a:lnTo>
                  <a:pt x="21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2751120"/>
            <a:ext cx="892440" cy="1143000"/>
          </a:xfrm>
          <a:custGeom>
            <a:avLst/>
            <a:gdLst/>
            <a:ahLst/>
            <a:rect l="l" t="t" r="r" b="b"/>
            <a:pathLst>
              <a:path w="401" h="692">
                <a:moveTo>
                  <a:pt x="0" y="691"/>
                </a:moveTo>
                <a:lnTo>
                  <a:pt x="42" y="684"/>
                </a:lnTo>
                <a:lnTo>
                  <a:pt x="63" y="676"/>
                </a:lnTo>
                <a:lnTo>
                  <a:pt x="85" y="664"/>
                </a:lnTo>
                <a:lnTo>
                  <a:pt x="106" y="649"/>
                </a:lnTo>
                <a:lnTo>
                  <a:pt x="127" y="627"/>
                </a:lnTo>
                <a:lnTo>
                  <a:pt x="147" y="598"/>
                </a:lnTo>
                <a:lnTo>
                  <a:pt x="189" y="519"/>
                </a:lnTo>
                <a:lnTo>
                  <a:pt x="232" y="406"/>
                </a:lnTo>
                <a:lnTo>
                  <a:pt x="274" y="270"/>
                </a:lnTo>
                <a:lnTo>
                  <a:pt x="294" y="202"/>
                </a:lnTo>
                <a:lnTo>
                  <a:pt x="315" y="136"/>
                </a:lnTo>
                <a:lnTo>
                  <a:pt x="336" y="80"/>
                </a:lnTo>
                <a:lnTo>
                  <a:pt x="357" y="37"/>
                </a:lnTo>
                <a:lnTo>
                  <a:pt x="379" y="10"/>
                </a:lnTo>
                <a:lnTo>
                  <a:pt x="40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0" y="2797200"/>
            <a:ext cx="1462320" cy="1098360"/>
          </a:xfrm>
          <a:custGeom>
            <a:avLst/>
            <a:gdLst/>
            <a:ahLst/>
            <a:rect l="l" t="t" r="r" b="b"/>
            <a:pathLst>
              <a:path w="871" h="692">
                <a:moveTo>
                  <a:pt x="870" y="691"/>
                </a:moveTo>
                <a:lnTo>
                  <a:pt x="777" y="684"/>
                </a:lnTo>
                <a:lnTo>
                  <a:pt x="733" y="676"/>
                </a:lnTo>
                <a:lnTo>
                  <a:pt x="686" y="664"/>
                </a:lnTo>
                <a:lnTo>
                  <a:pt x="640" y="649"/>
                </a:lnTo>
                <a:lnTo>
                  <a:pt x="596" y="627"/>
                </a:lnTo>
                <a:lnTo>
                  <a:pt x="549" y="598"/>
                </a:lnTo>
                <a:lnTo>
                  <a:pt x="456" y="519"/>
                </a:lnTo>
                <a:lnTo>
                  <a:pt x="365" y="406"/>
                </a:lnTo>
                <a:lnTo>
                  <a:pt x="274" y="270"/>
                </a:lnTo>
                <a:lnTo>
                  <a:pt x="228" y="202"/>
                </a:lnTo>
                <a:lnTo>
                  <a:pt x="182" y="136"/>
                </a:lnTo>
                <a:lnTo>
                  <a:pt x="137" y="80"/>
                </a:lnTo>
                <a:lnTo>
                  <a:pt x="91" y="37"/>
                </a:lnTo>
                <a:lnTo>
                  <a:pt x="44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83160" y="2797200"/>
            <a:ext cx="462240" cy="1098360"/>
          </a:xfrm>
          <a:custGeom>
            <a:avLst/>
            <a:gdLst/>
            <a:ahLst/>
            <a:rect l="l" t="t" r="r" b="b"/>
            <a:pathLst>
              <a:path w="291" h="692">
                <a:moveTo>
                  <a:pt x="0" y="691"/>
                </a:moveTo>
                <a:lnTo>
                  <a:pt x="29" y="684"/>
                </a:lnTo>
                <a:lnTo>
                  <a:pt x="44" y="676"/>
                </a:lnTo>
                <a:lnTo>
                  <a:pt x="60" y="664"/>
                </a:lnTo>
                <a:lnTo>
                  <a:pt x="75" y="649"/>
                </a:lnTo>
                <a:lnTo>
                  <a:pt x="90" y="627"/>
                </a:lnTo>
                <a:lnTo>
                  <a:pt x="106" y="598"/>
                </a:lnTo>
                <a:lnTo>
                  <a:pt x="137" y="519"/>
                </a:lnTo>
                <a:lnTo>
                  <a:pt x="168" y="406"/>
                </a:lnTo>
                <a:lnTo>
                  <a:pt x="197" y="270"/>
                </a:lnTo>
                <a:lnTo>
                  <a:pt x="212" y="202"/>
                </a:lnTo>
                <a:lnTo>
                  <a:pt x="228" y="136"/>
                </a:lnTo>
                <a:lnTo>
                  <a:pt x="243" y="80"/>
                </a:lnTo>
                <a:lnTo>
                  <a:pt x="259" y="37"/>
                </a:lnTo>
                <a:lnTo>
                  <a:pt x="274" y="10"/>
                </a:lnTo>
                <a:lnTo>
                  <a:pt x="29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5113440"/>
            <a:ext cx="990720" cy="463320"/>
          </a:xfrm>
          <a:custGeom>
            <a:avLst/>
            <a:gdLst/>
            <a:ahLst/>
            <a:rect l="l" t="t" r="r" b="b"/>
            <a:pathLst>
              <a:path w="655" h="292">
                <a:moveTo>
                  <a:pt x="0" y="291"/>
                </a:moveTo>
                <a:lnTo>
                  <a:pt x="654" y="291"/>
                </a:lnTo>
                <a:lnTo>
                  <a:pt x="654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5122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5351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5113440"/>
            <a:ext cx="609840" cy="457200"/>
          </a:xfrm>
          <a:custGeom>
            <a:avLst/>
            <a:gdLst/>
            <a:ahLst/>
            <a:rect l="l" t="t" r="r" b="b"/>
            <a:pathLst>
              <a:path w="288" h="292">
                <a:moveTo>
                  <a:pt x="0" y="291"/>
                </a:moveTo>
                <a:lnTo>
                  <a:pt x="287" y="291"/>
                </a:lnTo>
                <a:lnTo>
                  <a:pt x="287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5113440"/>
            <a:ext cx="761760" cy="457200"/>
          </a:xfrm>
          <a:custGeom>
            <a:avLst/>
            <a:gdLst/>
            <a:ahLst/>
            <a:rect l="l" t="t" r="r" b="b"/>
            <a:pathLst>
              <a:path w="653" h="292">
                <a:moveTo>
                  <a:pt x="0" y="291"/>
                </a:moveTo>
                <a:lnTo>
                  <a:pt x="652" y="291"/>
                </a:lnTo>
                <a:lnTo>
                  <a:pt x="652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5105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5351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008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57600" y="5334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5342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67480" y="5334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00800" y="53420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51134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67480" y="3513240"/>
            <a:ext cx="0" cy="4572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576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3970440"/>
            <a:ext cx="1939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4852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144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4832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08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152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697B-A40A-4BCB-8FC5-B52D35AE4E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-and-Whisker Plo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4028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Box-and-Whisker plot for the following data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2     2      2     3     3     4     5     5    10   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ata is very right skewed, as the plot dep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914400" y="3657600"/>
          <a:ext cx="70866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657600"/>
                    <a:ext cx="708660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1600200" y="5029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2  3   5                                                            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819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n          Q1                    Q2                    Q3         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8108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148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20120" y="3200400"/>
            <a:ext cx="60948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3744-A7D0-4FC8-A434-304B3791BAF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4382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sures 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86200"/>
            <a:ext cx="427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23623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6880" y="236232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4280" y="2057400"/>
            <a:ext cx="0" cy="77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2362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1676520"/>
            <a:ext cx="175248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81080" y="2666880"/>
            <a:ext cx="1371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26686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9440" y="2668680"/>
            <a:ext cx="190368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886200"/>
            <a:ext cx="3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350532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38280" y="4952880"/>
            <a:ext cx="238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6880" y="457200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065400"/>
            <a:ext cx="0" cy="18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4952880"/>
            <a:ext cx="41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76920" y="3429000"/>
            <a:ext cx="16002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2880" y="4648320"/>
            <a:ext cx="15210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2362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2666880"/>
            <a:ext cx="12160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3505320"/>
            <a:ext cx="1749600" cy="6742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quart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A328-0578-478B-9D04-4805817E50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variation give information on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var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ta valu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5410080"/>
            <a:ext cx="2362320" cy="70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ame cen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ifferent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199E-647E-4598-8888-2505ADC02BA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st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between the largest and the smallest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124080"/>
            <a:ext cx="5105520" cy="147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49560" y="5029200"/>
            <a:ext cx="33559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95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38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43434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49960" y="5029200"/>
            <a:ext cx="12985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722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530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5105520"/>
            <a:ext cx="5648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62320" y="5791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3623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66294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= 14 - 1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81080" y="5105520"/>
            <a:ext cx="4953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6654-9E47-40E5-99EE-E04D1C5D91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s the way in which data are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e t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60640" y="259092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09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2984400"/>
            <a:ext cx="2752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51520" y="259560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1020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634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77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392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7080" y="22906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77080" y="215100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86520" y="2836800"/>
            <a:ext cx="238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2984400"/>
            <a:ext cx="28958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259092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33880" y="259560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advantages of the 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4267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52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4724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5 - 1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5867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0 - 1 = 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120" y="2133720"/>
            <a:ext cx="7772400" cy="1447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267080"/>
            <a:ext cx="7772400" cy="2133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3E03F-3DD1-47A4-A0D0-497A200094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quartile 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eliminate some outlier problems by using the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nterquartile range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iminate some high-and low-valued observations and calculate the range from the remaining valu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quartile range =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 – 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4E3B-EA4C-4E8C-9FD8-7F5D61C78FA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erquartile Rang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429000" y="4800600"/>
            <a:ext cx="2514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17840" y="3357720"/>
            <a:ext cx="2516400" cy="528480"/>
          </a:xfrm>
          <a:custGeom>
            <a:avLst/>
            <a:gdLst/>
            <a:ahLst/>
            <a:rect l="l" t="t" r="r" b="b"/>
            <a:pathLst>
              <a:path w="1585" h="318">
                <a:moveTo>
                  <a:pt x="0" y="317"/>
                </a:moveTo>
                <a:lnTo>
                  <a:pt x="1584" y="317"/>
                </a:lnTo>
                <a:lnTo>
                  <a:pt x="1584" y="0"/>
                </a:lnTo>
                <a:lnTo>
                  <a:pt x="0" y="0"/>
                </a:lnTo>
                <a:lnTo>
                  <a:pt x="0" y="31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876920" y="3352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68520" y="2514600"/>
            <a:ext cx="1179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43600" y="36576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3657600"/>
            <a:ext cx="1752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7086600" y="32763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676520" y="335268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2590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08480" y="2819520"/>
            <a:ext cx="128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969320" y="303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266688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3160" y="2895480"/>
            <a:ext cx="121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04960" y="313704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04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63832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69560" y="2057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03920" y="335268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25%               25%         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39640" y="3936960"/>
            <a:ext cx="58744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                    30                 45           57           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9436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4290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52680" y="4952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quartile 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57 – 30 =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F259-A28B-4F08-90D5-B76857C8E1F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f squared deviations of values 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arianc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724280" y="4800600"/>
                <a:ext cx="27813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724280" y="2666880"/>
                <a:ext cx="274824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-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E211-BCAE-47D4-AB86-E3C488E640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 Dev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us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variation about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same units as the orig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5791320" y="5105520"/>
                <a:ext cx="24271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791320" y="3352680"/>
                <a:ext cx="23986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0384B-C056-488F-BB4E-0B2A7134E1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Top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Center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, median, mode, geometric mean, mid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mean, percentiles,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, interquartile range, variance and standard deviation, coefficient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372A-3323-433D-9EC2-70A1461D45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743200" y="5791320"/>
            <a:ext cx="1143000" cy="457200"/>
          </a:xfrm>
          <a:prstGeom prst="rect">
            <a:avLst/>
          </a:prstGeom>
          <a:solidFill>
            <a:srgbClr val="e5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09680" y="1981080"/>
            <a:ext cx="57150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alculation Example: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ample Standard Dev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1676520"/>
            <a:ext cx="83059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: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    12     14     15    17    18    18  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90920" y="2666880"/>
            <a:ext cx="4724280" cy="41796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8            Mean = x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69880" y="3295800"/>
                <a:ext cx="8082000" cy="31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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/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6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5562720" y="2743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B874-9073-4B3E-B6D8-2D14E66A3C1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Standard Devia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4503600" y="3308400"/>
          <a:ext cx="43020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3308400"/>
                    <a:ext cx="4302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6934320" y="2162160"/>
            <a:ext cx="1981080" cy="9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79360" y="266688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81000" y="2654280"/>
            <a:ext cx="55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6200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955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2868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529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52920" y="2209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101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64328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120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81000" y="4102200"/>
            <a:ext cx="549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63800" y="3354480"/>
            <a:ext cx="129204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63800" y="1830240"/>
            <a:ext cx="12920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55600" y="411480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940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5292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19400" y="3657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52920" y="3657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19400" y="3429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52920" y="3429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6220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012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39000" y="3657600"/>
            <a:ext cx="1976400" cy="8582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81000" y="5638680"/>
            <a:ext cx="572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55600" y="563868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62000" y="5181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2000" y="49528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340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34000" y="5181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34000" y="49528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9552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768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9000" y="5181480"/>
            <a:ext cx="1976400" cy="78480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1000" y="4802040"/>
            <a:ext cx="129204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07F7A-9086-46C8-B067-E0D7C1AA05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efficient 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ve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in percentage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riation relative to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to compare two or more sets of data measured in different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164200" y="5105520"/>
                <a:ext cx="3538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725400" y="5135400"/>
                <a:ext cx="35067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1447920" y="4572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C8876-8697-41B6-9E65-4E98169D8C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Coefficient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B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2920" y="3505320"/>
            <a:ext cx="1828800" cy="2014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stocks have the same standard deviation, but stock B is less variable relative to its 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8520" y="3048120"/>
            <a:ext cx="76176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24480" y="5410080"/>
            <a:ext cx="7621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752480" y="2895480"/>
                <a:ext cx="5257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5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752480" y="5257800"/>
                <a:ext cx="5257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1C1C-3A6E-4AB1-8760-E959E1428A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f the data distribution is bell-shaped, then the inter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6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311120" y="2819520"/>
                <a:ext cx="1212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4572000" y="3906720"/>
            <a:ext cx="847800" cy="1503360"/>
          </a:xfrm>
          <a:custGeom>
            <a:avLst/>
            <a:gdLst/>
            <a:ahLst/>
            <a:rect l="l" t="t" r="r" b="b"/>
            <a:pathLst>
              <a:path w="534" h="947">
                <a:moveTo>
                  <a:pt x="0" y="0"/>
                </a:moveTo>
                <a:lnTo>
                  <a:pt x="120" y="23"/>
                </a:lnTo>
                <a:lnTo>
                  <a:pt x="240" y="131"/>
                </a:lnTo>
                <a:lnTo>
                  <a:pt x="330" y="203"/>
                </a:lnTo>
                <a:lnTo>
                  <a:pt x="414" y="317"/>
                </a:lnTo>
                <a:lnTo>
                  <a:pt x="504" y="443"/>
                </a:lnTo>
                <a:lnTo>
                  <a:pt x="534" y="469"/>
                </a:lnTo>
                <a:lnTo>
                  <a:pt x="534" y="947"/>
                </a:lnTo>
                <a:lnTo>
                  <a:pt x="0" y="947"/>
                </a:lnTo>
                <a:lnTo>
                  <a:pt x="0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743280" y="3913200"/>
            <a:ext cx="838080" cy="1496880"/>
          </a:xfrm>
          <a:custGeom>
            <a:avLst/>
            <a:gdLst/>
            <a:ahLst/>
            <a:rect l="l" t="t" r="r" b="b"/>
            <a:pathLst>
              <a:path w="528" h="1338">
                <a:moveTo>
                  <a:pt x="456" y="18"/>
                </a:moveTo>
                <a:lnTo>
                  <a:pt x="385" y="66"/>
                </a:lnTo>
                <a:lnTo>
                  <a:pt x="262" y="214"/>
                </a:lnTo>
                <a:lnTo>
                  <a:pt x="197" y="293"/>
                </a:lnTo>
                <a:lnTo>
                  <a:pt x="102" y="474"/>
                </a:lnTo>
                <a:lnTo>
                  <a:pt x="36" y="588"/>
                </a:lnTo>
                <a:lnTo>
                  <a:pt x="0" y="654"/>
                </a:lnTo>
                <a:lnTo>
                  <a:pt x="0" y="1338"/>
                </a:lnTo>
                <a:lnTo>
                  <a:pt x="528" y="1332"/>
                </a:lnTo>
                <a:lnTo>
                  <a:pt x="528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14880" y="3643200"/>
            <a:ext cx="25092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86000" y="541008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4487760" y="5389560"/>
                <a:ext cx="274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80952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6095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911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0" y="3906720"/>
            <a:ext cx="1440" cy="1503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4105440" y="5894280"/>
                <a:ext cx="933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2362320" y="3886200"/>
            <a:ext cx="2232000" cy="14526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3886200"/>
            <a:ext cx="2227320" cy="14526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C75B-2CA8-476D-A379-FC911A77C6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859440" y="3797280"/>
            <a:ext cx="1513080" cy="1660680"/>
          </a:xfrm>
          <a:custGeom>
            <a:avLst/>
            <a:gdLst/>
            <a:ahLst/>
            <a:rect l="l" t="t" r="r" b="b"/>
            <a:pathLst>
              <a:path w="953" h="1046">
                <a:moveTo>
                  <a:pt x="0" y="1043"/>
                </a:moveTo>
                <a:lnTo>
                  <a:pt x="0" y="0"/>
                </a:lnTo>
                <a:lnTo>
                  <a:pt x="96" y="38"/>
                </a:lnTo>
                <a:lnTo>
                  <a:pt x="192" y="139"/>
                </a:lnTo>
                <a:lnTo>
                  <a:pt x="264" y="240"/>
                </a:lnTo>
                <a:lnTo>
                  <a:pt x="330" y="360"/>
                </a:lnTo>
                <a:lnTo>
                  <a:pt x="360" y="438"/>
                </a:lnTo>
                <a:lnTo>
                  <a:pt x="414" y="522"/>
                </a:lnTo>
                <a:lnTo>
                  <a:pt x="462" y="629"/>
                </a:lnTo>
                <a:lnTo>
                  <a:pt x="528" y="714"/>
                </a:lnTo>
                <a:lnTo>
                  <a:pt x="618" y="822"/>
                </a:lnTo>
                <a:lnTo>
                  <a:pt x="780" y="955"/>
                </a:lnTo>
                <a:lnTo>
                  <a:pt x="947" y="986"/>
                </a:lnTo>
                <a:lnTo>
                  <a:pt x="953" y="1046"/>
                </a:lnTo>
                <a:lnTo>
                  <a:pt x="0" y="1043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362320" y="3828960"/>
            <a:ext cx="1076040" cy="1638360"/>
          </a:xfrm>
          <a:custGeom>
            <a:avLst/>
            <a:gdLst/>
            <a:ahLst/>
            <a:rect l="l" t="t" r="r" b="b"/>
            <a:pathLst>
              <a:path w="678" h="1032">
                <a:moveTo>
                  <a:pt x="0" y="1032"/>
                </a:moveTo>
                <a:lnTo>
                  <a:pt x="0" y="0"/>
                </a:lnTo>
                <a:lnTo>
                  <a:pt x="96" y="36"/>
                </a:lnTo>
                <a:lnTo>
                  <a:pt x="210" y="156"/>
                </a:lnTo>
                <a:lnTo>
                  <a:pt x="282" y="288"/>
                </a:lnTo>
                <a:lnTo>
                  <a:pt x="366" y="432"/>
                </a:lnTo>
                <a:lnTo>
                  <a:pt x="420" y="540"/>
                </a:lnTo>
                <a:lnTo>
                  <a:pt x="474" y="624"/>
                </a:lnTo>
                <a:lnTo>
                  <a:pt x="528" y="720"/>
                </a:lnTo>
                <a:lnTo>
                  <a:pt x="568" y="780"/>
                </a:lnTo>
                <a:lnTo>
                  <a:pt x="647" y="852"/>
                </a:lnTo>
                <a:lnTo>
                  <a:pt x="678" y="870"/>
                </a:lnTo>
                <a:lnTo>
                  <a:pt x="678" y="1032"/>
                </a:lnTo>
                <a:lnTo>
                  <a:pt x="0" y="103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9.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249200" y="1676520"/>
                <a:ext cx="12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σ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235160" y="2590920"/>
                <a:ext cx="1245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5324400" y="3807000"/>
            <a:ext cx="1535040" cy="1670040"/>
          </a:xfrm>
          <a:custGeom>
            <a:avLst/>
            <a:gdLst/>
            <a:ahLst/>
            <a:rect l="l" t="t" r="r" b="b"/>
            <a:pathLst>
              <a:path w="967" h="1052">
                <a:moveTo>
                  <a:pt x="967" y="1038"/>
                </a:moveTo>
                <a:lnTo>
                  <a:pt x="967" y="0"/>
                </a:lnTo>
                <a:lnTo>
                  <a:pt x="871" y="78"/>
                </a:lnTo>
                <a:lnTo>
                  <a:pt x="775" y="174"/>
                </a:lnTo>
                <a:lnTo>
                  <a:pt x="709" y="312"/>
                </a:lnTo>
                <a:lnTo>
                  <a:pt x="631" y="462"/>
                </a:lnTo>
                <a:lnTo>
                  <a:pt x="583" y="558"/>
                </a:lnTo>
                <a:lnTo>
                  <a:pt x="505" y="642"/>
                </a:lnTo>
                <a:lnTo>
                  <a:pt x="439" y="750"/>
                </a:lnTo>
                <a:lnTo>
                  <a:pt x="343" y="858"/>
                </a:lnTo>
                <a:lnTo>
                  <a:pt x="187" y="954"/>
                </a:lnTo>
                <a:lnTo>
                  <a:pt x="0" y="992"/>
                </a:lnTo>
                <a:lnTo>
                  <a:pt x="6" y="1052"/>
                </a:lnTo>
                <a:lnTo>
                  <a:pt x="967" y="1038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94360" y="38098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57800" y="380988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40160" y="5465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95280" y="3828960"/>
            <a:ext cx="1067040" cy="1657440"/>
          </a:xfrm>
          <a:custGeom>
            <a:avLst/>
            <a:gdLst/>
            <a:ahLst/>
            <a:rect l="l" t="t" r="r" b="b"/>
            <a:pathLst>
              <a:path w="666" h="1044">
                <a:moveTo>
                  <a:pt x="666" y="1044"/>
                </a:moveTo>
                <a:lnTo>
                  <a:pt x="666" y="0"/>
                </a:lnTo>
                <a:lnTo>
                  <a:pt x="576" y="60"/>
                </a:lnTo>
                <a:lnTo>
                  <a:pt x="474" y="180"/>
                </a:lnTo>
                <a:lnTo>
                  <a:pt x="426" y="324"/>
                </a:lnTo>
                <a:lnTo>
                  <a:pt x="330" y="468"/>
                </a:lnTo>
                <a:lnTo>
                  <a:pt x="282" y="564"/>
                </a:lnTo>
                <a:lnTo>
                  <a:pt x="210" y="660"/>
                </a:lnTo>
                <a:lnTo>
                  <a:pt x="138" y="756"/>
                </a:lnTo>
                <a:lnTo>
                  <a:pt x="108" y="792"/>
                </a:lnTo>
                <a:lnTo>
                  <a:pt x="30" y="864"/>
                </a:lnTo>
                <a:lnTo>
                  <a:pt x="0" y="882"/>
                </a:lnTo>
                <a:lnTo>
                  <a:pt x="0" y="1044"/>
                </a:lnTo>
                <a:lnTo>
                  <a:pt x="666" y="1044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380988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97240" y="384192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46280" y="3841920"/>
            <a:ext cx="165240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3040" y="549756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9440" y="377820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6454800" y="5665680"/>
                <a:ext cx="9604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 flipV="1">
            <a:off x="533412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838188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333760" y="5867280"/>
            <a:ext cx="99036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543800" y="5867280"/>
            <a:ext cx="8380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008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4724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986120" y="5665680"/>
                <a:ext cx="960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2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 flipV="1">
            <a:off x="129528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42900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1317240" y="5867280"/>
            <a:ext cx="538200" cy="180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8120" y="5867280"/>
            <a:ext cx="3808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3191-57C1-4A12-82D4-A57FDF769C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2590920" y="4191120"/>
            <a:ext cx="5333760" cy="19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less of how the data are distributed, at leas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1 - 1/k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will fall withi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ard deviations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1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1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5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..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2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2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9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3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3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914400" y="304920"/>
            <a:ext cx="7721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chebysheff’s Theor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04400" y="41148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77800" y="4114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45720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A93B-B750-41C2-A9BA-35DBC7BFFF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andardized data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e number of standard deviations a value is from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data values are sometimes referred to a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z-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9907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Data Valu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E6DB-112F-4168-BF06-C6C209D3E0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Population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276720" y="1676520"/>
                <a:ext cx="21430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7876-F1DA-4A18-9FA4-4C38F86056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sample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Sample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3254400" y="1676520"/>
                <a:ext cx="21891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1828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A31A-C481-4A22-81D6-843D62EFD8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3840" y="23605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341960" y="2055960"/>
            <a:ext cx="0" cy="11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160" y="2665440"/>
            <a:ext cx="26654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and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3840" y="236052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8040" y="3351240"/>
            <a:ext cx="914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886200"/>
            <a:ext cx="1141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419720"/>
            <a:ext cx="91152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2666880"/>
            <a:ext cx="2209680" cy="698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4954680"/>
            <a:ext cx="2057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1752480"/>
            <a:ext cx="365580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ing Data Nume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08840" y="2360520"/>
            <a:ext cx="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2666880"/>
            <a:ext cx="14479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572000"/>
            <a:ext cx="129564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51814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5791320"/>
            <a:ext cx="182880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3352680"/>
            <a:ext cx="9907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65760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96252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3080" y="42688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EAF9-2034-4221-9EA6-F08643D4D3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Microsoft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Statistics are easy to obtain from Microsoft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600"/>
            </a:b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ools / data analysis / descriptive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details in dialog 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981F-D88F-4DE5-AB12-5B2C29E3C43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581720" cy="45435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4038480" cy="200016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4724280" y="5181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76920" y="1981080"/>
            <a:ext cx="40384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ols / data analysis / descriptive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B4EE-E4B6-4DA6-AF0F-9F049B95477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80520" y="3123720"/>
            <a:ext cx="304812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dialog box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box for summary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5200560" cy="36576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 flipV="1">
            <a:off x="3048120" y="2819160"/>
            <a:ext cx="342900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048120" y="3352680"/>
            <a:ext cx="2057400" cy="1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276720" y="4572000"/>
            <a:ext cx="1828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EC7D6-416F-414F-BA88-20344987834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254880" y="1780920"/>
            <a:ext cx="3993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icrosoft Exc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scriptive statistics outpu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using the house pric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43000" y="3200400"/>
            <a:ext cx="2057400" cy="2533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836880" cy="43434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5029200" y="2514600"/>
            <a:ext cx="6858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29200" y="30481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029200" y="32767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029200" y="3505320"/>
            <a:ext cx="167652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29200" y="3733920"/>
            <a:ext cx="16002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29200" y="449568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B12E-3BC9-4272-B786-C75A681A66D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center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, median, mode, geometric mean, mid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percentiles and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, interquartile range, vari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, coefficient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ox and Whisker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5473-1A3A-4EAC-8243-59E6ADCEA96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distribution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, sk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chebysheff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standardized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E0D3-27D5-43C2-BB86-EEA291CADD3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43400" y="2209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15080" y="2819520"/>
            <a:ext cx="50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sures of Center and Loc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1828800"/>
            <a:ext cx="320040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enter and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81952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6200" y="3278160"/>
            <a:ext cx="13701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19360" y="3278160"/>
            <a:ext cx="1292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3276720"/>
            <a:ext cx="12189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3276720"/>
            <a:ext cx="206208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312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428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2740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66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41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03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323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84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7512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03696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411480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370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476244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929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73600" y="396252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73600" y="411480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06440" y="3962520"/>
                <a:ext cx="128412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477120" y="4038480"/>
                <a:ext cx="21812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58128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515D-4A54-4153-BC85-34EDECE82D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rithmetic average of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5909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Sampl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5720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Population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962160" y="2743200"/>
            <a:ext cx="99036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4800600"/>
            <a:ext cx="91440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819520" y="2819520"/>
                <a:ext cx="46479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940120" y="4830840"/>
                <a:ext cx="468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A1C7-1962-469F-BF4A-4F4A7F22D5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common measure of central t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sum of values divided by the number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ed by extreme values (out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590544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34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360" y="37987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125748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800600"/>
            <a:ext cx="15238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468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80988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4800600"/>
            <a:ext cx="15242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838080" y="5410080"/>
                <a:ext cx="3022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276880" y="5410080"/>
                <a:ext cx="3187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D662A-D91D-4ED3-8DA9-55C2879FE3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dia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rdered array, the median is the “middle”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or N is odd, the median is the middl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or N is even, the median is the average of the two midd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5524200" y="3085920"/>
            <a:ext cx="609840" cy="228600"/>
          </a:xfrm>
          <a:prstGeom prst="rightArrow">
            <a:avLst>
              <a:gd name="adj1" fmla="val 50000"/>
              <a:gd name="adj2" fmla="val 6718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7120" y="266688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040" y="257976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43828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1180800" y="3085920"/>
            <a:ext cx="609840" cy="228600"/>
          </a:xfrm>
          <a:prstGeom prst="rightArrow">
            <a:avLst>
              <a:gd name="adj1" fmla="val 50000"/>
              <a:gd name="adj2" fmla="val 6718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58128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70520" y="266688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25909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243828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58128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08321-4F7D-4D2C-B877-C49300483E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o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asure of central t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at occur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either numerical or catego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may be no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be several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8240" y="5576760"/>
            <a:ext cx="3354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2200" y="5570640"/>
            <a:ext cx="55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3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12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46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55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46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89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89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4876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6019920"/>
            <a:ext cx="144756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701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1913760" y="6010920"/>
            <a:ext cx="533520" cy="246240"/>
          </a:xfrm>
          <a:prstGeom prst="rightArrow">
            <a:avLst>
              <a:gd name="adj1" fmla="val 50000"/>
              <a:gd name="adj2" fmla="val 545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8640" y="5576760"/>
            <a:ext cx="129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32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32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94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703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5562720"/>
            <a:ext cx="1830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07080" y="5562720"/>
            <a:ext cx="253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3432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6124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6616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7072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6019920"/>
            <a:ext cx="14698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3C7F-3BA1-4B9F-82C4-70A4D66534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Gé Groenewegen</cp:lastModifiedBy>
  <cp:lastPrinted>1998-11-22T23:37:53Z</cp:lastPrinted>
  <dcterms:modified xsi:type="dcterms:W3CDTF">2005-03-20T08:30:22Z</dcterms:modified>
  <cp:revision>76</cp:revision>
  <dc:subject>Chapter 3</dc:subject>
  <dc:title>Groebner lecture notes for chapter 3</dc:title>
</cp:coreProperties>
</file>