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79014-56E3-493D-8AAA-D5C6DD86B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A16B7-589D-402B-9E85-27B0BB2E2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8CA0C-9ABC-42F9-95F9-90BE0CEEB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4FD0D-8E0A-47B7-99F0-F7259A394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524D3-F8A7-455F-896B-F3C40AAF61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D31C0-48F7-4F57-8750-F1B032CBDE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4119D-163D-4B2F-BA50-A63E49FB03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97EA9-A76E-40B5-BF7C-FF42B2114F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D2B74-B8A8-40B8-96AD-388CB5EE1B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78D4E-40C5-4B67-AC42-856D55D795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A9427-9397-42C3-A575-5695261483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77ABC-8988-40AD-A116-3ED9870C2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C82B1-B503-4E2F-B488-6AF7A8CC98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AABF4-10FD-4D3A-BFA9-6328F32B79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4C732-8133-4C24-BAFE-6B4947EF9C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92492-9130-4756-A193-A1075C3DF2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EC0DD-C9AB-449C-82A6-77D1893E39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44438-E467-4000-86B3-53931BB86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624D4-3A7F-43EC-90A6-1CBC675B8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97E03-3B47-4FD7-8E30-A8792C717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B45ED-7EC7-4DA9-8223-1F13987D8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ED4A3-728E-4BED-B373-D463746966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29E00-7DAD-4A3C-A431-D8D6F06D6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48930-3356-401A-9E84-63B48E804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3-</a:t>
            </a:r>
            <a:fld id="{520470C9-FF21-4BD8-A29D-FDCFED0EAA0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3-</a:t>
            </a:r>
            <a:fld id="{2BC0436A-464F-4987-B566-C978B80D73A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99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3200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scribing Data 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umerical Meas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A3DC4-846A-4980-9C0F-A3462CAC9B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Weighted Mea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hen values are grouped by frequency or relative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3809880"/>
          <a:ext cx="2743200" cy="2186280"/>
        </p:xfrm>
        <a:graphic>
          <a:graphicData uri="http://schemas.openxmlformats.org/drawingml/2006/table">
            <a:tbl>
              <a:tblPr/>
              <a:tblGrid>
                <a:gridCol w="1295280"/>
                <a:gridCol w="144792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s to Complet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380880" y="29718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ample of 26 Repair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91120" y="35053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ed Mean Days to Comple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3664080" y="4419720"/>
                <a:ext cx="5327640" cy="14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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×</m:t>
                            </m:r>
                            <m:r>
                              <m:t xml:space="preserve">6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8</m:t>
                            </m:r>
                            <m:r>
                              <m:t xml:space="preserve">×</m:t>
                            </m:r>
                            <m:r>
                              <m:t xml:space="preserve">7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8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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day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3200400" y="5257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01B91-0B93-41B3-9F6C-D69B2535D9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ve houses on a hill by the bea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167616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view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043080" y="2286000"/>
          <a:ext cx="6100920" cy="41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3080" y="2286000"/>
                    <a:ext cx="6100920" cy="41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533520" y="2743200"/>
            <a:ext cx="2286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use Prices: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$2,0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5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3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1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1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96080" y="4876920"/>
            <a:ext cx="1067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7620120" y="4876920"/>
            <a:ext cx="1092240" cy="1066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7238880" y="5867280"/>
            <a:ext cx="1676520" cy="7632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62920" y="5943600"/>
            <a:ext cx="1676160" cy="7632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86600" y="6019920"/>
            <a:ext cx="1676520" cy="7596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0" y="6172200"/>
            <a:ext cx="1676520" cy="7632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6248520"/>
            <a:ext cx="1676520" cy="7596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6324480"/>
            <a:ext cx="1676160" cy="7632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ACA2C-5CFA-49D1-BDAD-135F4B91634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7420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ummary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362320" y="21337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ean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($3,000,000/5)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$600,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edian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middle value of ranked data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    =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$300,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od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most frequent value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   =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$100,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320" y="1981080"/>
            <a:ext cx="2057400" cy="26920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use Prices: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$2,0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3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1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1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,0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B56B3-494E-46A7-9DE7-47C9BB025EE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676520" y="18288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ea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generally used, unless extreme values (outliers)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edia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ften used, since the median is not sensitive to extreme val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dian home prices may be reported for a region – less sensitive to out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Which measure of location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s the “best”?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B4171-F766-4A2F-9EF0-A1A88353B68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111480" y="3346560"/>
            <a:ext cx="2895480" cy="259704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4114800"/>
            <a:ext cx="0" cy="114300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83280" y="3346560"/>
            <a:ext cx="2895480" cy="2597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3340080"/>
            <a:ext cx="2895840" cy="2590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hape of a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619760" cy="1676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how data is distrib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ymme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k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45000" y="4111560"/>
            <a:ext cx="905040" cy="1071720"/>
          </a:xfrm>
          <a:custGeom>
            <a:avLst/>
            <a:gdLst/>
            <a:ahLst/>
            <a:rect l="l" t="t" r="r" b="b"/>
            <a:pathLst>
              <a:path w="570" h="675">
                <a:moveTo>
                  <a:pt x="569" y="674"/>
                </a:moveTo>
                <a:lnTo>
                  <a:pt x="508" y="667"/>
                </a:lnTo>
                <a:lnTo>
                  <a:pt x="478" y="659"/>
                </a:lnTo>
                <a:lnTo>
                  <a:pt x="449" y="648"/>
                </a:lnTo>
                <a:lnTo>
                  <a:pt x="419" y="633"/>
                </a:lnTo>
                <a:lnTo>
                  <a:pt x="389" y="612"/>
                </a:lnTo>
                <a:lnTo>
                  <a:pt x="358" y="583"/>
                </a:lnTo>
                <a:lnTo>
                  <a:pt x="300" y="506"/>
                </a:lnTo>
                <a:lnTo>
                  <a:pt x="239" y="396"/>
                </a:lnTo>
                <a:lnTo>
                  <a:pt x="178" y="263"/>
                </a:lnTo>
                <a:lnTo>
                  <a:pt x="150" y="197"/>
                </a:lnTo>
                <a:lnTo>
                  <a:pt x="120" y="133"/>
                </a:lnTo>
                <a:lnTo>
                  <a:pt x="89" y="78"/>
                </a:lnTo>
                <a:lnTo>
                  <a:pt x="59" y="36"/>
                </a:lnTo>
                <a:lnTo>
                  <a:pt x="29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43200" y="4111560"/>
            <a:ext cx="903240" cy="1071720"/>
          </a:xfrm>
          <a:custGeom>
            <a:avLst/>
            <a:gdLst/>
            <a:ahLst/>
            <a:rect l="l" t="t" r="r" b="b"/>
            <a:pathLst>
              <a:path w="569" h="675">
                <a:moveTo>
                  <a:pt x="0" y="674"/>
                </a:moveTo>
                <a:lnTo>
                  <a:pt x="59" y="667"/>
                </a:lnTo>
                <a:lnTo>
                  <a:pt x="89" y="659"/>
                </a:lnTo>
                <a:lnTo>
                  <a:pt x="120" y="648"/>
                </a:lnTo>
                <a:lnTo>
                  <a:pt x="150" y="633"/>
                </a:lnTo>
                <a:lnTo>
                  <a:pt x="178" y="612"/>
                </a:lnTo>
                <a:lnTo>
                  <a:pt x="209" y="583"/>
                </a:lnTo>
                <a:lnTo>
                  <a:pt x="269" y="506"/>
                </a:lnTo>
                <a:lnTo>
                  <a:pt x="328" y="396"/>
                </a:lnTo>
                <a:lnTo>
                  <a:pt x="389" y="263"/>
                </a:lnTo>
                <a:lnTo>
                  <a:pt x="419" y="197"/>
                </a:lnTo>
                <a:lnTo>
                  <a:pt x="449" y="133"/>
                </a:lnTo>
                <a:lnTo>
                  <a:pt x="478" y="78"/>
                </a:lnTo>
                <a:lnTo>
                  <a:pt x="508" y="36"/>
                </a:lnTo>
                <a:lnTo>
                  <a:pt x="538" y="10"/>
                </a:lnTo>
                <a:lnTo>
                  <a:pt x="568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5562720"/>
            <a:ext cx="2943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e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Medi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79720" y="431784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64280" y="46483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7960" y="5626080"/>
            <a:ext cx="2952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e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Medi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94000" y="47293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14880" y="5562720"/>
            <a:ext cx="3010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Mode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di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666280" y="46483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114800"/>
            <a:ext cx="0" cy="106668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91520" y="4191120"/>
            <a:ext cx="0" cy="99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4495680"/>
            <a:ext cx="0" cy="6858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4178160"/>
            <a:ext cx="0" cy="106704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52480" y="4483080"/>
            <a:ext cx="0" cy="762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4788000"/>
            <a:ext cx="0" cy="457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59400" y="4211640"/>
            <a:ext cx="4680" cy="87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57600" y="4489560"/>
            <a:ext cx="0" cy="5173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5257800"/>
            <a:ext cx="1770120" cy="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52840" y="529596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29400" y="5181480"/>
            <a:ext cx="1981080" cy="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539120" y="527220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5245200"/>
            <a:ext cx="1828800" cy="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33600" y="53593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2057400" y="5245200"/>
            <a:ext cx="457200" cy="457200"/>
          </a:xfrm>
          <a:prstGeom prst="line">
            <a:avLst/>
          </a:prstGeom>
          <a:ln w="1260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752480" y="5245200"/>
            <a:ext cx="0" cy="45720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838080" y="5245200"/>
            <a:ext cx="685800" cy="45720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705720" y="5181480"/>
            <a:ext cx="533160" cy="457200"/>
          </a:xfrm>
          <a:prstGeom prst="line">
            <a:avLst/>
          </a:prstGeom>
          <a:ln w="1260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391520" y="5181480"/>
            <a:ext cx="0" cy="45720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7619760" y="5181120"/>
            <a:ext cx="685800" cy="38124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79480" y="3416400"/>
            <a:ext cx="2530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-Ske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2560" y="3492360"/>
            <a:ext cx="2275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ft-Ske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57960" y="3429000"/>
            <a:ext cx="199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7080" y="6019920"/>
            <a:ext cx="2584800" cy="332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nger tail extends to lef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174360" y="6019920"/>
            <a:ext cx="2708280" cy="332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nger tail extends to righ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4129200"/>
            <a:ext cx="1981080" cy="1089000"/>
          </a:xfrm>
          <a:custGeom>
            <a:avLst/>
            <a:gdLst/>
            <a:ahLst/>
            <a:rect l="l" t="t" r="r" b="b"/>
            <a:pathLst>
              <a:path w="1248" h="686">
                <a:moveTo>
                  <a:pt x="0" y="668"/>
                </a:moveTo>
                <a:cubicBezTo>
                  <a:pt x="21" y="666"/>
                  <a:pt x="73" y="669"/>
                  <a:pt x="126" y="656"/>
                </a:cubicBezTo>
                <a:cubicBezTo>
                  <a:pt x="180" y="643"/>
                  <a:pt x="258" y="628"/>
                  <a:pt x="321" y="590"/>
                </a:cubicBezTo>
                <a:cubicBezTo>
                  <a:pt x="385" y="552"/>
                  <a:pt x="413" y="520"/>
                  <a:pt x="506" y="426"/>
                </a:cubicBezTo>
                <a:cubicBezTo>
                  <a:pt x="599" y="332"/>
                  <a:pt x="782" y="0"/>
                  <a:pt x="878" y="25"/>
                </a:cubicBezTo>
                <a:cubicBezTo>
                  <a:pt x="974" y="50"/>
                  <a:pt x="1022" y="472"/>
                  <a:pt x="1084" y="579"/>
                </a:cubicBezTo>
                <a:cubicBezTo>
                  <a:pt x="1146" y="686"/>
                  <a:pt x="1214" y="649"/>
                  <a:pt x="1248" y="667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29400" y="4059360"/>
            <a:ext cx="1981080" cy="1096920"/>
          </a:xfrm>
          <a:custGeom>
            <a:avLst/>
            <a:gdLst/>
            <a:ahLst/>
            <a:rect l="l" t="t" r="r" b="b"/>
            <a:pathLst>
              <a:path w="1248" h="691">
                <a:moveTo>
                  <a:pt x="1248" y="672"/>
                </a:moveTo>
                <a:cubicBezTo>
                  <a:pt x="1227" y="670"/>
                  <a:pt x="1175" y="673"/>
                  <a:pt x="1122" y="660"/>
                </a:cubicBezTo>
                <a:cubicBezTo>
                  <a:pt x="1068" y="647"/>
                  <a:pt x="990" y="632"/>
                  <a:pt x="927" y="594"/>
                </a:cubicBezTo>
                <a:cubicBezTo>
                  <a:pt x="863" y="556"/>
                  <a:pt x="833" y="525"/>
                  <a:pt x="742" y="430"/>
                </a:cubicBezTo>
                <a:cubicBezTo>
                  <a:pt x="651" y="335"/>
                  <a:pt x="476" y="0"/>
                  <a:pt x="380" y="25"/>
                </a:cubicBezTo>
                <a:cubicBezTo>
                  <a:pt x="284" y="50"/>
                  <a:pt x="227" y="475"/>
                  <a:pt x="164" y="583"/>
                </a:cubicBezTo>
                <a:cubicBezTo>
                  <a:pt x="101" y="691"/>
                  <a:pt x="34" y="653"/>
                  <a:pt x="0" y="67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572000" y="5257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28134-48A7-462F-B5DF-3DF6BD3A9C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343400" y="2209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24480" y="2666880"/>
            <a:ext cx="50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62320" y="2666880"/>
            <a:ext cx="396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62320" y="26668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Other Location Measur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1676520"/>
            <a:ext cx="2590920" cy="8204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Measures of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2895480"/>
            <a:ext cx="1600200" cy="393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67280" y="2895480"/>
            <a:ext cx="1371600" cy="393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r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3505320"/>
            <a:ext cx="403884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rtile = 2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cent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rtile =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cent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8480" indent="-216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me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rtile = 7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cent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80880" y="3505320"/>
            <a:ext cx="419112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centile in a data arr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% are less than or equal to this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0 – p)% are greater than or equal to this valu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re 0 ≤ p ≤ 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81B47-491D-45C7-889D-5A5997982C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ercenti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centile in an ordered array of n values is the value in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on, 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9480" y="43434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centile in an ordered array of 19 values is the value in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276720" y="2805120"/>
                <a:ext cx="27432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2133720" y="5257800"/>
                <a:ext cx="53337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1C9D1-537F-4C3C-8AD1-39E0FB818C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495680" y="5943600"/>
            <a:ext cx="1219320" cy="457200"/>
          </a:xfrm>
          <a:prstGeom prst="rect">
            <a:avLst/>
          </a:prstGeom>
          <a:solidFill>
            <a:srgbClr val="e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3400" y="4876920"/>
            <a:ext cx="2819520" cy="685800"/>
          </a:xfrm>
          <a:prstGeom prst="rect">
            <a:avLst/>
          </a:prstGeom>
          <a:solidFill>
            <a:srgbClr val="e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Quarti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467840" cy="95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rtiles split the ranked data into 4 equ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666880" y="2292480"/>
            <a:ext cx="1149480" cy="60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2292480"/>
            <a:ext cx="1143000" cy="6094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00600" y="2292480"/>
            <a:ext cx="1758960" cy="609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00800" y="2292480"/>
            <a:ext cx="1905120" cy="609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43200" y="2362320"/>
            <a:ext cx="92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9880" y="2362320"/>
            <a:ext cx="924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05520" y="2362320"/>
            <a:ext cx="92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81680" y="2362320"/>
            <a:ext cx="924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4114800"/>
            <a:ext cx="8310600" cy="820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e Data in Ordered Array:  11   12   13   16   16   17   18   21   2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6200000">
            <a:off x="3543120" y="3009240"/>
            <a:ext cx="228600" cy="152640"/>
          </a:xfrm>
          <a:prstGeom prst="rightArrow">
            <a:avLst>
              <a:gd name="adj1" fmla="val 50000"/>
              <a:gd name="adj2" fmla="val 37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657600"/>
            <a:ext cx="4647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Example: Find the first quarti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33520" y="4648320"/>
            <a:ext cx="8305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n = 9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1 = 25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percentile, so find the               </a:t>
            </a:r>
            <a:r>
              <a:rPr b="0" lang="en-US" sz="1900" spc="-1" strike="noStrike">
                <a:solidFill>
                  <a:srgbClr val="3333cc"/>
                </a:solidFill>
                <a:latin typeface="Arial"/>
              </a:rPr>
              <a:t>(9+1) = 2.5 posi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 use the value half way between the 2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values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    </a:t>
            </a: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Q1 = 12.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200000">
            <a:off x="4686120" y="3009240"/>
            <a:ext cx="228600" cy="152640"/>
          </a:xfrm>
          <a:prstGeom prst="rightArrow">
            <a:avLst>
              <a:gd name="adj1" fmla="val 50000"/>
              <a:gd name="adj2" fmla="val 37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6286320" y="3009240"/>
            <a:ext cx="228600" cy="152640"/>
          </a:xfrm>
          <a:prstGeom prst="rightArrow">
            <a:avLst>
              <a:gd name="adj1" fmla="val 50000"/>
              <a:gd name="adj2" fmla="val 37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44480" y="4876920"/>
            <a:ext cx="60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19720" y="52578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52680" y="320040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495680" y="320040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72200" y="32004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5257800" y="4571640"/>
            <a:ext cx="381240" cy="228600"/>
          </a:xfrm>
          <a:prstGeom prst="rightArrow">
            <a:avLst>
              <a:gd name="adj1" fmla="val 50000"/>
              <a:gd name="adj2" fmla="val 4200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D2868-AEEF-439C-A55A-3B3A5DA702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ox and Whisker Plo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aphical display of data using 5-number summa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522440" y="251460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inim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Q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Medi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Q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Max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40960" y="34290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66560" y="3809880"/>
          <a:ext cx="8610840" cy="28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809880"/>
                    <a:ext cx="8610840" cy="28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1076400" y="5334120"/>
          <a:ext cx="8067600" cy="67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6400" y="5334120"/>
                    <a:ext cx="806760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2279520" y="4267080"/>
            <a:ext cx="48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                    25%              25%           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47920" y="2514600"/>
            <a:ext cx="6248160" cy="457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FF67E-A07E-4A49-B60F-5F8586473F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Shape of Box and Whisker Plot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x and central line are centered between the endpoints if data is symmetric around the 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ox and Whisker plot can be shown in either vertical or horizontal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905120" y="2819520"/>
          <a:ext cx="541008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819520"/>
                    <a:ext cx="541008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ADEA6-88D9-4392-BBE7-279EB40A676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and interpret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an, media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set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ange, varianc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standard dev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know what these values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and interpret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ox and whiskers p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and explain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efficient of vari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30000"/>
              </a:lnSpc>
              <a:spcBef>
                <a:spcPts val="13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z s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umerical measures along with graphs, charts, and tables to describ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A8D59-54C8-476E-8172-D673FCDDF5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istribution Shape and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ox and Whisker Plo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6186600" y="1981080"/>
            <a:ext cx="27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-Ske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9440" y="1981080"/>
            <a:ext cx="2440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-Ske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579840" y="1981080"/>
            <a:ext cx="2101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05720" y="3360600"/>
            <a:ext cx="0" cy="609840"/>
          </a:xfrm>
          <a:prstGeom prst="line">
            <a:avLst/>
          </a:prstGeom>
          <a:ln w="255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934320" y="281952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48560" y="3808440"/>
            <a:ext cx="0" cy="14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09680" y="3056040"/>
            <a:ext cx="0" cy="91440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2979720"/>
            <a:ext cx="0" cy="990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95280" y="3733920"/>
            <a:ext cx="0" cy="228600"/>
          </a:xfrm>
          <a:prstGeom prst="line">
            <a:avLst/>
          </a:prstGeom>
          <a:ln w="255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95680" y="2751120"/>
            <a:ext cx="0" cy="1219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91120" y="3208320"/>
            <a:ext cx="0" cy="762120"/>
          </a:xfrm>
          <a:prstGeom prst="line">
            <a:avLst/>
          </a:prstGeom>
          <a:ln w="255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800600" y="3208320"/>
            <a:ext cx="0" cy="76212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2827440"/>
            <a:ext cx="461880" cy="1098360"/>
          </a:xfrm>
          <a:custGeom>
            <a:avLst/>
            <a:gdLst/>
            <a:ahLst/>
            <a:rect l="l" t="t" r="r" b="b"/>
            <a:pathLst>
              <a:path w="291" h="692">
                <a:moveTo>
                  <a:pt x="290" y="691"/>
                </a:moveTo>
                <a:lnTo>
                  <a:pt x="259" y="684"/>
                </a:lnTo>
                <a:lnTo>
                  <a:pt x="243" y="676"/>
                </a:lnTo>
                <a:lnTo>
                  <a:pt x="230" y="664"/>
                </a:lnTo>
                <a:lnTo>
                  <a:pt x="214" y="649"/>
                </a:lnTo>
                <a:lnTo>
                  <a:pt x="199" y="627"/>
                </a:lnTo>
                <a:lnTo>
                  <a:pt x="183" y="598"/>
                </a:lnTo>
                <a:lnTo>
                  <a:pt x="153" y="519"/>
                </a:lnTo>
                <a:lnTo>
                  <a:pt x="122" y="406"/>
                </a:lnTo>
                <a:lnTo>
                  <a:pt x="93" y="270"/>
                </a:lnTo>
                <a:lnTo>
                  <a:pt x="77" y="202"/>
                </a:lnTo>
                <a:lnTo>
                  <a:pt x="62" y="136"/>
                </a:lnTo>
                <a:lnTo>
                  <a:pt x="46" y="80"/>
                </a:lnTo>
                <a:lnTo>
                  <a:pt x="31" y="37"/>
                </a:lnTo>
                <a:lnTo>
                  <a:pt x="15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827440"/>
            <a:ext cx="1460520" cy="1098360"/>
          </a:xfrm>
          <a:custGeom>
            <a:avLst/>
            <a:gdLst/>
            <a:ahLst/>
            <a:rect l="l" t="t" r="r" b="b"/>
            <a:pathLst>
              <a:path w="872" h="692">
                <a:moveTo>
                  <a:pt x="0" y="691"/>
                </a:moveTo>
                <a:lnTo>
                  <a:pt x="93" y="684"/>
                </a:lnTo>
                <a:lnTo>
                  <a:pt x="138" y="676"/>
                </a:lnTo>
                <a:lnTo>
                  <a:pt x="184" y="664"/>
                </a:lnTo>
                <a:lnTo>
                  <a:pt x="230" y="649"/>
                </a:lnTo>
                <a:lnTo>
                  <a:pt x="275" y="627"/>
                </a:lnTo>
                <a:lnTo>
                  <a:pt x="321" y="598"/>
                </a:lnTo>
                <a:lnTo>
                  <a:pt x="412" y="519"/>
                </a:lnTo>
                <a:lnTo>
                  <a:pt x="505" y="406"/>
                </a:lnTo>
                <a:lnTo>
                  <a:pt x="596" y="270"/>
                </a:lnTo>
                <a:lnTo>
                  <a:pt x="642" y="202"/>
                </a:lnTo>
                <a:lnTo>
                  <a:pt x="689" y="136"/>
                </a:lnTo>
                <a:lnTo>
                  <a:pt x="733" y="80"/>
                </a:lnTo>
                <a:lnTo>
                  <a:pt x="780" y="37"/>
                </a:lnTo>
                <a:lnTo>
                  <a:pt x="826" y="10"/>
                </a:lnTo>
                <a:lnTo>
                  <a:pt x="871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95680" y="2751120"/>
            <a:ext cx="914400" cy="1143000"/>
          </a:xfrm>
          <a:custGeom>
            <a:avLst/>
            <a:gdLst/>
            <a:ahLst/>
            <a:rect l="l" t="t" r="r" b="b"/>
            <a:pathLst>
              <a:path w="399" h="692">
                <a:moveTo>
                  <a:pt x="398" y="691"/>
                </a:moveTo>
                <a:lnTo>
                  <a:pt x="356" y="684"/>
                </a:lnTo>
                <a:lnTo>
                  <a:pt x="335" y="676"/>
                </a:lnTo>
                <a:lnTo>
                  <a:pt x="315" y="664"/>
                </a:lnTo>
                <a:lnTo>
                  <a:pt x="294" y="649"/>
                </a:lnTo>
                <a:lnTo>
                  <a:pt x="273" y="627"/>
                </a:lnTo>
                <a:lnTo>
                  <a:pt x="251" y="598"/>
                </a:lnTo>
                <a:lnTo>
                  <a:pt x="209" y="519"/>
                </a:lnTo>
                <a:lnTo>
                  <a:pt x="168" y="406"/>
                </a:lnTo>
                <a:lnTo>
                  <a:pt x="126" y="270"/>
                </a:lnTo>
                <a:lnTo>
                  <a:pt x="104" y="202"/>
                </a:lnTo>
                <a:lnTo>
                  <a:pt x="83" y="136"/>
                </a:lnTo>
                <a:lnTo>
                  <a:pt x="62" y="80"/>
                </a:lnTo>
                <a:lnTo>
                  <a:pt x="41" y="37"/>
                </a:lnTo>
                <a:lnTo>
                  <a:pt x="21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81280" y="2751120"/>
            <a:ext cx="892440" cy="1143000"/>
          </a:xfrm>
          <a:custGeom>
            <a:avLst/>
            <a:gdLst/>
            <a:ahLst/>
            <a:rect l="l" t="t" r="r" b="b"/>
            <a:pathLst>
              <a:path w="401" h="692">
                <a:moveTo>
                  <a:pt x="0" y="691"/>
                </a:moveTo>
                <a:lnTo>
                  <a:pt x="42" y="684"/>
                </a:lnTo>
                <a:lnTo>
                  <a:pt x="63" y="676"/>
                </a:lnTo>
                <a:lnTo>
                  <a:pt x="85" y="664"/>
                </a:lnTo>
                <a:lnTo>
                  <a:pt x="106" y="649"/>
                </a:lnTo>
                <a:lnTo>
                  <a:pt x="127" y="627"/>
                </a:lnTo>
                <a:lnTo>
                  <a:pt x="147" y="598"/>
                </a:lnTo>
                <a:lnTo>
                  <a:pt x="189" y="519"/>
                </a:lnTo>
                <a:lnTo>
                  <a:pt x="232" y="406"/>
                </a:lnTo>
                <a:lnTo>
                  <a:pt x="274" y="270"/>
                </a:lnTo>
                <a:lnTo>
                  <a:pt x="294" y="202"/>
                </a:lnTo>
                <a:lnTo>
                  <a:pt x="315" y="136"/>
                </a:lnTo>
                <a:lnTo>
                  <a:pt x="336" y="80"/>
                </a:lnTo>
                <a:lnTo>
                  <a:pt x="357" y="37"/>
                </a:lnTo>
                <a:lnTo>
                  <a:pt x="379" y="10"/>
                </a:lnTo>
                <a:lnTo>
                  <a:pt x="40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3970440"/>
            <a:ext cx="20574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43600" y="2797200"/>
            <a:ext cx="1462320" cy="1098360"/>
          </a:xfrm>
          <a:custGeom>
            <a:avLst/>
            <a:gdLst/>
            <a:ahLst/>
            <a:rect l="l" t="t" r="r" b="b"/>
            <a:pathLst>
              <a:path w="871" h="692">
                <a:moveTo>
                  <a:pt x="870" y="691"/>
                </a:moveTo>
                <a:lnTo>
                  <a:pt x="777" y="684"/>
                </a:lnTo>
                <a:lnTo>
                  <a:pt x="733" y="676"/>
                </a:lnTo>
                <a:lnTo>
                  <a:pt x="686" y="664"/>
                </a:lnTo>
                <a:lnTo>
                  <a:pt x="640" y="649"/>
                </a:lnTo>
                <a:lnTo>
                  <a:pt x="596" y="627"/>
                </a:lnTo>
                <a:lnTo>
                  <a:pt x="549" y="598"/>
                </a:lnTo>
                <a:lnTo>
                  <a:pt x="456" y="519"/>
                </a:lnTo>
                <a:lnTo>
                  <a:pt x="365" y="406"/>
                </a:lnTo>
                <a:lnTo>
                  <a:pt x="274" y="270"/>
                </a:lnTo>
                <a:lnTo>
                  <a:pt x="228" y="202"/>
                </a:lnTo>
                <a:lnTo>
                  <a:pt x="182" y="136"/>
                </a:lnTo>
                <a:lnTo>
                  <a:pt x="137" y="80"/>
                </a:lnTo>
                <a:lnTo>
                  <a:pt x="91" y="37"/>
                </a:lnTo>
                <a:lnTo>
                  <a:pt x="44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83160" y="2797200"/>
            <a:ext cx="462240" cy="1098360"/>
          </a:xfrm>
          <a:custGeom>
            <a:avLst/>
            <a:gdLst/>
            <a:ahLst/>
            <a:rect l="l" t="t" r="r" b="b"/>
            <a:pathLst>
              <a:path w="291" h="692">
                <a:moveTo>
                  <a:pt x="0" y="691"/>
                </a:moveTo>
                <a:lnTo>
                  <a:pt x="29" y="684"/>
                </a:lnTo>
                <a:lnTo>
                  <a:pt x="44" y="676"/>
                </a:lnTo>
                <a:lnTo>
                  <a:pt x="60" y="664"/>
                </a:lnTo>
                <a:lnTo>
                  <a:pt x="75" y="649"/>
                </a:lnTo>
                <a:lnTo>
                  <a:pt x="90" y="627"/>
                </a:lnTo>
                <a:lnTo>
                  <a:pt x="106" y="598"/>
                </a:lnTo>
                <a:lnTo>
                  <a:pt x="137" y="519"/>
                </a:lnTo>
                <a:lnTo>
                  <a:pt x="168" y="406"/>
                </a:lnTo>
                <a:lnTo>
                  <a:pt x="197" y="270"/>
                </a:lnTo>
                <a:lnTo>
                  <a:pt x="212" y="202"/>
                </a:lnTo>
                <a:lnTo>
                  <a:pt x="228" y="136"/>
                </a:lnTo>
                <a:lnTo>
                  <a:pt x="243" y="80"/>
                </a:lnTo>
                <a:lnTo>
                  <a:pt x="259" y="37"/>
                </a:lnTo>
                <a:lnTo>
                  <a:pt x="274" y="10"/>
                </a:lnTo>
                <a:lnTo>
                  <a:pt x="29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95280" y="5113440"/>
            <a:ext cx="990720" cy="463320"/>
          </a:xfrm>
          <a:custGeom>
            <a:avLst/>
            <a:gdLst/>
            <a:ahLst/>
            <a:rect l="l" t="t" r="r" b="b"/>
            <a:pathLst>
              <a:path w="655" h="292">
                <a:moveTo>
                  <a:pt x="0" y="291"/>
                </a:moveTo>
                <a:lnTo>
                  <a:pt x="654" y="291"/>
                </a:lnTo>
                <a:lnTo>
                  <a:pt x="654" y="0"/>
                </a:lnTo>
                <a:lnTo>
                  <a:pt x="0" y="0"/>
                </a:lnTo>
                <a:lnTo>
                  <a:pt x="0" y="29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981080" y="5122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0" y="5351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67080" y="5113440"/>
            <a:ext cx="609840" cy="457200"/>
          </a:xfrm>
          <a:custGeom>
            <a:avLst/>
            <a:gdLst/>
            <a:ahLst/>
            <a:rect l="l" t="t" r="r" b="b"/>
            <a:pathLst>
              <a:path w="288" h="292">
                <a:moveTo>
                  <a:pt x="0" y="291"/>
                </a:moveTo>
                <a:lnTo>
                  <a:pt x="287" y="291"/>
                </a:lnTo>
                <a:lnTo>
                  <a:pt x="287" y="0"/>
                </a:lnTo>
                <a:lnTo>
                  <a:pt x="0" y="0"/>
                </a:lnTo>
                <a:lnTo>
                  <a:pt x="0" y="29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5113440"/>
            <a:ext cx="761760" cy="457200"/>
          </a:xfrm>
          <a:custGeom>
            <a:avLst/>
            <a:gdLst/>
            <a:ahLst/>
            <a:rect l="l" t="t" r="r" b="b"/>
            <a:pathLst>
              <a:path w="653" h="292">
                <a:moveTo>
                  <a:pt x="0" y="291"/>
                </a:moveTo>
                <a:lnTo>
                  <a:pt x="652" y="291"/>
                </a:lnTo>
                <a:lnTo>
                  <a:pt x="652" y="0"/>
                </a:lnTo>
                <a:lnTo>
                  <a:pt x="0" y="0"/>
                </a:lnTo>
                <a:lnTo>
                  <a:pt x="0" y="29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4320" y="5105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53514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00800" y="5189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57600" y="5334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6920" y="534204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467480" y="5334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00800" y="534204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511344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467480" y="3513240"/>
            <a:ext cx="0" cy="45720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05920" y="5189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86400" y="5189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657600" y="5189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90920" y="5199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5199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05320" y="3970440"/>
            <a:ext cx="19396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248520" y="3970440"/>
            <a:ext cx="20574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14400" y="4199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Q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00200" y="4199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81080" y="419904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Q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86200" y="4199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Q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419904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648320" y="4199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Q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00800" y="412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Q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58000" y="412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315200" y="412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Q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4DD8C-B414-4DDC-ABAC-DC5993C796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ox-and-Whisker Plo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458200" cy="4028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ow is a Box-and-Whisker plot for the following data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  2     2      2     3     3     4     5     5    10   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ata is very right skewed, as the plot dep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914400" y="3657600"/>
          <a:ext cx="7086600" cy="23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657600"/>
                    <a:ext cx="708660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1600200" y="50292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   2  3   5                                                             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2819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in          Q1                    Q2                    Q3         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3200400"/>
            <a:ext cx="53352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981080" y="3200400"/>
            <a:ext cx="53352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114800" y="3200400"/>
            <a:ext cx="53352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172200" y="3200400"/>
            <a:ext cx="53352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20120" y="3200400"/>
            <a:ext cx="60948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E4678-77FF-496E-B4EB-25786161645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4382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easures of Vari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3886200"/>
            <a:ext cx="427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2362320"/>
            <a:ext cx="708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66880" y="2362320"/>
            <a:ext cx="0" cy="399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724280" y="2057400"/>
            <a:ext cx="0" cy="77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2362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6200" y="1676520"/>
            <a:ext cx="1752480" cy="45468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81080" y="2666880"/>
            <a:ext cx="137160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2668680"/>
            <a:ext cx="251460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 Dev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9440" y="2668680"/>
            <a:ext cx="1903680" cy="69876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efficient of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0" y="3886200"/>
            <a:ext cx="32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666880" y="3505320"/>
            <a:ext cx="1524240" cy="613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438280" y="4952880"/>
            <a:ext cx="238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666880" y="4572000"/>
            <a:ext cx="1524240" cy="613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0" y="3065400"/>
            <a:ext cx="0" cy="188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4952880"/>
            <a:ext cx="41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76920" y="3429000"/>
            <a:ext cx="1600200" cy="924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v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52880" y="4648320"/>
            <a:ext cx="1521000" cy="924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v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85800" y="2362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2666880"/>
            <a:ext cx="121608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8600" y="3505320"/>
            <a:ext cx="1749600" cy="67428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quart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85B84-28E5-45AE-889A-70B038C52E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990360" y="1752120"/>
            <a:ext cx="7086600" cy="4496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of variation give information on 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p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vari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data valu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3505320" y="2666880"/>
            <a:ext cx="4419360" cy="3314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Vari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9" name=""/>
          <p:cNvSpPr/>
          <p:nvPr/>
        </p:nvSpPr>
        <p:spPr>
          <a:xfrm>
            <a:off x="4724280" y="5410080"/>
            <a:ext cx="2362320" cy="70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Same cent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different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4BD41-6A83-4630-A291-EFAC5780EF5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ang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st measure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between the largest and the smallest observ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124080"/>
            <a:ext cx="5105520" cy="1476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im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in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49560" y="5029200"/>
            <a:ext cx="3355920" cy="14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860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9548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290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03848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429000" y="45720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0" y="45720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0" y="43434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349960" y="5029200"/>
            <a:ext cx="1298520" cy="14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50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15000" y="45720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722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55308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5105520"/>
            <a:ext cx="5648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  1   2   3   4   5   6   7   8   9   10   11   12   13   14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362320" y="57913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36232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662940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48120" y="5791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ge = 14 - 1 =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81080" y="5105520"/>
            <a:ext cx="4953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9480" y="41911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DE767-6FD0-43F6-826A-1FDF68E358D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s the way in which data are distrib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itive to out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160640" y="2590920"/>
            <a:ext cx="30495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19320" y="2438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09680" y="24382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438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43200" y="2438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24382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4382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143000" y="2590920"/>
            <a:ext cx="3057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     8      9     10     11    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219320" y="2984400"/>
            <a:ext cx="275256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= 12 - 7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051520" y="2595600"/>
            <a:ext cx="30495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29200" y="2590920"/>
            <a:ext cx="3057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     8      9     10     11    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10200" y="244332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634080" y="2443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777080" y="2443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43920" y="244332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77080" y="22906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777080" y="215100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86520" y="2836800"/>
            <a:ext cx="238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181480" y="2984400"/>
            <a:ext cx="289584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= 12 - 7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66680" y="2590920"/>
            <a:ext cx="312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33880" y="2595600"/>
            <a:ext cx="312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isadvantages of the Rang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533520" y="4267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1,1,1,1,1,1,1,1,1,1,2,2,2,2,2,2,2,2,3,3,3,3,4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3520" y="5410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1,1,1,1,1,1,1,1,1,1,2,2,2,2,2,2,2,2,3,3,3,3,4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76720" y="4724280"/>
            <a:ext cx="289548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= 5 - 1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5867280"/>
            <a:ext cx="289548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= 120 - 1 = 1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120" y="2133720"/>
            <a:ext cx="7772400" cy="1447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4267080"/>
            <a:ext cx="7772400" cy="21337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A8A2B-9D25-454C-8BEE-68B15018671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terquartile Rang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eliminate some outlier problems by using the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interquartile range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iminate some high-and low-valued observations and calculate the range from the remaining valu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rquartile range = 3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quartile – 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quart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A748D-2EEB-4572-9F68-DF7A64A931D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Interquartile Range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3429000" y="4800600"/>
            <a:ext cx="251460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417840" y="3357720"/>
            <a:ext cx="2516400" cy="528480"/>
          </a:xfrm>
          <a:custGeom>
            <a:avLst/>
            <a:gdLst/>
            <a:ahLst/>
            <a:rect l="l" t="t" r="r" b="b"/>
            <a:pathLst>
              <a:path w="1585" h="318">
                <a:moveTo>
                  <a:pt x="0" y="317"/>
                </a:moveTo>
                <a:lnTo>
                  <a:pt x="1584" y="317"/>
                </a:lnTo>
                <a:lnTo>
                  <a:pt x="1584" y="0"/>
                </a:lnTo>
                <a:lnTo>
                  <a:pt x="0" y="0"/>
                </a:lnTo>
                <a:lnTo>
                  <a:pt x="0" y="31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4876920" y="3352680"/>
            <a:ext cx="0" cy="533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268520" y="2514600"/>
            <a:ext cx="1179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43600" y="365760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76520" y="3657600"/>
            <a:ext cx="17524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7086600" y="3276360"/>
            <a:ext cx="0" cy="685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1676520" y="3352680"/>
            <a:ext cx="0" cy="609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781680" y="25909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008480" y="2819520"/>
            <a:ext cx="1284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969320" y="303840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95280" y="266688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523160" y="2895480"/>
            <a:ext cx="1213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04960" y="3137040"/>
            <a:ext cx="184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00040" y="274320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638320" y="274320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069560" y="20574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03920" y="3352680"/>
            <a:ext cx="46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                 25%               25%          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439640" y="3936960"/>
            <a:ext cx="58744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                    30                 45           57            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5943600" y="4343040"/>
            <a:ext cx="0" cy="6094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3429000" y="4343040"/>
            <a:ext cx="0" cy="6094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352680" y="49528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quartile r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= 57 – 30 =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49065-CAFE-4EB1-9B46-544F399A62D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of squared deviations of values from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aria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ari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Varianc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724280" y="4800600"/>
                <a:ext cx="278136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4724280" y="2666880"/>
                <a:ext cx="2748240" cy="15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-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D5B6F-44C9-4D03-846A-E3E3E2119EA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andard Devi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ly used measure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variation about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he same units as the origi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andard dev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andard dev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5791320" y="5105520"/>
                <a:ext cx="242712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5791320" y="3352680"/>
                <a:ext cx="239868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D0CEA-79BB-4BCC-AD56-DAA2F27FC9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Top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of Center and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lnSpc>
                <a:spcPct val="105000"/>
              </a:lnSpc>
              <a:spcBef>
                <a:spcPts val="12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, median, mode, geometric mean, mid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measures of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lnSpc>
                <a:spcPct val="105000"/>
              </a:lnSpc>
              <a:spcBef>
                <a:spcPts val="12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ed mean, percentiles, quar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lnSpc>
                <a:spcPct val="105000"/>
              </a:lnSpc>
              <a:spcBef>
                <a:spcPts val="12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, interquartile range, variance and standard deviation, coefficient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B1F28-C569-45A1-892A-21899BB4D3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2743200" y="5791320"/>
            <a:ext cx="1143000" cy="457200"/>
          </a:xfrm>
          <a:prstGeom prst="rect">
            <a:avLst/>
          </a:prstGeom>
          <a:solidFill>
            <a:srgbClr val="e5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209680" y="1981080"/>
            <a:ext cx="57150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609588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alculation Example: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Sample Standard Devi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380880" y="1676520"/>
            <a:ext cx="830592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 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: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0     12     14     15    17    18    18   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590920" y="2666880"/>
            <a:ext cx="4724280" cy="41796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8            Mean = x 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569880" y="3295800"/>
                <a:ext cx="8082000" cy="31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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⋯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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⋯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8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e>
                      <m:e/>
                      <m:e>
                        <m:r>
                          <m:t xml:space="preserve">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6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2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3" name=""/>
          <p:cNvSpPr/>
          <p:nvPr/>
        </p:nvSpPr>
        <p:spPr>
          <a:xfrm>
            <a:off x="5562720" y="27432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FC30D-862B-4CE8-8040-378460D3213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mparing Standard Devia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4503600" y="3308400"/>
          <a:ext cx="430200" cy="54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3600" y="3308400"/>
                    <a:ext cx="43020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6934320" y="2162160"/>
            <a:ext cx="1981080" cy="93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1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3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179360" y="2666880"/>
            <a:ext cx="518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81000" y="2654280"/>
            <a:ext cx="557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   12    13    14    15    16    17    18    19    20   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06200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9552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12868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65292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652920" y="22096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11012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64328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120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981000" y="4102200"/>
            <a:ext cx="549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   12    13    14    15    16    17    18    19    20   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63800" y="3354480"/>
            <a:ext cx="129204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63800" y="1830240"/>
            <a:ext cx="129204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155600" y="4114800"/>
            <a:ext cx="518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19400" y="3886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652920" y="3886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19400" y="36576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52920" y="36576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19400" y="34290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652920" y="34290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662200" y="3886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10120" y="3886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939000" y="3657600"/>
            <a:ext cx="1976400" cy="8582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1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92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981000" y="5638680"/>
            <a:ext cx="5724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   12    13    14    15    16    17    18    19    20   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155600" y="5638680"/>
            <a:ext cx="518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062000" y="54100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62000" y="51814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62000" y="49528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634000" y="54100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34000" y="51814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634000" y="49528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95520" y="54100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176800" y="54100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939000" y="5181480"/>
            <a:ext cx="1976400" cy="78480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1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521000" y="4802040"/>
            <a:ext cx="1292040" cy="45468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96447-931A-4687-9DB9-1049B655A93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efficient of Vari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lative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in percentage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ariation relative to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used to compare two or more sets of data measured in different un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5164200" y="5105520"/>
                <a:ext cx="35384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 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725400" y="5135400"/>
                <a:ext cx="350676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1447920" y="45720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B4530-4F09-4B04-9BAB-E42A0A81266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mparing Coefficient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of Vari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Stock 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erage price last year = $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andard deviation = $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5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Stock B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erage price last year = $10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andard deviation = $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162920" y="3505320"/>
            <a:ext cx="1828800" cy="2014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stocks have the same standard deviation, but stock B is less variable relative to its 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248520" y="3048120"/>
            <a:ext cx="76176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24480" y="5410080"/>
            <a:ext cx="7621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1752480" y="2895480"/>
                <a:ext cx="52578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 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$5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1752480" y="5257800"/>
                <a:ext cx="52578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 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$1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FA89B-3B46-47B8-B55E-4D6C44EBB75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3733920" y="4648320"/>
            <a:ext cx="144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410080" y="4648320"/>
            <a:ext cx="180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209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f the data distribution is bell-shaped, then the interv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bou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68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alue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pulation or th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62120" y="380880"/>
            <a:ext cx="77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Empirical Ru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1311120" y="2819520"/>
                <a:ext cx="1212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σ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4572000" y="3906720"/>
            <a:ext cx="847800" cy="1503360"/>
          </a:xfrm>
          <a:custGeom>
            <a:avLst/>
            <a:gdLst/>
            <a:ahLst/>
            <a:rect l="l" t="t" r="r" b="b"/>
            <a:pathLst>
              <a:path w="534" h="947">
                <a:moveTo>
                  <a:pt x="0" y="0"/>
                </a:moveTo>
                <a:lnTo>
                  <a:pt x="120" y="23"/>
                </a:lnTo>
                <a:lnTo>
                  <a:pt x="240" y="131"/>
                </a:lnTo>
                <a:lnTo>
                  <a:pt x="330" y="203"/>
                </a:lnTo>
                <a:lnTo>
                  <a:pt x="414" y="317"/>
                </a:lnTo>
                <a:lnTo>
                  <a:pt x="504" y="443"/>
                </a:lnTo>
                <a:lnTo>
                  <a:pt x="534" y="469"/>
                </a:lnTo>
                <a:lnTo>
                  <a:pt x="534" y="947"/>
                </a:lnTo>
                <a:lnTo>
                  <a:pt x="0" y="947"/>
                </a:lnTo>
                <a:lnTo>
                  <a:pt x="0" y="0"/>
                </a:lnTo>
              </a:path>
            </a:pathLst>
          </a:custGeom>
          <a:solidFill>
            <a:srgbClr val="c0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743280" y="3913200"/>
            <a:ext cx="838080" cy="1496880"/>
          </a:xfrm>
          <a:custGeom>
            <a:avLst/>
            <a:gdLst/>
            <a:ahLst/>
            <a:rect l="l" t="t" r="r" b="b"/>
            <a:pathLst>
              <a:path w="528" h="1338">
                <a:moveTo>
                  <a:pt x="456" y="18"/>
                </a:moveTo>
                <a:lnTo>
                  <a:pt x="385" y="66"/>
                </a:lnTo>
                <a:lnTo>
                  <a:pt x="262" y="214"/>
                </a:lnTo>
                <a:lnTo>
                  <a:pt x="197" y="293"/>
                </a:lnTo>
                <a:lnTo>
                  <a:pt x="102" y="474"/>
                </a:lnTo>
                <a:lnTo>
                  <a:pt x="36" y="588"/>
                </a:lnTo>
                <a:lnTo>
                  <a:pt x="0" y="654"/>
                </a:lnTo>
                <a:lnTo>
                  <a:pt x="0" y="1338"/>
                </a:lnTo>
                <a:lnTo>
                  <a:pt x="528" y="1332"/>
                </a:lnTo>
                <a:lnTo>
                  <a:pt x="528" y="0"/>
                </a:lnTo>
              </a:path>
            </a:pathLst>
          </a:custGeom>
          <a:solidFill>
            <a:srgbClr val="c0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214880" y="3643200"/>
            <a:ext cx="25092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286000" y="5410080"/>
            <a:ext cx="4648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4487760" y="5389560"/>
                <a:ext cx="274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3733920" y="4648320"/>
            <a:ext cx="144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410080" y="4648320"/>
            <a:ext cx="180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80952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105520" y="6095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9112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572000" y="3906720"/>
            <a:ext cx="1440" cy="15033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4105440" y="5894280"/>
                <a:ext cx="9331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2" name=""/>
          <p:cNvSpPr/>
          <p:nvPr/>
        </p:nvSpPr>
        <p:spPr>
          <a:xfrm>
            <a:off x="2362320" y="3886200"/>
            <a:ext cx="2232000" cy="14526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72000" y="3886200"/>
            <a:ext cx="2227320" cy="14526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38EC3-0BDB-4FFD-8B41-18E0419F489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6859440" y="3797280"/>
            <a:ext cx="1513080" cy="1660680"/>
          </a:xfrm>
          <a:custGeom>
            <a:avLst/>
            <a:gdLst/>
            <a:ahLst/>
            <a:rect l="l" t="t" r="r" b="b"/>
            <a:pathLst>
              <a:path w="953" h="1046">
                <a:moveTo>
                  <a:pt x="0" y="1043"/>
                </a:moveTo>
                <a:lnTo>
                  <a:pt x="0" y="0"/>
                </a:lnTo>
                <a:lnTo>
                  <a:pt x="96" y="38"/>
                </a:lnTo>
                <a:lnTo>
                  <a:pt x="192" y="139"/>
                </a:lnTo>
                <a:lnTo>
                  <a:pt x="264" y="240"/>
                </a:lnTo>
                <a:lnTo>
                  <a:pt x="330" y="360"/>
                </a:lnTo>
                <a:lnTo>
                  <a:pt x="360" y="438"/>
                </a:lnTo>
                <a:lnTo>
                  <a:pt x="414" y="522"/>
                </a:lnTo>
                <a:lnTo>
                  <a:pt x="462" y="629"/>
                </a:lnTo>
                <a:lnTo>
                  <a:pt x="528" y="714"/>
                </a:lnTo>
                <a:lnTo>
                  <a:pt x="618" y="822"/>
                </a:lnTo>
                <a:lnTo>
                  <a:pt x="780" y="955"/>
                </a:lnTo>
                <a:lnTo>
                  <a:pt x="947" y="986"/>
                </a:lnTo>
                <a:lnTo>
                  <a:pt x="953" y="1046"/>
                </a:lnTo>
                <a:lnTo>
                  <a:pt x="0" y="1043"/>
                </a:lnTo>
                <a:close/>
              </a:path>
            </a:pathLst>
          </a:custGeom>
          <a:solidFill>
            <a:srgbClr val="fde0bd"/>
          </a:solidFill>
          <a:ln w="1260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362320" y="3828960"/>
            <a:ext cx="1076040" cy="1638360"/>
          </a:xfrm>
          <a:custGeom>
            <a:avLst/>
            <a:gdLst/>
            <a:ahLst/>
            <a:rect l="l" t="t" r="r" b="b"/>
            <a:pathLst>
              <a:path w="678" h="1032">
                <a:moveTo>
                  <a:pt x="0" y="1032"/>
                </a:moveTo>
                <a:lnTo>
                  <a:pt x="0" y="0"/>
                </a:lnTo>
                <a:lnTo>
                  <a:pt x="96" y="36"/>
                </a:lnTo>
                <a:lnTo>
                  <a:pt x="210" y="156"/>
                </a:lnTo>
                <a:lnTo>
                  <a:pt x="282" y="288"/>
                </a:lnTo>
                <a:lnTo>
                  <a:pt x="366" y="432"/>
                </a:lnTo>
                <a:lnTo>
                  <a:pt x="420" y="540"/>
                </a:lnTo>
                <a:lnTo>
                  <a:pt x="474" y="624"/>
                </a:lnTo>
                <a:lnTo>
                  <a:pt x="528" y="720"/>
                </a:lnTo>
                <a:lnTo>
                  <a:pt x="568" y="780"/>
                </a:lnTo>
                <a:lnTo>
                  <a:pt x="647" y="852"/>
                </a:lnTo>
                <a:lnTo>
                  <a:pt x="678" y="870"/>
                </a:lnTo>
                <a:lnTo>
                  <a:pt x="678" y="1032"/>
                </a:lnTo>
                <a:lnTo>
                  <a:pt x="0" y="103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bou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95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alue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pulation or th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bou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99.7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alu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opulation or th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62120" y="380880"/>
            <a:ext cx="77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Empirical Ru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1249200" y="1676520"/>
                <a:ext cx="12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σ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1235160" y="2590920"/>
                <a:ext cx="12459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σ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0" name=""/>
          <p:cNvSpPr/>
          <p:nvPr/>
        </p:nvSpPr>
        <p:spPr>
          <a:xfrm>
            <a:off x="5324400" y="3807000"/>
            <a:ext cx="1535040" cy="1670040"/>
          </a:xfrm>
          <a:custGeom>
            <a:avLst/>
            <a:gdLst/>
            <a:ahLst/>
            <a:rect l="l" t="t" r="r" b="b"/>
            <a:pathLst>
              <a:path w="967" h="1052">
                <a:moveTo>
                  <a:pt x="967" y="1038"/>
                </a:moveTo>
                <a:lnTo>
                  <a:pt x="967" y="0"/>
                </a:lnTo>
                <a:lnTo>
                  <a:pt x="871" y="78"/>
                </a:lnTo>
                <a:lnTo>
                  <a:pt x="775" y="174"/>
                </a:lnTo>
                <a:lnTo>
                  <a:pt x="709" y="312"/>
                </a:lnTo>
                <a:lnTo>
                  <a:pt x="631" y="462"/>
                </a:lnTo>
                <a:lnTo>
                  <a:pt x="583" y="558"/>
                </a:lnTo>
                <a:lnTo>
                  <a:pt x="505" y="642"/>
                </a:lnTo>
                <a:lnTo>
                  <a:pt x="439" y="750"/>
                </a:lnTo>
                <a:lnTo>
                  <a:pt x="343" y="858"/>
                </a:lnTo>
                <a:lnTo>
                  <a:pt x="187" y="954"/>
                </a:lnTo>
                <a:lnTo>
                  <a:pt x="0" y="992"/>
                </a:lnTo>
                <a:lnTo>
                  <a:pt x="6" y="1052"/>
                </a:lnTo>
                <a:lnTo>
                  <a:pt x="967" y="1038"/>
                </a:lnTo>
                <a:close/>
              </a:path>
            </a:pathLst>
          </a:custGeom>
          <a:solidFill>
            <a:srgbClr val="fde0bd"/>
          </a:solidFill>
          <a:ln w="1260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94360" y="380988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257800" y="3809880"/>
            <a:ext cx="1638360" cy="15732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240160" y="546588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95280" y="3828960"/>
            <a:ext cx="1067040" cy="1657440"/>
          </a:xfrm>
          <a:custGeom>
            <a:avLst/>
            <a:gdLst/>
            <a:ahLst/>
            <a:rect l="l" t="t" r="r" b="b"/>
            <a:pathLst>
              <a:path w="666" h="1044">
                <a:moveTo>
                  <a:pt x="666" y="1044"/>
                </a:moveTo>
                <a:lnTo>
                  <a:pt x="666" y="0"/>
                </a:lnTo>
                <a:lnTo>
                  <a:pt x="576" y="60"/>
                </a:lnTo>
                <a:lnTo>
                  <a:pt x="474" y="180"/>
                </a:lnTo>
                <a:lnTo>
                  <a:pt x="426" y="324"/>
                </a:lnTo>
                <a:lnTo>
                  <a:pt x="330" y="468"/>
                </a:lnTo>
                <a:lnTo>
                  <a:pt x="282" y="564"/>
                </a:lnTo>
                <a:lnTo>
                  <a:pt x="210" y="660"/>
                </a:lnTo>
                <a:lnTo>
                  <a:pt x="138" y="756"/>
                </a:lnTo>
                <a:lnTo>
                  <a:pt x="108" y="792"/>
                </a:lnTo>
                <a:lnTo>
                  <a:pt x="30" y="864"/>
                </a:lnTo>
                <a:lnTo>
                  <a:pt x="0" y="882"/>
                </a:lnTo>
                <a:lnTo>
                  <a:pt x="0" y="1044"/>
                </a:lnTo>
                <a:lnTo>
                  <a:pt x="666" y="1044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362320" y="3809880"/>
            <a:ext cx="0" cy="16765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397240" y="384192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46280" y="3841920"/>
            <a:ext cx="1652400" cy="15732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43040" y="549756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9440" y="3778200"/>
            <a:ext cx="0" cy="16765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6454800" y="5665680"/>
                <a:ext cx="9604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3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1" name=""/>
          <p:cNvSpPr/>
          <p:nvPr/>
        </p:nvSpPr>
        <p:spPr>
          <a:xfrm flipV="1">
            <a:off x="5334120" y="5333760"/>
            <a:ext cx="0" cy="6858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8381880" y="5333760"/>
            <a:ext cx="0" cy="6858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333760" y="5867280"/>
            <a:ext cx="990360" cy="0"/>
          </a:xfrm>
          <a:prstGeom prst="line">
            <a:avLst/>
          </a:prstGeom>
          <a:ln w="1260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543800" y="5867280"/>
            <a:ext cx="838080" cy="0"/>
          </a:xfrm>
          <a:prstGeom prst="line">
            <a:avLst/>
          </a:prstGeom>
          <a:ln w="1260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40080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9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81080" y="4724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986120" y="5665680"/>
                <a:ext cx="9601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2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8" name=""/>
          <p:cNvSpPr/>
          <p:nvPr/>
        </p:nvSpPr>
        <p:spPr>
          <a:xfrm flipV="1">
            <a:off x="1295280" y="5257440"/>
            <a:ext cx="0" cy="6858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429000" y="5257440"/>
            <a:ext cx="0" cy="6858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1317240" y="5867280"/>
            <a:ext cx="538200" cy="1800"/>
          </a:xfrm>
          <a:prstGeom prst="line">
            <a:avLst/>
          </a:prstGeom>
          <a:ln w="1260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048120" y="5867280"/>
            <a:ext cx="380880" cy="0"/>
          </a:xfrm>
          <a:prstGeom prst="line">
            <a:avLst/>
          </a:prstGeom>
          <a:ln w="1260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23DCC-4C6C-4C44-8ED1-98AEF0035B6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2590920" y="4191120"/>
            <a:ext cx="5333760" cy="19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ardless of how the data are distributed, at leas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(1 - 1/k</a:t>
            </a:r>
            <a:r>
              <a:rPr b="0" lang="en-US" sz="28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alues will fall within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ndard deviations of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- 1/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.....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k=1  (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± 1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- 1/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75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........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k=2  (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± 2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- 1/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9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….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k=3  (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± 3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914400" y="304920"/>
            <a:ext cx="7721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chebysheff’s Theore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404400" y="411480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277800" y="41148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45720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BD780-C7EA-407D-9288-7304A6029FA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andardized data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fers to the number of standard deviations a value is from the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ed data values are sometimes referred to a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z-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990720" y="380880"/>
            <a:ext cx="77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andardized Data Valu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2FAAE-1566-41B8-A20F-27A069A5AC7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1371600" y="297180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= original data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opulation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opulation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tandard sc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umber of standard deviations x is from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andardized Population Valu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276720" y="1676520"/>
                <a:ext cx="214308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65D48-D9B5-40F2-AFE1-5DE6C40D36D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1371600" y="297180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= original data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sampl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sample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tandard sc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umber of standard deviations x is from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andardized Sample Valu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3254400" y="1676520"/>
                <a:ext cx="218916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>
            <a:off x="1752480" y="4114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1828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9FA6A-00F4-4F08-B1A1-B9665A53C8C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3840" y="236052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ummary Measur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4341960" y="2055960"/>
            <a:ext cx="0" cy="1110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7160" y="2665440"/>
            <a:ext cx="266544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er and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3840" y="2360520"/>
            <a:ext cx="571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8040" y="3351240"/>
            <a:ext cx="91440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886200"/>
            <a:ext cx="114156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4419720"/>
            <a:ext cx="91152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2666880"/>
            <a:ext cx="2209680" cy="6987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Measures of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4954680"/>
            <a:ext cx="205740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ighted 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1752480"/>
            <a:ext cx="3655800" cy="3938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ing Data Numer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08840" y="2360520"/>
            <a:ext cx="0" cy="47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2666880"/>
            <a:ext cx="144792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4572000"/>
            <a:ext cx="129564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5181480"/>
            <a:ext cx="251460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5791320"/>
            <a:ext cx="1828800" cy="69876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efficient of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3352680"/>
            <a:ext cx="99072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3657600"/>
            <a:ext cx="1600200" cy="393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962520"/>
            <a:ext cx="251460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quartile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3080" y="4268880"/>
            <a:ext cx="1371600" cy="393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r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D49BC-DF61-4824-B6F4-FF997F9577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sing Microsoft Exc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ve Statistics are easy to obtain from Microsoft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menu choice:</a:t>
            </a:r>
            <a:br>
              <a:rPr sz="2600"/>
            </a:b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tools / data analysis / descriptive statis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details in dialog bo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1951E-2D8F-4D2A-B205-82AC60B0253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sing Exc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4581720" cy="454356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5105520" y="4343400"/>
            <a:ext cx="4038480" cy="200016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4724280" y="518148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876920" y="1981080"/>
            <a:ext cx="40384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40000"/>
              </a:lnSpc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enu choice: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ols / data analysis / descriptive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7AD81-B959-4637-83FA-B1C5832856E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380520" y="3123720"/>
            <a:ext cx="3048120" cy="297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5000"/>
          </a:bodyPr>
          <a:p>
            <a:pPr marL="304560" indent="-30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dialog box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box for summary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5200560" cy="365760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 flipV="1">
            <a:off x="3048120" y="2819160"/>
            <a:ext cx="342900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3048120" y="3352680"/>
            <a:ext cx="2057400" cy="152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3276720" y="4572000"/>
            <a:ext cx="1828800" cy="380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sing Exc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4C094-BFED-48E5-AB4F-25FB880DB24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cel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254880" y="1780920"/>
            <a:ext cx="39938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icrosoft Exc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descriptive statistics outpu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using the house price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143000" y="3200400"/>
            <a:ext cx="2057400" cy="25333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use Prices: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$2,0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3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1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1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3836880" cy="434340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5029200" y="2514600"/>
            <a:ext cx="68580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029200" y="3048120"/>
            <a:ext cx="8380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029200" y="3276720"/>
            <a:ext cx="8380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029200" y="3505320"/>
            <a:ext cx="167652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029200" y="3733920"/>
            <a:ext cx="160020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029200" y="4495680"/>
            <a:ext cx="8380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B6B44-A191-4610-B123-9CD74A25AC58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measures of center and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, median, mode, geometric mean, mid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percentiles and quar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measure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, interquartile range, varian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deviation, coefficient of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Box and Whisker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9B3E6-20B8-4F88-82A8-5AB89C8FC08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distribution 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, ske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Tchebysheff’s Theo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d standardized data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6879D-5FBE-4DD1-89E5-475AD9FB9D2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343400" y="22096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15080" y="2819520"/>
            <a:ext cx="504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easures of Center and Loc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1828800"/>
            <a:ext cx="320040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enter and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2819520"/>
            <a:ext cx="640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6200" y="3278160"/>
            <a:ext cx="137016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19360" y="3278160"/>
            <a:ext cx="129240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3276720"/>
            <a:ext cx="121896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3276720"/>
            <a:ext cx="206208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ghted 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53120" y="2819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4280" y="2819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27400" y="2819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06680" y="4419720"/>
            <a:ext cx="171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416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037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323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846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75120" y="4267080"/>
            <a:ext cx="152280" cy="152640"/>
          </a:xfrm>
          <a:prstGeom prst="ellipse">
            <a:avLst/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3036960" y="4533480"/>
            <a:ext cx="228600" cy="152280"/>
          </a:xfrm>
          <a:prstGeom prst="rightArrow">
            <a:avLst>
              <a:gd name="adj1" fmla="val 50000"/>
              <a:gd name="adj2" fmla="val 3780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3962520"/>
            <a:ext cx="152280" cy="15228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4114800"/>
            <a:ext cx="152280" cy="15228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37080" y="4419720"/>
            <a:ext cx="171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73600" y="4267080"/>
            <a:ext cx="152280" cy="152640"/>
          </a:xfrm>
          <a:prstGeom prst="ellipse">
            <a:avLst/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4762440" y="4533480"/>
            <a:ext cx="228600" cy="152280"/>
          </a:xfrm>
          <a:prstGeom prst="rightArrow">
            <a:avLst>
              <a:gd name="adj1" fmla="val 50000"/>
              <a:gd name="adj2" fmla="val 3780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929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73600" y="3962520"/>
            <a:ext cx="152280" cy="152280"/>
          </a:xfrm>
          <a:prstGeom prst="ellipse">
            <a:avLst/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73600" y="4114800"/>
            <a:ext cx="152280" cy="152280"/>
          </a:xfrm>
          <a:prstGeom prst="ellipse">
            <a:avLst/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06440" y="3962520"/>
                <a:ext cx="128412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477120" y="4038480"/>
                <a:ext cx="218124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3581280" y="1371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AE0B9-8974-4BEF-820A-551A64B851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ean (Arithmetic Average)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532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arithmetic average of data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ple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pulation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59092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= Sample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4572000"/>
            <a:ext cx="2210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= Population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962160" y="2743200"/>
            <a:ext cx="99036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038480" y="4800600"/>
            <a:ext cx="914400" cy="152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819520" y="2819520"/>
                <a:ext cx="464796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940120" y="4830840"/>
                <a:ext cx="468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CB5BF-FE77-42CC-95D8-1C78746C1F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ean (Arithmetic Average)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common measure of central ten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sum of values divided by the number of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ected by extreme values (outl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5905440" y="4304880"/>
            <a:ext cx="609480" cy="228600"/>
          </a:xfrm>
          <a:prstGeom prst="rightArrow">
            <a:avLst>
              <a:gd name="adj1" fmla="val 50000"/>
              <a:gd name="adj2" fmla="val 6714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3440" y="3886200"/>
            <a:ext cx="335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2360" y="3798720"/>
            <a:ext cx="398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1   2   3   4   5   6   7   8   9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3657600"/>
            <a:ext cx="314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1257480" y="4304880"/>
            <a:ext cx="609480" cy="228600"/>
          </a:xfrm>
          <a:prstGeom prst="rightArrow">
            <a:avLst>
              <a:gd name="adj1" fmla="val 50000"/>
              <a:gd name="adj2" fmla="val 6714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4800600"/>
            <a:ext cx="152388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46840" y="3886200"/>
            <a:ext cx="335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3809880"/>
            <a:ext cx="3984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1   2   3   4   5   6   7   8   9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3657600"/>
            <a:ext cx="314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4800600"/>
            <a:ext cx="152424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838080" y="5410080"/>
                <a:ext cx="30225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276880" y="5410080"/>
                <a:ext cx="31878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D04FF-5D90-4C94-8C48-3C5B28018F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edia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affected by extreme val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 ordered array, the median is the “middle”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or N is odd, the median is the middl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or N is even, the median is the average of the two middl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5524200" y="3085920"/>
            <a:ext cx="609840" cy="228600"/>
          </a:xfrm>
          <a:prstGeom prst="rightArrow">
            <a:avLst>
              <a:gd name="adj1" fmla="val 50000"/>
              <a:gd name="adj2" fmla="val 6718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7120" y="2666880"/>
            <a:ext cx="33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6040" y="2579760"/>
            <a:ext cx="3984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1   2   3   4   5   6   7   8   9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2438280"/>
            <a:ext cx="314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7652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1180800" y="3085920"/>
            <a:ext cx="609840" cy="228600"/>
          </a:xfrm>
          <a:prstGeom prst="rightArrow">
            <a:avLst>
              <a:gd name="adj1" fmla="val 50000"/>
              <a:gd name="adj2" fmla="val 6718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3581280"/>
            <a:ext cx="1828800" cy="454680"/>
          </a:xfrm>
          <a:prstGeom prst="rect">
            <a:avLst/>
          </a:prstGeom>
          <a:solidFill>
            <a:srgbClr val="f4c7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70520" y="2666880"/>
            <a:ext cx="33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8320" y="2590920"/>
            <a:ext cx="398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1   2   3   4   5   6   7   8   9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76920" y="2438280"/>
            <a:ext cx="314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1008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0100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3581280"/>
            <a:ext cx="1828800" cy="454680"/>
          </a:xfrm>
          <a:prstGeom prst="rect">
            <a:avLst/>
          </a:prstGeom>
          <a:solidFill>
            <a:srgbClr val="f4c7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8D373-6C8D-4B44-9228-8001667CFC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od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7696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asure of central t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that occur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st o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ffected by extrem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either numerical or categor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may may be no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may be several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8240" y="5576760"/>
            <a:ext cx="3354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2200" y="5570640"/>
            <a:ext cx="5508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   1   2   3   4   5   6   7   8   9   10   11   12   13   14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032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127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462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557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46240" y="51195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892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89240" y="51195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487692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62320" y="6019920"/>
            <a:ext cx="144756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701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1913760" y="6010920"/>
            <a:ext cx="533520" cy="246240"/>
          </a:xfrm>
          <a:prstGeom prst="rightArrow">
            <a:avLst>
              <a:gd name="adj1" fmla="val 50000"/>
              <a:gd name="adj2" fmla="val 545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8640" y="5576760"/>
            <a:ext cx="1297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322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32240" y="51195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894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703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5562720"/>
            <a:ext cx="1830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07080" y="5562720"/>
            <a:ext cx="253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   1   2   3   4   5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52578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934320" y="52578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67480" y="52578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62920" y="52578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61240" y="52722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66160" y="52722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70720" y="52722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6019920"/>
            <a:ext cx="146988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8FA58-829F-42E5-8D90-8D184BA914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Gé Groenewegen</cp:lastModifiedBy>
  <cp:lastPrinted>1998-11-22T23:37:53Z</cp:lastPrinted>
  <dcterms:modified xsi:type="dcterms:W3CDTF">2005-03-20T08:30:22Z</dcterms:modified>
  <cp:revision>76</cp:revision>
  <dc:subject>Chapter 3</dc:subject>
  <dc:title>Groebner lecture notes for chapter 3</dc:title>
</cp:coreProperties>
</file>